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5.jpeg" ContentType="image/jpeg"/>
  <Override PartName="/ppt/media/image4.jpeg" ContentType="image/jpeg"/>
  <Override PartName="/ppt/media/image16.wmf" ContentType="image/x-wmf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CFA1-9FC7-499F-9CCB-EC6E7E675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545E-7411-4E59-B41D-C790582A3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02DA-A2C5-41FB-850C-8F9AFBE66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7FB0-77A4-4CAE-9BB2-18B0E010A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24C42-CE4D-4272-9A4C-93B531767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CDD1A-97F1-43A7-B000-BA7B735C3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BAA31-D52D-487E-8D54-36ADB65FD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6729D-5961-4B39-B732-1D3B612D2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F97FA-EDA8-41C2-AC6A-E404A3F43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C618D-C205-4718-860C-B369B0C7A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27CD9-B4BC-4010-978F-A15D85E47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18F1-F1DF-4AC3-8DCC-3F9B60CE7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20626-2AEA-4E9E-8AA5-3A5B903AE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DDD2F-78B7-46AC-AEB8-2CE71708A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896FF-11B2-44E1-8E65-1B9FA1133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6039B-0BA5-422B-8A81-1E9AC0E78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8D93A-3A1F-4364-88D9-1D545DF08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E9F2-0EDF-4601-95EF-7D1417335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BBE2-413C-40F7-B8ED-64E5211B2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7095-D084-4B82-BFB1-2F09C5515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673E-6C52-4ACE-945B-DA044FFBB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7B1A-D721-42D8-8CBA-EFE615EB9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BB27-9CE4-4156-9D02-F0ABE02E6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B1F9-8977-4F00-8D63-A3A2F5DD9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C2721-2883-4758-A102-20BA5B2BEBDB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5015D-B9AA-4F09-80C1-BA8928FA96D4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11280" y="981000"/>
            <a:ext cx="7772400" cy="14702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0000"/>
                </a:solidFill>
                <a:latin typeface="Comic Sans MS"/>
              </a:rPr>
              <a:t>Правовий практикум: “Як влаштуватися на роботу”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755640" y="2852640"/>
            <a:ext cx="4464000" cy="23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556000" y="549360"/>
            <a:ext cx="3902040" cy="59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3206880" cy="47196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3348000" y="2492280"/>
            <a:ext cx="5076720" cy="35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3384720" cy="33847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3203640" y="2781360"/>
            <a:ext cx="550548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4679640" cy="32767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3708360" y="2997360"/>
            <a:ext cx="48769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5651640" y="2349360"/>
            <a:ext cx="2979720" cy="431964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5832720" cy="39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4537080" cy="282744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4500720" y="3141720"/>
            <a:ext cx="3816360" cy="34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116000" y="692280"/>
            <a:ext cx="6840720" cy="46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4103640" cy="315432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3348000" y="3106800"/>
            <a:ext cx="5184720" cy="37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2484360" y="836640"/>
            <a:ext cx="4389480" cy="48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2T16:56:22Z</dcterms:created>
  <dc:creator>Полтавський</dc:creator>
  <dc:description/>
  <dc:language>en-US</dc:language>
  <cp:lastModifiedBy>Полтавський</cp:lastModifiedBy>
  <dcterms:modified xsi:type="dcterms:W3CDTF">2014-03-18T18:51:02Z</dcterms:modified>
  <cp:revision>4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a11000000000001024140</vt:lpwstr>
  </property>
</Properties>
</file>