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E84-E076-4C56-8F23-57896DD0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430-9443-45EE-A2BE-E66D8DE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027-BB20-4CF1-8A80-D1787A2E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07E-07EE-4159-AFA1-2555D746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BB01-22FD-4B37-B5AD-8B4D8CDF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8A4-1B6D-418B-9CB3-7122EFB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492B-18B8-4992-AA4A-0D66F68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068-22CB-4040-97D5-575734B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DC2C-B3EC-4108-8519-A229D5B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BE3-A4F9-4292-AC74-DCC6790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65E-1C2B-4EC8-952D-B47DF06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DD6-E450-4C39-B693-D0464EE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00E0-EEAF-4C34-B35D-BA6382E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C6F9-789A-4E77-B5DA-2BC2851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D14-7DD4-47AE-958C-5CB1432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489-1009-4CA4-B9A4-98878E5A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E231-0CA7-46DF-8A88-8D274974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F9D-43F9-4486-98F2-554CBFBB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31B-C71C-4DED-821A-6D676AB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BCC-EF1F-4FEC-84BB-7CD064AC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168-5080-4466-B4B3-159FD33D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164-14B6-49F5-888B-F3F7263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5BC-2D74-454D-9435-C59592BD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0C1-9D51-4C44-A14E-7D46DCC4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7248-5A4B-4EC9-B4E3-FC004031FA7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551-115D-4B00-8BDF-A5AB60C6F3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Правовий практикум: “Як влаштуватися на роботу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4464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9020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206880" cy="471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50767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505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9640" cy="327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282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38163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40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3640" cy="3154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3106800"/>
            <a:ext cx="51847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3894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56:22Z</dcterms:created>
  <dc:creator>Полтавський</dc:creator>
  <dc:description/>
  <dc:language>en-US</dc:language>
  <cp:lastModifiedBy>Полтавський</cp:lastModifiedBy>
  <dcterms:modified xsi:type="dcterms:W3CDTF">2014-03-18T18:51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1000000000001024140</vt:lpwstr>
  </property>
</Properties>
</file>