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4B8-32C5-4970-BD15-92478C8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881-CEF1-484F-8F84-4BA8E852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9B3-CF03-4E9F-B56D-AEBF7621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E6D-C3BF-4BF9-8B91-DC648D0C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42BF-059D-48B8-BDC1-C113D8CA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135-01DC-495C-8B26-46836C63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CBDC-3DD4-4121-8AE9-42943F0B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9400-B812-4129-9470-31A78061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3CBE-E6C6-4874-94D0-AA9151EF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7F4-3CF6-424A-8A0E-71F864E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C93-DA8B-4BF7-862A-157D183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89D-BD8B-4425-B2F8-D0AE7CB3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8091-BCFA-468B-B58C-0018A942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8FF1-BC71-4A42-88F8-2499A4C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2ABB-2D22-40CF-A6C7-B3E59462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BCEB-012B-4159-B0F6-7C11ABDC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5C1C-1E94-4850-A2DD-FCE529FD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DA4-D92B-4DFD-A947-267A779F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557-13C5-4AED-B908-01AFC64E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DC6-EECB-4815-9D14-AD1E3FDB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E9A-9727-4025-9D53-0F28D9E3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5A2-388A-4700-A79A-A7758CB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F20-FC41-4252-B518-39A380D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74E-173A-4776-82F2-3801527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6237-8D03-42C4-A4EA-6B92126096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39C9-34C2-40ED-83CE-8F484EEE00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Правовий практикум: “Як влаштуватися на роботу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4464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9020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06880" cy="471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0767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505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27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282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8163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40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3640" cy="3154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3106800"/>
            <a:ext cx="518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89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56:22Z</dcterms:created>
  <dc:creator>Полтавський</dc:creator>
  <dc:description/>
  <dc:language>en-US</dc:language>
  <cp:lastModifiedBy>Полтавський</cp:lastModifiedBy>
  <dcterms:modified xsi:type="dcterms:W3CDTF">2014-03-18T18:51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1000000000001024140</vt:lpwstr>
  </property>
</Properties>
</file>