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44E-AD78-40D1-9519-184B0D5E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441-06B2-4641-B58C-F4D80BC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43F-13A1-4297-BA06-87130F35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655-4B1C-410B-A6E1-CE36378D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E176-FC3B-4980-82A9-31BE8F8D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58DB-AB1E-446E-BF80-3E6E907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2671-9C32-41FC-BF18-3D1FF67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92F3-BAB1-4995-8329-6A862CE6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0AC6-7FB9-4B7B-94B5-6BE003A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C008-6E0D-40E5-9DC6-9B276A1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1186-8126-4BDF-9DF6-760A942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4B5-D80C-4A70-9B13-610C261F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840-E61F-4B44-89CD-93411DA8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AC5A-35C9-44B4-A1E6-238CAE9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227C-75AC-45BE-9F47-CEF6A1C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7484-14C3-4718-829D-28678815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C9D3-6759-4E1E-B54D-7E88B25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A2E-F6E0-4B19-B66B-98BEA31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907-7F40-4D9C-AD06-3839E3E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C2C-376B-49E2-91F7-CAA610A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9EF-55F6-4770-88E9-B8E49B1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0E8-DE7A-42A6-8FD9-172747F3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F73-F0F2-4218-A404-47CCDA3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EEF-3A00-421D-921D-8463FC8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AB8-BBFC-49AA-89E9-D16A3DB8276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C66-D1F4-4D3C-97AF-3CBD939347C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Правовий практикум: “Як влаштуватися на роботу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4464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39020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06880" cy="471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50767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384720" cy="338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505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79640" cy="327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979720" cy="431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8327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282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38163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407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3640" cy="3154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3106800"/>
            <a:ext cx="518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894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56:22Z</dcterms:created>
  <dc:creator>Полтавський</dc:creator>
  <dc:description/>
  <dc:language>en-US</dc:language>
  <cp:lastModifiedBy>Полтавський</cp:lastModifiedBy>
  <dcterms:modified xsi:type="dcterms:W3CDTF">2014-03-18T18:51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11000000000001024140</vt:lpwstr>
  </property>
</Properties>
</file>