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jpeg" ContentType="image/jpeg"/>
  <Override PartName="/ppt/media/image24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228-2187-4CF0-915C-6A4C3A2D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551-9699-4890-AC63-7D94738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31A-0ADF-428F-9D57-FC4C8B83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B85-0E21-4626-BAAF-6B787D5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2C12-3751-4642-86F8-BFACE5D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285-B6B1-4296-9F6E-BF8C477A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247D-A93D-416B-8419-EB59B0C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036-B28F-4B72-B7D6-EA7D949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6FE-4F68-4F0E-94FE-3C2E5EC6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26BF-2E32-4C6E-8BDC-DFE25F8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05A-41E9-4D44-81AB-5E3BDAD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545-0B59-4152-9CCB-9E1CF07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5DA5-844C-48BE-B772-B125864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ADC-C6E4-483B-9396-BEA1209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5476-C445-4A1A-A64F-79E1FFC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8B2B-779C-4278-BC57-104E7582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C81-BA01-4379-BF98-58895EA7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F6AF-AE9F-4B05-9710-F9D805E3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E85D-1DB0-4AEE-A913-7153259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C773-1E1C-4801-9FBA-8248DE8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02F8-361F-4B73-8D22-5FF00E1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4383-D0EC-4903-8B5F-01BB400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F58-8F86-42F6-8D76-57D89D13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4DDC-A9A3-44D1-AA04-60E2527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29F6-E1A8-4D3A-8905-E5B4035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2644-4ECD-4F26-8DFC-2E41B7E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3A02-3F7B-4037-BB48-4228D5A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57EF-DCD1-4CB3-87BB-44CF1DD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E8EC-8671-4CB4-98D7-ADA9F9E2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7141-4B31-40DB-ADFD-82D4F3D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992A-F7B4-49C8-97C0-7E5186E9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EBFB-CD02-4A2C-93B7-7356293D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B369-EA47-4ADB-84F0-6C9C941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D2F-BE75-4145-A794-925DE3C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0331-7EF0-4D75-AFC3-8007F32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B092-2FCC-489C-A28C-C05CCB6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70B1-49ED-42FE-9A60-1A5D6FB6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5C4F-4139-4A39-B0DC-845E2A7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2361-9D45-43A4-8F6F-664299C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DA25-B23B-4FE5-B0FA-94886D7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886A-0E5E-48DE-8BDD-503945A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B66F-998B-4D36-AB2C-EA4CC7E5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523B-EAD6-4C1B-A853-E2DE80D5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780-9B83-4686-9359-BC0AB04A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31-3CF7-4921-9118-007AD839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2CF-C68A-4707-A56F-D4DF7E8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1CA-174D-4032-A7AA-585F2D8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634-703C-43AB-B989-C484A41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4FA-535F-41A4-9131-60B31174FC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0D0-919A-4EEB-B776-0BB3056B87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C03E-2610-42D1-8255-A7E9DA902D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5753-2D2B-4A31-B173-1F23CC0624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yurradnik.com.ua/stride/men/covers/Obl_men_3_2008.jpg"/>
          <p:cNvPicPr/>
          <p:nvPr/>
        </p:nvPicPr>
        <p:blipFill>
          <a:blip r:embed="rId2"/>
          <a:stretch/>
        </p:blipFill>
        <p:spPr>
          <a:xfrm>
            <a:off x="2340000" y="3357720"/>
            <a:ext cx="4392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125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uk-UA" sz="35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це врегульовані нормами цивільного прав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майнові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 та </a:t>
            </a:r>
            <a:r>
              <a:rPr b="1" lang="uk-UA" sz="3500" spc="-1" strike="noStrike">
                <a:solidFill>
                  <a:srgbClr val="000000"/>
                </a:solidFill>
                <a:latin typeface="Constantia"/>
              </a:rPr>
              <a:t>особисті немайнові </a:t>
            </a:r>
            <a:r>
              <a:rPr b="0" lang="uk-UA" sz="3500" spc="-1" strike="noStrike">
                <a:solidFill>
                  <a:srgbClr val="000000"/>
                </a:solidFill>
                <a:latin typeface="Constantia"/>
              </a:rPr>
              <a:t>відносини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https://encrypted-tbn2.gstatic.com/images?q=tbn:ANd9GcRinCOhOC0bTQVcJr-lLEotZHFnsJMGQ8bR1P-p1EeqmV9DWLRAew"/>
          <p:cNvPicPr/>
          <p:nvPr/>
        </p:nvPicPr>
        <p:blipFill>
          <a:blip r:embed="rId1"/>
          <a:stretch/>
        </p:blipFill>
        <p:spPr>
          <a:xfrm>
            <a:off x="611280" y="3716280"/>
            <a:ext cx="221616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99" name="Прямая со стрелкой 5"/>
          <p:cNvCxnSpPr/>
          <p:nvPr/>
        </p:nvCxnSpPr>
        <p:spPr>
          <a:xfrm flipH="1">
            <a:off x="2915640" y="2852640"/>
            <a:ext cx="432360" cy="115344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8"/>
          <p:cNvCxnSpPr/>
          <p:nvPr/>
        </p:nvCxnSpPr>
        <p:spPr>
          <a:xfrm>
            <a:off x="5435280" y="2923920"/>
            <a:ext cx="577080" cy="10818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1" name="Picture 2" descr="C:\Users\Nastja\Desktop\1310037922.jpg"/>
          <p:cNvPicPr/>
          <p:nvPr/>
        </p:nvPicPr>
        <p:blipFill>
          <a:blip r:embed="rId2"/>
          <a:stretch/>
        </p:blipFill>
        <p:spPr>
          <a:xfrm>
            <a:off x="1901880" y="4071960"/>
            <a:ext cx="2620800" cy="2432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pochemunelzya.ru/wp-content/uploads/2011/02/spor_b_.png"/>
          <p:cNvPicPr/>
          <p:nvPr/>
        </p:nvPicPr>
        <p:blipFill>
          <a:blip r:embed="rId3"/>
          <a:stretch/>
        </p:blipFill>
        <p:spPr>
          <a:xfrm>
            <a:off x="6300720" y="3284640"/>
            <a:ext cx="2597040" cy="1465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s://encrypted-tbn2.gstatic.com/images?q=tbn:ANd9GcQMisRjBQBDwe_wCGsRKHzGwwt_GNTEKdTEswtYuvj9XI0BXBQoLg"/>
          <p:cNvPicPr/>
          <p:nvPr/>
        </p:nvPicPr>
        <p:blipFill>
          <a:blip r:embed="rId4"/>
          <a:stretch/>
        </p:blipFill>
        <p:spPr>
          <a:xfrm>
            <a:off x="4565520" y="41450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Всі учасники цивільно-правових відносин  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рівні в прав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img0.liveinternet.ru/images/attach/c/4/79/303/79303960_libre1.jpg"/>
          <p:cNvPicPr/>
          <p:nvPr/>
        </p:nvPicPr>
        <p:blipFill>
          <a:blip r:embed="rId1"/>
          <a:stretch/>
        </p:blipFill>
        <p:spPr>
          <a:xfrm>
            <a:off x="1835280" y="1700280"/>
            <a:ext cx="4824360" cy="47815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797280"/>
            <a:ext cx="2676600" cy="9334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5645160" y="3797280"/>
            <a:ext cx="2676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3964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Constantia"/>
              </a:rPr>
              <a:t>Цивільно-правові відносин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00"/>
                </a:solidFill>
                <a:latin typeface="Constantia"/>
              </a:rPr>
              <a:t>цивільно-правовий  договір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Прямая со стрелкой 4"/>
          <p:cNvCxnSpPr/>
          <p:nvPr/>
        </p:nvCxnSpPr>
        <p:spPr>
          <a:xfrm>
            <a:off x="4427280" y="1773360"/>
            <a:ext cx="1080" cy="129600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0" name="Picture 2" descr="http://rylik.ru/uploads/posts/2011-06/1309422439_business_stock-photo.jpg"/>
          <p:cNvPicPr/>
          <p:nvPr/>
        </p:nvPicPr>
        <p:blipFill>
          <a:blip r:embed="rId1"/>
          <a:srcRect l="0" t="0" r="0" b="63"/>
          <a:stretch/>
        </p:blipFill>
        <p:spPr>
          <a:xfrm>
            <a:off x="2627280" y="3860640"/>
            <a:ext cx="402912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475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Constantia"/>
              </a:rPr>
              <a:t>Договір</a:t>
            </a:r>
            <a:r>
              <a:rPr b="1" lang="uk-UA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Constantia"/>
              </a:rPr>
              <a:t>це угода двох або більше сторін, що базується на рівності сторін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2490840"/>
            <a:ext cx="1069668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longruble.ru/wp-content/uploads/2013/09/rukopozhatie%2Brukopozhatie%2Bv%2Bkartinkah%2Bdelovoe%2Brukopozhatie%2Brukopozhatie%2Bklipart%2B54253441319.jpg"/>
          <p:cNvPicPr/>
          <p:nvPr/>
        </p:nvPicPr>
        <p:blipFill>
          <a:blip r:embed="rId1"/>
          <a:stretch/>
        </p:blipFill>
        <p:spPr>
          <a:xfrm>
            <a:off x="2124000" y="3706920"/>
            <a:ext cx="5184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969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Договір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2" descr=""/>
          <p:cNvPicPr/>
          <p:nvPr/>
        </p:nvPicPr>
        <p:blipFill>
          <a:blip r:embed="rId1"/>
          <a:stretch/>
        </p:blipFill>
        <p:spPr>
          <a:xfrm>
            <a:off x="463680" y="1652760"/>
            <a:ext cx="8242200" cy="469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mixeeva-design.ru/images/dogovor-zaglav.jpg"/>
          <p:cNvPicPr/>
          <p:nvPr/>
        </p:nvPicPr>
        <p:blipFill>
          <a:blip r:embed="rId2"/>
          <a:stretch/>
        </p:blipFill>
        <p:spPr>
          <a:xfrm>
            <a:off x="1187280" y="1773360"/>
            <a:ext cx="2916360" cy="198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s://encrypted-tbn2.gstatic.com/images?q=tbn:ANd9GcSmhbuXaQXRdPS9LMjaZTmpiGZxV2xYKfNKr-9gNdLCQof4NYyt"/>
          <p:cNvPicPr/>
          <p:nvPr/>
        </p:nvPicPr>
        <p:blipFill>
          <a:blip r:embed="rId3"/>
          <a:stretch/>
        </p:blipFill>
        <p:spPr>
          <a:xfrm>
            <a:off x="6732720" y="155736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experto.de/unterstuetzung-fuer-selbstaendige-vom-arbeitsamt-1280px-854px1.jpg"/>
          <p:cNvPicPr/>
          <p:nvPr/>
        </p:nvPicPr>
        <p:blipFill>
          <a:blip r:embed="rId4"/>
          <a:stretch/>
        </p:blipFill>
        <p:spPr>
          <a:xfrm>
            <a:off x="539640" y="4581360"/>
            <a:ext cx="2878200" cy="192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rieltkomp.ru/wp-content/uploads/2012/04/number6_1.jpg"/>
          <p:cNvPicPr/>
          <p:nvPr/>
        </p:nvPicPr>
        <p:blipFill>
          <a:blip r:embed="rId5"/>
          <a:stretch/>
        </p:blipFill>
        <p:spPr>
          <a:xfrm>
            <a:off x="4788000" y="4508640"/>
            <a:ext cx="312264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-42840" y="255600"/>
            <a:ext cx="9406080" cy="641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uyristkonsult.at.ua/foto2/arenda.jpg"/>
          <p:cNvPicPr/>
          <p:nvPr/>
        </p:nvPicPr>
        <p:blipFill>
          <a:blip r:embed="rId2"/>
          <a:stretch/>
        </p:blipFill>
        <p:spPr>
          <a:xfrm>
            <a:off x="5364000" y="2421000"/>
            <a:ext cx="2303640" cy="154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s://encrypted-tbn2.gstatic.com/images?q=tbn:ANd9GcREfUIh3FxCcQ7qfbIY_NJ6PQ7X3v76gHmO4ysAOdyOwnYhSIW73l_LL3D7"/>
          <p:cNvPicPr/>
          <p:nvPr/>
        </p:nvPicPr>
        <p:blipFill>
          <a:blip r:embed="rId3"/>
          <a:stretch/>
        </p:blipFill>
        <p:spPr>
          <a:xfrm>
            <a:off x="826920" y="2349360"/>
            <a:ext cx="2533680" cy="1579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s://encrypted-tbn1.gstatic.com/images?q=tbn:ANd9GcRvXn5ONA4V3QyBPaTAfJRMngOz9PhgTQkQVCtKJXd08OOQUyrLB3EXzTRJ"/>
          <p:cNvPicPr/>
          <p:nvPr/>
        </p:nvPicPr>
        <p:blipFill>
          <a:blip r:embed="rId4"/>
          <a:stretch/>
        </p:blipFill>
        <p:spPr>
          <a:xfrm>
            <a:off x="900000" y="4797360"/>
            <a:ext cx="2394000" cy="172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http://www.kolesa.ru/st/media/img/2011/04/29/24901_1304081106_46560x564761_s575x600.jpg"/>
          <p:cNvPicPr/>
          <p:nvPr/>
        </p:nvPicPr>
        <p:blipFill>
          <a:blip r:embed="rId5"/>
          <a:stretch/>
        </p:blipFill>
        <p:spPr>
          <a:xfrm>
            <a:off x="5508720" y="4869000"/>
            <a:ext cx="23079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23:12:21Z</dcterms:created>
  <dc:creator>Олег</dc:creator>
  <dc:description/>
  <dc:language>en-US</dc:language>
  <cp:lastModifiedBy>Олег</cp:lastModifiedBy>
  <dcterms:modified xsi:type="dcterms:W3CDTF">2014-02-18T20:37:00Z</dcterms:modified>
  <cp:revision>2</cp:revision>
  <dc:subject/>
  <dc:title>Цивільно-правові  догов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4140</vt:lpwstr>
  </property>
</Properties>
</file>