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20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26.jpeg" ContentType="image/jpeg"/>
  <Override PartName="/ppt/media/image24.jpeg" ContentType="image/jpeg"/>
  <Override PartName="/ppt/media/image1.jpeg" ContentType="image/jpeg"/>
  <Override PartName="/ppt/media/image10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0D1C-5A99-4BA5-BC0F-E94748993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67BA-BEAB-48BF-B3DA-38A8CC4E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9897-640B-4D21-A702-0E58BFAFE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58B9-2104-4816-9987-41E501C87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7776-1FF7-401A-AA40-8C8785294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93BB-98D0-4320-B014-EC4C0773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D7D1-AD18-4B82-832E-16630AFA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3108-BBBD-4BFB-A451-1A1AF09B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2187-3CCD-43E2-BDEC-050D3E6F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9EC3-8F00-4A02-BC4D-77D79C16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531F-9053-4293-BC1E-692D33AF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D3A9-623B-493B-B78B-891D4902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E103-6078-436D-9765-4981EAF4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5827-111F-49B4-BA40-95877E20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8D37-FE2B-404C-BA75-B87BF992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4797-DE1F-4B9E-BDF5-71F78EFDB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6F27-3AE5-47C9-A18A-E6E875B91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7A424-7675-4B2F-9737-92EA5F09E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D7DAD-CE92-44D5-BC4F-966D0B86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1F79B-BD10-4D87-8DFF-4AA2CC06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C0572-696B-41ED-8C70-EE5F47CC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0A15A-229F-4DD5-BC1D-973811C6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B180-53FC-4BBF-BDAC-75976662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A968E-38A7-49EC-83D8-723992DF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33EA4-B28F-4EDD-AB77-40394F78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F6955-A098-4D18-9A3C-D18ACBB3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2184C-947E-466A-9A37-3A85169A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D6A3F-2125-4F54-B573-065ACBB2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14D73-C3C1-42F9-BCB1-4737A6BAA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CF3F9-56C0-4529-A42A-C06CA4450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F6C6F-125D-42A6-9717-B6402CEE5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FEBDF-A4C4-4FDE-AD6A-1FFDF933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CFE84-1EDA-4994-8EDB-C0DE00F4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0208-E372-4FF6-9CE3-6D051A04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F225C-79C5-4A51-8EBF-CBAE5EBF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3C788-9C1B-4C25-BD6F-55B03FE1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E882F-D490-42F0-B18B-A986CC68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47C6F-35BD-4B9A-8B74-5123B195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1EA81-BA20-4FC6-A13D-2843966E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73ABA-6A82-445D-8E4C-D0D57E6B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9FD41-EAAD-421D-B782-9E80684F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A47B5-4F28-41D1-83CA-1F6B2924C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BB387-6912-4232-BBBA-5C9F6DA03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D389-B743-4A90-8B1E-7F7B5724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FFED-5F8F-42DA-A1CC-D6E37B95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C048-11D9-4123-9E86-AA34831B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D50F-FC1F-4D88-B275-F839A685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FC8A-04C8-452F-979A-9AD2FDB7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066B-F9AA-4F17-840F-90BF26FFC14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4D8F-0D09-49C4-B1A6-C3513FC7A73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0EBD-39DC-49F5-B4D8-1EB85A19921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94E6-E1AE-4E55-AE65-EB32D7233B0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7864560" cy="2011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http://www.yurradnik.com.ua/stride/men/covers/Obl_men_3_2008.jpg"/>
          <p:cNvPicPr/>
          <p:nvPr/>
        </p:nvPicPr>
        <p:blipFill>
          <a:blip r:embed="rId2"/>
          <a:stretch/>
        </p:blipFill>
        <p:spPr>
          <a:xfrm>
            <a:off x="2340000" y="3357720"/>
            <a:ext cx="439272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79280" y="1125360"/>
            <a:ext cx="878544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5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uk-UA" sz="3500" spc="-1" strike="noStrike">
                <a:solidFill>
                  <a:srgbClr val="000000"/>
                </a:solidFill>
                <a:latin typeface="Constantia"/>
              </a:rPr>
              <a:t>Цивільно-правові відносини</a:t>
            </a:r>
            <a:r>
              <a:rPr b="0" lang="uk-UA" sz="3500" spc="-1" strike="noStrike">
                <a:solidFill>
                  <a:srgbClr val="000000"/>
                </a:solidFill>
                <a:latin typeface="Constantia"/>
              </a:rPr>
              <a:t> —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35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3500" spc="-1" strike="noStrike">
                <a:solidFill>
                  <a:srgbClr val="000000"/>
                </a:solidFill>
                <a:latin typeface="Constantia"/>
              </a:rPr>
              <a:t>це врегульовані нормами цивільного права </a:t>
            </a:r>
            <a:r>
              <a:rPr b="1" lang="uk-UA" sz="3500" spc="-1" strike="noStrike">
                <a:solidFill>
                  <a:srgbClr val="000000"/>
                </a:solidFill>
                <a:latin typeface="Constantia"/>
              </a:rPr>
              <a:t>майнові</a:t>
            </a:r>
            <a:r>
              <a:rPr b="0" lang="uk-UA" sz="3500" spc="-1" strike="noStrike">
                <a:solidFill>
                  <a:srgbClr val="000000"/>
                </a:solidFill>
                <a:latin typeface="Constantia"/>
              </a:rPr>
              <a:t> та </a:t>
            </a:r>
            <a:r>
              <a:rPr b="1" lang="uk-UA" sz="3500" spc="-1" strike="noStrike">
                <a:solidFill>
                  <a:srgbClr val="000000"/>
                </a:solidFill>
                <a:latin typeface="Constantia"/>
              </a:rPr>
              <a:t>особисті немайнові </a:t>
            </a:r>
            <a:r>
              <a:rPr b="0" lang="uk-UA" sz="3500" spc="-1" strike="noStrike">
                <a:solidFill>
                  <a:srgbClr val="000000"/>
                </a:solidFill>
                <a:latin typeface="Constantia"/>
              </a:rPr>
              <a:t>відносини.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8" name="Picture 4" descr="https://encrypted-tbn2.gstatic.com/images?q=tbn:ANd9GcRinCOhOC0bTQVcJr-lLEotZHFnsJMGQ8bR1P-p1EeqmV9DWLRAew"/>
          <p:cNvPicPr/>
          <p:nvPr/>
        </p:nvPicPr>
        <p:blipFill>
          <a:blip r:embed="rId1"/>
          <a:stretch/>
        </p:blipFill>
        <p:spPr>
          <a:xfrm>
            <a:off x="611280" y="3716280"/>
            <a:ext cx="2216160" cy="1441440"/>
          </a:xfrm>
          <a:prstGeom prst="rect">
            <a:avLst/>
          </a:prstGeom>
          <a:ln w="0">
            <a:noFill/>
          </a:ln>
        </p:spPr>
      </p:pic>
      <p:cxnSp>
        <p:nvCxnSpPr>
          <p:cNvPr id="199" name="Прямая со стрелкой 5"/>
          <p:cNvCxnSpPr/>
          <p:nvPr/>
        </p:nvCxnSpPr>
        <p:spPr>
          <a:xfrm flipH="1">
            <a:off x="2915640" y="2852640"/>
            <a:ext cx="432360" cy="1153440"/>
          </a:xfrm>
          <a:prstGeom prst="straightConnector1">
            <a:avLst/>
          </a:prstGeom>
          <a:ln w="7632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0" name="Прямая со стрелкой 8"/>
          <p:cNvCxnSpPr/>
          <p:nvPr/>
        </p:nvCxnSpPr>
        <p:spPr>
          <a:xfrm>
            <a:off x="5435280" y="2923920"/>
            <a:ext cx="577080" cy="1081800"/>
          </a:xfrm>
          <a:prstGeom prst="straightConnector1">
            <a:avLst/>
          </a:prstGeom>
          <a:ln w="7632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01" name="Picture 2" descr="C:\Users\Nastja\Desktop\1310037922.jpg"/>
          <p:cNvPicPr/>
          <p:nvPr/>
        </p:nvPicPr>
        <p:blipFill>
          <a:blip r:embed="rId2"/>
          <a:stretch/>
        </p:blipFill>
        <p:spPr>
          <a:xfrm>
            <a:off x="1901880" y="4071960"/>
            <a:ext cx="2620800" cy="24321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http://pochemunelzya.ru/wp-content/uploads/2011/02/spor_b_.png"/>
          <p:cNvPicPr/>
          <p:nvPr/>
        </p:nvPicPr>
        <p:blipFill>
          <a:blip r:embed="rId3"/>
          <a:stretch/>
        </p:blipFill>
        <p:spPr>
          <a:xfrm>
            <a:off x="6300720" y="3284640"/>
            <a:ext cx="2597040" cy="1465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https://encrypted-tbn2.gstatic.com/images?q=tbn:ANd9GcQMisRjBQBDwe_wCGsRKHzGwwt_GNTEKdTEswtYuvj9XI0BXBQoLg"/>
          <p:cNvPicPr/>
          <p:nvPr/>
        </p:nvPicPr>
        <p:blipFill>
          <a:blip r:embed="rId4"/>
          <a:stretch/>
        </p:blipFill>
        <p:spPr>
          <a:xfrm>
            <a:off x="4565520" y="4145040"/>
            <a:ext cx="217008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95280" y="764640"/>
            <a:ext cx="8229600" cy="13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nstantia"/>
              </a:rPr>
              <a:t>Всі учасники цивільно-правових відносин  </a:t>
            </a:r>
            <a:r>
              <a:rPr b="1" lang="uk-UA" sz="3000" spc="-1" strike="noStrike">
                <a:solidFill>
                  <a:srgbClr val="000000"/>
                </a:solidFill>
                <a:latin typeface="Constantia"/>
              </a:rPr>
              <a:t>рівні в правах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4" descr="http://img0.liveinternet.ru/images/attach/c/4/79/303/79303960_libre1.jpg"/>
          <p:cNvPicPr/>
          <p:nvPr/>
        </p:nvPicPr>
        <p:blipFill>
          <a:blip r:embed="rId1"/>
          <a:stretch/>
        </p:blipFill>
        <p:spPr>
          <a:xfrm>
            <a:off x="1835280" y="1700280"/>
            <a:ext cx="4824360" cy="4781520"/>
          </a:xfrm>
          <a:prstGeom prst="rect">
            <a:avLst/>
          </a:prstGeom>
          <a:ln w="0">
            <a:noFill/>
          </a:ln>
        </p:spPr>
      </p:pic>
      <p:pic>
        <p:nvPicPr>
          <p:cNvPr id="206" name="Прямоугольник 4" descr=""/>
          <p:cNvPicPr/>
          <p:nvPr/>
        </p:nvPicPr>
        <p:blipFill>
          <a:blip r:embed="rId2"/>
          <a:stretch/>
        </p:blipFill>
        <p:spPr>
          <a:xfrm>
            <a:off x="536400" y="3797280"/>
            <a:ext cx="2676600" cy="933480"/>
          </a:xfrm>
          <a:prstGeom prst="rect">
            <a:avLst/>
          </a:prstGeom>
          <a:ln w="0">
            <a:noFill/>
          </a:ln>
        </p:spPr>
      </p:pic>
      <p:pic>
        <p:nvPicPr>
          <p:cNvPr id="207" name="Прямоугольник 5" descr=""/>
          <p:cNvPicPr/>
          <p:nvPr/>
        </p:nvPicPr>
        <p:blipFill>
          <a:blip r:embed="rId3"/>
          <a:stretch/>
        </p:blipFill>
        <p:spPr>
          <a:xfrm>
            <a:off x="5645160" y="3797280"/>
            <a:ext cx="26766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3964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5000" spc="-1" strike="noStrike">
                <a:solidFill>
                  <a:srgbClr val="000000"/>
                </a:solidFill>
                <a:latin typeface="Constantia"/>
              </a:rPr>
              <a:t>Цивільно-правові відносини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00000"/>
                </a:solidFill>
                <a:latin typeface="Constantia"/>
              </a:rPr>
              <a:t>цивільно-правовий  договір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09" name="Прямая со стрелкой 4"/>
          <p:cNvCxnSpPr/>
          <p:nvPr/>
        </p:nvCxnSpPr>
        <p:spPr>
          <a:xfrm>
            <a:off x="4427280" y="1773360"/>
            <a:ext cx="1080" cy="1296000"/>
          </a:xfrm>
          <a:prstGeom prst="straightConnector1">
            <a:avLst/>
          </a:prstGeom>
          <a:ln w="7632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10" name="Picture 2" descr="http://rylik.ru/uploads/posts/2011-06/1309422439_business_stock-photo.jpg"/>
          <p:cNvPicPr/>
          <p:nvPr/>
        </p:nvPicPr>
        <p:blipFill>
          <a:blip r:embed="rId1"/>
          <a:srcRect l="0" t="0" r="0" b="63"/>
          <a:stretch/>
        </p:blipFill>
        <p:spPr>
          <a:xfrm>
            <a:off x="2627280" y="3860640"/>
            <a:ext cx="4029120" cy="26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68360" y="475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000" spc="-1" strike="noStrike">
                <a:solidFill>
                  <a:srgbClr val="000000"/>
                </a:solidFill>
                <a:latin typeface="Constantia"/>
              </a:rPr>
              <a:t>Договір</a:t>
            </a:r>
            <a:r>
              <a:rPr b="1" lang="uk-UA" sz="5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5000" spc="-1" strike="noStrike">
                <a:solidFill>
                  <a:srgbClr val="000000"/>
                </a:solidFill>
                <a:latin typeface="Constantia"/>
              </a:rPr>
              <a:t>— 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5000" spc="-1" strike="noStrike">
                <a:solidFill>
                  <a:srgbClr val="000000"/>
                </a:solidFill>
                <a:latin typeface="Constantia"/>
              </a:rPr>
              <a:t>це угода двох або більше сторін, що базується на рівності сторін.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155520" y="-2490840"/>
            <a:ext cx="10696680" cy="52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http://longruble.ru/wp-content/uploads/2013/09/rukopozhatie%2Brukopozhatie%2Bv%2Bkartinkah%2Bdelovoe%2Brukopozhatie%2Brukopozhatie%2Bklipart%2B54253441319.jpg"/>
          <p:cNvPicPr/>
          <p:nvPr/>
        </p:nvPicPr>
        <p:blipFill>
          <a:blip r:embed="rId1"/>
          <a:stretch/>
        </p:blipFill>
        <p:spPr>
          <a:xfrm>
            <a:off x="2124000" y="3706920"/>
            <a:ext cx="518472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49690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4617b"/>
                </a:solidFill>
                <a:latin typeface="Calibri"/>
              </a:rPr>
              <a:t>Договір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Содержимое 2" descr=""/>
          <p:cNvPicPr/>
          <p:nvPr/>
        </p:nvPicPr>
        <p:blipFill>
          <a:blip r:embed="rId1"/>
          <a:stretch/>
        </p:blipFill>
        <p:spPr>
          <a:xfrm>
            <a:off x="463680" y="1652760"/>
            <a:ext cx="8242200" cy="4692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http://mixeeva-design.ru/images/dogovor-zaglav.jpg"/>
          <p:cNvPicPr/>
          <p:nvPr/>
        </p:nvPicPr>
        <p:blipFill>
          <a:blip r:embed="rId2"/>
          <a:stretch/>
        </p:blipFill>
        <p:spPr>
          <a:xfrm>
            <a:off x="1187280" y="1773360"/>
            <a:ext cx="2916360" cy="1982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https://encrypted-tbn2.gstatic.com/images?q=tbn:ANd9GcSmhbuXaQXRdPS9LMjaZTmpiGZxV2xYKfNKr-9gNdLCQof4NYyt"/>
          <p:cNvPicPr/>
          <p:nvPr/>
        </p:nvPicPr>
        <p:blipFill>
          <a:blip r:embed="rId3"/>
          <a:stretch/>
        </p:blipFill>
        <p:spPr>
          <a:xfrm>
            <a:off x="6732720" y="1557360"/>
            <a:ext cx="2066760" cy="2209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http://www.experto.de/unterstuetzung-fuer-selbstaendige-vom-arbeitsamt-1280px-854px1.jpg"/>
          <p:cNvPicPr/>
          <p:nvPr/>
        </p:nvPicPr>
        <p:blipFill>
          <a:blip r:embed="rId4"/>
          <a:stretch/>
        </p:blipFill>
        <p:spPr>
          <a:xfrm>
            <a:off x="539640" y="4581360"/>
            <a:ext cx="2878200" cy="1920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http://rieltkomp.ru/wp-content/uploads/2012/04/number6_1.jpg"/>
          <p:cNvPicPr/>
          <p:nvPr/>
        </p:nvPicPr>
        <p:blipFill>
          <a:blip r:embed="rId5"/>
          <a:stretch/>
        </p:blipFill>
        <p:spPr>
          <a:xfrm>
            <a:off x="4788000" y="4508640"/>
            <a:ext cx="3122640" cy="19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Содержимое 3" descr=""/>
          <p:cNvPicPr/>
          <p:nvPr/>
        </p:nvPicPr>
        <p:blipFill>
          <a:blip r:embed="rId1"/>
          <a:stretch/>
        </p:blipFill>
        <p:spPr>
          <a:xfrm>
            <a:off x="-42840" y="255600"/>
            <a:ext cx="9406080" cy="64198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http://uyristkonsult.at.ua/foto2/arenda.jpg"/>
          <p:cNvPicPr/>
          <p:nvPr/>
        </p:nvPicPr>
        <p:blipFill>
          <a:blip r:embed="rId2"/>
          <a:stretch/>
        </p:blipFill>
        <p:spPr>
          <a:xfrm>
            <a:off x="5364000" y="2421000"/>
            <a:ext cx="2303640" cy="1544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https://encrypted-tbn2.gstatic.com/images?q=tbn:ANd9GcREfUIh3FxCcQ7qfbIY_NJ6PQ7X3v76gHmO4ysAOdyOwnYhSIW73l_LL3D7"/>
          <p:cNvPicPr/>
          <p:nvPr/>
        </p:nvPicPr>
        <p:blipFill>
          <a:blip r:embed="rId3"/>
          <a:stretch/>
        </p:blipFill>
        <p:spPr>
          <a:xfrm>
            <a:off x="826920" y="2349360"/>
            <a:ext cx="2533680" cy="1579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https://encrypted-tbn1.gstatic.com/images?q=tbn:ANd9GcRvXn5ONA4V3QyBPaTAfJRMngOz9PhgTQkQVCtKJXd08OOQUyrLB3EXzTRJ"/>
          <p:cNvPicPr/>
          <p:nvPr/>
        </p:nvPicPr>
        <p:blipFill>
          <a:blip r:embed="rId4"/>
          <a:stretch/>
        </p:blipFill>
        <p:spPr>
          <a:xfrm>
            <a:off x="900000" y="4797360"/>
            <a:ext cx="2394000" cy="1727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6" descr="http://www.kolesa.ru/st/media/img/2011/04/29/24901_1304081106_46560x564761_s575x600.jpg"/>
          <p:cNvPicPr/>
          <p:nvPr/>
        </p:nvPicPr>
        <p:blipFill>
          <a:blip r:embed="rId5"/>
          <a:stretch/>
        </p:blipFill>
        <p:spPr>
          <a:xfrm>
            <a:off x="5508720" y="4869000"/>
            <a:ext cx="230796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23:12:21Z</dcterms:created>
  <dc:creator>Олег</dc:creator>
  <dc:description/>
  <dc:language>en-US</dc:language>
  <cp:lastModifiedBy>Олег</cp:lastModifiedBy>
  <dcterms:modified xsi:type="dcterms:W3CDTF">2014-02-18T20:37:00Z</dcterms:modified>
  <cp:revision>2</cp:revision>
  <dc:subject/>
  <dc:title>Цивільно-правові  договор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a0f000000000001024140</vt:lpwstr>
  </property>
</Properties>
</file>