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jpeg" ContentType="image/jpeg"/>
  <Override PartName="/ppt/media/image24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6D6-7CD6-4E3F-803B-3FBDAA7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1DD-7453-4BE9-95B3-4D777E24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161-14CD-46FC-A744-85BD3E6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C93-ED7F-4C59-87F1-2B09B2D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290-5615-410E-940A-92E9A886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D064-D69F-420A-8FAC-5D3D15FE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608-1E94-44B3-BFDD-9B931D15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C119-475D-4BBF-8179-A63A6FD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867-7621-4035-97F3-33D6452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47C-D895-4F1C-A750-A6596940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FE52-453F-4B4A-B09E-6019B86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FF5-FCDC-493F-8CA9-A66E358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1DC-2281-4535-8D2A-691F0BD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C9E-1892-4A36-B17F-1304DAE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615A-8B9C-4A76-8A98-D42DD57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A3C6-9954-4915-BA79-A6C24B3E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5F7-BDCD-4720-8877-5E7EA17F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8B46-01F9-465F-A328-61FEA63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65E1-7F53-434C-B55C-6C54321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2B51-F980-4343-ACB6-8B5C07F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8B1A-59F8-4FC6-8163-F30241B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0EAB-AE1E-4626-BACA-BFB8CFE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B04-8FBF-4E2F-8258-FEC43E52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7B85-3E21-4D54-9B5A-7AB501E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9817-DBC1-4C31-8C75-5C9C4B7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A4BB-08FC-460D-A001-9C0B515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53D7-15D2-46E9-8A16-AEE905C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D8F3-9A31-4A57-8836-1667862D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0C58-754F-4515-B910-A4F77371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2FF0-AA5F-47CA-B037-A28DF5B0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9E07-183C-45FA-B59F-824A381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F701-1300-4AA8-A3A3-781FD4C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DB5F-D5EB-4915-A6F5-FDE3F806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A8F-152C-42F5-85BF-A1F9357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8349-0A89-4225-AB53-B15FB26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6EBD-50DE-4A32-ABD5-6EAC9CB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420C-6089-40FA-A998-8CDAF1F2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3D58-D410-4D7B-BB2E-B396304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B016-62D6-4798-9A95-6D6BB61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610F-90F6-4CA8-8868-E1CADBC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E4E5-2FC5-4FD1-8156-0A228B3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0D07-B827-48E3-8049-28AF8946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259F-7609-4A93-B3D2-0CC2D313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A02-8F90-4D96-9E31-F80E69F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2CE-FA61-49C9-B7CE-D0264267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A8D-A388-48AC-8008-A18D3D4B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A3B-4A61-449A-8378-88C75F1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598-D78C-4131-8B16-17E9901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A8D-476D-41B2-99A7-BC564D9F37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C2FD-B970-4BF2-BE52-65A125BB15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C6C-45C9-4195-BDF5-8648ACC689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45E8-D531-45E0-BAC8-AC54C8CE53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yurradnik.com.ua/stride/men/covers/Obl_men_3_2008.jpg"/>
          <p:cNvPicPr/>
          <p:nvPr/>
        </p:nvPicPr>
        <p:blipFill>
          <a:blip r:embed="rId2"/>
          <a:stretch/>
        </p:blipFill>
        <p:spPr>
          <a:xfrm>
            <a:off x="2340000" y="3357720"/>
            <a:ext cx="4392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125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це врегульовані нормами цивільного прав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майнові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т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особисті немайнові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відносини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https://encrypted-tbn2.gstatic.com/images?q=tbn:ANd9GcRinCOhOC0bTQVcJr-lLEotZHFnsJMGQ8bR1P-p1EeqmV9DWLRAew"/>
          <p:cNvPicPr/>
          <p:nvPr/>
        </p:nvPicPr>
        <p:blipFill>
          <a:blip r:embed="rId1"/>
          <a:stretch/>
        </p:blipFill>
        <p:spPr>
          <a:xfrm>
            <a:off x="611280" y="3716280"/>
            <a:ext cx="221616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99" name="Прямая со стрелкой 5"/>
          <p:cNvCxnSpPr/>
          <p:nvPr/>
        </p:nvCxnSpPr>
        <p:spPr>
          <a:xfrm flipH="1">
            <a:off x="2915640" y="2852640"/>
            <a:ext cx="432360" cy="115344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8"/>
          <p:cNvCxnSpPr/>
          <p:nvPr/>
        </p:nvCxnSpPr>
        <p:spPr>
          <a:xfrm>
            <a:off x="5435280" y="2923920"/>
            <a:ext cx="577080" cy="10818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1" name="Picture 2" descr="C:\Users\Nastja\Desktop\1310037922.jpg"/>
          <p:cNvPicPr/>
          <p:nvPr/>
        </p:nvPicPr>
        <p:blipFill>
          <a:blip r:embed="rId2"/>
          <a:stretch/>
        </p:blipFill>
        <p:spPr>
          <a:xfrm>
            <a:off x="1901880" y="4071960"/>
            <a:ext cx="2620800" cy="2432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pochemunelzya.ru/wp-content/uploads/2011/02/spor_b_.png"/>
          <p:cNvPicPr/>
          <p:nvPr/>
        </p:nvPicPr>
        <p:blipFill>
          <a:blip r:embed="rId3"/>
          <a:stretch/>
        </p:blipFill>
        <p:spPr>
          <a:xfrm>
            <a:off x="6300720" y="3284640"/>
            <a:ext cx="2597040" cy="1465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s://encrypted-tbn2.gstatic.com/images?q=tbn:ANd9GcQMisRjBQBDwe_wCGsRKHzGwwt_GNTEKdTEswtYuvj9XI0BXBQoLg"/>
          <p:cNvPicPr/>
          <p:nvPr/>
        </p:nvPicPr>
        <p:blipFill>
          <a:blip r:embed="rId4"/>
          <a:stretch/>
        </p:blipFill>
        <p:spPr>
          <a:xfrm>
            <a:off x="4565520" y="41450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Всі учасники цивільно-правових відносин  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рівні в прав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img0.liveinternet.ru/images/attach/c/4/79/303/79303960_libre1.jpg"/>
          <p:cNvPicPr/>
          <p:nvPr/>
        </p:nvPicPr>
        <p:blipFill>
          <a:blip r:embed="rId1"/>
          <a:stretch/>
        </p:blipFill>
        <p:spPr>
          <a:xfrm>
            <a:off x="1835280" y="1700280"/>
            <a:ext cx="4824360" cy="47815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797280"/>
            <a:ext cx="2676600" cy="9334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5645160" y="3797280"/>
            <a:ext cx="2676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3964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00"/>
                </a:solidFill>
                <a:latin typeface="Constantia"/>
              </a:rPr>
              <a:t>цивільно-правовий  договір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>
            <a:off x="4427280" y="1773360"/>
            <a:ext cx="1080" cy="12960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0" name="Picture 2" descr="http://rylik.ru/uploads/posts/2011-06/1309422439_business_stock-photo.jpg"/>
          <p:cNvPicPr/>
          <p:nvPr/>
        </p:nvPicPr>
        <p:blipFill>
          <a:blip r:embed="rId1"/>
          <a:srcRect l="0" t="0" r="0" b="63"/>
          <a:stretch/>
        </p:blipFill>
        <p:spPr>
          <a:xfrm>
            <a:off x="2627280" y="3860640"/>
            <a:ext cx="402912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475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Constantia"/>
              </a:rPr>
              <a:t>Договір</a:t>
            </a:r>
            <a:r>
              <a:rPr b="1" lang="uk-UA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це угода двох або більше сторін, що базується на рівності сторін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2490840"/>
            <a:ext cx="1069668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longruble.ru/wp-content/uploads/2013/09/rukopozhatie%2Brukopozhatie%2Bv%2Bkartinkah%2Bdelovoe%2Brukopozhatie%2Brukopozhatie%2Bklipart%2B54253441319.jpg"/>
          <p:cNvPicPr/>
          <p:nvPr/>
        </p:nvPicPr>
        <p:blipFill>
          <a:blip r:embed="rId1"/>
          <a:stretch/>
        </p:blipFill>
        <p:spPr>
          <a:xfrm>
            <a:off x="2124000" y="3706920"/>
            <a:ext cx="5184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969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Договір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2" descr=""/>
          <p:cNvPicPr/>
          <p:nvPr/>
        </p:nvPicPr>
        <p:blipFill>
          <a:blip r:embed="rId1"/>
          <a:stretch/>
        </p:blipFill>
        <p:spPr>
          <a:xfrm>
            <a:off x="463680" y="1652760"/>
            <a:ext cx="8242200" cy="469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mixeeva-design.ru/images/dogovor-zaglav.jpg"/>
          <p:cNvPicPr/>
          <p:nvPr/>
        </p:nvPicPr>
        <p:blipFill>
          <a:blip r:embed="rId2"/>
          <a:stretch/>
        </p:blipFill>
        <p:spPr>
          <a:xfrm>
            <a:off x="1187280" y="1773360"/>
            <a:ext cx="2916360" cy="198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s://encrypted-tbn2.gstatic.com/images?q=tbn:ANd9GcSmhbuXaQXRdPS9LMjaZTmpiGZxV2xYKfNKr-9gNdLCQof4NYyt"/>
          <p:cNvPicPr/>
          <p:nvPr/>
        </p:nvPicPr>
        <p:blipFill>
          <a:blip r:embed="rId3"/>
          <a:stretch/>
        </p:blipFill>
        <p:spPr>
          <a:xfrm>
            <a:off x="6732720" y="155736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experto.de/unterstuetzung-fuer-selbstaendige-vom-arbeitsamt-1280px-854px1.jpg"/>
          <p:cNvPicPr/>
          <p:nvPr/>
        </p:nvPicPr>
        <p:blipFill>
          <a:blip r:embed="rId4"/>
          <a:stretch/>
        </p:blipFill>
        <p:spPr>
          <a:xfrm>
            <a:off x="539640" y="4581360"/>
            <a:ext cx="2878200" cy="192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rieltkomp.ru/wp-content/uploads/2012/04/number6_1.jpg"/>
          <p:cNvPicPr/>
          <p:nvPr/>
        </p:nvPicPr>
        <p:blipFill>
          <a:blip r:embed="rId5"/>
          <a:stretch/>
        </p:blipFill>
        <p:spPr>
          <a:xfrm>
            <a:off x="4788000" y="4508640"/>
            <a:ext cx="312264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-42840" y="255600"/>
            <a:ext cx="9406080" cy="641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uyristkonsult.at.ua/foto2/arenda.jpg"/>
          <p:cNvPicPr/>
          <p:nvPr/>
        </p:nvPicPr>
        <p:blipFill>
          <a:blip r:embed="rId2"/>
          <a:stretch/>
        </p:blipFill>
        <p:spPr>
          <a:xfrm>
            <a:off x="5364000" y="2421000"/>
            <a:ext cx="23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s://encrypted-tbn2.gstatic.com/images?q=tbn:ANd9GcREfUIh3FxCcQ7qfbIY_NJ6PQ7X3v76gHmO4ysAOdyOwnYhSIW73l_LL3D7"/>
          <p:cNvPicPr/>
          <p:nvPr/>
        </p:nvPicPr>
        <p:blipFill>
          <a:blip r:embed="rId3"/>
          <a:stretch/>
        </p:blipFill>
        <p:spPr>
          <a:xfrm>
            <a:off x="826920" y="2349360"/>
            <a:ext cx="2533680" cy="1579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s://encrypted-tbn1.gstatic.com/images?q=tbn:ANd9GcRvXn5ONA4V3QyBPaTAfJRMngOz9PhgTQkQVCtKJXd08OOQUyrLB3EXzTRJ"/>
          <p:cNvPicPr/>
          <p:nvPr/>
        </p:nvPicPr>
        <p:blipFill>
          <a:blip r:embed="rId4"/>
          <a:stretch/>
        </p:blipFill>
        <p:spPr>
          <a:xfrm>
            <a:off x="900000" y="4797360"/>
            <a:ext cx="2394000" cy="172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http://www.kolesa.ru/st/media/img/2011/04/29/24901_1304081106_46560x564761_s575x600.jpg"/>
          <p:cNvPicPr/>
          <p:nvPr/>
        </p:nvPicPr>
        <p:blipFill>
          <a:blip r:embed="rId5"/>
          <a:stretch/>
        </p:blipFill>
        <p:spPr>
          <a:xfrm>
            <a:off x="5508720" y="4869000"/>
            <a:ext cx="23079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23:12:21Z</dcterms:created>
  <dc:creator>Олег</dc:creator>
  <dc:description/>
  <dc:language>en-US</dc:language>
  <cp:lastModifiedBy>Олег</cp:lastModifiedBy>
  <dcterms:modified xsi:type="dcterms:W3CDTF">2014-02-18T20:37:00Z</dcterms:modified>
  <cp:revision>2</cp:revision>
  <dc:subject/>
  <dc:title>Цивільно-правові  догов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4140</vt:lpwstr>
  </property>
</Properties>
</file>