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D3B4-03E2-4E75-94D1-F89EA4515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DE22-08C1-4C1F-9448-498ABF4BA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B77A-1AAF-4304-8C2F-ABD50DD92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E4C4-F493-4345-B420-607DE0195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BA7F6-6EF9-48A0-B53C-34842283A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88061-22E4-4BB1-91FD-F450B88BD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E5C22-A83B-42E5-A5DF-0F79057EE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5B91C-9FAB-4683-B185-A11C88789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10602-E856-4BF5-A65E-494DA56B0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C00AB-5AE0-4BE5-8C1B-B4A9DCAD1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808C5-A450-4892-A0BB-3C6A81D9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8520-76E6-45C8-9A7B-EBEA9B4E5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52316-BC2B-4308-9309-2A7A2D08B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EC573-DC01-4A04-BB05-C0A01597B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D77C4-0891-4893-9804-16C380F8D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DF6DF-2DFE-4678-97F2-769B3D078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72C50-5C4A-477A-A6FA-2358BB181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36A6-F276-40FA-BCA4-8D371FDE3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DD37-BB52-49F6-99FE-FA70E00D7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06DD-0CCB-48EE-A871-38669C9D8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83F9-24C6-4230-A534-3AFFAA897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D66C-349B-4B03-B4A4-659064AC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3934-F5E7-4346-B47D-37EA9748D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4C1C-93B9-42CA-9283-0E13373B6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2c86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9ea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b7b6a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D16C3-2E70-43FC-B4A5-82E1231DE21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2c86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9ea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b7b6a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1E78C-0A1A-4B6A-A6FB-59BB1E0DF8E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Прямоугольник 7" descr=""/>
          <p:cNvPicPr/>
          <p:nvPr/>
        </p:nvPicPr>
        <p:blipFill>
          <a:blip r:embed="rId1"/>
          <a:stretch/>
        </p:blipFill>
        <p:spPr>
          <a:xfrm>
            <a:off x="42840" y="1182600"/>
            <a:ext cx="5559480" cy="193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6160" y="13320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.Правовой статус в Украине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WordArt 106"/>
          <p:cNvSpPr txBox="1"/>
          <p:nvPr/>
        </p:nvSpPr>
        <p:spPr>
          <a:xfrm>
            <a:off x="293760" y="900000"/>
            <a:ext cx="1830240" cy="101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правовой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статус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личности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155" name="Group 109"/>
          <p:cNvGrpSpPr/>
          <p:nvPr/>
        </p:nvGrpSpPr>
        <p:grpSpPr>
          <a:xfrm>
            <a:off x="2340000" y="981000"/>
            <a:ext cx="6582240" cy="825480"/>
            <a:chOff x="2340000" y="981000"/>
            <a:chExt cx="6582240" cy="825480"/>
          </a:xfrm>
        </p:grpSpPr>
        <p:sp>
          <p:nvSpPr>
            <p:cNvPr id="156" name="Text Box 107"/>
            <p:cNvSpPr/>
            <p:nvPr/>
          </p:nvSpPr>
          <p:spPr>
            <a:xfrm>
              <a:off x="3093480" y="981000"/>
              <a:ext cx="5828760" cy="8254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76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Times New Roman"/>
                </a:rPr>
                <a:t>это система прав, свобод и обязанностей,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Times New Roman"/>
                </a:rPr>
                <a:t>закрепленная в нормах права.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7" name="AutoShape 108"/>
            <p:cNvSpPr/>
            <p:nvPr/>
          </p:nvSpPr>
          <p:spPr>
            <a:xfrm>
              <a:off x="2340000" y="1341360"/>
              <a:ext cx="576360" cy="216000"/>
            </a:xfrm>
            <a:prstGeom prst="rightArrow">
              <a:avLst>
                <a:gd name="adj1" fmla="val 50000"/>
                <a:gd name="adj2" fmla="val 66708"/>
              </a:avLst>
            </a:prstGeom>
            <a:solidFill>
              <a:srgbClr val="cc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58" name="Group 115"/>
          <p:cNvGrpSpPr/>
          <p:nvPr/>
        </p:nvGrpSpPr>
        <p:grpSpPr>
          <a:xfrm>
            <a:off x="1620720" y="2205000"/>
            <a:ext cx="7551000" cy="825480"/>
            <a:chOff x="1620720" y="2205000"/>
            <a:chExt cx="7551000" cy="825480"/>
          </a:xfrm>
        </p:grpSpPr>
        <p:sp>
          <p:nvSpPr>
            <p:cNvPr id="159" name="Text Box 111"/>
            <p:cNvSpPr/>
            <p:nvPr/>
          </p:nvSpPr>
          <p:spPr>
            <a:xfrm>
              <a:off x="2255040" y="2205000"/>
              <a:ext cx="6916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ffff00"/>
                  </a:solidFill>
                  <a:uFillTx/>
                  <a:latin typeface="Tahoma"/>
                </a:rPr>
                <a:t>Конституционный статус</a:t>
              </a: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, закрепляющий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единство прав и обязанностей.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" name="Line 112"/>
            <p:cNvSpPr/>
            <p:nvPr/>
          </p:nvSpPr>
          <p:spPr>
            <a:xfrm>
              <a:off x="1620720" y="2637000"/>
              <a:ext cx="863640" cy="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61" name="Group 114"/>
          <p:cNvGrpSpPr/>
          <p:nvPr/>
        </p:nvGrpSpPr>
        <p:grpSpPr>
          <a:xfrm>
            <a:off x="108000" y="1989000"/>
            <a:ext cx="1419120" cy="863640"/>
            <a:chOff x="108000" y="1989000"/>
            <a:chExt cx="1419120" cy="863640"/>
          </a:xfrm>
        </p:grpSpPr>
        <p:sp>
          <p:nvSpPr>
            <p:cNvPr id="162" name="WordArt 110"/>
            <p:cNvSpPr txBox="1"/>
            <p:nvPr/>
          </p:nvSpPr>
          <p:spPr>
            <a:xfrm>
              <a:off x="108000" y="2492280"/>
              <a:ext cx="1419120" cy="36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blipFill rotWithShape="0">
                    <a:blip r:embed="rId2"/>
                    <a:srcRect/>
                    <a:stretch/>
                  </a:blipFill>
                  <a:latin typeface="Impact"/>
                </a:rPr>
                <a:t>основа</a:t>
              </a:r>
              <a:endPara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Impact"/>
                <a:ea typeface="Impact"/>
              </a:endParaRPr>
            </a:p>
          </p:txBody>
        </p:sp>
        <p:sp>
          <p:nvSpPr>
            <p:cNvPr id="163" name="Line 113"/>
            <p:cNvSpPr/>
            <p:nvPr/>
          </p:nvSpPr>
          <p:spPr>
            <a:xfrm>
              <a:off x="1187280" y="1989000"/>
              <a:ext cx="0" cy="43200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64" name="Group 118"/>
          <p:cNvGrpSpPr/>
          <p:nvPr/>
        </p:nvGrpSpPr>
        <p:grpSpPr>
          <a:xfrm>
            <a:off x="294840" y="2924280"/>
            <a:ext cx="8574840" cy="1299960"/>
            <a:chOff x="294840" y="2924280"/>
            <a:chExt cx="8574840" cy="1299960"/>
          </a:xfrm>
        </p:grpSpPr>
        <p:sp>
          <p:nvSpPr>
            <p:cNvPr id="165" name="Text Box 116"/>
            <p:cNvSpPr/>
            <p:nvPr/>
          </p:nvSpPr>
          <p:spPr>
            <a:xfrm>
              <a:off x="294840" y="3398760"/>
              <a:ext cx="8574840" cy="8254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76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Times New Roman"/>
                </a:rPr>
                <a:t>Означает закрепление в праве меры возможного и должного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Times New Roman"/>
                </a:rPr>
                <a:t>поведения личности, пределы ее свободы 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" name="Line 117"/>
            <p:cNvSpPr/>
            <p:nvPr/>
          </p:nvSpPr>
          <p:spPr>
            <a:xfrm>
              <a:off x="4716360" y="2924280"/>
              <a:ext cx="0" cy="433440"/>
            </a:xfrm>
            <a:prstGeom prst="line">
              <a:avLst/>
            </a:prstGeom>
            <a:ln w="7632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67" name="WordArt 119"/>
          <p:cNvSpPr txBox="1"/>
          <p:nvPr/>
        </p:nvSpPr>
        <p:spPr>
          <a:xfrm>
            <a:off x="2792520" y="4437000"/>
            <a:ext cx="3867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Правовой статус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личности в Украине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168" name="Group 127"/>
          <p:cNvGrpSpPr/>
          <p:nvPr/>
        </p:nvGrpSpPr>
        <p:grpSpPr>
          <a:xfrm>
            <a:off x="253800" y="5013360"/>
            <a:ext cx="2662200" cy="1659600"/>
            <a:chOff x="253800" y="5013360"/>
            <a:chExt cx="2662200" cy="1659600"/>
          </a:xfrm>
        </p:grpSpPr>
        <p:sp>
          <p:nvSpPr>
            <p:cNvPr id="169" name="Text Box 120"/>
            <p:cNvSpPr/>
            <p:nvPr/>
          </p:nvSpPr>
          <p:spPr>
            <a:xfrm>
              <a:off x="253800" y="5481720"/>
              <a:ext cx="1846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Правовой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статус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гражданина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0" name="Line 123"/>
            <p:cNvSpPr/>
            <p:nvPr/>
          </p:nvSpPr>
          <p:spPr>
            <a:xfrm flipH="1">
              <a:off x="1907640" y="5013360"/>
              <a:ext cx="1008360" cy="5763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71" name="Group 128"/>
          <p:cNvGrpSpPr/>
          <p:nvPr/>
        </p:nvGrpSpPr>
        <p:grpSpPr>
          <a:xfrm>
            <a:off x="6516720" y="5013360"/>
            <a:ext cx="2270880" cy="1659600"/>
            <a:chOff x="6516720" y="5013360"/>
            <a:chExt cx="2270880" cy="1659600"/>
          </a:xfrm>
        </p:grpSpPr>
        <p:sp>
          <p:nvSpPr>
            <p:cNvPr id="172" name="Text Box 122"/>
            <p:cNvSpPr/>
            <p:nvPr/>
          </p:nvSpPr>
          <p:spPr>
            <a:xfrm>
              <a:off x="7238160" y="5481720"/>
              <a:ext cx="1549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Правовой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статус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апатрида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3" name="Line 124"/>
            <p:cNvSpPr/>
            <p:nvPr/>
          </p:nvSpPr>
          <p:spPr>
            <a:xfrm>
              <a:off x="6516720" y="5013360"/>
              <a:ext cx="1008000" cy="5763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74" name="Group 126"/>
          <p:cNvGrpSpPr/>
          <p:nvPr/>
        </p:nvGrpSpPr>
        <p:grpSpPr>
          <a:xfrm>
            <a:off x="3772080" y="5084640"/>
            <a:ext cx="1793160" cy="1588320"/>
            <a:chOff x="3772080" y="5084640"/>
            <a:chExt cx="1793160" cy="1588320"/>
          </a:xfrm>
        </p:grpSpPr>
        <p:sp>
          <p:nvSpPr>
            <p:cNvPr id="175" name="Text Box 121"/>
            <p:cNvSpPr/>
            <p:nvPr/>
          </p:nvSpPr>
          <p:spPr>
            <a:xfrm>
              <a:off x="3772080" y="5481720"/>
              <a:ext cx="1793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Правовой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статус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иностранца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6" name="Line 125"/>
            <p:cNvSpPr/>
            <p:nvPr/>
          </p:nvSpPr>
          <p:spPr>
            <a:xfrm>
              <a:off x="4643280" y="5084640"/>
              <a:ext cx="0" cy="5763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6160" y="13320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.Гражданство в Украине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8" name="WordArt 34"/>
          <p:cNvSpPr txBox="1"/>
          <p:nvPr/>
        </p:nvSpPr>
        <p:spPr>
          <a:xfrm>
            <a:off x="1370160" y="879480"/>
            <a:ext cx="66578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Принципы гражданства в Украине</a:t>
            </a:r>
            <a:endParaRPr b="1" lang="en-US" sz="2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79" name="Text Box 35"/>
          <p:cNvSpPr/>
          <p:nvPr/>
        </p:nvSpPr>
        <p:spPr>
          <a:xfrm>
            <a:off x="155520" y="1609560"/>
            <a:ext cx="8705880" cy="4483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1.Права гражданина не могут ограничиваться по политичес 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ким, национальным, религиозным и т.д. основаниям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2.Гражданство Украины является единым.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3.Проживание гражданина Украины за пределами Украины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не прекращает его гражданства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4.Гражданин Украины не может быть лишен гражданства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Украины или права изменить его.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5.Гражданин Украины не может быть выслан за пределы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страны или выдан иностранному государству.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6.Украина поощряет приобретение гражданства Украины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7.Наличие у лица гражданства Украины определяется на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основании законодательных актов Украины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6160" y="13320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.Гражданство в Украине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81" name="Group 6"/>
          <p:cNvGrpSpPr/>
          <p:nvPr/>
        </p:nvGrpSpPr>
        <p:grpSpPr>
          <a:xfrm>
            <a:off x="142920" y="714240"/>
            <a:ext cx="8858160" cy="1557000"/>
            <a:chOff x="142920" y="714240"/>
            <a:chExt cx="8858160" cy="1557000"/>
          </a:xfrm>
        </p:grpSpPr>
        <p:sp>
          <p:nvSpPr>
            <p:cNvPr id="182" name="WordArt 3"/>
            <p:cNvSpPr txBox="1"/>
            <p:nvPr/>
          </p:nvSpPr>
          <p:spPr>
            <a:xfrm>
              <a:off x="142920" y="785880"/>
              <a:ext cx="2265480" cy="1123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2844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000082"/>
                      </a:gs>
                      <a:gs pos="100000">
                        <a:srgbClr val="ff8200"/>
                      </a:gs>
                    </a:gsLst>
                    <a:lin ang="5400000"/>
                  </a:gradFill>
                  <a:latin typeface="Arial"/>
                </a:rPr>
                <a:t>Гражданство </a:t>
              </a:r>
              <a:endParaRPr b="1" lang="en-US" sz="2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2844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000082"/>
                      </a:gs>
                      <a:gs pos="100000">
                        <a:srgbClr val="ff8200"/>
                      </a:gs>
                    </a:gsLst>
                    <a:lin ang="5400000"/>
                  </a:gradFill>
                  <a:latin typeface="Arial"/>
                </a:rPr>
                <a:t>Украины</a:t>
              </a:r>
              <a:endParaRPr b="1" lang="en-US" sz="2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183" name="Text Box 5"/>
            <p:cNvSpPr/>
            <p:nvPr/>
          </p:nvSpPr>
          <p:spPr>
            <a:xfrm>
              <a:off x="2428920" y="714240"/>
              <a:ext cx="6572160" cy="1557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76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Times New Roman"/>
                </a:rPr>
                <a:t>устойчивая правовая связь лица с государством, выражающаяся в совокупности их взаимных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1" lang="ru-RU" sz="2400" spc="-1" strike="noStrike">
                  <a:solidFill>
                    <a:srgbClr val="000066"/>
                  </a:solidFill>
                  <a:latin typeface="Times New Roman"/>
                </a:rPr>
                <a:t>прав и обязанностей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84" name="WordArt 7"/>
          <p:cNvSpPr txBox="1"/>
          <p:nvPr/>
        </p:nvSpPr>
        <p:spPr>
          <a:xfrm>
            <a:off x="3143160" y="2357280"/>
            <a:ext cx="3019680" cy="3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гражданин Украины</a:t>
            </a:r>
            <a:endParaRPr b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185" name="WordArt 9"/>
          <p:cNvSpPr txBox="1"/>
          <p:nvPr/>
        </p:nvSpPr>
        <p:spPr>
          <a:xfrm>
            <a:off x="500040" y="2714760"/>
            <a:ext cx="23050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брак с</a:t>
            </a:r>
            <a:endParaRPr b="1" lang="en-US" sz="2400" spc="1" strike="noStrike">
              <a:ln w="28440">
                <a:solidFill>
                  <a:srgbClr val="ffffff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иностранцами</a:t>
            </a:r>
            <a:endParaRPr b="1" lang="en-US" sz="2400" spc="1" strike="noStrike">
              <a:ln w="28440">
                <a:solidFill>
                  <a:srgbClr val="ffffff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186" name="WordArt 10"/>
          <p:cNvSpPr txBox="1"/>
          <p:nvPr/>
        </p:nvSpPr>
        <p:spPr>
          <a:xfrm>
            <a:off x="6588000" y="2817720"/>
            <a:ext cx="2305080" cy="6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под защитой</a:t>
            </a:r>
            <a:endParaRPr b="1" lang="en-US" sz="2400" spc="1" strike="noStrike">
              <a:ln w="28440">
                <a:solidFill>
                  <a:srgbClr val="ffffff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государства</a:t>
            </a:r>
            <a:endParaRPr b="1" lang="en-US" sz="2400" spc="1" strike="noStrike">
              <a:ln w="28440">
                <a:solidFill>
                  <a:srgbClr val="ffffff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187" name="WordArt 11"/>
          <p:cNvSpPr txBox="1"/>
          <p:nvPr/>
        </p:nvSpPr>
        <p:spPr>
          <a:xfrm>
            <a:off x="1403280" y="3614760"/>
            <a:ext cx="6305760" cy="3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cc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иобретение гражданства</a:t>
            </a:r>
            <a:endParaRPr b="1" lang="en-US" sz="2400" spc="1" strike="noStrike">
              <a:ln w="19080">
                <a:solidFill>
                  <a:srgbClr val="cc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223920" y="3933720"/>
            <a:ext cx="8565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) по рождению;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б) в результате приема в гражданство Украины;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) в результате восстановления в гражданстве Украины;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) по иным основаниям, предусмотренным настоящим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нституционным законом или международным договором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6160" y="13320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.Гражданство в Украине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0" name="WordArt 10"/>
          <p:cNvSpPr txBox="1"/>
          <p:nvPr/>
        </p:nvSpPr>
        <p:spPr>
          <a:xfrm>
            <a:off x="1403280" y="765000"/>
            <a:ext cx="6305760" cy="3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cc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иобретение гражданства</a:t>
            </a:r>
            <a:endParaRPr b="1" lang="en-US" sz="2400" spc="1" strike="noStrike">
              <a:ln w="19080">
                <a:solidFill>
                  <a:srgbClr val="cc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3349800" y="98100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По рождению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Text Box 12"/>
          <p:cNvSpPr/>
          <p:nvPr/>
        </p:nvSpPr>
        <p:spPr>
          <a:xfrm>
            <a:off x="149400" y="1835280"/>
            <a:ext cx="8851680" cy="484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1) оба его родителя или единственный его родитель имеют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гражданство Украины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2)оба его родителя, проживающие на территории Украины,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являются иностранными гражданами или лицами без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гражданства, при условии, что ребенок родился на территории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Украины, а государства, гражданами которых являются его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родители, не предоставляют ему свое гражданство.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3)ребенок, который находится на территории Украины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родители которого неизвестны, становится гражданином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Украины в случае, если родители не объявятся в течение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шести месяцев со дня его обнаружения. 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6160" y="4428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.Гражданство в Украине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4" name="WordArt 3"/>
          <p:cNvSpPr txBox="1"/>
          <p:nvPr/>
        </p:nvSpPr>
        <p:spPr>
          <a:xfrm>
            <a:off x="1403280" y="620640"/>
            <a:ext cx="6305760" cy="3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cc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иобретение гражданства</a:t>
            </a:r>
            <a:endParaRPr b="1" lang="en-US" sz="2400" spc="1" strike="noStrike">
              <a:ln w="19080">
                <a:solidFill>
                  <a:srgbClr val="cc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2414160" y="1125360"/>
            <a:ext cx="445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Восстановление в гражданстве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0" y="1785960"/>
            <a:ext cx="9144000" cy="1922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Иностранные граждане и лица без гражданства, ранее имев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шие гражданство Украины, могут быть восста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новлены в гражданстве Украины на общих ос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нованиях. При этом срок их проживания на территории Украины сокращается до трех лет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224280" y="5297040"/>
            <a:ext cx="8815680" cy="119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лица, проживающие на территории, государственная принад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лежность которой изменена, имеют право на выбор гражданс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тва (оптацию)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2006280" y="4119480"/>
            <a:ext cx="516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Выбор гражданства при изменении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Государственной границы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Украине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6160" y="4428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.Гражданство в Украине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0" name="WordArt 3"/>
          <p:cNvSpPr txBox="1"/>
          <p:nvPr/>
        </p:nvSpPr>
        <p:spPr>
          <a:xfrm>
            <a:off x="1403280" y="620640"/>
            <a:ext cx="6305760" cy="3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cc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иобретение гражданства</a:t>
            </a:r>
            <a:endParaRPr b="1" lang="en-US" sz="2400" spc="1" strike="noStrike">
              <a:ln w="19080">
                <a:solidFill>
                  <a:srgbClr val="cc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2413440" y="836640"/>
            <a:ext cx="41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Прекращение в гражданстве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92160" y="1389240"/>
            <a:ext cx="8908920" cy="4786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1. Выход из гражданства Украины лица, проживающего на террито-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рии Украины, осуществляется на основании добровольного воле-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изъявления такого лица в общем порядке, за исключением 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случаев, предусмотренных законом. 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2. Выход из гражданства Украины лица, проживающего на террито-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рии иностранного государства, осуществляется на основании 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добровольного волеизъявления такого лица в упрощенном по-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рядке, за исключением случаев, предусмотренных законом. 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3. Выход из гражданства Украины ребенка, один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из родителей которого имеет гражданство Украины, а другой роди-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тель является иностранным гражданином, либо единственный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родитель которого является иностранным гражданином, осу-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ществляется в упрощенном порядке по заявлению обоих роди-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телей, либо по заявлению единственного родителя. 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3T15:29:31Z</dcterms:created>
  <dc:creator>Чернов Алексей</dc:creator>
  <dc:description/>
  <dc:language>en-US</dc:language>
  <cp:lastModifiedBy>Admin</cp:lastModifiedBy>
  <dcterms:modified xsi:type="dcterms:W3CDTF">2013-10-27T06:44:12Z</dcterms:modified>
  <cp:revision>18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607000000000001024140</vt:lpwstr>
  </property>
  <property fmtid="{D5CDD505-2E9C-101B-9397-08002B2CF9AE}" pid="3" name="Version">
    <vt:r8>8</vt:r8>
  </property>
</Properties>
</file>