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D41-2067-4A31-AE84-3D3F10D2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C31-9CF4-4157-AF66-C0E6E4B7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B62-3EBB-4E79-8FC5-8EB7A2B3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BE3-E9D9-46CC-945B-5A0D2510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89F3-921F-4EEE-A455-ACA61853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7E7B-5B92-4A29-84DF-5178609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9E2D-79B8-4FB4-B8BD-3B7EA1B2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A9D-DF1B-4E1C-BC21-17B13149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8A4A-01C9-4CF3-BE4F-D5DB77AF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DDFB-F50F-4E0B-B0C3-A693388F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C635-123A-42D5-8083-6246E983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849-D082-44D8-9057-C27ACD40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D929-2CB2-44F9-BC21-70844F72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0C7A-4D16-43DE-891A-F358EE9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9970-EFF7-4938-ACF2-FCCBA50A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D345-57F0-44A1-9DC0-3880448B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3824-CBC5-4B0E-B4CB-A5964B76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917-8811-4C37-93F3-D394E825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0DD-ADC5-4325-925E-03323008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727-0C14-4A15-A7CD-85051747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EF4-5303-4720-8290-ECBA6A9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2B4-9DE6-443F-A2F2-7563EF4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92B-F372-4813-AE5A-B470A3B1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865-DF1D-4771-AE1B-04C246B1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2B85-64F6-452E-9113-BCF1667E01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75C2-FD52-4FDA-A0B0-1083FE59AB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7" descr=""/>
          <p:cNvPicPr/>
          <p:nvPr/>
        </p:nvPicPr>
        <p:blipFill>
          <a:blip r:embed="rId1"/>
          <a:stretch/>
        </p:blipFill>
        <p:spPr>
          <a:xfrm>
            <a:off x="42840" y="1182600"/>
            <a:ext cx="555948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равовой статус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WordArt 106"/>
          <p:cNvSpPr txBox="1"/>
          <p:nvPr/>
        </p:nvSpPr>
        <p:spPr>
          <a:xfrm>
            <a:off x="293760" y="900000"/>
            <a:ext cx="183024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вой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атус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личности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55" name="Group 109"/>
          <p:cNvGrpSpPr/>
          <p:nvPr/>
        </p:nvGrpSpPr>
        <p:grpSpPr>
          <a:xfrm>
            <a:off x="2340000" y="981000"/>
            <a:ext cx="6582240" cy="825480"/>
            <a:chOff x="2340000" y="981000"/>
            <a:chExt cx="6582240" cy="825480"/>
          </a:xfrm>
        </p:grpSpPr>
        <p:sp>
          <p:nvSpPr>
            <p:cNvPr id="156" name="Text Box 107"/>
            <p:cNvSpPr/>
            <p:nvPr/>
          </p:nvSpPr>
          <p:spPr>
            <a:xfrm>
              <a:off x="3093480" y="981000"/>
              <a:ext cx="582876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это система прав, свобод и обязанностей,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закрепленная в нормах права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AutoShape 108"/>
            <p:cNvSpPr/>
            <p:nvPr/>
          </p:nvSpPr>
          <p:spPr>
            <a:xfrm>
              <a:off x="2340000" y="1341360"/>
              <a:ext cx="576360" cy="216000"/>
            </a:xfrm>
            <a:prstGeom prst="rightArrow">
              <a:avLst>
                <a:gd name="adj1" fmla="val 50000"/>
                <a:gd name="adj2" fmla="val 66708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Group 115"/>
          <p:cNvGrpSpPr/>
          <p:nvPr/>
        </p:nvGrpSpPr>
        <p:grpSpPr>
          <a:xfrm>
            <a:off x="1620720" y="2205000"/>
            <a:ext cx="7551000" cy="825480"/>
            <a:chOff x="1620720" y="2205000"/>
            <a:chExt cx="7551000" cy="825480"/>
          </a:xfrm>
        </p:grpSpPr>
        <p:sp>
          <p:nvSpPr>
            <p:cNvPr id="159" name="Text Box 111"/>
            <p:cNvSpPr/>
            <p:nvPr/>
          </p:nvSpPr>
          <p:spPr>
            <a:xfrm>
              <a:off x="2255040" y="2205000"/>
              <a:ext cx="691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ff00"/>
                  </a:solidFill>
                  <a:uFillTx/>
                  <a:latin typeface="Tahoma"/>
                </a:rPr>
                <a:t>Конституционный статус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 закрепляющи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единство прав и обязанностей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112"/>
            <p:cNvSpPr/>
            <p:nvPr/>
          </p:nvSpPr>
          <p:spPr>
            <a:xfrm>
              <a:off x="1620720" y="26370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1" name="Group 114"/>
          <p:cNvGrpSpPr/>
          <p:nvPr/>
        </p:nvGrpSpPr>
        <p:grpSpPr>
          <a:xfrm>
            <a:off x="108000" y="1989000"/>
            <a:ext cx="1419120" cy="863640"/>
            <a:chOff x="108000" y="1989000"/>
            <a:chExt cx="1419120" cy="863640"/>
          </a:xfrm>
        </p:grpSpPr>
        <p:sp>
          <p:nvSpPr>
            <p:cNvPr id="162" name="WordArt 110"/>
            <p:cNvSpPr txBox="1"/>
            <p:nvPr/>
          </p:nvSpPr>
          <p:spPr>
            <a:xfrm>
              <a:off x="108000" y="2492280"/>
              <a:ext cx="14191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latin typeface="Impact"/>
                </a:rPr>
                <a:t>основа</a:t>
              </a:r>
              <a:endPara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163" name="Line 113"/>
            <p:cNvSpPr/>
            <p:nvPr/>
          </p:nvSpPr>
          <p:spPr>
            <a:xfrm>
              <a:off x="1187280" y="1989000"/>
              <a:ext cx="0" cy="4320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" name="Group 118"/>
          <p:cNvGrpSpPr/>
          <p:nvPr/>
        </p:nvGrpSpPr>
        <p:grpSpPr>
          <a:xfrm>
            <a:off x="294840" y="2924280"/>
            <a:ext cx="8574840" cy="1299960"/>
            <a:chOff x="294840" y="2924280"/>
            <a:chExt cx="8574840" cy="1299960"/>
          </a:xfrm>
        </p:grpSpPr>
        <p:sp>
          <p:nvSpPr>
            <p:cNvPr id="165" name="Text Box 116"/>
            <p:cNvSpPr/>
            <p:nvPr/>
          </p:nvSpPr>
          <p:spPr>
            <a:xfrm>
              <a:off x="294840" y="3398760"/>
              <a:ext cx="8574840" cy="82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значает закрепление в праве меры возможного и должного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оведения личности, пределы ее свободы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117"/>
            <p:cNvSpPr/>
            <p:nvPr/>
          </p:nvSpPr>
          <p:spPr>
            <a:xfrm>
              <a:off x="4716360" y="2924280"/>
              <a:ext cx="0" cy="4334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WordArt 119"/>
          <p:cNvSpPr txBox="1"/>
          <p:nvPr/>
        </p:nvSpPr>
        <p:spPr>
          <a:xfrm>
            <a:off x="2792520" y="4437000"/>
            <a:ext cx="386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овой статус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личности в Украин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68" name="Group 127"/>
          <p:cNvGrpSpPr/>
          <p:nvPr/>
        </p:nvGrpSpPr>
        <p:grpSpPr>
          <a:xfrm>
            <a:off x="253800" y="5013360"/>
            <a:ext cx="2662200" cy="1659600"/>
            <a:chOff x="253800" y="5013360"/>
            <a:chExt cx="2662200" cy="1659600"/>
          </a:xfrm>
        </p:grpSpPr>
        <p:sp>
          <p:nvSpPr>
            <p:cNvPr id="169" name="Text Box 120"/>
            <p:cNvSpPr/>
            <p:nvPr/>
          </p:nvSpPr>
          <p:spPr>
            <a:xfrm>
              <a:off x="253800" y="5481720"/>
              <a:ext cx="184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в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татус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ражданин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123"/>
            <p:cNvSpPr/>
            <p:nvPr/>
          </p:nvSpPr>
          <p:spPr>
            <a:xfrm flipH="1">
              <a:off x="1907640" y="5013360"/>
              <a:ext cx="100836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128"/>
          <p:cNvGrpSpPr/>
          <p:nvPr/>
        </p:nvGrpSpPr>
        <p:grpSpPr>
          <a:xfrm>
            <a:off x="6516720" y="5013360"/>
            <a:ext cx="2270880" cy="1659600"/>
            <a:chOff x="6516720" y="5013360"/>
            <a:chExt cx="2270880" cy="1659600"/>
          </a:xfrm>
        </p:grpSpPr>
        <p:sp>
          <p:nvSpPr>
            <p:cNvPr id="172" name="Text Box 122"/>
            <p:cNvSpPr/>
            <p:nvPr/>
          </p:nvSpPr>
          <p:spPr>
            <a:xfrm>
              <a:off x="7238160" y="5481720"/>
              <a:ext cx="154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в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татус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апатрид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24"/>
            <p:cNvSpPr/>
            <p:nvPr/>
          </p:nvSpPr>
          <p:spPr>
            <a:xfrm>
              <a:off x="6516720" y="5013360"/>
              <a:ext cx="100800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Group 126"/>
          <p:cNvGrpSpPr/>
          <p:nvPr/>
        </p:nvGrpSpPr>
        <p:grpSpPr>
          <a:xfrm>
            <a:off x="3772080" y="5084640"/>
            <a:ext cx="1793160" cy="1588320"/>
            <a:chOff x="3772080" y="5084640"/>
            <a:chExt cx="1793160" cy="1588320"/>
          </a:xfrm>
        </p:grpSpPr>
        <p:sp>
          <p:nvSpPr>
            <p:cNvPr id="175" name="Text Box 121"/>
            <p:cNvSpPr/>
            <p:nvPr/>
          </p:nvSpPr>
          <p:spPr>
            <a:xfrm>
              <a:off x="3772080" y="5481720"/>
              <a:ext cx="179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в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татус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ностранц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25"/>
            <p:cNvSpPr/>
            <p:nvPr/>
          </p:nvSpPr>
          <p:spPr>
            <a:xfrm>
              <a:off x="4643280" y="5084640"/>
              <a:ext cx="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WordArt 34"/>
          <p:cNvSpPr txBox="1"/>
          <p:nvPr/>
        </p:nvSpPr>
        <p:spPr>
          <a:xfrm>
            <a:off x="1370160" y="879480"/>
            <a:ext cx="6657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нципы гражданства в Украин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155520" y="1609560"/>
            <a:ext cx="8705880" cy="44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1.Права гражданина не могут ограничиваться по политичес 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им, национальным, религиозным и т.д. основания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2.Гражданство Украины является единым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3.Проживание гражданина Украины за пределами Украин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прекращает его граждан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4.Гражданин Украины не может быть лишен гражданств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Украины или права изменить его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5.Гражданин Украины не может быть выслан за предел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траны или выдан иностранному государству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6.Украина поощряет приобретение гражданства Украи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7.Наличие у лица гражданства Украины определяется н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сновании законодательных актов Украи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1" name="Group 6"/>
          <p:cNvGrpSpPr/>
          <p:nvPr/>
        </p:nvGrpSpPr>
        <p:grpSpPr>
          <a:xfrm>
            <a:off x="142920" y="714240"/>
            <a:ext cx="8858160" cy="1557000"/>
            <a:chOff x="142920" y="714240"/>
            <a:chExt cx="8858160" cy="1557000"/>
          </a:xfrm>
        </p:grpSpPr>
        <p:sp>
          <p:nvSpPr>
            <p:cNvPr id="182" name="WordArt 3"/>
            <p:cNvSpPr txBox="1"/>
            <p:nvPr/>
          </p:nvSpPr>
          <p:spPr>
            <a:xfrm>
              <a:off x="142920" y="785880"/>
              <a:ext cx="2265480" cy="112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Гражданство 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Украины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2428920" y="714240"/>
              <a:ext cx="6572160" cy="1557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устойчивая правовая связь лица с государством, выражающаяся в совокупности их взаимных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рав и обязанносте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4" name="WordArt 7"/>
          <p:cNvSpPr txBox="1"/>
          <p:nvPr/>
        </p:nvSpPr>
        <p:spPr>
          <a:xfrm>
            <a:off x="3143160" y="2357280"/>
            <a:ext cx="30196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ражданин Украины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5" name="WordArt 9"/>
          <p:cNvSpPr txBox="1"/>
          <p:nvPr/>
        </p:nvSpPr>
        <p:spPr>
          <a:xfrm>
            <a:off x="500040" y="2714760"/>
            <a:ext cx="230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брак с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остранцами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6588000" y="2817720"/>
            <a:ext cx="23050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од защитой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государств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87" name="WordArt 11"/>
          <p:cNvSpPr txBox="1"/>
          <p:nvPr/>
        </p:nvSpPr>
        <p:spPr>
          <a:xfrm>
            <a:off x="1403280" y="3614760"/>
            <a:ext cx="6305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обретение гражданства</a:t>
            </a:r>
            <a:endParaRPr b="1" lang="en-US" sz="24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23920" y="3933720"/>
            <a:ext cx="856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 по рождению;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) в результате приема в гражданство Украины;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) в результате восстановления в гражданстве Украины;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) по иным основаниям, предусмотренным настоящим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ституционным законом или международным договором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WordArt 10"/>
          <p:cNvSpPr txBox="1"/>
          <p:nvPr/>
        </p:nvSpPr>
        <p:spPr>
          <a:xfrm>
            <a:off x="1403280" y="765000"/>
            <a:ext cx="6305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обретение гражданства</a:t>
            </a:r>
            <a:endParaRPr b="1" lang="en-US" sz="24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9800" y="9810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о рождению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49400" y="1835280"/>
            <a:ext cx="8851680" cy="484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1) оба его родителя или единственный его родитель имеют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ражданство Украи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2)оба его родителя, проживающие на территории Украины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являются иностранными гражданами или лицами без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ражданства, при условии, что ребенок родился на территори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краины, а государства, гражданами которых являются е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дители, не предоставляют ему свое гражданство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)ребенок, который находится на территории Украин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дители которого неизвестны, становится гражданином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краины в случае, если родители не объявятся в течени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ести месяцев со дня его обнаружения.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6160" y="4428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403280" y="620640"/>
            <a:ext cx="6305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обретение гражданства</a:t>
            </a:r>
            <a:endParaRPr b="1" lang="en-US" sz="24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414160" y="112536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осстановление в гражданств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0" y="1785960"/>
            <a:ext cx="91440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ностранные граждане и лица без гражданства, ранее имев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ие гражданство Украины, могут быть восст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овлены в гражданстве Украины на общих ос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ованиях. При этом срок их проживания на территории Украины сокращается до трех лет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24280" y="5297040"/>
            <a:ext cx="881568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лица, проживающие на территории, государственная прина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лежность которой изменена, имеют право на выбор гражданс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ва (оптацию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006280" y="4119480"/>
            <a:ext cx="51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ыбор гражданства при изменени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Государственной границ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краин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6160" y="4428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1403280" y="620640"/>
            <a:ext cx="6305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обретение гражданства</a:t>
            </a:r>
            <a:endParaRPr b="1" lang="en-US" sz="24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13440" y="83664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кращение в гражданств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2160" y="1389240"/>
            <a:ext cx="8908920" cy="47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1. Выход из гражданства Украины лица, проживающего на террито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рии Украины, осуществляется на основании добровольного воле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зъявления такого лица в общем порядке, за исключением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лучаев, предусмотренных законом.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2. Выход из гражданства Украины лица, проживающего на террито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рии иностранного государства, осуществляется на основании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добровольного волеизъявления такого лица в упрощенном по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рядке, за исключением случаев, предусмотренных законом.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3. Выход из гражданства Украины ребенка, оди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з родителей которого имеет гражданство Украины, а другой роди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тель является иностранным гражданином, либо единственный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родитель которого является иностранным гражданином, осу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ществляется в упрощенном порядке по заявлению обоих роди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телей, либо по заявлению единственного родителя.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Admin</cp:lastModifiedBy>
  <dcterms:modified xsi:type="dcterms:W3CDTF">2013-10-27T06:44:12Z</dcterms:modified>
  <cp:revision>18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7000000000001024140</vt:lpwstr>
  </property>
  <property fmtid="{D5CDD505-2E9C-101B-9397-08002B2CF9AE}" pid="3" name="Version">
    <vt:r8>8</vt:r8>
  </property>
</Properties>
</file>