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26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8.wmf" ContentType="image/x-wmf"/>
  <Override PartName="/ppt/media/image3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18C-510E-4181-98AA-F08B3D26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0FB-6305-43E1-B376-33F78543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437D7-71AE-4ECD-AB44-06C024A9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A851B-6159-44FD-B939-317E2401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4951E-445B-4BAF-9E1D-DBFFD01B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93C23-1B01-4D1A-9513-2410B205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0128E-02A2-4152-9E60-0C500CBA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38DA9-6D66-4123-BE50-A50113AC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A0487-38AD-41E7-AB8C-1910A782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D1A08-A27C-47A4-8714-1105BEEF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8B036-AD32-4E94-9F95-6A612898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2BDFC5-277F-4657-B382-31D9894D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5D4-9898-45B4-817A-7FC0A61C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086634-1049-4E10-AA72-99331FF9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9C2BC6-2C0B-40B4-842F-5FA8773B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D3A63C-EBCF-46D0-9481-E59B5442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838DC7-970B-4D95-ACAA-1080E7FD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F11FED-0FD7-4BF1-9B22-C5D8E2F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6EFFFF-8E1C-48C5-AAAB-BE21D348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8F939F-3C1A-4BEA-8EF4-F18681C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A73107-A5EE-4959-A10A-CFF3CDAB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B7B878-ABB5-424C-98EF-B03DB83E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BA0993-66B5-4D75-85BC-1846FE54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513-5012-4EDB-9808-44BC0015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25DDA0-10E6-4017-B882-B4D4D275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B498A-5669-4A30-A128-2E318708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69BC2-EE88-4544-8DF8-378EAEC9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9F78C-930D-4B1C-8E55-15CD6EC9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C4C8C-3A49-4558-8E52-4A30A86E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8938E-1A47-4828-8A22-10587624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0CD44-0109-41BA-92C1-43D03174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2E3E8-B2B4-4517-BC0D-13852863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DA693-F355-44CB-A1C8-648B6794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ACB66-80AE-42FE-A50C-DFD8C609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6E91-F40E-466E-9E65-E8CC98FE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A107B-29CD-421A-BB06-2E0883B8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EDFC9-B270-48EE-ADA9-BB67C53F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90C2B-18AB-4DEE-8759-CFE849C9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524D27-0C62-43B3-87E4-4B925126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2D5753-FBD6-45DB-8A03-64D6E610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09A7F0-FE4E-4CBD-A157-8449090D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7F48CA-D6AA-4DBA-88F3-9ECCE120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4B48D1-EEB0-4698-AE95-9CA9D175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F52976-DEEB-4A23-8F7E-B203C05F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F11F35-29E5-4284-86E3-7D427A95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C6F3-A235-4EB1-B381-9441849C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3DFDF2-B3BC-4840-AB24-74A27C9E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135F73-A3D4-47FA-9D5C-B710AF5A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BA4272-3550-4773-BFE1-95FED681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696AA6-95C7-46CF-8042-48845C0C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BDAADF-6834-44FC-982B-BF3B539F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9B78D-F2AE-4804-AEBF-1768ED50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0A7C3-0DFC-43B8-8228-2D21A504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4C12A-CC51-441F-85B8-D1FFFE0E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E511D-C585-47E7-84AB-F2D9A9A2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F3583-2033-4C7B-B357-F567AC31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C68E-BFEC-4816-8541-6520DC47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77B8D-27E0-432E-980C-FBDD7C81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48F8E-7F6F-47F9-8FA0-39A2E38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08A03-76B2-4114-94FA-B6242F1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975D0-2870-4EC4-B6A4-6D143E8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EB6D4-7245-425D-B709-B1909720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B1744-D021-4653-8025-433A4DDC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78E50-C36B-4D3F-8C38-BDBCF14D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846E9-6725-4983-9128-1973CC43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940AD-E911-4700-BEC8-C33D206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B0BB2-CB51-4F90-BD70-AF647511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4E40-5F39-41FC-84B4-1807E183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DEFFF-3EFB-4FED-92EF-A1780DFE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67CAB-5B24-43FA-9E40-27397E31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62C93-6262-4A3F-853E-CF4F16BD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FD813-6399-40DF-BE2E-1DC04C1F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50E6E-8F97-4692-B226-524B2052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BD1FB-B4EF-4022-9757-71183A1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5890F-6C16-4E9D-AADA-6271F19A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84672-1093-426F-ABCC-316F3A55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2081A-F8D2-49C2-98A4-C34185A0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76723-AC73-4BBF-BABE-03699033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D914-D0CF-45DA-9D47-DD36C1BA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9B95FE-D968-4DC1-9DAB-73A6238C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B4228-2275-4AC0-9C9D-5BE7F914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9168E-9258-4ABE-956F-6673B9B7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55777-F6C1-4F12-B212-E51D20A4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7E708-1D00-4147-97B2-BA9FF0F8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709B2-256F-4F74-B626-CB80EBB5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AD983-9F4B-4657-9E84-3421AF4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F3AAE-06CE-4C8A-BFA2-28C4F95F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DAECC-0940-480D-8B5D-259B4D1C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315C0-B7F1-447C-8565-D2F3D48A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7B84-CC69-42E0-8414-6717EAC2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06787-BFA0-44CE-AF67-8C470678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7CF6B6-C1C2-4B30-9D3B-89990C66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5A20CF-2090-4CE8-BBDF-0D140BCF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832C40-D0BE-4CCE-A549-8D859C20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53B017-A228-4C9B-9C85-C3C38171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468A06-F036-4828-9E70-D5C6A181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9521C9-DD27-40AB-B874-F9A247D5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2E8AA7-35F4-4FB1-8FFD-F2A2B58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88FB12-E0D3-416B-A638-DD95232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5E846D-E96C-49AB-AC91-09B19FB8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957C-269A-408F-A848-E3BF8423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826D7E-4F9E-4486-98B1-82BEBB64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7386CF-BEC3-4C53-92B4-C655BACA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91441E-6BD8-486B-A217-6AB78CAC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6A5515-810C-4D96-97E2-C334259E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46F4B0-EE47-41B3-A9F4-FB960456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31042A-17AF-48B2-AAF3-03A92E26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97F56F-2AA9-4B40-9497-6E23529E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632FE9-80B2-475F-8B28-D827E239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46E18C-888E-4BC5-91B5-82B47794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9E6252-87B9-491D-9931-BE0EF41E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E82-F606-468F-8E18-8ABF38CA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044D-E661-4E68-A491-4C605C3E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5F93F7-EE4D-4B69-B367-44FB7481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B7F9B8-F775-4793-8F68-A518522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493AA4-30F7-4D55-A56D-FADBF07E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FEECBE-4C8E-48A4-AF90-FD30C845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01760C-FB08-46F7-8D5C-6ACDB8FF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6230-6F74-4B48-9D78-27118A3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F1BF-4FB1-498B-AD5A-EE7138ED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F50E-914F-4361-BDCE-2E1675B5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1F37-CBB6-4A62-B1EC-E5D4A65E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0764-9E1D-4523-BFFE-B446D519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BDCB-E380-4B89-9943-4CC9A214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2EA1-6A20-4595-A607-BD1F4772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40245-2728-44A5-9C28-A1F1EAA3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9C8C-FFBD-434B-999E-6FF806CB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DFD-8CF3-4D16-A3F8-5059623F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DB06-01DE-4147-9B13-88479093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E02A5-D33E-4991-944C-76CEC290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B0F7-F20D-4DE6-9237-B20A2BDE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A16E-5E35-4262-B7AC-4507A1F1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45CE-7C73-4802-8FD0-E37B2DD5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194A9-292A-4CD8-BD88-ED095DBF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91B8-9892-4C8C-931C-5772E79D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B5B4-7555-4604-B05A-5F70406A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DD680-03CB-4F5C-ABDF-BB334B64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D335F-0174-4105-9D37-E4307AD6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D32-A96B-49A8-9533-15EBEF3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29537-7CEB-44F1-A8EE-F266A444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943A-C17A-4D05-B42C-30F5C000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1AE2-70A7-43CD-8CCF-D5EDD3D5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0AA8-A878-47FF-A166-840A1D3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7CC5A-2C54-487E-B12C-4E26F9F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C7A06-7293-46DD-A5EB-C31DF731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49DA-D0B8-43D1-A111-3806632C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EFB5-0072-4338-9020-AC7D5389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0AF7-FFF2-4679-90D8-DCEC763F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72A4-BD74-4EFF-BEFE-0950B6F7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F78-586A-4A53-A413-625BAF4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AE865-2C91-48F9-AF0B-76DE7F0B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BE414-2B0D-48CD-8B59-13A9FCEA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8E3C9-81AC-493E-856F-D7ED33D8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75BDA-3FA5-45B4-A7C2-5DD27F87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2C8D5-D3D7-4760-BA15-F19EFF9F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881A2-9E14-456C-AFCD-1D4D175C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DEEEF-FFAA-4DD5-97BE-DE095A3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6640-0B2E-44BA-907B-17A934CC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831ED-A9EA-4338-8305-854D8414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03937-FC9D-4E95-BD62-5E4F22E1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99E-6793-4146-958C-58E6E1E0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44EB2-7166-440F-ABC7-5BAD6BBF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B35FB-6905-4585-AA76-4D2AF313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8764F-9DB9-4B3C-B67C-E94370DB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4912-6E9B-475B-8A5A-F20EFF5D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A1DED-854B-433D-B7C6-B7F2B9AB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4873-5C5B-4DB0-BF21-93934AD7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BB5E4-A8A4-4E9C-ABBE-D90E9B8D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77D1-E6E4-401A-8046-C4C58EF9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31884-18E6-4F27-B623-5ECAC3AE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04EE7-9F9C-450F-B597-B5C8282B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866-B2B0-45E8-A46B-DE1A3FC5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6F855-0915-4DDB-BE5D-2680920C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E6B56-5E04-44D8-B3A9-E4E36D63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6BF09-737B-424D-A1B5-4F4E891E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B75C4-5BDD-4511-A806-6F1FCF51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9ECF2-8DD4-4E7F-8B37-EC60FD71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D28A4-8394-424F-B133-CDC93D25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3C4A3-D555-4779-B0FA-4F69EA0A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63A64-A7DE-4AEB-9CBB-F8C58A0C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FE553-ECAD-4513-94D7-195E4912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8552E-6098-4E15-9227-FDD63CA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2CF-43CE-485C-BDDD-7DFB9AB1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DA958-2494-428B-BBEF-FF9B70D6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DAA62-60CE-4661-8EF7-C472DD57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91FDC-6A53-4937-ACFE-067893DD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267C6-EEE3-4971-9540-E2B0D2DF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6FEDD-768A-435A-89BA-E39DFC55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E1947-C2F4-4E59-BA9E-5AEB22D9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860C2-32CF-4AD0-8CEC-5AA70FD9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AB540-0F1C-4746-8D55-DACE0944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F9F2E-C8FB-4933-A989-7B634A58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A74C1-039D-4922-85E5-4B6D0FA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000-2267-4D2E-A1CF-C5EF4D52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B9FFD-C5A2-47DC-949F-D2D0DDB6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E6E87-3D3B-4FE9-B390-0EF5B30A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68BDE-4C90-4A86-A97A-427C7A2E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DB0A9-27B8-437F-A4D1-E4C9222D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44DFB-DD8F-4F29-819F-18AA1A04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19F5F-9917-4DD4-8E3D-355BBE9C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B74CB-57C8-4805-B94D-4D56089E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5FFE0-4278-46D5-AD1A-4F6E39C4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F4C0D-6349-40AD-9B78-D6C5070E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5F594-1691-4250-AF51-F55C27FC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DAAB-9B24-416B-B869-71589EFD65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1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F2C4-BF23-4600-9DD3-27E5EF0B83A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78C4-C06B-4A12-B16C-D95F429FAC7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sldNum" idx="35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4BC8-5529-4BD1-9A4A-B26DEE0161C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6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4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4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AAD2-FF0D-433D-9FC9-31CFAF1E18D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9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9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D6B6-F07D-499E-A78D-532649C62B6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63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4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4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45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F35B-B2DF-49CC-8535-1FDA4F11D77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6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47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01C-2662-475B-B50D-8C67568188B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ftr" idx="48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D097-B1B1-487E-9BEA-0A505FB8590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AD2E-B251-43D3-8F7B-CDA8F5253AF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2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3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4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95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6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98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9FD3-0C1D-4200-B339-79D1CE4179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6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EFC6-8A3E-4E35-BE88-221E122182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0540-A86F-4677-AF52-CDCAF09C28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C5D8-B9C9-4FC4-BD40-F3ADC6BFB3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5528-731A-41B3-8D7C-92B1992B0B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3F2C-EB1A-45BD-A616-7B75637D3B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олилиния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Полилиния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67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8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0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1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B1BD-8D2B-4CC4-B705-0A85C687C1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15.jpe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Заголовок 1" descr=""/>
          <p:cNvPicPr/>
          <p:nvPr/>
        </p:nvPicPr>
        <p:blipFill>
          <a:blip r:embed="rId2"/>
          <a:stretch/>
        </p:blipFill>
        <p:spPr>
          <a:xfrm>
            <a:off x="-49320" y="281160"/>
            <a:ext cx="5627880" cy="2511360"/>
          </a:xfrm>
          <a:prstGeom prst="rect">
            <a:avLst/>
          </a:prstGeom>
          <a:ln w="0">
            <a:noFill/>
          </a:ln>
        </p:spPr>
      </p:pic>
      <p:pic>
        <p:nvPicPr>
          <p:cNvPr id="765" name="Рисунок 4" descr="J0196364.WMF"/>
          <p:cNvPicPr/>
          <p:nvPr/>
        </p:nvPicPr>
        <p:blipFill>
          <a:blip r:embed="rId3"/>
          <a:stretch/>
        </p:blipFill>
        <p:spPr>
          <a:xfrm>
            <a:off x="4643280" y="428760"/>
            <a:ext cx="39294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2" descr=""/>
          <p:cNvPicPr/>
          <p:nvPr/>
        </p:nvPicPr>
        <p:blipFill>
          <a:blip r:embed="rId2"/>
          <a:stretch/>
        </p:blipFill>
        <p:spPr>
          <a:xfrm>
            <a:off x="30240" y="-92160"/>
            <a:ext cx="9053280" cy="671760"/>
          </a:xfrm>
          <a:prstGeom prst="rect">
            <a:avLst/>
          </a:prstGeom>
          <a:ln w="0">
            <a:noFill/>
          </a:ln>
        </p:spPr>
      </p:pic>
      <p:sp>
        <p:nvSpPr>
          <p:cNvPr id="767" name="WordArt 7"/>
          <p:cNvSpPr txBox="1"/>
          <p:nvPr/>
        </p:nvSpPr>
        <p:spPr>
          <a:xfrm>
            <a:off x="468360" y="692280"/>
            <a:ext cx="8182080" cy="533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онституционные права и свобод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768" name="Group 15"/>
          <p:cNvGrpSpPr/>
          <p:nvPr/>
        </p:nvGrpSpPr>
        <p:grpSpPr>
          <a:xfrm>
            <a:off x="966960" y="1268280"/>
            <a:ext cx="7717680" cy="1305000"/>
            <a:chOff x="966960" y="1268280"/>
            <a:chExt cx="7717680" cy="1305000"/>
          </a:xfrm>
        </p:grpSpPr>
        <p:grpSp>
          <p:nvGrpSpPr>
            <p:cNvPr id="769" name="Group 10"/>
            <p:cNvGrpSpPr/>
            <p:nvPr/>
          </p:nvGrpSpPr>
          <p:grpSpPr>
            <a:xfrm>
              <a:off x="966960" y="1413000"/>
              <a:ext cx="1294920" cy="1160280"/>
              <a:chOff x="966960" y="1413000"/>
              <a:chExt cx="1294920" cy="1160280"/>
            </a:xfrm>
          </p:grpSpPr>
          <p:pic>
            <p:nvPicPr>
              <p:cNvPr id="770" name="Picture 8" descr="j0149486"/>
              <p:cNvPicPr/>
              <p:nvPr/>
            </p:nvPicPr>
            <p:blipFill>
              <a:blip r:embed="rId3"/>
              <a:stretch/>
            </p:blipFill>
            <p:spPr>
              <a:xfrm>
                <a:off x="1146240" y="1413000"/>
                <a:ext cx="936720" cy="9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Text Box 9"/>
              <p:cNvSpPr/>
              <p:nvPr/>
            </p:nvSpPr>
            <p:spPr>
              <a:xfrm>
                <a:off x="966960" y="2205000"/>
                <a:ext cx="129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mbria"/>
                  </a:rPr>
                  <a:t>граждане</a:t>
                </a: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772" name="Group 13"/>
            <p:cNvGrpSpPr/>
            <p:nvPr/>
          </p:nvGrpSpPr>
          <p:grpSpPr>
            <a:xfrm>
              <a:off x="7117200" y="1268280"/>
              <a:ext cx="1567440" cy="1244880"/>
              <a:chOff x="7117200" y="1268280"/>
              <a:chExt cx="1567440" cy="1244880"/>
            </a:xfrm>
          </p:grpSpPr>
          <p:pic>
            <p:nvPicPr>
              <p:cNvPr id="773" name="Picture 11" descr="j0186176"/>
              <p:cNvPicPr/>
              <p:nvPr/>
            </p:nvPicPr>
            <p:blipFill>
              <a:blip r:embed="rId4"/>
              <a:stretch/>
            </p:blipFill>
            <p:spPr>
              <a:xfrm>
                <a:off x="7439040" y="1268280"/>
                <a:ext cx="924120" cy="10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12"/>
              <p:cNvSpPr/>
              <p:nvPr/>
            </p:nvSpPr>
            <p:spPr>
              <a:xfrm>
                <a:off x="7117200" y="2144880"/>
                <a:ext cx="1567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mbria"/>
                  </a:rPr>
                  <a:t>государство</a:t>
                </a: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sp>
          <p:nvSpPr>
            <p:cNvPr id="775" name="AutoShape 14"/>
            <p:cNvSpPr/>
            <p:nvPr/>
          </p:nvSpPr>
          <p:spPr>
            <a:xfrm>
              <a:off x="2627280" y="1628640"/>
              <a:ext cx="4249800" cy="576360"/>
            </a:xfrm>
            <a:prstGeom prst="leftRightArrow">
              <a:avLst>
                <a:gd name="adj1" fmla="val 50000"/>
                <a:gd name="adj2" fmla="val 146787"/>
              </a:avLst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776" name="Text Box 16"/>
          <p:cNvSpPr/>
          <p:nvPr/>
        </p:nvSpPr>
        <p:spPr>
          <a:xfrm>
            <a:off x="241560" y="2674800"/>
            <a:ext cx="2925360" cy="947160"/>
          </a:xfrm>
          <a:prstGeom prst="rect">
            <a:avLst/>
          </a:prstGeom>
          <a:solidFill>
            <a:srgbClr val="ffff00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олучают права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вободы и защит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7" name="Text Box 17"/>
          <p:cNvSpPr/>
          <p:nvPr/>
        </p:nvSpPr>
        <p:spPr>
          <a:xfrm>
            <a:off x="5864400" y="2714760"/>
            <a:ext cx="2925360" cy="947160"/>
          </a:xfrm>
          <a:prstGeom prst="rect">
            <a:avLst/>
          </a:prstGeom>
          <a:solidFill>
            <a:srgbClr val="ffff00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Дает права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вободы и защит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AutoShape 18"/>
          <p:cNvSpPr/>
          <p:nvPr/>
        </p:nvSpPr>
        <p:spPr>
          <a:xfrm>
            <a:off x="250920" y="3718080"/>
            <a:ext cx="8713800" cy="502920"/>
          </a:xfrm>
          <a:prstGeom prst="downArrowCallout">
            <a:avLst>
              <a:gd name="adj1" fmla="val -61877"/>
              <a:gd name="adj2" fmla="val 67060"/>
              <a:gd name="adj3" fmla="val 31861"/>
              <a:gd name="adj4" fmla="val 51421"/>
            </a:avLst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WordArt 19"/>
          <p:cNvSpPr txBox="1"/>
          <p:nvPr/>
        </p:nvSpPr>
        <p:spPr>
          <a:xfrm>
            <a:off x="1547640" y="4221000"/>
            <a:ext cx="6048720" cy="53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! Свобода-от рождения!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0" name="Text Box 21"/>
          <p:cNvSpPr/>
          <p:nvPr/>
        </p:nvSpPr>
        <p:spPr>
          <a:xfrm>
            <a:off x="816480" y="5072040"/>
            <a:ext cx="6796440" cy="1557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еловек, его права и свободы являются высш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ценностью. Признание, соблюдение и защита пра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 свобод человека и гражданина – обяза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сударств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Rectangle 2" descr=""/>
          <p:cNvPicPr/>
          <p:nvPr/>
        </p:nvPicPr>
        <p:blipFill>
          <a:blip r:embed="rId2"/>
          <a:stretch/>
        </p:blipFill>
        <p:spPr>
          <a:xfrm>
            <a:off x="30240" y="-92160"/>
            <a:ext cx="9053280" cy="671760"/>
          </a:xfrm>
          <a:prstGeom prst="rect">
            <a:avLst/>
          </a:prstGeom>
          <a:ln w="0">
            <a:noFill/>
          </a:ln>
        </p:spPr>
      </p:pic>
      <p:sp>
        <p:nvSpPr>
          <p:cNvPr id="782" name="WordArt 3"/>
          <p:cNvSpPr txBox="1"/>
          <p:nvPr/>
        </p:nvSpPr>
        <p:spPr>
          <a:xfrm>
            <a:off x="1547640" y="620640"/>
            <a:ext cx="61660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а и свобод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783" name="Group 28"/>
          <p:cNvGrpSpPr/>
          <p:nvPr/>
        </p:nvGrpSpPr>
        <p:grpSpPr>
          <a:xfrm>
            <a:off x="896760" y="979560"/>
            <a:ext cx="1148040" cy="1495440"/>
            <a:chOff x="896760" y="979560"/>
            <a:chExt cx="1148040" cy="1495440"/>
          </a:xfrm>
        </p:grpSpPr>
        <p:pic>
          <p:nvPicPr>
            <p:cNvPr id="784" name="Picture 22" descr="j0240515"/>
            <p:cNvPicPr/>
            <p:nvPr/>
          </p:nvPicPr>
          <p:blipFill>
            <a:blip r:embed="rId3"/>
            <a:stretch/>
          </p:blipFill>
          <p:spPr>
            <a:xfrm>
              <a:off x="1332000" y="979560"/>
              <a:ext cx="7128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Text Box 23"/>
            <p:cNvSpPr/>
            <p:nvPr/>
          </p:nvSpPr>
          <p:spPr>
            <a:xfrm>
              <a:off x="896760" y="2106720"/>
              <a:ext cx="111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Cambria"/>
                </a:rPr>
                <a:t>Личные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786" name="Group 27"/>
          <p:cNvGrpSpPr/>
          <p:nvPr/>
        </p:nvGrpSpPr>
        <p:grpSpPr>
          <a:xfrm>
            <a:off x="3281040" y="907920"/>
            <a:ext cx="1873440" cy="1567080"/>
            <a:chOff x="3281040" y="907920"/>
            <a:chExt cx="1873440" cy="1567080"/>
          </a:xfrm>
        </p:grpSpPr>
        <p:pic>
          <p:nvPicPr>
            <p:cNvPr id="787" name="Picture 21" descr="j0241643"/>
            <p:cNvPicPr/>
            <p:nvPr/>
          </p:nvPicPr>
          <p:blipFill>
            <a:blip r:embed="rId4"/>
            <a:stretch/>
          </p:blipFill>
          <p:spPr>
            <a:xfrm>
              <a:off x="4138560" y="907920"/>
              <a:ext cx="101592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Text Box 24"/>
            <p:cNvSpPr/>
            <p:nvPr/>
          </p:nvSpPr>
          <p:spPr>
            <a:xfrm>
              <a:off x="3281040" y="210672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Cambria"/>
                </a:rPr>
                <a:t>Политические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789" name="Group 26"/>
          <p:cNvGrpSpPr/>
          <p:nvPr/>
        </p:nvGrpSpPr>
        <p:grpSpPr>
          <a:xfrm>
            <a:off x="6053040" y="928800"/>
            <a:ext cx="1992600" cy="1650600"/>
            <a:chOff x="6053040" y="928800"/>
            <a:chExt cx="1992600" cy="1650600"/>
          </a:xfrm>
        </p:grpSpPr>
        <p:pic>
          <p:nvPicPr>
            <p:cNvPr id="790" name="Picture 20" descr="j0299725"/>
            <p:cNvPicPr/>
            <p:nvPr/>
          </p:nvPicPr>
          <p:blipFill>
            <a:blip r:embed="rId5"/>
            <a:stretch/>
          </p:blipFill>
          <p:spPr>
            <a:xfrm>
              <a:off x="7031160" y="928800"/>
              <a:ext cx="996840" cy="10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Text Box 25"/>
            <p:cNvSpPr/>
            <p:nvPr/>
          </p:nvSpPr>
          <p:spPr>
            <a:xfrm>
              <a:off x="6053040" y="1936800"/>
              <a:ext cx="199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Cambria"/>
                </a:rPr>
                <a:t>Социально-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Cambria"/>
                </a:rPr>
                <a:t>экономические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792" name="Group 31"/>
          <p:cNvGrpSpPr/>
          <p:nvPr/>
        </p:nvGrpSpPr>
        <p:grpSpPr>
          <a:xfrm>
            <a:off x="179280" y="2500200"/>
            <a:ext cx="8448840" cy="1922760"/>
            <a:chOff x="179280" y="2500200"/>
            <a:chExt cx="8448840" cy="1922760"/>
          </a:xfrm>
        </p:grpSpPr>
        <p:sp>
          <p:nvSpPr>
            <p:cNvPr id="793" name="WordArt 29"/>
            <p:cNvSpPr txBox="1"/>
            <p:nvPr/>
          </p:nvSpPr>
          <p:spPr>
            <a:xfrm>
              <a:off x="179280" y="3463560"/>
              <a:ext cx="1866960" cy="4320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latin typeface="Impact"/>
                </a:rPr>
                <a:t>1.Личные</a:t>
              </a:r>
              <a:endPara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794" name="Text Box 30"/>
            <p:cNvSpPr/>
            <p:nvPr/>
          </p:nvSpPr>
          <p:spPr>
            <a:xfrm>
              <a:off x="2214720" y="2500200"/>
              <a:ext cx="6413400" cy="1922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Личные права и свободы связаны непосредст-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венно с личностью, не увязываются с принад-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лежностью к гражданству и не вытекают из не-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го. Личные права и свободы неотчуждаемы и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принадлежат человеку от рождения. 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795" name="Text Box 32"/>
          <p:cNvSpPr/>
          <p:nvPr/>
        </p:nvSpPr>
        <p:spPr>
          <a:xfrm>
            <a:off x="57960" y="4581360"/>
            <a:ext cx="867240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67936a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аво на жизнь, право на свободу и личную неприкосновен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ть, на неприкосновенность частной жизни, жилища, свобод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е передвижение и выбор места жительства, свободу совести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у мысли и слова, на судебную защиту своих прав, на юри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ческую защиту, на процессуальные гарантии в случае прив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чения к суду и т.д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Rectangle 2" descr=""/>
          <p:cNvPicPr/>
          <p:nvPr/>
        </p:nvPicPr>
        <p:blipFill>
          <a:blip r:embed="rId2"/>
          <a:stretch/>
        </p:blipFill>
        <p:spPr>
          <a:xfrm>
            <a:off x="103320" y="-92160"/>
            <a:ext cx="9096120" cy="671760"/>
          </a:xfrm>
          <a:prstGeom prst="rect">
            <a:avLst/>
          </a:prstGeom>
          <a:ln w="0">
            <a:noFill/>
          </a:ln>
        </p:spPr>
      </p:pic>
      <p:sp>
        <p:nvSpPr>
          <p:cNvPr id="797" name="WordArt 14"/>
          <p:cNvSpPr txBox="1"/>
          <p:nvPr/>
        </p:nvSpPr>
        <p:spPr>
          <a:xfrm>
            <a:off x="55440" y="1333440"/>
            <a:ext cx="2016360" cy="4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2.Политическ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98" name="Text Box 15"/>
          <p:cNvSpPr/>
          <p:nvPr/>
        </p:nvSpPr>
        <p:spPr>
          <a:xfrm>
            <a:off x="2235960" y="981000"/>
            <a:ext cx="631800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д политическими правами и свободами под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зумевают права, затрагивающие непосредст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енно политические интересы человек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Text Box 16"/>
          <p:cNvSpPr/>
          <p:nvPr/>
        </p:nvSpPr>
        <p:spPr>
          <a:xfrm>
            <a:off x="21096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Text Box 17"/>
          <p:cNvSpPr/>
          <p:nvPr/>
        </p:nvSpPr>
        <p:spPr>
          <a:xfrm>
            <a:off x="73080" y="2585880"/>
            <a:ext cx="8520120" cy="2288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аво на свободу мысли, право беспрепятственно придержива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ься своих мнений, право на свободу искать, получать и расп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ранять информацию, право на мирные собрания, право 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у ассоциаций, право на участие в ведении государствен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ых дел, как непосредственно, так и через своих представите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й, право избирать и быть избранными и др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1" name="WordArt 18"/>
          <p:cNvSpPr txBox="1"/>
          <p:nvPr/>
        </p:nvSpPr>
        <p:spPr>
          <a:xfrm>
            <a:off x="108000" y="5270400"/>
            <a:ext cx="201600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3.Культурные,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социальные,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Impact"/>
              </a:rPr>
              <a:t>экономическ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02" name="Text Box 19"/>
          <p:cNvSpPr/>
          <p:nvPr/>
        </p:nvSpPr>
        <p:spPr>
          <a:xfrm>
            <a:off x="2263320" y="5229360"/>
            <a:ext cx="620964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оциальные и экономические права призван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беспечить человеку достойный жизненны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овень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Rectangle 2" descr=""/>
          <p:cNvPicPr/>
          <p:nvPr/>
        </p:nvPicPr>
        <p:blipFill>
          <a:blip r:embed="rId2"/>
          <a:stretch/>
        </p:blipFill>
        <p:spPr>
          <a:xfrm>
            <a:off x="30240" y="-92160"/>
            <a:ext cx="9053280" cy="67176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9"/>
          <p:cNvSpPr/>
          <p:nvPr/>
        </p:nvSpPr>
        <p:spPr>
          <a:xfrm>
            <a:off x="119160" y="765000"/>
            <a:ext cx="7160760" cy="2228400"/>
          </a:xfrm>
          <a:prstGeom prst="rect">
            <a:avLst/>
          </a:prstGeom>
          <a:solidFill>
            <a:srgbClr val="00b0f0"/>
          </a:solidFill>
          <a:ln w="9360">
            <a:solidFill>
              <a:srgbClr val="9fb99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аво на труд и свободный выбор работы, право на равную оп-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ту за равный труд, право на социальное обеспечение, право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защиту материнства и детства, право на образование. К это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егории также относят и культурные права, гарантирующи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уп человека к благам культуры, свободу художественного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го, технического творчества, его участие в культурно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зни и пользовании учреждениями культуры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WordArt 10"/>
          <p:cNvSpPr txBox="1"/>
          <p:nvPr/>
        </p:nvSpPr>
        <p:spPr>
          <a:xfrm>
            <a:off x="1214280" y="3327480"/>
            <a:ext cx="6886800" cy="533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о частной собственности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06" name="Text Box 11"/>
          <p:cNvSpPr/>
          <p:nvPr/>
        </p:nvSpPr>
        <p:spPr>
          <a:xfrm>
            <a:off x="299160" y="4005360"/>
            <a:ext cx="92440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условие демократической ,рыночной экономики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основа независимости челове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807" name="Group 14"/>
          <p:cNvGrpSpPr/>
          <p:nvPr/>
        </p:nvGrpSpPr>
        <p:grpSpPr>
          <a:xfrm>
            <a:off x="250920" y="3500280"/>
            <a:ext cx="8713800" cy="2233800"/>
            <a:chOff x="250920" y="3500280"/>
            <a:chExt cx="8713800" cy="2233800"/>
          </a:xfrm>
        </p:grpSpPr>
        <p:sp>
          <p:nvSpPr>
            <p:cNvPr id="808" name="WordArt 12"/>
            <p:cNvSpPr txBox="1"/>
            <p:nvPr/>
          </p:nvSpPr>
          <p:spPr>
            <a:xfrm>
              <a:off x="826920" y="5086440"/>
              <a:ext cx="8137800" cy="647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беспечивается государством!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809" name="AutoShape 13"/>
            <p:cNvSpPr/>
            <p:nvPr/>
          </p:nvSpPr>
          <p:spPr>
            <a:xfrm>
              <a:off x="250920" y="3500280"/>
              <a:ext cx="504720" cy="216072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378000 h 2160720"/>
                <a:gd name="textAreaBottom" fmla="*/ 156672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810" name="Text Box 15"/>
          <p:cNvSpPr/>
          <p:nvPr/>
        </p:nvSpPr>
        <p:spPr>
          <a:xfrm>
            <a:off x="455040" y="5846760"/>
            <a:ext cx="6011640" cy="642600"/>
          </a:xfrm>
          <a:prstGeom prst="rect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9360">
            <a:solidFill>
              <a:srgbClr val="bab288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Но! Не должно ущемлять права других гражда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-не должно нарушать экологию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Rectangle 2" descr=""/>
          <p:cNvPicPr/>
          <p:nvPr/>
        </p:nvPicPr>
        <p:blipFill>
          <a:blip r:embed="rId2"/>
          <a:stretch/>
        </p:blipFill>
        <p:spPr>
          <a:xfrm>
            <a:off x="30240" y="-92160"/>
            <a:ext cx="9053280" cy="671760"/>
          </a:xfrm>
          <a:prstGeom prst="rect">
            <a:avLst/>
          </a:prstGeom>
          <a:ln w="0">
            <a:noFill/>
          </a:ln>
        </p:spPr>
      </p:pic>
      <p:sp>
        <p:nvSpPr>
          <p:cNvPr id="812" name="WordArt 4"/>
          <p:cNvSpPr txBox="1"/>
          <p:nvPr/>
        </p:nvSpPr>
        <p:spPr>
          <a:xfrm>
            <a:off x="2700360" y="69228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Право на труд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12600" y="1152360"/>
            <a:ext cx="9120600" cy="180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защита от безработицы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запрет на принудительное привлечение к труду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защита наемных работников от произвола со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стороны предпринимателе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WordArt 10"/>
          <p:cNvSpPr txBox="1"/>
          <p:nvPr/>
        </p:nvSpPr>
        <p:spPr>
          <a:xfrm>
            <a:off x="2714760" y="3141720"/>
            <a:ext cx="40179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о на отдых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15" name="Text Box 11"/>
          <p:cNvSpPr/>
          <p:nvPr/>
        </p:nvSpPr>
        <p:spPr>
          <a:xfrm>
            <a:off x="125280" y="3643200"/>
            <a:ext cx="9489240" cy="180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установление продолжительности рабочего дня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установление выходных и праздничных дней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установление продолжительности оплачиваемог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отпус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WordArt 12"/>
          <p:cNvSpPr txBox="1"/>
          <p:nvPr/>
        </p:nvSpPr>
        <p:spPr>
          <a:xfrm>
            <a:off x="1619280" y="5526000"/>
            <a:ext cx="607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Все граждане имеют равны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права и свободы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Rectangle 2" descr=""/>
          <p:cNvPicPr/>
          <p:nvPr/>
        </p:nvPicPr>
        <p:blipFill>
          <a:blip r:embed="rId2"/>
          <a:stretch/>
        </p:blipFill>
        <p:spPr>
          <a:xfrm>
            <a:off x="30240" y="-92160"/>
            <a:ext cx="9053280" cy="671760"/>
          </a:xfrm>
          <a:prstGeom prst="rect">
            <a:avLst/>
          </a:prstGeom>
          <a:ln w="0">
            <a:noFill/>
          </a:ln>
        </p:spPr>
      </p:pic>
      <p:sp>
        <p:nvSpPr>
          <p:cNvPr id="818" name="WordArt 3"/>
          <p:cNvSpPr txBox="1"/>
          <p:nvPr/>
        </p:nvSpPr>
        <p:spPr>
          <a:xfrm>
            <a:off x="684360" y="692280"/>
            <a:ext cx="813564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а неотделимы от обязанностей.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21240" y="1152360"/>
            <a:ext cx="9260640" cy="2653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соблюдение Конституции и законов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платить законные налоги и сборы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охранять природу и окружающую среду, бережн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относиться к природным богатствам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-долг и обязанность любого гражданина-защи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Отеч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WordArt 8"/>
          <p:cNvSpPr txBox="1"/>
          <p:nvPr/>
        </p:nvSpPr>
        <p:spPr>
          <a:xfrm>
            <a:off x="1403280" y="5310360"/>
            <a:ext cx="650556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в случае несоблюдения прав-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наступает поражение в правах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21" name="WordArt 9"/>
          <p:cNvSpPr txBox="1"/>
          <p:nvPr/>
        </p:nvSpPr>
        <p:spPr>
          <a:xfrm>
            <a:off x="428760" y="3786120"/>
            <a:ext cx="8459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ответствующие обязанности 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кретизируются и закрепляются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отраслях права.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27T06:45:04Z</dcterms:modified>
  <cp:revision>2</cp:revision>
  <dc:subject/>
  <dc:title>Права и свободы  Укра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3000000000001024140</vt:lpwstr>
  </property>
</Properties>
</file>