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26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7.jpeg" ContentType="image/jpeg"/>
  <Override PartName="/ppt/media/image20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8.wmf" ContentType="image/x-wmf"/>
  <Override PartName="/ppt/media/image3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4F4-1211-4405-92F3-32CC6C00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A650-3CA9-431C-B2DF-6D4D229A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A4437-5320-4681-AE2F-66A4CF08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35974-68B9-4AF0-9D8D-42AD0B90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FA0DE-21DE-4EF8-AF51-E53C58B8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AA4DB-E76D-44AC-974A-AC6D1CC6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AD159-B195-480E-9405-2FEA823B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0730A-B0E1-4470-8643-0ECCFA1E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2CA9C-8E3D-4807-897F-F1E610F9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3D918-3FF1-4B8A-AA13-9513EB41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F16B5-C9BC-4E63-B00C-6403A1E9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A19F12-B574-4173-94E1-387DC078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BAF-9FBC-4E0B-B47E-C0FDC841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3BFE4C-1132-4DB5-8F23-7946E7C6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6CF662-CCF2-48A7-9DB9-2B0C7964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7EA843-137F-4ABA-846C-402CD605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C2650B-1502-4A23-93E3-89041271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813286-2A37-495F-A411-8BE04A6A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2498A8-32E2-44AA-B5C6-EA3C4566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40D5FF-9CE0-4EC7-AF13-1A5B53E3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61FF5E-C22A-4B65-8B03-C634DCAB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E6C0D4-7F45-40FD-A5B1-FA5FFEAF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CFC4BC-E04B-466D-BF81-F739A300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010-E47E-432E-A506-602457EE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CE46F2-B540-4F68-9455-9F143381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10912-FD16-4B21-8A17-24380BC2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98CDC-02A8-4E5C-A29D-02AD1EE7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CD3DD-CAC1-4303-A380-8804BA33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59C50-2873-4864-A73F-A865A47C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4D457-09E1-4E15-923D-CED6AAD2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7C0DE-1A24-418A-8237-3819645E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7D562-BBE7-4A5D-B541-6064A927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A12CD-45FE-43BA-BE1E-1CF725AE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C866D-6E1B-4600-9896-D669D3BD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2DAA-0FB6-4381-A71D-5B534243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D8226-26D4-48CC-AC8C-DCFFE900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36AF9-84B7-4425-B917-AB498561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55978-6A58-49C6-927B-DF17496E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BFC7AC-29DA-4856-9BCF-323B3D56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9678B0-BFC5-43C9-B583-5DEB869E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34BCB3-C301-4CEC-BD74-C28723FC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54749B-CC26-49FC-AF69-9AA1A63C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2AE334-1466-4B9B-BB0A-03350135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D35256-C01A-49CC-AD1A-3D69780B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F2903D-76E6-4A32-B2D7-8BFBC381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DE18-6113-40B6-BC6B-9F15AABC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317DE4-3C68-4EE3-A704-19C7F02C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185F5E-8BCA-4D09-8226-48AC29C9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45A5E0-FED9-4AD3-86A2-E03578B9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E16014-587C-41D5-8DF7-B0C750CD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86FAFC-F437-4712-A279-4ECDB10C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474B6-046C-402A-A93F-464A1229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FA16A-D50D-4AFA-8BCF-F7999C06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FAF1AB-0512-4E54-B8C4-B4C0FD49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AA7C5-EAB8-46D2-B856-DF8547C6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0BA07-C22B-4621-B29C-49A449BD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E5CF-7633-4087-BA71-E9C2A5D5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AB577-83CB-496B-BCCE-50CE13D6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17689-9221-4BB1-A82A-98C543ED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89FD93-3A07-4909-A92F-C0CB9F18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5AB3D5-05A9-4D02-8785-5BEE570A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75356A-9320-4E35-9815-5EAAB4E3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98383-773D-4A36-9240-50358FED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74C6F-9559-472F-BDF2-846E5FF5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263067-6772-4E24-95AF-2B709F0E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0F7E51-827C-4A20-B8D4-B9DE49AD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2C14A-3439-4372-8D98-37912A2C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DBB8-1177-4052-9A24-043A0304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95CE0-903E-4855-BF35-81B87698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DB24E-ECE1-4EAB-8774-1F9BCF20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651CD-C310-436A-B78E-B25EDC12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6C1D5-97B8-49EE-9BFB-EFA28013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4E139A-E613-4E31-933B-400AB5C6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94BE48-7500-4184-8433-954C3E42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45DAFA-4F35-42EC-A5B7-846F4674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136120-218F-45BC-A2AF-21744C6B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EA2768-A3B9-4E79-93E9-EF2AA2AD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4D3A33-CDD1-4D29-B8EB-F47CBDEA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91C6-9C27-4685-8813-27A6F516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5F0681-EE5D-493D-9CD8-10799715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47E52-8598-4F04-85E0-084AB489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9F0E98-8166-42B6-B85B-A5C96C89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7FECC6-2980-4F33-A5E7-BBFAB020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6224A6-2428-4735-B309-BE8CC389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FAEB6E-43B5-4FE8-9419-5B2778A3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9E7C5-027B-4EF3-B049-F502CF7E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DB32E9-0430-4E9B-93C7-10510201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F99C8-BC73-4F2E-B2E6-0437C833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2955F9-1AFB-4329-B050-7BA8D047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B9AC-2B3F-43D8-AB81-7D8A9A1F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A62F4A-AB64-43FD-B6BB-2D059E17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C01A545-67BC-4B69-A7D8-9B15235C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A17F02-E3B4-4D68-858E-1DAE7CDA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820EDB0-6D13-4FB6-8756-7588AAA0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80AB005-C7B7-4E28-B23C-E5B216E2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A8EE99-3A3A-4E87-8754-1844935B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CC3E6C1-05EE-466A-81B4-8878A5B5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7AC99D5-BA9C-4384-9AAC-07146FD8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5028C90-75DF-4F8E-B3A8-B2F5B213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5DEB439-D852-4DAF-A64A-AD3EF51F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76E9-9E07-48E6-B724-4D786946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4E6815B-6012-4A18-B06B-3CA2A7A2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CB06B4E-451E-4598-A695-526F080F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F1154E-0CCF-4DE3-8BE8-745F161B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0462E3D-11C3-40BF-9F5A-107BC3F5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D88753-92FA-4202-8D42-44247F88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D2E79A8-AB97-4F38-B7BF-DFAA7AB3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3143233-F01A-46A3-A603-AB521055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5A9CF9D-882D-478E-8FC5-C92AFC5A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9974773-7043-49B9-94E7-AB38CCA8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1C9FE07-C116-4C59-A8C3-DDA220A1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515-0A66-402D-ADF1-9B0CF83F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A368-FB0E-4D9A-94E3-F9F6F6FD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48A468F-0FB7-4227-82BC-ACFD5541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5B711FB-4362-484D-A844-A4D29980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EA8D485-7D3F-428D-99A0-F596055F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EE7AAF-5A71-446D-A8F8-CD3A1068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24DA70E-CDCD-4C31-A7A8-713CCE19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D344-FB82-4D8D-BC2A-666570CB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4399-A886-4E37-9878-AC3285CF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722A-FE0F-410C-AD74-DC42CB3D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1812-ED75-409E-8AA8-2126645F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C4493-EE00-4E49-AFAB-C3EAD915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9891-4BBF-4E5A-A9B9-3D6BA1E4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71C5C-EAAE-45DB-B940-CBDA0EC1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FF514-4973-4242-B0E5-5A7556F6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828AB-B697-4BF8-9A14-2AF7187E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18F-0CC6-409D-BD98-EEB6A85B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4D5DE-10D6-41BE-BAB2-2350ACC9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83434-6870-407D-9166-72F2C388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9C918-4390-4783-A6B3-FA3C4AF6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70A32-70B8-463B-A24B-D3597D50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90E64-B14D-4517-AE25-AA4481B9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ECCD0-20B0-44D0-A7C6-08F65911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E1D8D-5476-4950-8E89-52D14A65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FC2C6-6A4E-4112-8885-EE991D9A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98F6C-9221-42CF-92D6-AC21BBBA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81FD0-1F64-4D7C-80C7-85B8BFDD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5AE-C13F-4B75-9C94-D44FEFEA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BA90E-6DA7-48B6-A4D7-FA3489CA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E23C7-9B3E-4343-9708-6BEA28BD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3978B-F5B4-4F0A-8BB1-FC5E6DA9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9BBE9-F30A-4373-A894-9C5E17CE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E04DF-4027-4764-BFA1-36698BD6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E8EDD-61B7-48A9-B502-EDF2B9B1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61DB0-80E4-4FF7-A856-17F426BB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399C5-46B6-4BB9-865F-EFADDF8C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B4E46-F61F-4602-B2BB-D795D49F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85ECB-1B95-4FF2-B60F-38A25B54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D0D-E517-419A-AC64-30DC63BF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4C639-0F9C-4736-B74F-1F60605D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733EE-8993-424B-93D9-8E813FCF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E690C-0567-45EA-B157-921B1CCB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5AFFE-53E5-43CD-A64C-2DA4454D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AAC3B-CBCD-4AA8-9097-75903D37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060F2-F648-4F26-BE40-E37A6CD0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FA846-760C-4238-B2E0-38C07D90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4364E-247E-470B-812C-B1D2438D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09741-7DED-4B9A-B781-F7D82DDE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20ED4-5971-4579-8213-D4367430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1CB-3775-4968-A694-B97F9880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EB627-A456-40B1-8D8E-137E50BD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5570F-5178-442E-B52B-70EE646A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21000-5781-4D6A-B974-9BAF7C5C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5FB83-2C2C-4104-9E54-D7D77EDA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1149C-F738-4C86-A4CF-83C45DEB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DE4D7-C25C-4A41-BF7B-B8B14A24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0B28C-B3A8-4C11-A110-5339FD5F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38136-C88A-4EEF-9178-3E038CEF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224A1-818F-43F2-8212-293B77F1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0C5D5-8342-4C90-A1CB-838D03FE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FF9-D983-41C6-964A-73A37853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F4584-B394-4E47-9A0E-1367D9D2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28488-B951-472B-AA4C-D7FF15ED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900EC-5BF8-4413-B7A2-D5FB6A59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E1F85-AB38-40CE-939D-A08B0209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E029D-8209-457C-BDCA-866CE2BA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26070-2ABB-4119-9B3D-F3C5F584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49D39-81E9-4C0C-B256-7A56C219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A5309-02B4-4EAD-AFB2-DEF80FEE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5557C-2D6B-44C8-9743-61FA983D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13161-0605-440E-86E7-658323DC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9C3-74D9-4DCF-ACFC-68CF7761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22764-BC95-43FE-A2D8-3904241E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88892-9B22-4C9C-9EB2-3165AA28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C7C48-4289-4659-9F3B-EEEDC992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84A68-CB05-476E-9526-CE049535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271F6-4205-4C70-B045-D12936EB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8538E-E8E5-475B-8F8C-8E5A64F1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E45D9-F3D3-462F-9A9C-26D697E7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756B1-E2EF-4FB6-BF12-E8E199EC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FD867-8B8E-4442-8FF8-117603F5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B9D11-5D12-4791-99F9-3FFEC7DD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97A-B325-414F-8A48-BE7BBCE9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C5C33-2026-47F9-9CD9-50E05D71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81A15-BBFC-4F39-BB3F-B93A5B71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D5224-9C21-4ACD-9B5A-589D2FAC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02FD5-C738-46CD-85EF-1F01F23C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2174D-DAF2-410B-894B-27E59AC4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9E7CC-CC3B-4DB6-B54F-409D3543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18EB7-C5F5-494C-A44E-AF31A8B9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EF2C1-C2FA-4BB6-BA89-4B948985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83053-C476-4BCD-ACA9-F03E0929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85433-EFEA-4128-B9A8-56B7C616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5829-1767-4219-9948-B0DBED6627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1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F2F6-C2F7-423B-94D8-0F3BA7A783C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6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4718-F2C4-443E-9AAB-EDC33ADA2B5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4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sldNum" idx="35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512E-461E-49CE-BF63-1EB8D759674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6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4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48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18F6-749A-4EBE-9A68-F6F956C7D12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9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93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4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4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42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2EA0-FF42-4D0F-8395-D7B1A22A60C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639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4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4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45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4246-C3A0-4437-921F-A31ECF88D0B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6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sldNum" idx="47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4FF8-F46A-435D-97CB-07F3051EE86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ftr" idx="48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5994-B4C4-4CA0-8CCE-6F35762E99E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1D45-A6EF-44A8-9454-4D226FEF401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2" name="Группа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3" name="Полилиния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4" name="Полилиния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95" name="Полилиния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6" name="Полилиния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98" name="Прямая соединительная линия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CFA8-46C2-4947-8AD9-49BFE09E849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6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BEA3-6156-4B8E-9013-489170FFD3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98B6-8B40-4669-9F3B-4A551F813F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CF9F-7450-4944-B89E-31CCE2A095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7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4A26-6826-4E81-B3C8-4CA8D69EBC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1031-CBA4-43B9-AAF3-1E12E59759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олилиния 7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Полилиния 8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67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68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0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1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A081-5FFA-44E1-B9FA-8F802B8B3B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15.jpe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Заголовок 1" descr=""/>
          <p:cNvPicPr/>
          <p:nvPr/>
        </p:nvPicPr>
        <p:blipFill>
          <a:blip r:embed="rId2"/>
          <a:stretch/>
        </p:blipFill>
        <p:spPr>
          <a:xfrm>
            <a:off x="-49320" y="281160"/>
            <a:ext cx="5627880" cy="2511360"/>
          </a:xfrm>
          <a:prstGeom prst="rect">
            <a:avLst/>
          </a:prstGeom>
          <a:ln w="0">
            <a:noFill/>
          </a:ln>
        </p:spPr>
      </p:pic>
      <p:pic>
        <p:nvPicPr>
          <p:cNvPr id="765" name="Рисунок 4" descr="J0196364.WMF"/>
          <p:cNvPicPr/>
          <p:nvPr/>
        </p:nvPicPr>
        <p:blipFill>
          <a:blip r:embed="rId3"/>
          <a:stretch/>
        </p:blipFill>
        <p:spPr>
          <a:xfrm>
            <a:off x="4643280" y="428760"/>
            <a:ext cx="39294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Rectangle 2" descr=""/>
          <p:cNvPicPr/>
          <p:nvPr/>
        </p:nvPicPr>
        <p:blipFill>
          <a:blip r:embed="rId2"/>
          <a:stretch/>
        </p:blipFill>
        <p:spPr>
          <a:xfrm>
            <a:off x="30240" y="-92160"/>
            <a:ext cx="9053280" cy="671760"/>
          </a:xfrm>
          <a:prstGeom prst="rect">
            <a:avLst/>
          </a:prstGeom>
          <a:ln w="0">
            <a:noFill/>
          </a:ln>
        </p:spPr>
      </p:pic>
      <p:sp>
        <p:nvSpPr>
          <p:cNvPr id="767" name="WordArt 7"/>
          <p:cNvSpPr txBox="1"/>
          <p:nvPr/>
        </p:nvSpPr>
        <p:spPr>
          <a:xfrm>
            <a:off x="468360" y="692280"/>
            <a:ext cx="8182080" cy="533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Конституционные права и свобод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grpSp>
        <p:nvGrpSpPr>
          <p:cNvPr id="768" name="Group 15"/>
          <p:cNvGrpSpPr/>
          <p:nvPr/>
        </p:nvGrpSpPr>
        <p:grpSpPr>
          <a:xfrm>
            <a:off x="966960" y="1268280"/>
            <a:ext cx="7717680" cy="1305000"/>
            <a:chOff x="966960" y="1268280"/>
            <a:chExt cx="7717680" cy="1305000"/>
          </a:xfrm>
        </p:grpSpPr>
        <p:grpSp>
          <p:nvGrpSpPr>
            <p:cNvPr id="769" name="Group 10"/>
            <p:cNvGrpSpPr/>
            <p:nvPr/>
          </p:nvGrpSpPr>
          <p:grpSpPr>
            <a:xfrm>
              <a:off x="966960" y="1413000"/>
              <a:ext cx="1294920" cy="1160280"/>
              <a:chOff x="966960" y="1413000"/>
              <a:chExt cx="1294920" cy="1160280"/>
            </a:xfrm>
          </p:grpSpPr>
          <p:pic>
            <p:nvPicPr>
              <p:cNvPr id="770" name="Picture 8" descr="j0149486"/>
              <p:cNvPicPr/>
              <p:nvPr/>
            </p:nvPicPr>
            <p:blipFill>
              <a:blip r:embed="rId3"/>
              <a:stretch/>
            </p:blipFill>
            <p:spPr>
              <a:xfrm>
                <a:off x="1146240" y="1413000"/>
                <a:ext cx="936720" cy="9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1" name="Text Box 9"/>
              <p:cNvSpPr/>
              <p:nvPr/>
            </p:nvSpPr>
            <p:spPr>
              <a:xfrm>
                <a:off x="966960" y="2205000"/>
                <a:ext cx="129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mbria"/>
                  </a:rPr>
                  <a:t>граждане</a:t>
                </a: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grpSp>
          <p:nvGrpSpPr>
            <p:cNvPr id="772" name="Group 13"/>
            <p:cNvGrpSpPr/>
            <p:nvPr/>
          </p:nvGrpSpPr>
          <p:grpSpPr>
            <a:xfrm>
              <a:off x="7117200" y="1268280"/>
              <a:ext cx="1567440" cy="1244880"/>
              <a:chOff x="7117200" y="1268280"/>
              <a:chExt cx="1567440" cy="1244880"/>
            </a:xfrm>
          </p:grpSpPr>
          <p:pic>
            <p:nvPicPr>
              <p:cNvPr id="773" name="Picture 11" descr="j0186176"/>
              <p:cNvPicPr/>
              <p:nvPr/>
            </p:nvPicPr>
            <p:blipFill>
              <a:blip r:embed="rId4"/>
              <a:stretch/>
            </p:blipFill>
            <p:spPr>
              <a:xfrm>
                <a:off x="7439040" y="1268280"/>
                <a:ext cx="924120" cy="100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12"/>
              <p:cNvSpPr/>
              <p:nvPr/>
            </p:nvSpPr>
            <p:spPr>
              <a:xfrm>
                <a:off x="7117200" y="2144880"/>
                <a:ext cx="1567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mbria"/>
                  </a:rPr>
                  <a:t>государство</a:t>
                </a: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sp>
          <p:nvSpPr>
            <p:cNvPr id="775" name="AutoShape 14"/>
            <p:cNvSpPr/>
            <p:nvPr/>
          </p:nvSpPr>
          <p:spPr>
            <a:xfrm>
              <a:off x="2627280" y="1628640"/>
              <a:ext cx="4249800" cy="576360"/>
            </a:xfrm>
            <a:prstGeom prst="leftRightArrow">
              <a:avLst>
                <a:gd name="adj1" fmla="val 50000"/>
                <a:gd name="adj2" fmla="val 146787"/>
              </a:avLst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776" name="Text Box 16"/>
          <p:cNvSpPr/>
          <p:nvPr/>
        </p:nvSpPr>
        <p:spPr>
          <a:xfrm>
            <a:off x="241560" y="2674800"/>
            <a:ext cx="2925360" cy="947160"/>
          </a:xfrm>
          <a:prstGeom prst="rect">
            <a:avLst/>
          </a:prstGeom>
          <a:solidFill>
            <a:srgbClr val="ffff00"/>
          </a:solid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олучают права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вободы и защит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7" name="Text Box 17"/>
          <p:cNvSpPr/>
          <p:nvPr/>
        </p:nvSpPr>
        <p:spPr>
          <a:xfrm>
            <a:off x="5864400" y="2714760"/>
            <a:ext cx="2925360" cy="947160"/>
          </a:xfrm>
          <a:prstGeom prst="rect">
            <a:avLst/>
          </a:prstGeom>
          <a:solidFill>
            <a:srgbClr val="ffff00"/>
          </a:solid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Дает права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вободы и защит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AutoShape 18"/>
          <p:cNvSpPr/>
          <p:nvPr/>
        </p:nvSpPr>
        <p:spPr>
          <a:xfrm>
            <a:off x="250920" y="3718080"/>
            <a:ext cx="8713800" cy="502920"/>
          </a:xfrm>
          <a:prstGeom prst="downArrowCallout">
            <a:avLst>
              <a:gd name="adj1" fmla="val -61877"/>
              <a:gd name="adj2" fmla="val 67060"/>
              <a:gd name="adj3" fmla="val 31861"/>
              <a:gd name="adj4" fmla="val 51421"/>
            </a:avLst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WordArt 19"/>
          <p:cNvSpPr txBox="1"/>
          <p:nvPr/>
        </p:nvSpPr>
        <p:spPr>
          <a:xfrm>
            <a:off x="1547640" y="4221000"/>
            <a:ext cx="6048720" cy="533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о! Свобода-от рождения!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0" name="Text Box 21"/>
          <p:cNvSpPr/>
          <p:nvPr/>
        </p:nvSpPr>
        <p:spPr>
          <a:xfrm>
            <a:off x="816480" y="5072040"/>
            <a:ext cx="6796440" cy="1557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еловек, его права и свободы являются высше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ценностью. Признание, соблюдение и защита пра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 свобод человека и гражданина – обяза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осударств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Rectangle 2" descr=""/>
          <p:cNvPicPr/>
          <p:nvPr/>
        </p:nvPicPr>
        <p:blipFill>
          <a:blip r:embed="rId2"/>
          <a:stretch/>
        </p:blipFill>
        <p:spPr>
          <a:xfrm>
            <a:off x="30240" y="-92160"/>
            <a:ext cx="9053280" cy="671760"/>
          </a:xfrm>
          <a:prstGeom prst="rect">
            <a:avLst/>
          </a:prstGeom>
          <a:ln w="0">
            <a:noFill/>
          </a:ln>
        </p:spPr>
      </p:pic>
      <p:sp>
        <p:nvSpPr>
          <p:cNvPr id="782" name="WordArt 3"/>
          <p:cNvSpPr txBox="1"/>
          <p:nvPr/>
        </p:nvSpPr>
        <p:spPr>
          <a:xfrm>
            <a:off x="1547640" y="620640"/>
            <a:ext cx="616608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ава и свобод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grpSp>
        <p:nvGrpSpPr>
          <p:cNvPr id="783" name="Group 28"/>
          <p:cNvGrpSpPr/>
          <p:nvPr/>
        </p:nvGrpSpPr>
        <p:grpSpPr>
          <a:xfrm>
            <a:off x="896760" y="979560"/>
            <a:ext cx="1148040" cy="1495440"/>
            <a:chOff x="896760" y="979560"/>
            <a:chExt cx="1148040" cy="1495440"/>
          </a:xfrm>
        </p:grpSpPr>
        <p:pic>
          <p:nvPicPr>
            <p:cNvPr id="784" name="Picture 22" descr="j0240515"/>
            <p:cNvPicPr/>
            <p:nvPr/>
          </p:nvPicPr>
          <p:blipFill>
            <a:blip r:embed="rId3"/>
            <a:stretch/>
          </p:blipFill>
          <p:spPr>
            <a:xfrm>
              <a:off x="1332000" y="979560"/>
              <a:ext cx="71280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Text Box 23"/>
            <p:cNvSpPr/>
            <p:nvPr/>
          </p:nvSpPr>
          <p:spPr>
            <a:xfrm>
              <a:off x="896760" y="2106720"/>
              <a:ext cx="111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Cambria"/>
                </a:rPr>
                <a:t>Личные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786" name="Group 27"/>
          <p:cNvGrpSpPr/>
          <p:nvPr/>
        </p:nvGrpSpPr>
        <p:grpSpPr>
          <a:xfrm>
            <a:off x="3281040" y="907920"/>
            <a:ext cx="1873440" cy="1567080"/>
            <a:chOff x="3281040" y="907920"/>
            <a:chExt cx="1873440" cy="1567080"/>
          </a:xfrm>
        </p:grpSpPr>
        <p:pic>
          <p:nvPicPr>
            <p:cNvPr id="787" name="Picture 21" descr="j0241643"/>
            <p:cNvPicPr/>
            <p:nvPr/>
          </p:nvPicPr>
          <p:blipFill>
            <a:blip r:embed="rId4"/>
            <a:stretch/>
          </p:blipFill>
          <p:spPr>
            <a:xfrm>
              <a:off x="4138560" y="907920"/>
              <a:ext cx="101592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Text Box 24"/>
            <p:cNvSpPr/>
            <p:nvPr/>
          </p:nvSpPr>
          <p:spPr>
            <a:xfrm>
              <a:off x="3281040" y="210672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Cambria"/>
                </a:rPr>
                <a:t>Политические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789" name="Group 26"/>
          <p:cNvGrpSpPr/>
          <p:nvPr/>
        </p:nvGrpSpPr>
        <p:grpSpPr>
          <a:xfrm>
            <a:off x="6053040" y="928800"/>
            <a:ext cx="1992600" cy="1650600"/>
            <a:chOff x="6053040" y="928800"/>
            <a:chExt cx="1992600" cy="1650600"/>
          </a:xfrm>
        </p:grpSpPr>
        <p:pic>
          <p:nvPicPr>
            <p:cNvPr id="790" name="Picture 20" descr="j0299725"/>
            <p:cNvPicPr/>
            <p:nvPr/>
          </p:nvPicPr>
          <p:blipFill>
            <a:blip r:embed="rId5"/>
            <a:stretch/>
          </p:blipFill>
          <p:spPr>
            <a:xfrm>
              <a:off x="7031160" y="928800"/>
              <a:ext cx="996840" cy="10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Text Box 25"/>
            <p:cNvSpPr/>
            <p:nvPr/>
          </p:nvSpPr>
          <p:spPr>
            <a:xfrm>
              <a:off x="6053040" y="1936800"/>
              <a:ext cx="199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Cambria"/>
                </a:rPr>
                <a:t>Социально-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Cambria"/>
                </a:rPr>
                <a:t>экономические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792" name="Group 31"/>
          <p:cNvGrpSpPr/>
          <p:nvPr/>
        </p:nvGrpSpPr>
        <p:grpSpPr>
          <a:xfrm>
            <a:off x="179280" y="2500200"/>
            <a:ext cx="8448840" cy="1922760"/>
            <a:chOff x="179280" y="2500200"/>
            <a:chExt cx="8448840" cy="1922760"/>
          </a:xfrm>
        </p:grpSpPr>
        <p:sp>
          <p:nvSpPr>
            <p:cNvPr id="793" name="WordArt 29"/>
            <p:cNvSpPr txBox="1"/>
            <p:nvPr/>
          </p:nvSpPr>
          <p:spPr>
            <a:xfrm>
              <a:off x="179280" y="3463560"/>
              <a:ext cx="1866960" cy="4320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0000"/>
                    </a:solidFill>
                    <a:miter/>
                  </a:ln>
                  <a:blipFill rotWithShape="0">
                    <a:blip r:embed="rId6"/>
                    <a:srcRect/>
                    <a:stretch/>
                  </a:blipFill>
                  <a:latin typeface="Impact"/>
                </a:rPr>
                <a:t>1.Личные</a:t>
              </a:r>
              <a:endPara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794" name="Text Box 30"/>
            <p:cNvSpPr/>
            <p:nvPr/>
          </p:nvSpPr>
          <p:spPr>
            <a:xfrm>
              <a:off x="2214720" y="2500200"/>
              <a:ext cx="6413400" cy="1922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Личные права и свободы связаны непосредст-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венно с личностью, не увязываются с принад-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лежностью к гражданству и не вытекают из не-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го. Личные права и свободы неотчуждаемы и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принадлежат человеку от рождения. 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795" name="Text Box 32"/>
          <p:cNvSpPr/>
          <p:nvPr/>
        </p:nvSpPr>
        <p:spPr>
          <a:xfrm>
            <a:off x="57960" y="4581360"/>
            <a:ext cx="8672400" cy="2288520"/>
          </a:xfrm>
          <a:prstGeom prst="rect">
            <a:avLst/>
          </a:prstGeom>
          <a:solidFill>
            <a:srgbClr val="ffff00"/>
          </a:solidFill>
          <a:ln w="9360">
            <a:solidFill>
              <a:srgbClr val="67936a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раво на жизнь, право на свободу и личную неприкосновен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сть, на неприкосновенность частной жизни, жилища, свобод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е передвижение и выбор места жительства, свободу совести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боду мысли и слова, на судебную защиту своих прав, на юри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ческую защиту, на процессуальные гарантии в случае прив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чения к суду и т.д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Rectangle 2" descr=""/>
          <p:cNvPicPr/>
          <p:nvPr/>
        </p:nvPicPr>
        <p:blipFill>
          <a:blip r:embed="rId2"/>
          <a:stretch/>
        </p:blipFill>
        <p:spPr>
          <a:xfrm>
            <a:off x="103320" y="-92160"/>
            <a:ext cx="9096120" cy="671760"/>
          </a:xfrm>
          <a:prstGeom prst="rect">
            <a:avLst/>
          </a:prstGeom>
          <a:ln w="0">
            <a:noFill/>
          </a:ln>
        </p:spPr>
      </p:pic>
      <p:sp>
        <p:nvSpPr>
          <p:cNvPr id="797" name="WordArt 14"/>
          <p:cNvSpPr txBox="1"/>
          <p:nvPr/>
        </p:nvSpPr>
        <p:spPr>
          <a:xfrm>
            <a:off x="55440" y="1333440"/>
            <a:ext cx="2016360" cy="43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2.Политические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798" name="Text Box 15"/>
          <p:cNvSpPr/>
          <p:nvPr/>
        </p:nvSpPr>
        <p:spPr>
          <a:xfrm>
            <a:off x="2235960" y="981000"/>
            <a:ext cx="631800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д политическими правами и свободами под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азумевают права, затрагивающие непосредст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енно политические интересы человек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Text Box 16"/>
          <p:cNvSpPr/>
          <p:nvPr/>
        </p:nvSpPr>
        <p:spPr>
          <a:xfrm>
            <a:off x="210960" y="213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0" name="Text Box 17"/>
          <p:cNvSpPr/>
          <p:nvPr/>
        </p:nvSpPr>
        <p:spPr>
          <a:xfrm>
            <a:off x="73080" y="2585880"/>
            <a:ext cx="8520120" cy="2288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раво на свободу мысли, право беспрепятственно придержива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ься своих мнений, право на свободу искать, получать и расп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ранять информацию, право на мирные собрания, право 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боду ассоциаций, право на участие в ведении государствен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ых дел, как непосредственно, так и через своих представите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й, право избирать и быть избранными и др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1" name="WordArt 18"/>
          <p:cNvSpPr txBox="1"/>
          <p:nvPr/>
        </p:nvSpPr>
        <p:spPr>
          <a:xfrm>
            <a:off x="108000" y="5270400"/>
            <a:ext cx="2016000" cy="1079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3.Культурные,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социальные,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Impact"/>
              </a:rPr>
              <a:t>экономические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802" name="Text Box 19"/>
          <p:cNvSpPr/>
          <p:nvPr/>
        </p:nvSpPr>
        <p:spPr>
          <a:xfrm>
            <a:off x="2263320" y="5229360"/>
            <a:ext cx="620964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оциальные и экономические права призван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беспечить человеку достойный жизненны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ровень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Rectangle 2" descr=""/>
          <p:cNvPicPr/>
          <p:nvPr/>
        </p:nvPicPr>
        <p:blipFill>
          <a:blip r:embed="rId2"/>
          <a:stretch/>
        </p:blipFill>
        <p:spPr>
          <a:xfrm>
            <a:off x="30240" y="-92160"/>
            <a:ext cx="9053280" cy="671760"/>
          </a:xfrm>
          <a:prstGeom prst="rect">
            <a:avLst/>
          </a:prstGeom>
          <a:ln w="0">
            <a:noFill/>
          </a:ln>
        </p:spPr>
      </p:pic>
      <p:sp>
        <p:nvSpPr>
          <p:cNvPr id="804" name="Text Box 9"/>
          <p:cNvSpPr/>
          <p:nvPr/>
        </p:nvSpPr>
        <p:spPr>
          <a:xfrm>
            <a:off x="119160" y="765000"/>
            <a:ext cx="7160760" cy="2228400"/>
          </a:xfrm>
          <a:prstGeom prst="rect">
            <a:avLst/>
          </a:prstGeom>
          <a:solidFill>
            <a:srgbClr val="00b0f0"/>
          </a:solidFill>
          <a:ln w="9360">
            <a:solidFill>
              <a:srgbClr val="9fb99f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аво на труд и свободный выбор работы, право на равную оп-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ту за равный труд, право на социальное обеспечение, право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защиту материнства и детства, право на образование. К это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тегории также относят и культурные права, гарантирующи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ступ человека к благам культуры, свободу художественного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чного, технического творчества, его участие в культурно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зни и пользовании учреждениями культуры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5" name="WordArt 10"/>
          <p:cNvSpPr txBox="1"/>
          <p:nvPr/>
        </p:nvSpPr>
        <p:spPr>
          <a:xfrm>
            <a:off x="1214280" y="3327480"/>
            <a:ext cx="6886800" cy="533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аво частной собственности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806" name="Text Box 11"/>
          <p:cNvSpPr/>
          <p:nvPr/>
        </p:nvSpPr>
        <p:spPr>
          <a:xfrm>
            <a:off x="299160" y="4005360"/>
            <a:ext cx="924408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условие демократической ,рыночной экономики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основа независимости человек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807" name="Group 14"/>
          <p:cNvGrpSpPr/>
          <p:nvPr/>
        </p:nvGrpSpPr>
        <p:grpSpPr>
          <a:xfrm>
            <a:off x="250920" y="3500280"/>
            <a:ext cx="8713800" cy="2233800"/>
            <a:chOff x="250920" y="3500280"/>
            <a:chExt cx="8713800" cy="2233800"/>
          </a:xfrm>
        </p:grpSpPr>
        <p:sp>
          <p:nvSpPr>
            <p:cNvPr id="808" name="WordArt 12"/>
            <p:cNvSpPr txBox="1"/>
            <p:nvPr/>
          </p:nvSpPr>
          <p:spPr>
            <a:xfrm>
              <a:off x="826920" y="5086440"/>
              <a:ext cx="8137800" cy="6476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обеспечивается государством!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sp>
          <p:nvSpPr>
            <p:cNvPr id="809" name="AutoShape 13"/>
            <p:cNvSpPr/>
            <p:nvPr/>
          </p:nvSpPr>
          <p:spPr>
            <a:xfrm>
              <a:off x="250920" y="3500280"/>
              <a:ext cx="504720" cy="2160720"/>
            </a:xfrm>
            <a:custGeom>
              <a:avLst/>
              <a:gdLst>
                <a:gd name="textAreaLeft" fmla="*/ 67320 w 504720"/>
                <a:gd name="textAreaRight" fmla="*/ 437400 w 504720"/>
                <a:gd name="textAreaTop" fmla="*/ 378000 h 2160720"/>
                <a:gd name="textAreaBottom" fmla="*/ 1566720 h 21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810" name="Text Box 15"/>
          <p:cNvSpPr/>
          <p:nvPr/>
        </p:nvSpPr>
        <p:spPr>
          <a:xfrm>
            <a:off x="455040" y="5846760"/>
            <a:ext cx="6011640" cy="642600"/>
          </a:xfrm>
          <a:prstGeom prst="rect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9360">
            <a:solidFill>
              <a:srgbClr val="bab288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Но! Не должно ущемлять права других гражда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-не должно нарушать экологию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Rectangle 2" descr=""/>
          <p:cNvPicPr/>
          <p:nvPr/>
        </p:nvPicPr>
        <p:blipFill>
          <a:blip r:embed="rId2"/>
          <a:stretch/>
        </p:blipFill>
        <p:spPr>
          <a:xfrm>
            <a:off x="30240" y="-92160"/>
            <a:ext cx="9053280" cy="671760"/>
          </a:xfrm>
          <a:prstGeom prst="rect">
            <a:avLst/>
          </a:prstGeom>
          <a:ln w="0">
            <a:noFill/>
          </a:ln>
        </p:spPr>
      </p:pic>
      <p:sp>
        <p:nvSpPr>
          <p:cNvPr id="812" name="WordArt 4"/>
          <p:cNvSpPr txBox="1"/>
          <p:nvPr/>
        </p:nvSpPr>
        <p:spPr>
          <a:xfrm>
            <a:off x="2700360" y="692280"/>
            <a:ext cx="396072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Право на труд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813" name="Text Box 5"/>
          <p:cNvSpPr/>
          <p:nvPr/>
        </p:nvSpPr>
        <p:spPr>
          <a:xfrm>
            <a:off x="12600" y="1152360"/>
            <a:ext cx="9120600" cy="180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защита от безработицы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запрет на принудительное привлечение к труду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защита наемных работников от произвола со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стороны предпринимателей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WordArt 10"/>
          <p:cNvSpPr txBox="1"/>
          <p:nvPr/>
        </p:nvSpPr>
        <p:spPr>
          <a:xfrm>
            <a:off x="2714760" y="3141720"/>
            <a:ext cx="401796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аво на отдых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815" name="Text Box 11"/>
          <p:cNvSpPr/>
          <p:nvPr/>
        </p:nvSpPr>
        <p:spPr>
          <a:xfrm>
            <a:off x="125280" y="3643200"/>
            <a:ext cx="9489240" cy="180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установление продолжительности рабочего дня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установление выходных и праздничных дней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установление продолжительности оплачиваемог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отпуск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WordArt 12"/>
          <p:cNvSpPr txBox="1"/>
          <p:nvPr/>
        </p:nvSpPr>
        <p:spPr>
          <a:xfrm>
            <a:off x="1619280" y="5526000"/>
            <a:ext cx="6076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Все граждане имеют равные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права и свободы!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Rectangle 2" descr=""/>
          <p:cNvPicPr/>
          <p:nvPr/>
        </p:nvPicPr>
        <p:blipFill>
          <a:blip r:embed="rId2"/>
          <a:stretch/>
        </p:blipFill>
        <p:spPr>
          <a:xfrm>
            <a:off x="30240" y="-92160"/>
            <a:ext cx="9053280" cy="671760"/>
          </a:xfrm>
          <a:prstGeom prst="rect">
            <a:avLst/>
          </a:prstGeom>
          <a:ln w="0">
            <a:noFill/>
          </a:ln>
        </p:spPr>
      </p:pic>
      <p:sp>
        <p:nvSpPr>
          <p:cNvPr id="818" name="WordArt 3"/>
          <p:cNvSpPr txBox="1"/>
          <p:nvPr/>
        </p:nvSpPr>
        <p:spPr>
          <a:xfrm>
            <a:off x="684360" y="692280"/>
            <a:ext cx="813564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ава неотделимы от обязанностей.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21240" y="1152360"/>
            <a:ext cx="9260640" cy="2653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соблюдение Конституции и законов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платить законные налоги и сборы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охранять природу и окружающую среду, бережн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относиться к природным богатствам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долг и обязанность любого гражданина-защит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Отечест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0" name="WordArt 8"/>
          <p:cNvSpPr txBox="1"/>
          <p:nvPr/>
        </p:nvSpPr>
        <p:spPr>
          <a:xfrm>
            <a:off x="1403280" y="5310360"/>
            <a:ext cx="650556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в случае несоблюдения прав-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наступает поражение в правах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821" name="WordArt 9"/>
          <p:cNvSpPr txBox="1"/>
          <p:nvPr/>
        </p:nvSpPr>
        <p:spPr>
          <a:xfrm>
            <a:off x="428760" y="3786120"/>
            <a:ext cx="845964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ответствующие обязанности 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нкретизируются и закрепляются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отраслях права.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0-27T06:45:04Z</dcterms:modified>
  <cp:revision>2</cp:revision>
  <dc:subject/>
  <dc:title>Права и свободы  Украи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13000000000001024140</vt:lpwstr>
  </property>
</Properties>
</file>