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gif" ContentType="image/gif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9E7B-CBF4-44F5-80FE-710BFA9219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D9D5-E482-4708-931B-7503E77ABFC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1CB0-B5BA-4630-8235-DE255F3F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C32C-C858-487B-A86D-DF4121DD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0F3-2E13-4367-BEAD-F385441D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67CF-6ECA-4552-933F-3DB5675E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9AA3-CD38-437D-B3CA-83C63437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53C7-C418-4270-83B4-77B85E1C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71ED-F49E-4C83-9E2A-2FEDDBBC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28FB-713B-40BD-9356-47B4490B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CDD0-7574-4D51-9BEA-3317B98C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292-FAE2-4AE1-ABB2-E3D30909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50FC-B184-415A-8CB1-DBD88A07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C5B-37D5-4CD3-9065-620D6196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18EA-1E1F-41F2-A74C-49B8B25DF08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Тема уроку.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авопорушення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11" descr="femida_rada"/>
          <p:cNvPicPr/>
          <p:nvPr/>
        </p:nvPicPr>
        <p:blipFill>
          <a:blip r:embed="rId2"/>
          <a:stretch/>
        </p:blipFill>
        <p:spPr>
          <a:xfrm>
            <a:off x="684360" y="2924280"/>
            <a:ext cx="2447640" cy="2449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4211640" y="3141720"/>
            <a:ext cx="38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«Розум завжди прагне до чогось братись, і коли він не матиме доброго, то звертатиметься до поганого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            </a:t>
            </a: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Г. Сковород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Види правопорушен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2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Види правопорушен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3780000" y="2133720"/>
            <a:ext cx="467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лежно від  об‘єкта посяганн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 формою вин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лежно від моменту закінчення злочин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Якщо за критерій береться корислива мет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 тяжкістю злочин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297360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Юридичний практикум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Робота в групах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2" descr="&amp;Kcy;&amp;acy;&amp;rcy;&amp;tcy;&amp;icy;&amp;ncy;&amp;kcy;&amp;icy; &amp;dcy;&amp;lcy;&amp;yacy; &amp;shcy;&amp;kcy;&amp;ocy;&amp;lcy;&amp;softcy;&amp;ncy;&amp;ocy;&amp;gcy;&amp;ocy; &amp;dcy;&amp;icy;&amp;zcy;&amp;acy;&amp;jcy;&amp;ncy;&amp;acy;"/>
          <p:cNvPicPr/>
          <p:nvPr/>
        </p:nvPicPr>
        <p:blipFill>
          <a:blip r:embed="rId2"/>
          <a:stretch/>
        </p:blipFill>
        <p:spPr>
          <a:xfrm>
            <a:off x="2700360" y="3573360"/>
            <a:ext cx="3456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Ділова гра-дискусі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alibri"/>
              </a:rPr>
              <a:t>Уявити себе народними депутатами України (або депутатами місцевої ради), на обговорення яких винесено питання про запобігання та зниження рівня злочинності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alibri"/>
              </a:rPr>
              <a:t>1. Обговорити в групі та визначити причини, які призводять до правопорушень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alibri"/>
              </a:rPr>
              <a:t>2. Запропонувати заходи, що сприятимуть зниженню рівня злочинності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alibri"/>
              </a:rPr>
              <a:t>3. Доповісти про підсумки обговорення та обґрунтувати їх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Пригадай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Пригадайте вислів Г. Сковороди, який ми розглядали на початку урок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Що «хорошого» ми можемо дати для роботи свого розуму, щоб він не звертався до «поганого»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2" descr="&amp;Ucy;&amp;chcy;&amp;iecy;&amp;ncy;&amp;icy;&amp;kcy; &amp;kcy;&amp;acy;&amp;rcy;&amp;tcy;&amp;icy;&amp;ncy;&amp;kcy;&amp;acy;"/>
          <p:cNvPicPr/>
          <p:nvPr/>
        </p:nvPicPr>
        <p:blipFill>
          <a:blip r:embed="rId2"/>
          <a:stretch/>
        </p:blipFill>
        <p:spPr>
          <a:xfrm>
            <a:off x="3379680" y="4508640"/>
            <a:ext cx="195264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Опрацювати матеріал §§ 9–10 (п. 4-5) підручник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Знайти повідомлення засобів масової інформації про різні правопорушення та визначити їх вид, форму вини, склад правопорушення.*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Скласти самостійно правову задачу і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проаналізувати її.**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2" descr="&amp;Kcy;&amp;acy;&amp;rcy;&amp;tcy;&amp;icy;&amp;ncy;&amp;kcy;&amp;icy; &amp;dcy;&amp;lcy;&amp;yacy; &amp;shcy;&amp;kcy;&amp;ocy;&amp;lcy;&amp;ycy;"/>
          <p:cNvPicPr/>
          <p:nvPr/>
        </p:nvPicPr>
        <p:blipFill>
          <a:blip r:embed="rId2"/>
          <a:stretch/>
        </p:blipFill>
        <p:spPr>
          <a:xfrm>
            <a:off x="539640" y="260280"/>
            <a:ext cx="10670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лан уроку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1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1828"/>
                </a:solidFill>
                <a:latin typeface="Calibri"/>
              </a:rPr>
              <a:t>1. Поняття правопорушення та його склад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31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1828"/>
                </a:solidFill>
                <a:latin typeface="Calibri"/>
              </a:rPr>
              <a:t>2. Види правопорушен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Перегляньте план уроку та визначте, що ви зн</a:t>
            </a:r>
            <a:r>
              <a:rPr b="0" i="1" lang="uk-UA" sz="3200" spc="-1" strike="noStrike">
                <a:solidFill>
                  <a:srgbClr val="ffffff"/>
                </a:solidFill>
                <a:latin typeface="Calibri"/>
              </a:rPr>
              <a:t>є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те з </a:t>
            </a:r>
            <a:r>
              <a:rPr b="0" i="1" lang="uk-UA" sz="3200" spc="-1" strike="noStrike">
                <a:solidFill>
                  <a:srgbClr val="ffffff"/>
                </a:solidFill>
                <a:latin typeface="Calibri"/>
              </a:rPr>
              <a:t>цієї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теми, що вас цікавить та чого ви бажаєте навчитись, опрацьовуючи матеріал урок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Очікувані результа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Схема 3" descr=""/>
          <p:cNvPicPr/>
          <p:nvPr/>
        </p:nvPicPr>
        <p:blipFill>
          <a:blip r:embed="rId2"/>
          <a:stretch/>
        </p:blipFill>
        <p:spPr>
          <a:xfrm>
            <a:off x="603360" y="1322280"/>
            <a:ext cx="786420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3260c"/>
                </a:solidFill>
                <a:latin typeface="Calibri"/>
              </a:rPr>
              <a:t>Після цього уроку ви зможет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авати визначення правопорушення та називати його види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водити приклади правопорушень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озкривати зміст поняття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склад правопорушення,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характеризувати його елемент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4000" spc="-1" strike="noStrike">
                <a:solidFill>
                  <a:srgbClr val="c3260c"/>
                </a:solidFill>
                <a:latin typeface="Calibri"/>
              </a:rPr>
              <a:t>Алгоритм конструювання понятт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Спочатку дайте відповідь на головне питання схеми: </a:t>
            </a:r>
            <a:r>
              <a:rPr b="0" i="1" lang="ru-RU" sz="2700" spc="-1" strike="noStrike">
                <a:solidFill>
                  <a:srgbClr val="ffffff"/>
                </a:solidFill>
                <a:latin typeface="Calibri"/>
              </a:rPr>
              <a:t> що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таке правопорушення?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Далі з'ясуйте деякі ознаки, тобто дайте відповідь на питання    </a:t>
            </a:r>
            <a:r>
              <a:rPr b="0" i="1" lang="uk-UA" sz="2700" spc="-1" strike="noStrike">
                <a:solidFill>
                  <a:srgbClr val="ffffff"/>
                </a:solidFill>
                <a:latin typeface="Calibri"/>
              </a:rPr>
              <a:t>яке?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Завершуючи роботу, пригадайте, яким відносинам завдає шкоди </a:t>
            </a:r>
            <a:r>
              <a:rPr b="0" lang="uk-UA" sz="2700" spc="-1" strike="noStrike">
                <a:solidFill>
                  <a:srgbClr val="ffffff"/>
                </a:solidFill>
                <a:latin typeface="Calibri"/>
              </a:rPr>
              <a:t>правопорушення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Наостанок прочитайте визначення терміна так, як воно подане на схемі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Правопорушення-ц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2"/>
          <a:stretch/>
        </p:blipFill>
        <p:spPr>
          <a:xfrm>
            <a:off x="463680" y="1620720"/>
            <a:ext cx="824220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Правопорушення-ц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4078800" y="3933720"/>
            <a:ext cx="179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Суспільн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небезпечн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Склад правопорушенн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2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Робота з поняттям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31828"/>
                </a:solidFill>
                <a:latin typeface="Calibri"/>
              </a:rPr>
              <a:t>Для суб’єктів притаманна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Осудність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Вина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31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31828"/>
                </a:solidFill>
                <a:latin typeface="Calibri"/>
              </a:rPr>
              <a:t>Суб’єктивна сторона має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Умисел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Необережність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Мотив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Мета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5:14:21Z</dcterms:created>
  <dc:creator>Оля</dc:creator>
  <dc:description/>
  <dc:language>en-US</dc:language>
  <cp:lastModifiedBy>Admin</cp:lastModifiedBy>
  <dcterms:modified xsi:type="dcterms:W3CDTF">2013-10-21T06:55:47Z</dcterms:modified>
  <cp:revision>1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8000000000001024140</vt:lpwstr>
  </property>
</Properties>
</file>