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FAE3-4320-42D3-98BC-D83568FDCC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B8C5-C988-4FCA-8D4A-87028BD74A4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05E-6026-4B4E-9D40-F0F1D010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3B5-5215-4B96-81F3-CF5DE2A1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5B8-AEC6-4201-AD46-C793F7FD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3B6-28A6-4E8D-832D-B6949533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DAC1-64B9-491A-A3AE-4F298008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2A1-C0C8-44D1-A6B2-4C932A20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EFB5-1603-4732-8325-78E6BF1F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437-1E1C-496E-9A3F-F15DB408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701-D321-428A-AC91-FFBF2764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F8D-9DF1-4FE1-AA41-F7B81F4E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B31-B40F-4DBC-B796-1403F4EB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784-2D12-460D-B24F-26ABA7FF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125A-478A-4D81-AEF0-A35A78DAB4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Тема уроку.</a:t>
            </a: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авопорушення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11" descr="femida_rada"/>
          <p:cNvPicPr/>
          <p:nvPr/>
        </p:nvPicPr>
        <p:blipFill>
          <a:blip r:embed="rId2"/>
          <a:stretch/>
        </p:blipFill>
        <p:spPr>
          <a:xfrm>
            <a:off x="684360" y="2924280"/>
            <a:ext cx="2447640" cy="2449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4211640" y="3141720"/>
            <a:ext cx="388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«Розум завжди прагне до чогось братись, і коли він не матиме доброго, то звертатиметься до поганого»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            </a:t>
            </a: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Г. Сковород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Види правопорушен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Объект 3" descr=""/>
          <p:cNvPicPr/>
          <p:nvPr/>
        </p:nvPicPr>
        <p:blipFill>
          <a:blip r:embed="rId2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Види правопорушень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3780000" y="2133720"/>
            <a:ext cx="4679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лежно від  об‘єкта посягання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 формою вин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лежно від моменту закінчення злочин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Якщо за критерій береться корислива мет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 тяжкістю злочин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39640" y="3213000"/>
            <a:ext cx="297360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Юридичний практикум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Робота в групах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&amp;Kcy;&amp;acy;&amp;rcy;&amp;tcy;&amp;icy;&amp;ncy;&amp;kcy;&amp;icy; &amp;dcy;&amp;lcy;&amp;yacy; &amp;shcy;&amp;kcy;&amp;ocy;&amp;lcy;&amp;softcy;&amp;ncy;&amp;ocy;&amp;gcy;&amp;ocy; &amp;dcy;&amp;icy;&amp;zcy;&amp;acy;&amp;jcy;&amp;ncy;&amp;acy;"/>
          <p:cNvPicPr/>
          <p:nvPr/>
        </p:nvPicPr>
        <p:blipFill>
          <a:blip r:embed="rId2"/>
          <a:stretch/>
        </p:blipFill>
        <p:spPr>
          <a:xfrm>
            <a:off x="2700360" y="3573360"/>
            <a:ext cx="3456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00000"/>
                </a:solidFill>
                <a:latin typeface="Calibri"/>
              </a:rPr>
              <a:t>Ділова гра-дискусі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Уявити себе народними депутатами України (або депутатами місцевої ради), на обговорення яких винесено питання про запобігання та зниження рівня злочинності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1. Обговорити в групі та визначити причини, які призводять до правопорушень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2. Запропонувати заходи, що сприятимуть зниженню рівня злочинності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Calibri"/>
              </a:rPr>
              <a:t>3. Доповісти про підсумки обговорення та обґрунтувати їх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Пригадай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Пригадайте вислів Г. Сковороди, який ми розглядали на початку урок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Що «хорошого» ми можемо дати для роботи свого розуму, щоб він не звертався до «поганого»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2" descr="&amp;Ucy;&amp;chcy;&amp;iecy;&amp;ncy;&amp;icy;&amp;kcy; &amp;kcy;&amp;acy;&amp;rcy;&amp;tcy;&amp;icy;&amp;ncy;&amp;kcy;&amp;acy;"/>
          <p:cNvPicPr/>
          <p:nvPr/>
        </p:nvPicPr>
        <p:blipFill>
          <a:blip r:embed="rId2"/>
          <a:stretch/>
        </p:blipFill>
        <p:spPr>
          <a:xfrm>
            <a:off x="3379680" y="4508640"/>
            <a:ext cx="195264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Опрацювати матеріал §§ 9–10 (п. 4-5) підручник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Знайти повідомлення засобів масової інформації про різні правопорушення та визначити їх вид, форму вини, склад правопорушення.*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Скласти самостійно правову задачу і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проаналізувати її.**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Picture 2" descr="&amp;Kcy;&amp;acy;&amp;rcy;&amp;tcy;&amp;icy;&amp;ncy;&amp;kcy;&amp;icy; &amp;dcy;&amp;lcy;&amp;yacy; &amp;shcy;&amp;kcy;&amp;ocy;&amp;lcy;&amp;ycy;"/>
          <p:cNvPicPr/>
          <p:nvPr/>
        </p:nvPicPr>
        <p:blipFill>
          <a:blip r:embed="rId2"/>
          <a:stretch/>
        </p:blipFill>
        <p:spPr>
          <a:xfrm>
            <a:off x="539640" y="260280"/>
            <a:ext cx="10670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лан уроку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1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1828"/>
                </a:solidFill>
                <a:latin typeface="Calibri"/>
              </a:rPr>
              <a:t>1. Поняття правопорушення та його склад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31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1828"/>
                </a:solidFill>
                <a:latin typeface="Calibri"/>
              </a:rPr>
              <a:t>2. Види правопорушен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Перегляньте план уроку та визначте, що ви зн</a:t>
            </a:r>
            <a:r>
              <a:rPr b="0" i="1" lang="uk-UA" sz="3200" spc="-1" strike="noStrike">
                <a:solidFill>
                  <a:srgbClr val="ffffff"/>
                </a:solidFill>
                <a:latin typeface="Calibri"/>
              </a:rPr>
              <a:t>є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те з </a:t>
            </a:r>
            <a:r>
              <a:rPr b="0" i="1" lang="uk-UA" sz="3200" spc="-1" strike="noStrike">
                <a:solidFill>
                  <a:srgbClr val="ffffff"/>
                </a:solidFill>
                <a:latin typeface="Calibri"/>
              </a:rPr>
              <a:t>цієї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теми, що вас цікавить та чого ви бажаєте навчитись, опрацьовуючи матеріал урок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Очікувані результат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Схема 3" descr=""/>
          <p:cNvPicPr/>
          <p:nvPr/>
        </p:nvPicPr>
        <p:blipFill>
          <a:blip r:embed="rId2"/>
          <a:stretch/>
        </p:blipFill>
        <p:spPr>
          <a:xfrm>
            <a:off x="603360" y="1322280"/>
            <a:ext cx="786420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3260c"/>
                </a:solidFill>
                <a:latin typeface="Calibri"/>
              </a:rPr>
              <a:t>Після цього уроку ви зможет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вати визначення правопорушення та називати його види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водити приклади правопорушень;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озкривати зміст поняття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склад правопорушення,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характеризувати його елемент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000" spc="-1" strike="noStrike">
                <a:solidFill>
                  <a:srgbClr val="c3260c"/>
                </a:solidFill>
                <a:latin typeface="Calibri"/>
              </a:rPr>
              <a:t>Алгоритм конструювання понятт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Спочатку дайте відповідь на головне питання схеми: </a:t>
            </a:r>
            <a:r>
              <a:rPr b="0" i="1" lang="ru-RU" sz="2700" spc="-1" strike="noStrike">
                <a:solidFill>
                  <a:srgbClr val="ffffff"/>
                </a:solidFill>
                <a:latin typeface="Calibri"/>
              </a:rPr>
              <a:t> що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таке правопорушення?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Далі з'ясуйте деякі ознаки, тобто дайте відповідь на питання    </a:t>
            </a:r>
            <a:r>
              <a:rPr b="0" i="1" lang="uk-UA" sz="2700" spc="-1" strike="noStrike">
                <a:solidFill>
                  <a:srgbClr val="ffffff"/>
                </a:solidFill>
                <a:latin typeface="Calibri"/>
              </a:rPr>
              <a:t>яке?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Завершуючи роботу, пригадайте, яким відносинам завдає шкоди </a:t>
            </a:r>
            <a:r>
              <a:rPr b="0" lang="uk-UA" sz="2700" spc="-1" strike="noStrike">
                <a:solidFill>
                  <a:srgbClr val="ffffff"/>
                </a:solidFill>
                <a:latin typeface="Calibri"/>
              </a:rPr>
              <a:t>правопорушення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Наостанок прочитайте визначення терміна так, як воно подане на схемі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Правопорушення-ц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Объект 3" descr=""/>
          <p:cNvPicPr/>
          <p:nvPr/>
        </p:nvPicPr>
        <p:blipFill>
          <a:blip r:embed="rId2"/>
          <a:stretch/>
        </p:blipFill>
        <p:spPr>
          <a:xfrm>
            <a:off x="463680" y="1620720"/>
            <a:ext cx="824220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Правопорушення-ц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078800" y="3933720"/>
            <a:ext cx="179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Суспільно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d0d0d"/>
                </a:solidFill>
                <a:latin typeface="Calibri"/>
              </a:rPr>
              <a:t>небезпеч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3260c"/>
                </a:solidFill>
                <a:latin typeface="Calibri"/>
              </a:rPr>
              <a:t>Склад правопорушенн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2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Робота з поняттям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31828"/>
                </a:solidFill>
                <a:latin typeface="Calibri"/>
              </a:rPr>
              <a:t>Для суб’єктів притаманна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Осудність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Вина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318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31828"/>
                </a:solidFill>
                <a:latin typeface="Calibri"/>
              </a:rPr>
              <a:t>Суб’єктивна сторона має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Умисел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Необережність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Мотив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Мета -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5:14:21Z</dcterms:created>
  <dc:creator>Оля</dc:creator>
  <dc:description/>
  <dc:language>en-US</dc:language>
  <cp:lastModifiedBy>Admin</cp:lastModifiedBy>
  <dcterms:modified xsi:type="dcterms:W3CDTF">2013-10-21T06:55:47Z</dcterms:modified>
  <cp:revision>16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4140</vt:lpwstr>
  </property>
</Properties>
</file>