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7126-40F3-4296-9D84-D6618DFBB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BBB6-798D-47C1-9609-818C2B54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04AF-01EE-4974-BC4E-A88BB01DC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5A0D-D812-43A9-BEF0-1CABC916C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5D33-34F2-4F80-9C2B-20AEDF59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B4E5-6FFD-4499-9777-CC7E4786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620F-4B38-48B2-BA6B-EC5AEB8A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1251-3521-4092-9392-F53555D6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57F0-18F3-4565-87F2-30330EF3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E274-46CD-45B7-8CFA-CD75DB2A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8EF3-F5D8-45A6-AC41-EA585F3A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C6D1-2BFF-4031-AEC6-ED0867A4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4845-7602-4EA9-A42D-30B71A364B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33591-facebook-b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Донецька загальноосвітня школа І – ІІІ  ступенів  №89</a:t>
            </a:r>
            <a:br>
              <a:rPr sz="2400"/>
            </a:b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Донецької  міської  ради  Донецької  обла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160" y="205704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Урок з основ правознав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для 9 кла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Times New Roman"/>
              </a:rPr>
              <a:t>“ </a:t>
            </a:r>
            <a:r>
              <a:rPr b="1" lang="uk-UA" sz="4000" spc="-1" strike="noStrike">
                <a:solidFill>
                  <a:srgbClr val="ff0000"/>
                </a:solidFill>
                <a:latin typeface="Times New Roman"/>
              </a:rPr>
              <a:t>Ти - людина, значить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Times New Roman"/>
              </a:rPr>
              <a:t>маєш права 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490560" y="6172200"/>
            <a:ext cx="19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</a:rPr>
              <a:t>ДОНЕЦЬК 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4917600" y="4724280"/>
            <a:ext cx="394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</a:rPr>
              <a:t>Підготувала учитель правознав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</a:rPr>
              <a:t>Попович Ірина Володимирі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33591-facebook-b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pic>
        <p:nvPicPr>
          <p:cNvPr id="78" name="СВОЛОЧИ - YouTube-сегмент1(00-00-42-00-03-25).avi" descr=""/>
          <p:cNvPicPr/>
          <p:nvPr/>
        </p:nvPicPr>
        <p:blipFill>
          <a:blip r:embed="rId2"/>
          <a:stretch/>
        </p:blipFill>
        <p:spPr>
          <a:xfrm>
            <a:off x="0" y="171360"/>
            <a:ext cx="9169560" cy="65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63256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evt="end">
                                        <p:tn val="41"/>
                                      </p:cond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evt="end">
                                        <p:tn val="47"/>
                                      </p:cond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жестокий романс - YouTube.avi" descr=""/>
          <p:cNvPicPr/>
          <p:nvPr/>
        </p:nvPicPr>
        <p:blipFill>
          <a:blip r:embed="rId1"/>
          <a:stretch/>
        </p:blipFill>
        <p:spPr>
          <a:xfrm>
            <a:off x="-1752480" y="3581280"/>
            <a:ext cx="1295280" cy="728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33591-facebook-b"/>
          <p:cNvPicPr/>
          <p:nvPr/>
        </p:nvPicPr>
        <p:blipFill>
          <a:blip r:embed="rId2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16274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evt="end">
                                        <p:tn val="54"/>
                                      </p:cond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1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evt="end">
                                        <p:tn val="60"/>
                                      </p:cond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Беспризорники.avi" descr=""/>
          <p:cNvPicPr/>
          <p:nvPr/>
        </p:nvPicPr>
        <p:blipFill>
          <a:blip r:embed="rId1"/>
          <a:stretch/>
        </p:blipFill>
        <p:spPr>
          <a:xfrm>
            <a:off x="-1447920" y="3352680"/>
            <a:ext cx="1447920" cy="1086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33591-facebook-b"/>
          <p:cNvPicPr/>
          <p:nvPr/>
        </p:nvPicPr>
        <p:blipFill>
          <a:blip r:embed="rId2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254297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evt="end">
                                        <p:tn val="67"/>
                                      </p:cond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evt="end">
                                        <p:tn val="73"/>
                                      </p:cond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33591-facebook-b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81720" y="611280"/>
            <a:ext cx="90565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6600"/>
                </a:solidFill>
                <a:latin typeface="Arial"/>
              </a:rPr>
              <a:t>У статті 24 Конституції України записано</a:t>
            </a:r>
            <a:r>
              <a:rPr b="0" lang="uk-UA" sz="2800" spc="-1" strike="noStrike">
                <a:solidFill>
                  <a:srgbClr val="ff66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«Рівність прав жінки та чоловіка забезпечуєтьс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наданням жінкам рівних з чоловіками можливостей 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громадсько-політичній ті культурній діяльності, 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здобутті освіти і професійній підготовці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у праці та винагороді за неї; спеціальними заход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щодо охорони праці і здоров’я жінок, встановлення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пенсійних пільг; створенням умов, які дають жінк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можливість поєднувати працю з материнство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правовим захистом, матеріальною і морально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підтримкою материнства і дитинства, включаюч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надання оплачуваних відпусток та інших піль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вагітним жінкам і матеря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33591-facebook-b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ЗУ «Про забезпечення рівних прав і рівних можливостей жінок і чоловіків», який вступив у силу 1 січня 2006 року і передбачає покарання за дискримінацію за статевою ознакою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33591-facebook-b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Л"/>
          <p:cNvPicPr/>
          <p:nvPr/>
        </p:nvPicPr>
        <p:blipFill>
          <a:blip r:embed="rId2"/>
          <a:stretch/>
        </p:blipFill>
        <p:spPr>
          <a:xfrm>
            <a:off x="228600" y="0"/>
            <a:ext cx="1932120" cy="281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Marko Vovchok 2"/>
          <p:cNvPicPr/>
          <p:nvPr/>
        </p:nvPicPr>
        <p:blipFill>
          <a:blip r:embed="rId3"/>
          <a:stretch/>
        </p:blipFill>
        <p:spPr>
          <a:xfrm>
            <a:off x="3505320" y="0"/>
            <a:ext cx="2008080" cy="30481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7"/>
          <p:cNvSpPr/>
          <p:nvPr/>
        </p:nvSpPr>
        <p:spPr>
          <a:xfrm>
            <a:off x="228600" y="2819520"/>
            <a:ext cx="1992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Леся Украї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3505320" y="2666880"/>
            <a:ext cx="1992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арко Вовч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Ліна костенко"/>
          <p:cNvPicPr/>
          <p:nvPr/>
        </p:nvPicPr>
        <p:blipFill>
          <a:blip r:embed="rId4"/>
          <a:stretch/>
        </p:blipFill>
        <p:spPr>
          <a:xfrm>
            <a:off x="152280" y="3429000"/>
            <a:ext cx="3810240" cy="23814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4"/>
          <p:cNvSpPr/>
          <p:nvPr/>
        </p:nvSpPr>
        <p:spPr>
          <a:xfrm>
            <a:off x="228600" y="5791320"/>
            <a:ext cx="3733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Ліна Кост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5" descr="ada-rogovceva1"/>
          <p:cNvPicPr/>
          <p:nvPr/>
        </p:nvPicPr>
        <p:blipFill>
          <a:blip r:embed="rId5"/>
          <a:stretch/>
        </p:blipFill>
        <p:spPr>
          <a:xfrm>
            <a:off x="6858000" y="0"/>
            <a:ext cx="1952640" cy="2857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Оксана Забужко"/>
          <p:cNvPicPr/>
          <p:nvPr/>
        </p:nvPicPr>
        <p:blipFill>
          <a:blip r:embed="rId6"/>
          <a:stretch/>
        </p:blipFill>
        <p:spPr>
          <a:xfrm>
            <a:off x="4952880" y="3352680"/>
            <a:ext cx="3733920" cy="28004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1"/>
          <p:cNvSpPr/>
          <p:nvPr/>
        </p:nvSpPr>
        <p:spPr>
          <a:xfrm>
            <a:off x="4952880" y="5791320"/>
            <a:ext cx="3733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ксана Забуж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6858000" y="2666880"/>
            <a:ext cx="1992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да Роговц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33591-facebook-b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399px-Valentina_Matviyenko"/>
          <p:cNvPicPr/>
          <p:nvPr/>
        </p:nvPicPr>
        <p:blipFill>
          <a:blip r:embed="rId2"/>
          <a:stretch/>
        </p:blipFill>
        <p:spPr>
          <a:xfrm>
            <a:off x="5867280" y="3505320"/>
            <a:ext cx="2030400" cy="3047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431px-Margaret_Thatcher"/>
          <p:cNvPicPr/>
          <p:nvPr/>
        </p:nvPicPr>
        <p:blipFill>
          <a:blip r:embed="rId3"/>
          <a:stretch/>
        </p:blipFill>
        <p:spPr>
          <a:xfrm>
            <a:off x="228600" y="0"/>
            <a:ext cx="2189160" cy="3048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Ангела Меркель4"/>
          <p:cNvPicPr/>
          <p:nvPr/>
        </p:nvPicPr>
        <p:blipFill>
          <a:blip r:embed="rId4"/>
          <a:stretch/>
        </p:blipFill>
        <p:spPr>
          <a:xfrm>
            <a:off x="6553080" y="0"/>
            <a:ext cx="2314800" cy="3086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Indira2"/>
          <p:cNvPicPr/>
          <p:nvPr/>
        </p:nvPicPr>
        <p:blipFill>
          <a:blip r:embed="rId5"/>
          <a:stretch/>
        </p:blipFill>
        <p:spPr>
          <a:xfrm>
            <a:off x="3429000" y="0"/>
            <a:ext cx="2139840" cy="3200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Тимошенко"/>
          <p:cNvPicPr/>
          <p:nvPr/>
        </p:nvPicPr>
        <p:blipFill>
          <a:blip r:embed="rId6"/>
          <a:stretch/>
        </p:blipFill>
        <p:spPr>
          <a:xfrm>
            <a:off x="1523880" y="3505320"/>
            <a:ext cx="2055960" cy="30859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74628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3429000" y="2819520"/>
            <a:ext cx="2133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Індіра Ган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228600" y="2666880"/>
            <a:ext cx="2209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аргарет Тетч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6553080" y="2743200"/>
            <a:ext cx="228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нгела Мерк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523880" y="6216480"/>
            <a:ext cx="2057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Юлія Тимош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5867280" y="6172200"/>
            <a:ext cx="2133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алентина Матвіє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28" descr="33591-facebook-b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380880" y="380880"/>
          <a:ext cx="8229600" cy="6431040"/>
        </p:xfrm>
        <a:graphic>
          <a:graphicData uri="http://schemas.openxmlformats.org/drawingml/2006/table">
            <a:tbl>
              <a:tblPr/>
              <a:tblGrid>
                <a:gridCol w="486000"/>
                <a:gridCol w="3859200"/>
                <a:gridCol w="3884400"/>
              </a:tblGrid>
              <a:tr h="60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Sylfae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итання анке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ідсоток жінок, що відповіли на питання позитив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31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Чи стикались ви особисто з насильством у родині? у тому числі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31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з фізичним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31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з моральни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Чи залежите ви фінансово від чоловіка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Чи страждаєте ви від пияцтва чоловіка? У тому числі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орально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ізич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4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0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анжуйте наступні поняття. Яке з них буде для вас на першій позиції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0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обот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0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хобі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0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ім'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0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рузі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анжуйте наступні поняття. Яке з них буде для вас на другій позиції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обот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хобі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ім'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рузі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5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33591-facebook-b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2" descr=""/>
          <p:cNvPicPr/>
          <p:nvPr/>
        </p:nvPicPr>
        <p:blipFill>
          <a:blip r:embed="rId2"/>
          <a:srcRect l="0" t="0" r="18" b="0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227520" y="152280"/>
            <a:ext cx="381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0066"/>
                </a:solidFill>
                <a:latin typeface="Arial"/>
              </a:rPr>
              <a:t>«</a:t>
            </a:r>
            <a:r>
              <a:rPr b="1" i="1" lang="uk-UA" sz="1800" spc="-1" strike="noStrike">
                <a:solidFill>
                  <a:srgbClr val="660066"/>
                </a:solidFill>
                <a:latin typeface="Arial"/>
              </a:rPr>
              <a:t>Світ тримається на ніжн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60066"/>
                </a:solidFill>
                <a:latin typeface="Arial"/>
              </a:rPr>
              <a:t>руках жінок.</a:t>
            </a:r>
            <a:r>
              <a:rPr b="1" i="1" lang="en-US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660066"/>
                </a:solidFill>
                <a:latin typeface="Arial"/>
              </a:rPr>
              <a:t>Що буде зі світ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660066"/>
                </a:solidFill>
                <a:latin typeface="Arial"/>
              </a:rPr>
              <a:t>якщо вони втомляться?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8" descr="33591-facebook-b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18" name="Oval 4"/>
          <p:cNvSpPr/>
          <p:nvPr/>
        </p:nvSpPr>
        <p:spPr>
          <a:xfrm>
            <a:off x="2209680" y="2438280"/>
            <a:ext cx="449604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РАВА ДЛЯ МЕНЕ - 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7240320" y="23623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СОН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34960" y="297180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ПОСМІ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9" descr="dd94d9c0_1"/>
          <p:cNvPicPr/>
          <p:nvPr/>
        </p:nvPicPr>
        <p:blipFill>
          <a:blip r:embed="rId2"/>
          <a:stretch/>
        </p:blipFill>
        <p:spPr>
          <a:xfrm>
            <a:off x="6629400" y="1143000"/>
            <a:ext cx="2305080" cy="1830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0" descr="el_sys_06"/>
          <p:cNvPicPr/>
          <p:nvPr/>
        </p:nvPicPr>
        <p:blipFill>
          <a:blip r:embed="rId3"/>
          <a:stretch/>
        </p:blipFill>
        <p:spPr>
          <a:xfrm>
            <a:off x="4191120" y="228600"/>
            <a:ext cx="2286000" cy="1790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1" descr="росток"/>
          <p:cNvPicPr/>
          <p:nvPr/>
        </p:nvPicPr>
        <p:blipFill>
          <a:blip r:embed="rId4"/>
          <a:stretch/>
        </p:blipFill>
        <p:spPr>
          <a:xfrm>
            <a:off x="4267080" y="5191200"/>
            <a:ext cx="1704960" cy="1666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2" descr="конституция"/>
          <p:cNvPicPr/>
          <p:nvPr/>
        </p:nvPicPr>
        <p:blipFill>
          <a:blip r:embed="rId5"/>
          <a:stretch/>
        </p:blipFill>
        <p:spPr>
          <a:xfrm>
            <a:off x="914400" y="472428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5" descr="630544_327719"/>
          <p:cNvPicPr/>
          <p:nvPr/>
        </p:nvPicPr>
        <p:blipFill>
          <a:blip r:embed="rId6"/>
          <a:stretch/>
        </p:blipFill>
        <p:spPr>
          <a:xfrm>
            <a:off x="7010280" y="4191120"/>
            <a:ext cx="1694160" cy="2433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6" descr="kreslomeshok-smile1-450x600"/>
          <p:cNvPicPr/>
          <p:nvPr/>
        </p:nvPicPr>
        <p:blipFill>
          <a:blip r:embed="rId7"/>
          <a:stretch/>
        </p:blipFill>
        <p:spPr>
          <a:xfrm>
            <a:off x="304920" y="2057400"/>
            <a:ext cx="1771560" cy="2362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7" descr="poslushnye-deti-radost-no"/>
          <p:cNvPicPr/>
          <p:nvPr/>
        </p:nvPicPr>
        <p:blipFill>
          <a:blip r:embed="rId8"/>
          <a:stretch/>
        </p:blipFill>
        <p:spPr>
          <a:xfrm>
            <a:off x="990720" y="228600"/>
            <a:ext cx="25146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33591-facebook-b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876920" y="228240"/>
            <a:ext cx="40384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Ти знаєш, що ти – люд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Ти знаєш про це, чи ні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Усмішка твоя – єди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Мука твоя – єди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Очі твої – одн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Більше тебе не бу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Завтра на цій земл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Інші ходитимуть люд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Інші кохатимуть люди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Добрі, ласкаві й зл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Сьогодні усе для тебе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Озера, гаї, степ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І жити спішити треба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Гляди ж не просп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Бо ти на землі – люди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І хочеш того чи ні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Усмішка твоя єди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Мука твоя єди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Очі твої – одні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В. Симон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симоненко"/>
          <p:cNvPicPr/>
          <p:nvPr/>
        </p:nvPicPr>
        <p:blipFill>
          <a:blip r:embed="rId2"/>
          <a:stretch/>
        </p:blipFill>
        <p:spPr>
          <a:xfrm>
            <a:off x="228600" y="990720"/>
            <a:ext cx="4470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33591-facebook-b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33591-facebook-b"/>
          <p:cNvPicPr/>
          <p:nvPr/>
        </p:nvPicPr>
        <p:blipFill>
          <a:blip r:embed="rId2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СТАНЬ </a:t>
            </a:r>
            <a:br>
              <a:rPr sz="4800"/>
            </a:b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СПРАВЖНЬОЮ</a:t>
            </a: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8000" spc="-1" strike="noStrike">
                <a:solidFill>
                  <a:srgbClr val="ff0000"/>
                </a:solidFill>
                <a:latin typeface="Arial"/>
              </a:rPr>
              <a:t>ЛЮДИНОЮ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53380"/>
          <p:cNvPicPr/>
          <p:nvPr/>
        </p:nvPicPr>
        <p:blipFill>
          <a:blip r:embed="rId3"/>
          <a:stretch/>
        </p:blipFill>
        <p:spPr>
          <a:xfrm>
            <a:off x="0" y="-304920"/>
            <a:ext cx="21430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33591-facebook-b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6600"/>
                </a:solidFill>
                <a:latin typeface="Arial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Вивчити пам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ятку «Права та обов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язки учні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Сторінка 84, завдання 2 (знайдіть помилки у реченнях), письм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Складіть письмову пропозицію щодо вдосконалення навчання у нашій школі – своєрідний статут, творчо його оформі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33591-facebook-b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762120" y="304920"/>
            <a:ext cx="352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Дев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҆ яте груд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Класна ро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219320" y="1295280"/>
            <a:ext cx="624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6600"/>
                </a:solidFill>
                <a:latin typeface="Arial"/>
              </a:rPr>
              <a:t>Ти - людина, значить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6600"/>
                </a:solidFill>
                <a:latin typeface="Arial"/>
              </a:rPr>
              <a:t>маєш права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0" y="2749680"/>
            <a:ext cx="883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2080" indent="-143208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6600"/>
                </a:solidFill>
                <a:latin typeface="Arial"/>
              </a:rPr>
              <a:t>Мета навчальна: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перевірити, поглибити, систематизувати і закріпити знання учнів, оцінити навчальні досягн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32080" indent="-143208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6600"/>
                </a:solidFill>
                <a:latin typeface="Arial"/>
              </a:rPr>
              <a:t>Мета розвивальна: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розвивати вміння роботи в групах, роботи з документами, закріпити здатність вирізняти і помічати порушення прав у наведених ситуаціях,систематизувати пра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32080" indent="-143208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6600"/>
                </a:solidFill>
                <a:latin typeface="Arial"/>
              </a:rPr>
              <a:t>Мета виховна: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виховувати активну життєву позицію, патріотизм, гуманізм, гендерну толерантні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33591-facebook-b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6600"/>
                </a:solidFill>
                <a:latin typeface="Arial"/>
              </a:rPr>
              <a:t>Права людини -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Це можливості, які окреслюють простір вільної від втручання держави діяльності людини, це основні стандарти, без яких люди не можуть жити з відчуттям своєї гіднос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33591-facebook-b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0" y="98496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6600"/>
                </a:solidFill>
                <a:latin typeface="Times New Roman"/>
              </a:rPr>
              <a:t>Конституція</a:t>
            </a: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uk-UA" sz="2400" spc="-1" strike="noStrike">
                <a:solidFill>
                  <a:srgbClr val="ffff00"/>
                </a:solidFill>
                <a:latin typeface="Times New Roman"/>
              </a:rPr>
              <a:t>це основний закон держави, нормативно-правовий акт вищої юридичної сили, який закріплює основи правового статусу особистості, основи політичного та правового ладу певної країни та інші найважливіші пит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6600"/>
                </a:solidFill>
                <a:latin typeface="Times New Roman"/>
              </a:rPr>
              <a:t>Закон</a:t>
            </a: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uk-UA" sz="2400" spc="-1" strike="noStrike">
                <a:solidFill>
                  <a:srgbClr val="ffff00"/>
                </a:solidFill>
                <a:latin typeface="Times New Roman"/>
              </a:rPr>
              <a:t>нормативно-правовий акт вищої юридичної си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ffff00"/>
                </a:solidFill>
                <a:latin typeface="Times New Roman"/>
              </a:rPr>
              <a:t>прийнятий вищим представницьким органом державної влади, загальнообов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0" lang="uk-UA" sz="2400" spc="-1" strike="noStrike">
                <a:solidFill>
                  <a:srgbClr val="ffff00"/>
                </a:solidFill>
                <a:latin typeface="Times New Roman"/>
              </a:rPr>
              <a:t>язковий для виконання усі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Times New Roman"/>
              </a:rPr>
              <a:t>ЗУ « Про охорону дитинств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6600"/>
                </a:solidFill>
                <a:latin typeface="Times New Roman"/>
              </a:rPr>
              <a:t>Конвенція ООН про права дитини</a:t>
            </a: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uk-UA" sz="2400" spc="-1" strike="noStrike">
                <a:solidFill>
                  <a:srgbClr val="ffff00"/>
                </a:solidFill>
                <a:latin typeface="Times New Roman"/>
              </a:rPr>
              <a:t>угода, міжнародний договір з певних пита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6600"/>
                </a:solidFill>
                <a:latin typeface="Times New Roman"/>
              </a:rPr>
              <a:t>Загальна декларація прав людини</a:t>
            </a: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uk-UA" sz="2400" spc="-1" strike="noStrike">
                <a:solidFill>
                  <a:srgbClr val="ffff00"/>
                </a:solidFill>
                <a:latin typeface="Times New Roman"/>
              </a:rPr>
              <a:t>документ, у якому викладено важливі правила, обов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0" lang="uk-UA" sz="2400" spc="-1" strike="noStrike">
                <a:solidFill>
                  <a:srgbClr val="ffff00"/>
                </a:solidFill>
                <a:latin typeface="Times New Roman"/>
              </a:rPr>
              <a:t>язки для всі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6600"/>
                </a:solidFill>
                <a:latin typeface="Times New Roman"/>
              </a:rPr>
              <a:t>Міжнародний пакт про економічні, соціальні і культурні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6600"/>
                </a:solidFill>
                <a:latin typeface="Times New Roman"/>
              </a:rPr>
              <a:t>Хартія прав люд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6600"/>
                </a:solidFill>
                <a:latin typeface="Times New Roman"/>
              </a:rPr>
              <a:t>НОРМАТИВНІ ДОКУМЕН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5" descr="33591-facebook-b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61" name="Oval 4"/>
          <p:cNvSpPr/>
          <p:nvPr/>
        </p:nvSpPr>
        <p:spPr>
          <a:xfrm>
            <a:off x="1600200" y="2438280"/>
            <a:ext cx="563868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669760" y="2895480"/>
            <a:ext cx="351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Права люд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 flipV="1">
            <a:off x="5715000" y="182844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 flipH="1" flipV="1">
            <a:off x="1752120" y="1752120"/>
            <a:ext cx="7621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 flipH="1">
            <a:off x="1828440" y="388620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>
            <a:off x="5562720" y="4038480"/>
            <a:ext cx="1295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5562000" y="914400"/>
            <a:ext cx="317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Особист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(громадянські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6324840" y="4876920"/>
            <a:ext cx="213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Політич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457200" y="4952880"/>
            <a:ext cx="26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Соціально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економіч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728640" y="1077840"/>
            <a:ext cx="22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Культур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33591-facebook-b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pic>
        <p:nvPicPr>
          <p:cNvPr id="72" name="Огласите весь список - YouTube.avi" descr=""/>
          <p:cNvPicPr/>
          <p:nvPr/>
        </p:nvPicPr>
        <p:blipFill>
          <a:blip r:embed="rId2"/>
          <a:stretch/>
        </p:blipFill>
        <p:spPr>
          <a:xfrm>
            <a:off x="-109440" y="-231840"/>
            <a:ext cx="9253440" cy="70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28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7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evt="end">
                                        <p:tn val="11"/>
                                      </p:cond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33591-facebook-b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pic>
        <p:nvPicPr>
          <p:cNvPr id="74" name="Кавказская пленница - Кража невесты - YouTube.avi" descr=""/>
          <p:cNvPicPr/>
          <p:nvPr/>
        </p:nvPicPr>
        <p:blipFill>
          <a:blip r:embed="rId2"/>
          <a:stretch/>
        </p:blipFill>
        <p:spPr>
          <a:xfrm>
            <a:off x="304920" y="3962520"/>
            <a:ext cx="1371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860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20" dur="1" fill="hold">
                                    <p:stCondLst>
                                      <p:cond evt="end">
                                        <p:tn val="18"/>
                                      </p:cond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evt="end">
                                        <p:tn val="21"/>
                                      </p:cond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8" descr="33591-facebook-b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pic>
        <p:nvPicPr>
          <p:cNvPr id="76" name="Служебный роман - YouTube-сегмент1(00-00-00-00-00-57).avi" descr=""/>
          <p:cNvPicPr/>
          <p:nvPr/>
        </p:nvPicPr>
        <p:blipFill>
          <a:blip r:embed="rId2"/>
          <a:stretch/>
        </p:blipFill>
        <p:spPr>
          <a:xfrm>
            <a:off x="1143000" y="1066680"/>
            <a:ext cx="6400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57037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evt="end">
                                        <p:tn val="28"/>
                                      </p:cond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evt="end">
                                        <p:tn val="34"/>
                                      </p:cond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12:55:09Z</dcterms:created>
  <dc:creator>build</dc:creator>
  <dc:description/>
  <dc:language>en-US</dc:language>
  <cp:lastModifiedBy>User</cp:lastModifiedBy>
  <dcterms:modified xsi:type="dcterms:W3CDTF">2011-12-08T17:46:34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09000000000001024140</vt:lpwstr>
  </property>
  <property fmtid="{D5CDD505-2E9C-101B-9397-08002B2CF9AE}" pid="3" name="Version">
    <vt:r8>1</vt:r8>
  </property>
</Properties>
</file>