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A2F-F2A3-4CC4-97A3-73A82207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DF1-DEE8-4BCA-8A59-72586A16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821-53D7-44C7-8AF0-522FB9AA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59E-EC40-4F01-99C5-D4B0F574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8A94-D184-44EF-902E-5C0E4E0D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B4F-3CE1-4677-B6CA-08BA1628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154-A482-4977-A434-107085CB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260-86C2-4490-B527-648ED190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B29-FCA4-4F4A-A33B-F3B1AC2D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F17-FDD8-4016-98C5-AB83C9A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60D-A24E-41E1-B6B9-94B91B28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E2F9-FA32-498D-BAAB-F9A756F9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BC55-758F-4492-9A91-B0D5A0380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ка загальноосвітня школа І – ІІІ  ступенів  №89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Донецької  міської  ради  Донецької  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рок з основ правознав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для 9 кла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“ </a:t>
            </a: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Ти - людина, значить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Times New Roman"/>
              </a:rPr>
              <a:t>маєш права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90560" y="61722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ДОНЕЦЬК 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4917600" y="4724280"/>
            <a:ext cx="39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ідготувала учитель правознав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imes New Roman"/>
              </a:rPr>
              <a:t>Попович Ірина Володими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8" name="СВОЛОЧИ - YouTube-сегмент1(00-00-42-00-03-25).avi" descr=""/>
          <p:cNvPicPr/>
          <p:nvPr/>
        </p:nvPicPr>
        <p:blipFill>
          <a:blip r:embed="rId2"/>
          <a:stretch/>
        </p:blipFill>
        <p:spPr>
          <a:xfrm>
            <a:off x="0" y="171360"/>
            <a:ext cx="916956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6325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жестокий романс - YouTube.avi" descr=""/>
          <p:cNvPicPr/>
          <p:nvPr/>
        </p:nvPicPr>
        <p:blipFill>
          <a:blip r:embed="rId1"/>
          <a:stretch/>
        </p:blipFill>
        <p:spPr>
          <a:xfrm>
            <a:off x="-1752480" y="3581280"/>
            <a:ext cx="1295280" cy="728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6274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evt="end">
                                        <p:tn val="54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Беспризорники.avi" descr=""/>
          <p:cNvPicPr/>
          <p:nvPr/>
        </p:nvPicPr>
        <p:blipFill>
          <a:blip r:embed="rId1"/>
          <a:stretch/>
        </p:blipFill>
        <p:spPr>
          <a:xfrm>
            <a:off x="-1447920" y="33526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5429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81720" y="611280"/>
            <a:ext cx="9056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6600"/>
                </a:solidFill>
                <a:latin typeface="Arial"/>
              </a:rPr>
              <a:t>У статті 24 Конституції України записано</a:t>
            </a:r>
            <a:r>
              <a:rPr b="0" lang="uk-UA" sz="2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«Рівність прав жінки та чоловіка забезпечуєть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наданням жінкам рівних з чоловіками можливостей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громадсько-політичній ті культурній діяльності,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здобутті освіти і професійній підготовці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у праці та винагороді за неї; спеціальними заход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щодо охорони праці і здоров’я жінок, встановлення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енсійних пільг; створенням умов, які дають жінк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можливість поєднувати працю з материнство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равовим захистом, матеріальною і морально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підтримкою материнства і дитинства, включаюч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надання оплачуваних відпусток та інших піль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вагітним жінкам і матер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ЗУ «Про забезпечення рівних прав і рівних можливостей жінок і чоловіків», який вступив у силу 1 січня 2006 року і передбачає покарання за дискримінацію за статевою ознакою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Л"/>
          <p:cNvPicPr/>
          <p:nvPr/>
        </p:nvPicPr>
        <p:blipFill>
          <a:blip r:embed="rId2"/>
          <a:stretch/>
        </p:blipFill>
        <p:spPr>
          <a:xfrm>
            <a:off x="228600" y="0"/>
            <a:ext cx="1932120" cy="281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Marko Vovchok 2"/>
          <p:cNvPicPr/>
          <p:nvPr/>
        </p:nvPicPr>
        <p:blipFill>
          <a:blip r:embed="rId3"/>
          <a:stretch/>
        </p:blipFill>
        <p:spPr>
          <a:xfrm>
            <a:off x="3505320" y="0"/>
            <a:ext cx="200808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228600" y="281952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еся Украї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505320" y="266688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рко Вов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Ліна костенко"/>
          <p:cNvPicPr/>
          <p:nvPr/>
        </p:nvPicPr>
        <p:blipFill>
          <a:blip r:embed="rId4"/>
          <a:stretch/>
        </p:blipFill>
        <p:spPr>
          <a:xfrm>
            <a:off x="152280" y="3429000"/>
            <a:ext cx="3810240" cy="2381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"/>
          <p:cNvSpPr/>
          <p:nvPr/>
        </p:nvSpPr>
        <p:spPr>
          <a:xfrm>
            <a:off x="228600" y="579132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Ліна Кост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ada-rogovceva1"/>
          <p:cNvPicPr/>
          <p:nvPr/>
        </p:nvPicPr>
        <p:blipFill>
          <a:blip r:embed="rId5"/>
          <a:stretch/>
        </p:blipFill>
        <p:spPr>
          <a:xfrm>
            <a:off x="6858000" y="0"/>
            <a:ext cx="1952640" cy="285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Оксана Забужко"/>
          <p:cNvPicPr/>
          <p:nvPr/>
        </p:nvPicPr>
        <p:blipFill>
          <a:blip r:embed="rId6"/>
          <a:stretch/>
        </p:blipFill>
        <p:spPr>
          <a:xfrm>
            <a:off x="4952880" y="33526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1"/>
          <p:cNvSpPr/>
          <p:nvPr/>
        </p:nvSpPr>
        <p:spPr>
          <a:xfrm>
            <a:off x="4952880" y="5791320"/>
            <a:ext cx="3733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ксана Забуж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858000" y="2666880"/>
            <a:ext cx="1992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да Роговц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399px-Valentina_Matviyenko"/>
          <p:cNvPicPr/>
          <p:nvPr/>
        </p:nvPicPr>
        <p:blipFill>
          <a:blip r:embed="rId2"/>
          <a:stretch/>
        </p:blipFill>
        <p:spPr>
          <a:xfrm>
            <a:off x="5867280" y="3505320"/>
            <a:ext cx="2030400" cy="30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431px-Margaret_Thatcher"/>
          <p:cNvPicPr/>
          <p:nvPr/>
        </p:nvPicPr>
        <p:blipFill>
          <a:blip r:embed="rId3"/>
          <a:stretch/>
        </p:blipFill>
        <p:spPr>
          <a:xfrm>
            <a:off x="228600" y="0"/>
            <a:ext cx="2189160" cy="304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Ангела Меркель4"/>
          <p:cNvPicPr/>
          <p:nvPr/>
        </p:nvPicPr>
        <p:blipFill>
          <a:blip r:embed="rId4"/>
          <a:stretch/>
        </p:blipFill>
        <p:spPr>
          <a:xfrm>
            <a:off x="6553080" y="0"/>
            <a:ext cx="23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Indira2"/>
          <p:cNvPicPr/>
          <p:nvPr/>
        </p:nvPicPr>
        <p:blipFill>
          <a:blip r:embed="rId5"/>
          <a:stretch/>
        </p:blipFill>
        <p:spPr>
          <a:xfrm>
            <a:off x="3429000" y="0"/>
            <a:ext cx="213984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Тимошенко"/>
          <p:cNvPicPr/>
          <p:nvPr/>
        </p:nvPicPr>
        <p:blipFill>
          <a:blip r:embed="rId6"/>
          <a:stretch/>
        </p:blipFill>
        <p:spPr>
          <a:xfrm>
            <a:off x="1523880" y="3505320"/>
            <a:ext cx="2055960" cy="3085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74628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429000" y="2819520"/>
            <a:ext cx="2133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Індіра Ган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28600" y="266688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ргарет Тетч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553080" y="2743200"/>
            <a:ext cx="228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нгела Мерк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3880" y="6216480"/>
            <a:ext cx="2057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Юлія Тимоше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8"/>
          <p:cNvSpPr/>
          <p:nvPr/>
        </p:nvSpPr>
        <p:spPr>
          <a:xfrm>
            <a:off x="5867280" y="6172200"/>
            <a:ext cx="2133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алентина Матвієн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380880" y="380880"/>
          <a:ext cx="8229600" cy="6431040"/>
        </p:xfrm>
        <a:graphic>
          <a:graphicData uri="http://schemas.openxmlformats.org/drawingml/2006/table">
            <a:tbl>
              <a:tblPr/>
              <a:tblGrid>
                <a:gridCol w="486000"/>
                <a:gridCol w="3859200"/>
                <a:gridCol w="388440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Sylfae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итання анке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ідсоток жінок, що відповіли на питання позитив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стикались ви особисто з насильством у родині? у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 фізичним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 моральни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залежите ви фінансово від чоловіка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Чи страждаєте ви від пияцтва чоловіка? У тому числі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морально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фіз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6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нжуйте наступні поняття. Яке з них буде для вас на першій позиції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обо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б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ім'я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0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рузі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9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анжуйте наступні поняття. Яке з них буде для вас на другій позиції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робот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обі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ім'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uk-UA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рузі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85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2"/>
          <a:srcRect l="0" t="0" r="18" b="0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227520" y="152280"/>
            <a:ext cx="38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Світ тримається на ніж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руках жінок.</a:t>
            </a:r>
            <a:r>
              <a:rPr b="1" i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Що буде зі світ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660066"/>
                </a:solidFill>
                <a:latin typeface="Arial"/>
              </a:rPr>
              <a:t>якщо вони втомляться?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8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18" name="Oval 4"/>
          <p:cNvSpPr/>
          <p:nvPr/>
        </p:nvSpPr>
        <p:spPr>
          <a:xfrm>
            <a:off x="2209680" y="2438280"/>
            <a:ext cx="449604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АВА ДЛЯ МЕНЕ - 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7240320" y="23623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СОН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34960" y="29718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Arial"/>
              </a:rPr>
              <a:t>ПОСМІ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9" descr="dd94d9c0_1"/>
          <p:cNvPicPr/>
          <p:nvPr/>
        </p:nvPicPr>
        <p:blipFill>
          <a:blip r:embed="rId2"/>
          <a:stretch/>
        </p:blipFill>
        <p:spPr>
          <a:xfrm>
            <a:off x="6629400" y="1143000"/>
            <a:ext cx="2305080" cy="1830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el_sys_06"/>
          <p:cNvPicPr/>
          <p:nvPr/>
        </p:nvPicPr>
        <p:blipFill>
          <a:blip r:embed="rId3"/>
          <a:stretch/>
        </p:blipFill>
        <p:spPr>
          <a:xfrm>
            <a:off x="4191120" y="228600"/>
            <a:ext cx="2286000" cy="1790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1" descr="росток"/>
          <p:cNvPicPr/>
          <p:nvPr/>
        </p:nvPicPr>
        <p:blipFill>
          <a:blip r:embed="rId4"/>
          <a:stretch/>
        </p:blipFill>
        <p:spPr>
          <a:xfrm>
            <a:off x="4267080" y="5191200"/>
            <a:ext cx="1704960" cy="1666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конституция"/>
          <p:cNvPicPr/>
          <p:nvPr/>
        </p:nvPicPr>
        <p:blipFill>
          <a:blip r:embed="rId5"/>
          <a:stretch/>
        </p:blipFill>
        <p:spPr>
          <a:xfrm>
            <a:off x="914400" y="472428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5" descr="630544_327719"/>
          <p:cNvPicPr/>
          <p:nvPr/>
        </p:nvPicPr>
        <p:blipFill>
          <a:blip r:embed="rId6"/>
          <a:stretch/>
        </p:blipFill>
        <p:spPr>
          <a:xfrm>
            <a:off x="7010280" y="4191120"/>
            <a:ext cx="1694160" cy="2433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6" descr="kreslomeshok-smile1-450x600"/>
          <p:cNvPicPr/>
          <p:nvPr/>
        </p:nvPicPr>
        <p:blipFill>
          <a:blip r:embed="rId7"/>
          <a:stretch/>
        </p:blipFill>
        <p:spPr>
          <a:xfrm>
            <a:off x="304920" y="2057400"/>
            <a:ext cx="1771560" cy="236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7" descr="poslushnye-deti-radost-no"/>
          <p:cNvPicPr/>
          <p:nvPr/>
        </p:nvPicPr>
        <p:blipFill>
          <a:blip r:embed="rId8"/>
          <a:stretch/>
        </p:blipFill>
        <p:spPr>
          <a:xfrm>
            <a:off x="990720" y="228600"/>
            <a:ext cx="25146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76920" y="22824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Ти знаєш, що ти – люд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Ти знаєш про це, чи ні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Усмішка твоя –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Мука твоя – єд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чі твої – од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Більше тебе не бу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Завтра на цій земл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ші ходитимуть люд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нші кохатимуть люд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Добрі, ласкаві й зл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Сьогодні усе для тебе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зера, гаї, ст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 жити спішити треб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Гляди ж не просп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Бо ти на землі – люди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І хочеш того чи ні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Усмішка твоя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Мука твоя єди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Очі твої – одні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В. Симон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симоненко"/>
          <p:cNvPicPr/>
          <p:nvPr/>
        </p:nvPicPr>
        <p:blipFill>
          <a:blip r:embed="rId2"/>
          <a:stretch/>
        </p:blipFill>
        <p:spPr>
          <a:xfrm>
            <a:off x="228600" y="990720"/>
            <a:ext cx="44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33591-facebook-b"/>
          <p:cNvPicPr/>
          <p:nvPr/>
        </p:nvPicPr>
        <p:blipFill>
          <a:blip r:embed="rId2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СТАНЬ </a:t>
            </a:r>
            <a:br>
              <a:rPr sz="4800"/>
            </a:br>
            <a:r>
              <a:rPr b="1" lang="uk-UA" sz="4800" spc="-1" strike="noStrike">
                <a:solidFill>
                  <a:srgbClr val="ffff00"/>
                </a:solidFill>
                <a:latin typeface="Arial"/>
              </a:rPr>
              <a:t>СПРАВЖНЬОЮ</a:t>
            </a:r>
            <a:r>
              <a:rPr b="1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8000" spc="-1" strike="noStrike">
                <a:solidFill>
                  <a:srgbClr val="ff0000"/>
                </a:solidFill>
                <a:latin typeface="Arial"/>
              </a:rPr>
              <a:t>ЛЮДИНОЮ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53380"/>
          <p:cNvPicPr/>
          <p:nvPr/>
        </p:nvPicPr>
        <p:blipFill>
          <a:blip r:embed="rId3"/>
          <a:stretch/>
        </p:blipFill>
        <p:spPr>
          <a:xfrm>
            <a:off x="0" y="-30492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Вивчити пам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тку «Права та обов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язки учні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торінка 84, завдання 2 (знайдіть помилки у реченнях), письм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кладіть письмову пропозицію щодо вдосконалення навчання у нашій школі – своєрідний статут, творчо його оформі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304920"/>
            <a:ext cx="35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Де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҆ яте гру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Класна ро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19320" y="12952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Ти - людина, значить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маєш прав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274968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навчальн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перевірити, поглибити, систематизувати і закріпити знання учнів, оцінити навчальні досягн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розвиваль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розвивати вміння роботи в групах, роботи з документами, закріпити здатність вирізняти і помічати порушення прав у наведених ситуаціях,систематизуват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32080" indent="-143208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Arial"/>
              </a:rPr>
              <a:t>Мета виховна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Arial"/>
              </a:rPr>
              <a:t>виховувати активну життєву позицію, патріотизм, гуманізм, гендерну толерантні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6600"/>
                </a:solidFill>
                <a:latin typeface="Arial"/>
              </a:rPr>
              <a:t>Права людини -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Це можливості, які окреслюють простір вільної від втручання держави діяльності людини, це основні стандарти, без яких люди не можуть жити з відчуттям своєї гід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0" y="984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Конституція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це основний закон держави, нормативно-правовий акт вищої юридичної сили, який закріплює основи правового статусу особистості, основи політичного та правового ладу певної країни та інші найважливіші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Закон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нормативно-правовий акт вищої юридичної с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прийнятий вищим представницьким органом державної влади, загальнооб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язковий для виконання усі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ЗУ « Про охорону дитин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Конвенція ООН про права дитини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угода, міжнародний договір з певних пита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Загальна декларація прав людини</a:t>
            </a:r>
            <a:r>
              <a:rPr b="1" lang="uk-UA" sz="24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документ, у якому викладено важливі правила, обов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00"/>
                </a:solidFill>
                <a:latin typeface="Times New Roman"/>
              </a:rPr>
              <a:t>язки для всі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Міжнародний пакт про економічні, соціальні і культурні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6600"/>
                </a:solidFill>
                <a:latin typeface="Times New Roman"/>
              </a:rPr>
              <a:t>Хартія прав лю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6600"/>
                </a:solidFill>
                <a:latin typeface="Times New Roman"/>
              </a:rPr>
              <a:t>НОРМАТИВНІ ДОКУМЕН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sp>
        <p:nvSpPr>
          <p:cNvPr id="61" name="Oval 4"/>
          <p:cNvSpPr/>
          <p:nvPr/>
        </p:nvSpPr>
        <p:spPr>
          <a:xfrm>
            <a:off x="1600200" y="2438280"/>
            <a:ext cx="563868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69760" y="289548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рава лю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 flipV="1">
            <a:off x="5715000" y="1828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 flipH="1" flipV="1">
            <a:off x="1752120" y="17521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1828440" y="388620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5562720" y="403848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5562000" y="914400"/>
            <a:ext cx="317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Особи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(громадянськ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324840" y="4876920"/>
            <a:ext cx="213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Політи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457200" y="4952880"/>
            <a:ext cx="26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Соціально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економіч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728640" y="1077840"/>
            <a:ext cx="22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Культур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2" name="Огласите весь список - YouTube.avi" descr=""/>
          <p:cNvPicPr/>
          <p:nvPr/>
        </p:nvPicPr>
        <p:blipFill>
          <a:blip r:embed="rId2"/>
          <a:stretch/>
        </p:blipFill>
        <p:spPr>
          <a:xfrm>
            <a:off x="-109440" y="-231840"/>
            <a:ext cx="9253440" cy="70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8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1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33591-facebook-b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4" name="Кавказская пленница - Кража невесты - YouTube.avi" descr=""/>
          <p:cNvPicPr/>
          <p:nvPr/>
        </p:nvPicPr>
        <p:blipFill>
          <a:blip r:embed="rId2"/>
          <a:stretch/>
        </p:blipFill>
        <p:spPr>
          <a:xfrm>
            <a:off x="304920" y="396252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86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0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33591-facebook-b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6900840"/>
          </a:xfrm>
          <a:prstGeom prst="rect">
            <a:avLst/>
          </a:prstGeom>
          <a:ln w="0">
            <a:noFill/>
          </a:ln>
        </p:spPr>
      </p:pic>
      <p:pic>
        <p:nvPicPr>
          <p:cNvPr id="76" name="Служебный роман - YouTube-сегмент1(00-00-00-00-00-57).avi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6400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7037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evt="end">
                                        <p:tn val="34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2:55:09Z</dcterms:created>
  <dc:creator>build</dc:creator>
  <dc:description/>
  <dc:language>en-US</dc:language>
  <cp:lastModifiedBy>User</cp:lastModifiedBy>
  <dcterms:modified xsi:type="dcterms:W3CDTF">2011-12-08T17:46:3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9000000000001024140</vt:lpwstr>
  </property>
  <property fmtid="{D5CDD505-2E9C-101B-9397-08002B2CF9AE}" pid="3" name="Version">
    <vt:r8>1</vt:r8>
  </property>
</Properties>
</file>