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4E4-7086-442C-8600-FA9D4855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BB5-759D-419C-8BB6-FEA50567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C7F4-5F40-4418-A5E9-0305E087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9DF-5FD0-488F-87F2-797412F1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E14-F0A6-4CC3-8EE8-66E730D5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3E3-5784-4CE1-A2E8-8DD4B017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E3A-05A1-4ADB-B4C9-B9FA1FB2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6E1-D800-4EA3-B126-1A663A90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FBC-B7E5-4358-891B-F7DC7DC0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793-9A0A-439E-AA67-E3BE7FB0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60B-34AE-4D95-8829-5BE69A19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05F-3FDC-47E7-8E14-2F5B60C5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22FF-3A10-49CB-B8C3-EC0409051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33591-facebook-b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онецька загальноосвітня школа І – ІІІ  ступенів  №89</a:t>
            </a:r>
            <a:br>
              <a:rPr sz="2400"/>
            </a:b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онецької  міської  ради  Донецької  обла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Урок з основ правознав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ля 9 кла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“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Ти - людина, значи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маєш права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90560" y="617220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ДОНЕЦЬК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917600" y="472428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Підготувала учитель правозна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Попович Ірина Володимирі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78" name="СВОЛОЧИ - YouTube-сегмент1(00-00-42-00-03-25).avi" descr=""/>
          <p:cNvPicPr/>
          <p:nvPr/>
        </p:nvPicPr>
        <p:blipFill>
          <a:blip r:embed="rId2"/>
          <a:stretch/>
        </p:blipFill>
        <p:spPr>
          <a:xfrm>
            <a:off x="0" y="171360"/>
            <a:ext cx="916956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325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жестокий романс - YouTube.avi" descr=""/>
          <p:cNvPicPr/>
          <p:nvPr/>
        </p:nvPicPr>
        <p:blipFill>
          <a:blip r:embed="rId1"/>
          <a:stretch/>
        </p:blipFill>
        <p:spPr>
          <a:xfrm>
            <a:off x="-1752480" y="3581280"/>
            <a:ext cx="1295280" cy="728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33591-facebook-b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6274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4"/>
                                      </p:cond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Беспризорники.avi" descr=""/>
          <p:cNvPicPr/>
          <p:nvPr/>
        </p:nvPicPr>
        <p:blipFill>
          <a:blip r:embed="rId1"/>
          <a:stretch/>
        </p:blipFill>
        <p:spPr>
          <a:xfrm>
            <a:off x="-1447920" y="33526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33591-facebook-b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5429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3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81720" y="611280"/>
            <a:ext cx="9056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6600"/>
                </a:solidFill>
                <a:latin typeface="Arial"/>
              </a:rPr>
              <a:t>У статті 24 Конституції України записано</a:t>
            </a:r>
            <a:r>
              <a:rPr b="0" lang="uk-UA" sz="28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«Рівність прав жінки та чоловіка забезпечуєть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наданням жінкам рівних з чоловіками можливостей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громадсько-політичній ті культурній діяльності,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здобутті освіти і професійній підготовц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у праці та винагороді за неї; спеціальними заход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щодо охорони праці і здоров’я жінок, встановленн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пенсійних пільг; створенням умов, які дають жінк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можливість поєднувати працю з материнств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правовим захистом, матеріальною і моральн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підтримкою материнства і дитинства, включаю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надання оплачуваних відпусток та інших піль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вагітним жінкам і матер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ЗУ «Про забезпечення рівних прав і рівних можливостей жінок і чоловіків», який вступив у силу 1 січня 2006 року і передбачає покарання за дискримінацію за статевою ознакою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Л"/>
          <p:cNvPicPr/>
          <p:nvPr/>
        </p:nvPicPr>
        <p:blipFill>
          <a:blip r:embed="rId2"/>
          <a:stretch/>
        </p:blipFill>
        <p:spPr>
          <a:xfrm>
            <a:off x="228600" y="0"/>
            <a:ext cx="1932120" cy="281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Marko Vovchok 2"/>
          <p:cNvPicPr/>
          <p:nvPr/>
        </p:nvPicPr>
        <p:blipFill>
          <a:blip r:embed="rId3"/>
          <a:stretch/>
        </p:blipFill>
        <p:spPr>
          <a:xfrm>
            <a:off x="3505320" y="0"/>
            <a:ext cx="200808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228600" y="2819520"/>
            <a:ext cx="199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Леся Украї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505320" y="2666880"/>
            <a:ext cx="199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арко Вов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Ліна костенко"/>
          <p:cNvPicPr/>
          <p:nvPr/>
        </p:nvPicPr>
        <p:blipFill>
          <a:blip r:embed="rId4"/>
          <a:stretch/>
        </p:blipFill>
        <p:spPr>
          <a:xfrm>
            <a:off x="152280" y="3429000"/>
            <a:ext cx="3810240" cy="2381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228600" y="5791320"/>
            <a:ext cx="3733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Ліна Кост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ada-rogovceva1"/>
          <p:cNvPicPr/>
          <p:nvPr/>
        </p:nvPicPr>
        <p:blipFill>
          <a:blip r:embed="rId5"/>
          <a:stretch/>
        </p:blipFill>
        <p:spPr>
          <a:xfrm>
            <a:off x="6858000" y="0"/>
            <a:ext cx="195264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Оксана Забужко"/>
          <p:cNvPicPr/>
          <p:nvPr/>
        </p:nvPicPr>
        <p:blipFill>
          <a:blip r:embed="rId6"/>
          <a:stretch/>
        </p:blipFill>
        <p:spPr>
          <a:xfrm>
            <a:off x="4952880" y="33526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1"/>
          <p:cNvSpPr/>
          <p:nvPr/>
        </p:nvSpPr>
        <p:spPr>
          <a:xfrm>
            <a:off x="4952880" y="5791320"/>
            <a:ext cx="3733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ксана Забуж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6858000" y="2666880"/>
            <a:ext cx="199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да Роговц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399px-Valentina_Matviyenko"/>
          <p:cNvPicPr/>
          <p:nvPr/>
        </p:nvPicPr>
        <p:blipFill>
          <a:blip r:embed="rId2"/>
          <a:stretch/>
        </p:blipFill>
        <p:spPr>
          <a:xfrm>
            <a:off x="5867280" y="3505320"/>
            <a:ext cx="2030400" cy="30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431px-Margaret_Thatcher"/>
          <p:cNvPicPr/>
          <p:nvPr/>
        </p:nvPicPr>
        <p:blipFill>
          <a:blip r:embed="rId3"/>
          <a:stretch/>
        </p:blipFill>
        <p:spPr>
          <a:xfrm>
            <a:off x="228600" y="0"/>
            <a:ext cx="2189160" cy="3048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Ангела Меркель4"/>
          <p:cNvPicPr/>
          <p:nvPr/>
        </p:nvPicPr>
        <p:blipFill>
          <a:blip r:embed="rId4"/>
          <a:stretch/>
        </p:blipFill>
        <p:spPr>
          <a:xfrm>
            <a:off x="6553080" y="0"/>
            <a:ext cx="23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Indira2"/>
          <p:cNvPicPr/>
          <p:nvPr/>
        </p:nvPicPr>
        <p:blipFill>
          <a:blip r:embed="rId5"/>
          <a:stretch/>
        </p:blipFill>
        <p:spPr>
          <a:xfrm>
            <a:off x="3429000" y="0"/>
            <a:ext cx="213984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Тимошенко"/>
          <p:cNvPicPr/>
          <p:nvPr/>
        </p:nvPicPr>
        <p:blipFill>
          <a:blip r:embed="rId6"/>
          <a:stretch/>
        </p:blipFill>
        <p:spPr>
          <a:xfrm>
            <a:off x="1523880" y="3505320"/>
            <a:ext cx="2055960" cy="3085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74628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429000" y="2819520"/>
            <a:ext cx="2133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ндіра Ган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228600" y="266688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аргарет Тетч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6553080" y="274320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нгела Мерк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523880" y="6216480"/>
            <a:ext cx="2057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Юлія Тимош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5867280" y="6172200"/>
            <a:ext cx="2133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алентина Матвіє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8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80880" y="380880"/>
          <a:ext cx="8229600" cy="6431040"/>
        </p:xfrm>
        <a:graphic>
          <a:graphicData uri="http://schemas.openxmlformats.org/drawingml/2006/table">
            <a:tbl>
              <a:tblPr/>
              <a:tblGrid>
                <a:gridCol w="486000"/>
                <a:gridCol w="3859200"/>
                <a:gridCol w="3884400"/>
              </a:tblGrid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Sylfae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итання анке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ідсоток жінок, що відповіли на питання позитив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1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и стикались ви особисто з насильством у родині? у тому числі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1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 фізични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1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 моральн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и залежите ви фінансово від чоловік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и страждаєте ви від пияцтва чоловіка? У тому числі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орально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із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4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нжуйте наступні поняття. Яке з них буде для вас на першій позиції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обо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обі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ім'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рузі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нжуйте наступні поняття. Яке з них буде для вас на другій позиції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обо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обі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ім'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рузі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5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" descr=""/>
          <p:cNvPicPr/>
          <p:nvPr/>
        </p:nvPicPr>
        <p:blipFill>
          <a:blip r:embed="rId2"/>
          <a:srcRect l="0" t="0" r="18" b="0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227520" y="152280"/>
            <a:ext cx="38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i="1" lang="uk-UA" sz="1800" spc="-1" strike="noStrike">
                <a:solidFill>
                  <a:srgbClr val="660066"/>
                </a:solidFill>
                <a:latin typeface="Arial"/>
              </a:rPr>
              <a:t>Світ тримається на ніж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60066"/>
                </a:solidFill>
                <a:latin typeface="Arial"/>
              </a:rPr>
              <a:t>руках жінок.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660066"/>
                </a:solidFill>
                <a:latin typeface="Arial"/>
              </a:rPr>
              <a:t>Що буде зі сві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660066"/>
                </a:solidFill>
                <a:latin typeface="Arial"/>
              </a:rPr>
              <a:t>якщо вони втомляться?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8" descr="33591-facebook-b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18" name="Oval 4"/>
          <p:cNvSpPr/>
          <p:nvPr/>
        </p:nvSpPr>
        <p:spPr>
          <a:xfrm>
            <a:off x="2209680" y="2438280"/>
            <a:ext cx="449604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АВА ДЛЯ МЕНЕ - 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7240320" y="23623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СОН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34960" y="29718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ПОСМІ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9" descr="dd94d9c0_1"/>
          <p:cNvPicPr/>
          <p:nvPr/>
        </p:nvPicPr>
        <p:blipFill>
          <a:blip r:embed="rId2"/>
          <a:stretch/>
        </p:blipFill>
        <p:spPr>
          <a:xfrm>
            <a:off x="6629400" y="1143000"/>
            <a:ext cx="2305080" cy="183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el_sys_06"/>
          <p:cNvPicPr/>
          <p:nvPr/>
        </p:nvPicPr>
        <p:blipFill>
          <a:blip r:embed="rId3"/>
          <a:stretch/>
        </p:blipFill>
        <p:spPr>
          <a:xfrm>
            <a:off x="4191120" y="228600"/>
            <a:ext cx="2286000" cy="1790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росток"/>
          <p:cNvPicPr/>
          <p:nvPr/>
        </p:nvPicPr>
        <p:blipFill>
          <a:blip r:embed="rId4"/>
          <a:stretch/>
        </p:blipFill>
        <p:spPr>
          <a:xfrm>
            <a:off x="4267080" y="5191200"/>
            <a:ext cx="1704960" cy="166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конституция"/>
          <p:cNvPicPr/>
          <p:nvPr/>
        </p:nvPicPr>
        <p:blipFill>
          <a:blip r:embed="rId5"/>
          <a:stretch/>
        </p:blipFill>
        <p:spPr>
          <a:xfrm>
            <a:off x="914400" y="47242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630544_327719"/>
          <p:cNvPicPr/>
          <p:nvPr/>
        </p:nvPicPr>
        <p:blipFill>
          <a:blip r:embed="rId6"/>
          <a:stretch/>
        </p:blipFill>
        <p:spPr>
          <a:xfrm>
            <a:off x="7010280" y="4191120"/>
            <a:ext cx="1694160" cy="2433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6" descr="kreslomeshok-smile1-450x600"/>
          <p:cNvPicPr/>
          <p:nvPr/>
        </p:nvPicPr>
        <p:blipFill>
          <a:blip r:embed="rId7"/>
          <a:stretch/>
        </p:blipFill>
        <p:spPr>
          <a:xfrm>
            <a:off x="304920" y="2057400"/>
            <a:ext cx="1771560" cy="236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7" descr="poslushnye-deti-radost-no"/>
          <p:cNvPicPr/>
          <p:nvPr/>
        </p:nvPicPr>
        <p:blipFill>
          <a:blip r:embed="rId8"/>
          <a:stretch/>
        </p:blipFill>
        <p:spPr>
          <a:xfrm>
            <a:off x="990720" y="228600"/>
            <a:ext cx="25146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76920" y="22824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Ти знаєш, що ти – люд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Ти знаєш про це, чи ні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Усмішка твоя – єд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Мука твоя – єди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Очі твої – од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Більше тебе не бу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Завтра на цій земл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Інші ходитимуть люд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Інші кохатимуть люд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Добрі, ласкаві й зл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Сьогодні усе для теб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Озера, гаї, сте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І жити спішити треб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Гляди ж не просп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Бо ти на землі – люди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І хочеш того чи ні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Усмішка твоя єд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Мука твоя єд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Очі твої – одні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В. Симон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симоненко"/>
          <p:cNvPicPr/>
          <p:nvPr/>
        </p:nvPicPr>
        <p:blipFill>
          <a:blip r:embed="rId2"/>
          <a:stretch/>
        </p:blipFill>
        <p:spPr>
          <a:xfrm>
            <a:off x="228600" y="990720"/>
            <a:ext cx="4470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33591-facebook-b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СТАНЬ </a:t>
            </a:r>
            <a:br>
              <a:rPr sz="4800"/>
            </a:b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СПРАВЖНЬОЮ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8000" spc="-1" strike="noStrike">
                <a:solidFill>
                  <a:srgbClr val="ff0000"/>
                </a:solidFill>
                <a:latin typeface="Arial"/>
              </a:rPr>
              <a:t>ЛЮДИНОЮ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53380"/>
          <p:cNvPicPr/>
          <p:nvPr/>
        </p:nvPicPr>
        <p:blipFill>
          <a:blip r:embed="rId3"/>
          <a:stretch/>
        </p:blipFill>
        <p:spPr>
          <a:xfrm>
            <a:off x="0" y="-304920"/>
            <a:ext cx="2143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66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Вивчити пам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ятку «Права та обов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язки учн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Сторінка 84, завдання 2 (знайдіть помилки у реченнях), письм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Складіть письмову пропозицію щодо вдосконалення навчання у нашій школі – своєрідний статут, творчо його оформі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304920"/>
            <a:ext cx="35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Де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҆ яте гру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Класна ро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219320" y="12952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6600"/>
                </a:solidFill>
                <a:latin typeface="Arial"/>
              </a:rPr>
              <a:t>Ти - людина, значи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6600"/>
                </a:solidFill>
                <a:latin typeface="Arial"/>
              </a:rPr>
              <a:t>маєш прав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274968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Arial"/>
              </a:rPr>
              <a:t>Мета навчальна: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перевірити, поглибити, систематизувати і закріпити знання учнів, оцінити навчальні досягн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32080" indent="-143208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Arial"/>
              </a:rPr>
              <a:t>Мета розвивальн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розвивати вміння роботи в групах, роботи з документами, закріпити здатність вирізняти і помічати порушення прав у наведених ситуаціях,систематизувати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32080" indent="-143208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Arial"/>
              </a:rPr>
              <a:t>Мета виховн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виховувати активну життєву позицію, патріотизм, гуманізм, гендерну толерантн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6600"/>
                </a:solidFill>
                <a:latin typeface="Arial"/>
              </a:rPr>
              <a:t>Права людини -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Це можливості, які окреслюють простір вільної від втручання держави діяльності людини, це основні стандарти, без яких люди не можуть жити з відчуттям своєї гід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9849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Конституція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це основний закон держави, нормативно-правовий акт вищої юридичної сили, який закріплює основи правового статусу особистості, основи політичного та правового ладу певної країни та інші найважливіші пит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Закон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нормативно-правовий акт вищої юридичної с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прийнятий вищим представницьким органом державної влади, загальнообов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язковий для виконання усі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ЗУ « Про охорону дитинст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Конвенція ООН про права дитини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угода, міжнародний договір з певних пит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Загальна декларація прав людини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документ, у якому викладено важливі правила, обов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язки для всі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Міжнародний пакт про економічні, соціальні і культурні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Хартія прав лю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6600"/>
                </a:solidFill>
                <a:latin typeface="Times New Roman"/>
              </a:rPr>
              <a:t>НОРМАТИВНІ ДОКУМЕН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61" name="Oval 4"/>
          <p:cNvSpPr/>
          <p:nvPr/>
        </p:nvSpPr>
        <p:spPr>
          <a:xfrm>
            <a:off x="1600200" y="2438280"/>
            <a:ext cx="5638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669760" y="2895480"/>
            <a:ext cx="35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рава лю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 flipV="1">
            <a:off x="5715000" y="182844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 flipV="1">
            <a:off x="1752120" y="17521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1828440" y="38862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5562720" y="403848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562000" y="914400"/>
            <a:ext cx="317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Особи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(громадянськ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324840" y="4876920"/>
            <a:ext cx="213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Політич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457200" y="4952880"/>
            <a:ext cx="26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Соціально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економіч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728640" y="107784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Культур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72" name="Огласите весь список - YouTube.avi" descr=""/>
          <p:cNvPicPr/>
          <p:nvPr/>
        </p:nvPicPr>
        <p:blipFill>
          <a:blip r:embed="rId2"/>
          <a:stretch/>
        </p:blipFill>
        <p:spPr>
          <a:xfrm>
            <a:off x="-109440" y="-231840"/>
            <a:ext cx="9253440" cy="70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8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33591-facebook-b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74" name="Кавказская пленница - Кража невесты - YouTube.avi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86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evt="end">
                                        <p:tn val="18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76" name="Служебный роман - YouTube-сегмент1(00-00-00-00-00-57).avi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6400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5703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evt="end">
                                        <p:tn val="28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evt="end">
                                        <p:tn val="34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2:55:09Z</dcterms:created>
  <dc:creator>build</dc:creator>
  <dc:description/>
  <dc:language>en-US</dc:language>
  <cp:lastModifiedBy>User</cp:lastModifiedBy>
  <dcterms:modified xsi:type="dcterms:W3CDTF">2011-12-08T17:46:3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9000000000001024140</vt:lpwstr>
  </property>
  <property fmtid="{D5CDD505-2E9C-101B-9397-08002B2CF9AE}" pid="3" name="Version">
    <vt:r8>1</vt:r8>
  </property>
</Properties>
</file>