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81A-5D28-4C67-8EBC-371206B6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74C-E90C-4984-B164-8878C593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DBB3CD-DAD7-4DE1-B20D-02B3220D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1192A5-75EF-4920-91A7-04E2E2CD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FAA7C8-D488-47E2-9CED-5716577C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2E3561-43AA-4814-BC06-368E55BF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5B0C43-0CBD-4F06-A20D-A28548E1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30A05F-AD77-4DEC-8A9F-A357E7B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4CF08-5EA0-47C2-9D50-77DDEF54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18F63-47F1-4373-8CB5-DC0B387C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62A3D7-4AD5-4969-BFEF-C91BC33A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19FD8-B2D6-4356-A5E6-4DA36FC9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DF1-C0A2-4B5E-A71D-7CB6A8BD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C8F5C-1D61-4B8F-B05A-E66084A8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2AE04-9042-4772-B35C-AC294D34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C0D96-F417-4083-AC43-BDC42BB1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DA044-9628-455B-B1E3-1C891EE2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EAB96-1A05-4691-A0EE-4F8B40F6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70521-6290-4F24-B394-E6DCE5C7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803E9-C75B-4C3A-B29C-6824DBCC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1D8EB-997F-4DB7-8D48-78E29957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FFC46-C79A-47EA-998F-FF32C7D1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BEC41-E1C3-4E96-9890-B254CA04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643-F380-4A0D-B4C3-A1F96FBC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D2AE1-B27D-4521-89B2-EDBF851E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FA996-21E1-4FD7-A20D-FF84D12A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8C38-4D46-47D5-844F-B6883C13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36098-80C4-4ACE-83F4-7B0DE78A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F3A3E-C253-4FC1-9105-43EFE64F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B31CF-A9CE-4A15-AF04-018D754C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27348-BDAB-4C88-AFF2-4809EC8C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E1BA1-2257-49C4-A84B-053FABCD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392A8-FC06-4B42-81E7-5FBCBE8E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170C1-37C4-430E-8BE0-9DB719F1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F398-F3BF-4605-9D0D-B439A0D2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41887-8839-4DC6-A9BF-605C3412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0091B-7194-41BE-A609-9868EB20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86B7E-E5C7-4490-B5BB-8C84F045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A0773-2955-4C1D-9ACB-3299A9F2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B8239-1D9B-4D34-AB9E-165BF7CD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61F23-2D85-4756-8546-9F738AA2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9A023-2DE2-4571-9132-472E78B0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DEA1D-CE25-4279-A0AA-F8847F3A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5B65C-D4DA-4B83-AD0D-0D106CF2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81CBE-168A-4C9F-89A3-1A92F63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1BB2-8A95-43EB-BAE0-F60D831D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A7BDC-EAD3-4B69-9BE0-047DD3E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DE57F-EDF5-4C08-8980-35A9358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8DB93-8345-4A32-ABB4-501BDA7A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A021D-E241-46F6-A681-EC6B596B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AAF81-A15A-4EA8-8B52-1F3D0022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63D51-CD11-45E0-AE66-4C2EE23E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84DB4-8DC9-4997-ACE4-02A90A32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1F1B7-6652-4BC8-8DD0-E00912F2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46446-76A4-41FD-A7A6-E30D2BD5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8C00E-32B7-4192-A42D-AD58D20A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118D-E5E3-473F-86D3-99656B65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6AF24-A0E8-4D83-96EA-81D308B9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2FE2D-CBE8-4FE0-B603-63E4E21F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FFB33-442B-40E8-8800-33883E51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4659F-B4AF-4DC8-9F40-4F010A3E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C39FF-69D5-43CC-B9AC-389345C0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36FDB-C182-476A-8201-E890E3C6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08041-943E-4B64-8686-AC0DD21E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8F96A-A811-4CD3-B67F-77A7C794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D801B-D9B5-4F82-A1B8-D0FB6422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3A0B9-8995-4238-8DDB-0F7DE4F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89BC-9516-4A9D-AA11-4A3F51FA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C3F27-A46B-4A33-A9A5-7C00F34D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FD74A-3DD5-4E5A-AA06-87E880F4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E17F6-6708-42A9-A204-A5AF8650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62642-4BEB-46BE-BB78-5F000D5C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82836-D2B0-4802-A76D-B5B228E3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10459-523B-4A42-95F2-CF65717A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5B874-B43C-48F9-9BA8-1BCE19C3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876CD-8E1D-45C1-A250-B1F12200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067C9-34F0-4BBA-BED1-B4F57207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44EBF-4ADA-472C-A266-7251DE79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BAFA-4B3A-4ABF-9F6B-4B31EEFE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CA138-FD46-4DC3-A02C-ECD0D4D8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98975-E366-40BE-9023-19F566A2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4DCC6-96AA-40DF-912C-8F167ABB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6B1E3-458B-444E-B6ED-BC1A3F23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BEED0-CCD8-4FE6-9516-FED5DC8F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00D65-0AC9-46B1-8C1F-5777D872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464FC-C786-4F8F-BA91-3C510CC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AC774-F6C9-4AC6-A907-5038DF41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84925-1E58-4FDC-B3FC-9589232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24145-5B0A-4364-9D39-3B5C4D93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3FBA-84FE-4147-BA1D-F082898E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30EEE-DB9A-422C-B58F-FB3BD2F9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C36C8-3F34-43FF-8676-E3E64D80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6586D-C4EF-42E9-BA0B-CAEFC9E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B6495-5995-49A7-B169-92F0BDD3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81B782-D861-4D71-9AAC-B805761E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550D48-945B-49BF-8493-8F26F1A3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0AE1B-66D7-4A15-AAEA-1EF521F3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EC2C7-287D-490A-928D-51AD5EF0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476F4-2F40-4674-98D1-7D4D0535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79E4F-C1E3-4B53-9181-9C464C49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6AEF-85B1-45AF-AA97-002C24C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349136-EA83-4229-B5F8-854C8304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7193E-7B16-4CB7-B1A8-C492C043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414A15-E648-4DAB-A563-F69F4D8E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B0E5D-BBE4-41A5-8CF6-138B4C3E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F2B20-42F5-43B8-8F8F-3EA3A87D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50D75-A368-4E80-9ECB-B6303FD5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6A278-F7D4-4D44-811A-B1B1439E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58E949-C2EA-476B-9EB7-EA4BCFD2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AF006-D204-44A3-9653-C628D734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7F99F-EC2A-43A4-96DC-A49E4A85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B41-4F71-4B5D-AD00-463D9E8A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9F7C-4955-4E5B-A79A-454A6C9B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9FBACF-7B75-4EF9-8778-AB3B3CC9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035E8-7E14-413F-912B-0E7D7897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550A2C-514B-4FE7-94EB-9C0A2638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D7322-649B-4310-9FA8-D2FE529D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37E27-2E71-4328-A738-95785E65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439B72-8D43-4912-9137-A6EAE672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4C663-3E9C-4CAF-8C73-1650F002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247B3-9415-40F8-9E3D-3D1FB47B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3268C2-DC56-4C13-A6C9-40537972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F155B-0C62-4770-A058-0DF931F9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8A71-A4A9-4D5D-B71D-4669BDB9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74F13-BD5B-42E5-9196-386EC8E5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3C88C-DE16-4C38-9393-648FA208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58A64-C60E-48EE-95A9-B0A55ADA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7CB05-0B5A-4839-8B98-B171B8B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0A2CAE-A983-4E16-B454-2A617696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8F4D88-40E2-40F3-8A55-99B7DFEC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21E31-6843-4030-B227-27DB6051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51D0-6060-49EF-BC14-71F79E47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2420-67ED-4235-98D9-5E2B2025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7145-37FC-4CBA-A2AD-6DC9E51A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3E5D8-4217-47E5-AD3B-9A86D736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D433-FC5D-4FB2-845B-958AB4BF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FFB3-5777-4CAC-80AE-C65031E4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09E6-983F-4094-85AA-BCCBB4C1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3D90-7319-4859-9E18-FBA2FDA6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55A-57A2-4168-BC7B-F93C487D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3B7E-4417-4349-9694-CDC6BF01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91DB-4DA4-4712-BE61-3BD360DA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34F9-A554-41C6-B542-044075F0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2A50B-6674-48B6-B354-012C340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E084B-DE2F-4602-8AF7-727C0491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F80E-CED0-46A9-BA66-F16CC658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7970-C374-4D88-BB3A-C8120FF0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FEC92-E2AD-48C0-8741-36007EA6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4B15F-3CA5-4ED3-9550-E0009CF0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A7EAE3-5EBC-4554-9644-C5E839CA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042-7F1D-4193-ADDF-FD908645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428A9-EF3A-4037-B56D-9E7AD9A3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A9669-B24E-4E28-9FA8-B336F069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9ACFB-EC17-45F4-B573-BDD003AA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C4DFB1-149E-497C-B8B2-A2E00417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959C4-1597-4D90-B821-C6B842B9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99597-B161-4A7A-98F6-530ADF77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100A2-2ED3-4D18-B244-D984B5FC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D0EA1-AF98-47E0-B359-83DE6ABF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C39DF-0EAD-4915-9087-82FDB336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312C2-70D1-441B-899A-7F910FD9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B77-5F30-43EF-AE9B-A6C71F99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3585A-DC59-4998-B30E-A725D40B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BC4F0-4D55-4920-948B-3CC4C756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AD245-D3C0-4561-B76E-833CAC76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A3BA6-4A12-4C13-A424-1E7B41BF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06519-D1BD-4F67-BED3-4A6C291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2D97D-E9D7-47C8-A3BB-144DC207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92925-B429-42F4-BBCD-62C4C5BE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C6BD-CEC0-44BC-A4B9-D5D52FB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E16C5-CCD7-4A8D-A528-8C422CEC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498E5-74EE-4A4C-A070-BE372D9C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906-9FC6-484A-B8EE-F9D70BDD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0A9D-D650-430D-BE88-F228E57C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8DDA7-7FFC-4ECC-BF72-120F58FF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F4297-302F-4EF0-B636-16559EE6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66240-21F8-4848-AB4B-2D6407A9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B5920-3552-4060-92CA-AF655926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BDC45-CB2E-4809-A30B-9BA2EC49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3EBF4-3C95-467A-B391-9EA241BF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8E0A0-6EA6-4F77-BEA5-C8002FDD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F966E-1C27-49CE-BF83-3F130EE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9F440-8EFA-4FFB-B2E3-D79709D7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923-3AD7-428D-893B-2F04C81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AAAD7-2C0E-4337-9DAF-F176337C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93EEC-49F9-4790-9260-875ACBA1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D7A38-40E7-4FA7-ABF9-EB27133A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AA2AC-2DE6-4B96-835C-C7E133C6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08898-EFCF-4A1D-BD44-F55BE0B6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D0826-42C9-49B1-A045-451F60FB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5D68E-809E-4C6F-ABDB-7A9A2D6E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4A29A-55FD-44FD-9366-540E1865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88CE0-D562-464D-AB84-F8916054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C58A1-5074-4F11-9C1A-0F89AA83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A6A-218A-41B0-A5E5-937B2443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91AA3-B015-4BC0-92F8-56E86C51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8179E-096C-4CAE-86DC-1BE74985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6498B-0C25-4F90-9C9B-1E572315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01CC0-FA99-475F-84AC-9957CDA8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34F47-ACA2-486C-93E6-43EAE8CC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1CE6F-C428-4D25-B2B1-899C5A44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82458-FB79-4B66-99BA-BF157F36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A0F7-9DEE-45B7-A292-452DECCF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7E197-1429-42AC-AB8D-73E715FD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E0CD8-DE0D-4535-BDE2-24CA4D38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DCD-AD15-4CBF-91B0-AB353B73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B244A-2AB6-488C-840D-8DD2258F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52F10-E984-410F-8120-F33B0D2A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E7BD-CE82-4098-8431-C6FAF61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F0843-01E0-46EB-914C-977F14CB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5BD0B-FFD8-4A81-BD99-FEAD9868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AC983-350C-412D-B2B7-A97D7939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9794E-B493-4729-B8AB-8B11B634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0663D7-F303-477B-B421-C4012EDF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3BE33-FD4E-4E48-A4A5-0F90695E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3B3CA6-A29A-4206-BD21-4563E954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5b5d51"/>
              </a:gs>
              <a:gs pos="100000">
                <a:srgbClr val="686b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3d2a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5b7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A8C5-B264-46BB-A146-A6506BA69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DF49-389C-42AB-8B54-ADE07A7ED3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8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A8FA-E574-49AC-8E4E-D9D97C7B7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9366-3EBE-46C0-9616-90CD81FC1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0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96E5-9AE6-4941-B2DA-6F930C814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5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0AB7-BDE6-4A87-A059-3DA3BE155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0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CD2D-5B45-4830-B97D-074F9FCA03C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6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DBD8-2567-4EEE-B614-EA9B09EA9AC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1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6A33-A378-4E29-A06B-31EDA41CAEA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1E7A-01A1-4FD0-8DD3-B7D635A7341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2AA9-F4D2-42E7-B390-1DFB34591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86b5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cdad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5b7a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7289-0CB8-48C2-B766-DEAAE490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495-7EBC-4E4D-8CA9-63806C616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9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8266-CE9D-42B4-BBCB-D0D7CD4A1F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C3AC-2067-40FC-92C0-316E712F2D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0FDF-29A3-43C4-807E-41C034C483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F33B-9DB0-44DC-A687-9F18A9454C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6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B548-1D94-4B00-97D4-C82A10AF93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d9d9ff"/>
                </a:solidFill>
                <a:latin typeface="Arial"/>
              </a:rPr>
              <a:t>Черговість спадкування за законом</a:t>
            </a: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8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спадкоємці за законом одержують право на спадкування почергов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ahoma"/>
              </a:rPr>
              <a:t>Обов'язкова частка у спадщині</a:t>
            </a:r>
            <a:br>
              <a:rPr sz="3800"/>
            </a:br>
            <a:r>
              <a:rPr b="0" lang="uk-UA" sz="3800" spc="-1" strike="noStrike">
                <a:solidFill>
                  <a:srgbClr val="ffffff"/>
                </a:solidFill>
                <a:latin typeface="Tahoma"/>
              </a:rPr>
              <a:t>(частина спадщини, на яку особа має право незалежно від змісту заповіту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іти спадкодавця : малолітн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т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овнолітні 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внолітні непрацездатні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рацездатна вдова (вдівець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рацездатні бать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Позбавлення права на спадкуванн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соби, які умисно позбавили життя спадкодавця чи будь-кого з можливих спадкоємців або вчи­нили замах на їхнє життя 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атьки після дитини, щодо якої вони були позбавлені батьківських прав (права не були поновлені на час відкриття спадщини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7138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b9efee"/>
                </a:solidFill>
                <a:latin typeface="Garamond"/>
              </a:rPr>
              <a:t>Особи одна після одної, шлюб між якими є недійсним (або визнаний таким за рішенням суду)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2385720"/>
            <a:ext cx="76104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Особа, яка ухилялася від надання допомоги спадкодавцеві, який через похилий вік, тяжку хворобу або каліцтво був у безпорадному стані (усувається від права на спадкування за рішенням суд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Завдання :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Життя свідчить, що спадкування за законом буває частіше, ніж спадкування за заповітом. Як Ви вважаєте, чому ? Відповідь аргументуйте.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ерша черг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іти спадкодавц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той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дружжя, який пережив спадкодавц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батьки спадкодавц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7823160" y="3652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729" y="10145"/>
                </a:moveTo>
                <a:lnTo>
                  <a:pt x="21729" y="1014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c0039"/>
                </a:solidFill>
                <a:latin typeface="Arial"/>
              </a:rPr>
              <a:t>Друга черга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дні брати і сестри спадкодав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ба та дід спадкодавця (як з боку батька, так і з боку матері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ffffcc"/>
                </a:solidFill>
                <a:latin typeface="Tahoma"/>
              </a:rPr>
              <a:t>Третя черг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ідні дядько 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тітка спадкодавця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eec94"/>
                </a:solidFill>
                <a:latin typeface="Times New Roman"/>
              </a:rPr>
              <a:t>Четверта черг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* Особи, які проживали зі спадкодавцем однією сім’єю не менш ніж 5 років до часу відкриття спадщи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П'ята черг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27000" y="1915920"/>
            <a:ext cx="7196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•  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Родичі, не зазначені у попередніх чергах спадкоємців, до шостого сту­пеня споріднення включн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•  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утриманці спадкодавця, які не були членами його сім'ї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Утриманець -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неповнолітня або непрацездатна особа, яка не була членом сім'ї спадкодав­ця, але не менш ніж 5 років одержувала від нього матеріальну допомогу, що була для неї єдиним або основним джерелом засобів для існуванн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           </a:t>
            </a: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Завдання 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то належить до спадкоємців за законом та якої саме черг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* Батьк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•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рещений батько;  •  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естра;  •     сусідка;  •    двоюрідний брат;  •    чолові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•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очка;  •     баба; »    тітка;  •     кум;  •     подруга;    ону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7:29:25Z</dcterms:created>
  <dc:creator>FuckYouBill</dc:creator>
  <dc:description/>
  <dc:language>en-US</dc:language>
  <cp:lastModifiedBy>FuckYouBill</cp:lastModifiedBy>
  <dcterms:modified xsi:type="dcterms:W3CDTF">2010-02-08T18:25:49Z</dcterms:modified>
  <cp:revision>5</cp:revision>
  <dc:subject/>
  <dc:title>Черговість спадкування за законом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6000000000001024140</vt:lpwstr>
  </property>
</Properties>
</file>