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617-F678-496B-84F3-99B1FFBB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C46-5BB3-495B-B993-9EED304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2046A-9541-4B05-BC75-F2DF5D9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3E27F5-ED25-402C-89B8-11A720AD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3EBC6-8AE6-4AED-A05E-EEE61C00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47CE3-1787-4C6C-9EF1-D411A886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2FE8C-A54F-41A4-AC8C-E478F78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04F4F-F80C-4BD1-9521-81FE9F9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F267C4-43BE-4C79-8B0F-51B53774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D43F4-EEC8-4772-A991-879E3063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4E29B-359F-45CB-8886-DFD71D73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FAB66-981D-471D-ACF3-06918211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829-9A9A-4CF7-A07A-F2B019A9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11859-E305-492C-817F-8DEB44FC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FB060-B898-4296-AFEF-EAD875B0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8A60-16F7-4790-9237-4990223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C1F2-7351-4261-A4E3-DC8E2953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96C25-E84B-487F-88D5-EB378EE2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9A0BB-303A-4B2E-9F69-49FF6B3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C5108-CC85-4580-88D7-47EFBEB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60A01-7DD2-490B-A6C2-796EB2D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13F7B-95A3-4D9A-8813-3F8DBF1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81B8E-08F1-489F-AB7B-DA72A99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CC3-1BD2-48CA-A659-AA13E058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88D4A-4302-44BC-A5F2-55EBCD2A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1CD70-A5ED-4525-9176-FE26A4C4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C840B-771F-4249-A3C6-D00D804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3F2E8-65CE-415D-979C-31E4754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3B73A-8322-4006-945C-8961749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9DE6-DF8A-4A7E-B156-ADD3571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3E382-7380-482B-AFB7-976BD05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8591E-3945-4B96-AFF4-04488C8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AD5AF-F5FA-4A5B-9C54-A64FA510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84DD4-447E-4F2D-9175-B69927A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74E-E288-40D2-8B5D-D84EC57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C4BEC-76EA-4A97-920F-6C5C688A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87A2F-EAB2-4039-BA0D-DA1149B7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64FC2-1654-409E-BEE1-2B4B914C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87229-639A-4A90-84B9-40869171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16653-21CB-4C18-A15A-1E9D8E3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23C6B-EB11-4A8D-B55E-9468728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2999B-3F0E-4505-9953-D5A359C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E2F2C-1B45-4DE3-8D57-0AD78CA1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E6208-4740-477A-9E79-744FFAF4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A282B-97B8-44AB-B946-07DDB0C9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0CC-AA5E-4866-A93F-92835CFE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30FEF-5071-4DA6-B3D5-6EDAA5C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D198-E88D-4A1E-BE42-E00B6B8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185DB-9C9F-44D8-AF36-C9C9C3C9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C9163-25AC-46DF-AE4F-F55AF75D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4B141-FDB5-4C41-A398-67D3DAB8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0FD24-4345-4987-8043-21F7DBB6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02676-FC42-4EA0-8A4C-687BD6D9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15D83-9F4F-4969-ABF7-2AB1906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D9231-B61B-48E1-9324-A98836E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8E8A2-4643-4FCB-A565-2ABC688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0BD9-8DAE-404B-B237-FA4F5C5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4596E-4AAC-4E59-AF57-127A9AE8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27137-5135-4349-ABDB-ACCA9B0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DD49F-6D25-4830-A7FB-E0285BB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71FE2-44E8-4040-AAA8-3DA7DAB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6E161-5348-4DE4-B966-DC67B236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21037-69EF-4FD1-A809-F01A267D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3F6A0-E48E-41B0-A4F0-51560B06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6EF25-3DBE-4C6E-9C01-12C3FBBA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44024-EE64-48CF-A939-B4B0CCB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59A09-2B44-4D3F-B3AA-0182D207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2C4C-B1A5-4925-97D9-A4D7E86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33B07-86B2-43D5-B2C8-CD80802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28AE4-7522-4029-92F1-359C5E3E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9D813-B235-434F-A3CC-B40B16B9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051C7-C774-4091-BABB-511B3EE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76D29-B9D7-4683-9BA2-881E0D7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1380F-261F-48A2-B506-C3912CF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82B79-05DA-439D-A922-3E33A2E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B7675-CF62-4F20-B348-72120F96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7B6FE-162B-435C-8AB8-655CD743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6473-79BE-4FCF-B13B-69A36F0F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F94-F3B0-4388-BBC8-C9B6BA37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6E8-9A86-4740-A22C-F7BB8C4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D8F-B5FA-4629-9BAC-9FDD9105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FD4-89B0-4328-A098-523684C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6482-8712-468C-B9CD-0980142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B171-0D67-4057-9FFF-AE6C5211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94BB-051B-42F6-A893-B5FEC393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D413-5A11-426C-89BD-2BC7EE29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CD70-D21C-453C-AFEC-3175D90D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ABB3-EB80-4538-9ACF-9005D9A4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E671-AB89-404C-BB3C-31C8B9DB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06AC-9146-4093-9983-41B323D4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B151-1B4F-4795-8F52-E7BDBB5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7D6-2E0D-4C26-8174-A602954B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E967-12DC-4317-A8FB-DE7DE062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2554-44AA-4F9F-A07E-4F8E739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69E0-8041-4094-8D7B-2E18BB5D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09A3-AE46-4E89-A32E-057471E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B2ED-5099-400A-BFE8-02705642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B8A8-4DC2-4612-A8D4-BA469D74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D20D-9B37-4985-A629-7F8B9609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A54F-2370-415E-A6AF-85D1E6DD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D451-CBB8-41A0-B29E-B51A9C4C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1CB6-9B0B-41E0-A463-F8F9C5F2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C4B-F602-43FB-BED4-04BEA83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5E9D-E2F1-4D80-A45A-564AFF6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E328-26E6-4FF4-B6D3-69356C4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E5DD-9E6F-4C37-BAC3-FEE0BCAE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C1D9-41D7-465C-9BAD-D677507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CC6A-5C2A-4C4A-AA4F-E98AB21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E2B1-1A25-48CB-9D78-B7F4710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1B22-1C2C-40EE-8C40-F1D6DB6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3854-E69C-4FC4-84B3-EEF3CB3C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5D70-7664-49BF-97FC-DB40D579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E4A1-0EF0-4049-B429-C691F40D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21C-9485-435B-820D-A1EA5B6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4DA1-E33F-4DD1-B50E-67778D93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E7568-FD3C-48E8-A4F3-0D908F0B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438F-6913-4202-BFC0-22172B7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1896-2F6D-4197-ACED-571CD00C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F8DD-2E1E-44DC-A3AB-5AB9FF6B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DC12-EC98-456B-B52D-0DD525D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CE9D-0588-4FD1-8119-DD6916F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7C4D-33A6-4032-BFBF-D7FA4C2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F70F-3C73-4148-A9FD-EF26053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5BCCC-6E6C-4B90-8410-4093C3EC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35A-D328-4B99-8496-8AC175A9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C1936-D83F-4506-81F8-427A1B10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6AC39-5169-486C-850C-6A506835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C6A77-E6CE-44B9-828F-992BF529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68889-F849-4AE2-8FB1-D84A3F9C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F3066-AABC-408B-A5BB-F1EBABD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817AF-91C8-4155-9FFB-133A5B93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570A-63D7-411C-BCDA-69A3DAC5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2D8D-4485-4029-ADC6-4F5236D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D8D7-8DDA-4185-8048-C240ED3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8709-ED31-4460-9580-860F653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836-EF05-4E0C-98E1-1FFCB53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1C67-89FE-472F-A135-83F0A5AD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9DCE-B9F0-4915-9295-C9A652A7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4F62-C9A4-4270-BF17-C692E39B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27AF-7A44-4950-B663-85FD8A5E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53692-2153-4534-8C65-78DC1B9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3F35C-05F5-4F6A-89F7-9050E7EA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0314-A91D-4A9D-923D-A1F7ED1A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DF186-2552-4F24-A83C-2B8C97AF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8ADB-C970-48A0-BCDA-53ACED3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CC40-384B-4D3C-911D-B35BD2E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732-5C97-4B91-B7E4-15B1C48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CF33-2EDA-466F-8C88-6AE0FC7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4944-4536-499A-BE55-2F7A37D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F2BEA-C364-4A3B-81F8-80B9125C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2752-2F2B-44B4-A41E-510417ED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667C-FD51-49F5-9F53-3B98FE2B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87D5A-E54B-4A53-BC8E-E136D52E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8438-7A7E-49FE-841A-9573B758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04F0-8C76-4D8D-9D09-1357DFBE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FCF3-16FD-425F-A673-784726AA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07218-BB7B-4329-A8F6-19752F2F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582-B7CA-43D4-8299-C65E50C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7568A-167C-4831-8372-121CDD39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20DD-9451-4EAB-8366-ABA2966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0A1D-59AC-41C5-9B16-DF0CAEB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7DF9-CB90-4F01-8C1E-E6665E2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B73B9-EE75-4E14-B768-9995171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9709-69B6-43DC-BC15-6464076D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54D9-C774-4926-A8D3-D9A99751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26D378-EFA2-4255-AE8B-773DCCBE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1C597-7408-4FB2-833B-C97C3AD5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CA0387-EC40-47A1-B61A-61A685F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15B-7A3D-487E-A441-6459C8125D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FD8-4673-421F-A7EF-B342E01E32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6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62F-BC26-4EBA-9272-F2F62999A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C6A0-CB1C-4F8A-9190-AF77FF7BD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6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7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7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2D2-A01E-460B-8BFE-857E7B96D1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4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4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6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AC3E-9B4D-4E26-88E3-C05523D88A1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5B3A-3467-4D5C-B693-FEDF2344E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EB2-82D7-44CA-98A9-E6849B3379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7EA2-0D67-44C2-8A61-6C1DE22410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BDB3-974E-43B3-B123-A9CFFA7123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709B-59E8-4184-B4E9-94967E1768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BB6-42BB-47AE-8604-45BCE96A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CA8-0961-4FF9-BB6B-655701B3E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55AF-7315-43F5-B744-C1CA42EE79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СПАДКУВАННЯ ЗА ЗАПОВІТ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08840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Заповіт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— особисте розпорядження фізичної особи на випадок своєї смерті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 будинку для осіб похилого віку та інвалідів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иректор будинку, головний лікар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На морському, річковому судні, що ходить під прапором Україн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Капітан судн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8c0039"/>
                </a:solidFill>
                <a:latin typeface="Arial"/>
              </a:rPr>
              <a:t>В пошуковій або іншій     експедиції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34000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чальник експедиці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Командир військової частин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Arial Black"/>
              </a:rPr>
              <a:t>В пункті дислокації військової частини, де немає нотаріуса чи органу, що вчиняє нотаріальні дії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В місцях  позбавлення вол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та с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лідчому  ізолятор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слідчого ізолятора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місця позбавлення вол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c0039"/>
                </a:solidFill>
                <a:latin typeface="Arial"/>
              </a:rPr>
              <a:t>Завдання : В яких випадках заповіт буде визнано дійсни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)    Заповіт    виголошено    у    присутності  3 свідків, у тому числі депутата райрад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)   заповіт завірено нотаріус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910640" cy="720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842240" cy="4105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  заповіт завірено капітаном морського судна під час пла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   заповіт завірено сусід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)   заповіт завірено головним лікарем санатор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) заповіт завірено директором заводу та начальником ЖЕК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99"/>
                </a:solidFill>
                <a:latin typeface="Arno Pro Smbd Display"/>
              </a:rPr>
              <a:t>Вимоги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до форми заповіту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Форма заповіту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сьмова форма, зазначається місце і час складення запові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обистий підпис запові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відчений нотаріусом (або іншою посадовою, службовою особою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населеному пункті, де немає нотаріуса, заповіт може бути посвідчений уповноваженою на це посадовою, службовою особою відповідного органу місцевого самоврядування (це положення не стосується секретного заповіт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Види заповіті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клад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письмовій формі із зазначенням місця та часу його складанн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писаний особис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дачем 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таріально посвідчен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Заповіт з умовою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аповіт, в якому заповідач обумовив виникнення права на спадкування в особи, призначеної у заповіті,наявністю певної умови, як пов'язаної, так і не пов'язаної з її поведінкою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Заповіт 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подружж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льний заповіт подружжя щодо майна,яке належить йому на праві спільної сумісної власност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екретний запові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овіт, який посвідчується нотаріусом б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знайомлення з й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с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Посвідчення заповіту іншою посадовою, службовою особою (у разі неможливості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свідчити </a:t>
            </a: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його нотаріусом) (посвідчується при свідках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соба, яка посвідчує заповіт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стаціонарному закладі охорони здоров'я (госпіталі, лікарні тощ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чальник госпітал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вний лік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ступник головного лікаря з медичної частин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рговий ліка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2:52:55Z</dcterms:created>
  <dc:creator>FuckYouBill</dc:creator>
  <dc:description/>
  <dc:language>en-US</dc:language>
  <cp:lastModifiedBy>FuckYouBill</cp:lastModifiedBy>
  <dcterms:modified xsi:type="dcterms:W3CDTF">2010-02-08T18:23:46Z</dcterms:modified>
  <cp:revision>19</cp:revision>
  <dc:subject/>
  <dc:title>СПАДОК ЗА ЗАПОВІТ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4140</vt:lpwstr>
  </property>
</Properties>
</file>