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BF4D-B95B-42DC-872F-D8947C77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C591-24F1-4B83-96BB-709E4EF4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399EBF-1097-4759-9BE7-84A13FB6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D086AB-CF53-4A0B-B384-4EA49500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B63175-CEC1-46FC-AF43-D51CA1C6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FF3208-9BD5-427B-BF2B-39300BCD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62A8C3-4AE6-443F-826F-4C8BCC46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AFB707-845C-4505-88E3-726E32DA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EF2B96-A374-403C-AF1B-9DBEF357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3E12F7-B731-4C83-9D33-A5A766B9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FB78B3-FCEF-4A99-A487-6819BC00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21EDF-8BF6-4AB4-B8DA-B5CA040A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3628-C97B-442D-9543-B95DA619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8E6B6-7244-4BD3-B1D7-E092DE3E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4AAFA-ABE4-4BB4-AEE8-75E265A1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DAD7C-FC66-4C44-8C2A-675E4080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F96F6-D4ED-418B-899A-6B85B4FE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A9557-50C6-4F43-B090-01FD22BF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8D02D-07AA-478E-A9EC-A77CB1F8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0996A-0B0A-4CC3-9D5B-C47D9D0F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F34E9-5977-4DA6-9382-4947415C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114B3-3A9A-42AD-AD23-D56AAC45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F07BE-C296-4C34-A63B-3E47E7F3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9F17-EE18-4EA2-A09D-96A81B3E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9DC0F-7C6B-4A2A-81FC-919E7128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6972A-BE68-49DD-8714-2D294C6F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1F670-D148-410C-955F-C312E55A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88951-9229-456D-9DF9-94AE2ED9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BF50B-AA24-41DA-AD40-9FF8EFA5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4F789-B534-4796-9135-5D157130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33632-966C-4E8F-8770-CA363CE2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83F94-E625-4108-BAAA-4CEA6D36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AB894-5893-462C-B0B3-B1D5B2D2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2D2DC-F37B-4D39-A349-9031591E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5222-48C6-49A6-8352-4CAB50EC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16C39-C141-4C3E-9210-58F2F84E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07142-7F78-4613-8A7E-3AA53F32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2E293-9185-4209-AD83-74261835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076C3-98FB-4CE8-B704-57351148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5A280-B109-4D9E-9A57-A4211CB0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0A3D1-2039-4956-933A-BBA8A0E8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A4EF6-4E2D-4CC8-91AA-8ECC54CF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7249C-0768-471B-8BD4-BE90AA52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AE645-5E53-41C0-BFEB-CCCEA789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45547-FF60-4CAD-91AD-ED186731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1B8D-7E09-405A-8C5B-3FEFB3E6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A3239-4D0B-4429-9C9E-20269B40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CD4E2-2135-4EB4-8601-9387FAA1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01C9D-1400-4ABF-B19F-353A3FB2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4BE3B-87AE-4CDB-B43A-868C05FC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918D5-47E0-45E4-A6D1-20F440C8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FC477-671B-42FA-BBB2-5A748ED0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0972FE-2FF2-4D51-9BFC-996E6E80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75B547-73C1-46D9-B59E-5077B47F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4609A-BFD8-4B61-9DA1-BD8173A6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4B7FD6-7510-4A87-B48E-D83576CE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AA9B-BEFC-4BD0-B984-5AC7059B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DD4674-2EE7-4255-9DC8-7B5EAB40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6AACCC-5F5F-4B2D-A015-122D8E20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1808ED-C544-4F87-AFF3-A491BD34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24F4E5-C86F-445C-929E-082F6EBC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DA0031-C779-4A27-99D5-7B39192E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F41F64-99EE-4086-8854-628C32CF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E61FBD-941A-4154-8229-A3140129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697DB1-4DFC-4789-B4EE-002903301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76C6BF-B3D3-47EE-9733-EAA19950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1DB6F6-51D8-4902-8AC5-6B24CCDD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EACB-CB5A-4093-92DE-A5BC75FC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77491E-3D95-4004-9B48-7E696E4A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984AB2-1D33-4BB6-9939-7DCB8DA1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F89AA0-7052-4899-BBFF-172B2CAA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4684AA-127E-495C-BD5A-2492D7E9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81D716-BEEA-4327-A8A7-222AA2E2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F3DD14-6796-420B-B3AB-8E995147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0B6EC1-A5AC-4706-A431-4F265D85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0F2F81-0F5F-437B-870A-4B8194A6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1679CC-40A2-4A91-854D-62E5E8C3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717B87-0F62-46FD-874A-0B1D8C6A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ED41-9CC5-4CF8-BB7B-F8E6925D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013684-A4D7-4E79-B323-7BA78FAD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0E14E2-6E66-4763-B9C2-2E06B642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790689-8597-4307-BE30-5F34EA93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8B1BB9-50FE-4FB6-B8E1-AA642A60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E712BD-8249-47B2-9B7D-A50CF6CF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0514CE-F56F-4EFE-89BA-EDE97AEF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7C5A4C-6744-4418-8155-1E793162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EC7081-B270-4AAB-9117-5368C19A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1F1E5A-DBA8-4CB1-A67E-21A7FB67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558FCE-D012-4221-ABE0-376484CF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1D4A-1D64-486D-ACE2-04606120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730839-E0F8-42F5-BEC3-490E9127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3EDB1C-738A-42FF-BD03-4BD80C83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4D87D5-6945-4995-90B1-2B136AD2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32856C-5F27-412F-B5BF-4A173DF3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10D2AE-941F-4503-87F2-099837D0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4613D4-AAF4-4941-8C50-03FB47F8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4FC168-E13F-4667-A34C-C0BBBE9D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78BE95-E40C-4A48-890A-F41EC972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8CF4B1-0C99-4B11-802A-C66F08B5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D1A8FD-AB3E-460F-99BA-CFD91C94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1F67-D0E7-4BE6-A44D-ACDDE90F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A02F67-BF62-4F7A-9E19-F5D591E7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4D8B3F-1440-4ECA-97B6-AFE766B4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88DA3C-74AD-4FC9-8CDF-9770BD66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F5E99A-BCE9-4178-82AB-06598E96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56F71C-982E-4FE1-A00C-20B3D893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5FF9FA-A1F8-4C59-A36D-60F8A9BD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421F41-53C1-4A15-A08F-1BCDE942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9A901D-9DC5-42B5-B2A0-9D29BACE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A77D27-0ACE-4725-A7A7-3DE29AAE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851605-4181-48EA-B6EC-16BB4AA1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71AC-BE88-47F4-803E-09D94A40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1846-9C2E-48BF-923C-98C9E274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D50FEC-F1F0-4A8B-84BD-7B38AC81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415EB0-B38B-47CB-BD99-B5F7F02E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6A6CB8-B057-462B-86F6-D624222C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9D63D8-7EF8-4F89-97D6-186F7999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C6F618-0302-4E74-B5D7-F66DF38A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08ED7A-C0C1-4C96-B268-0463814D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BD1E2B-8513-4580-A8B3-D539FFB2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754A11-7E4D-4A08-873A-1225CC23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8BEF5C-C417-4A25-9F95-FAA9E382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19E5D1-A515-4899-9F09-480B4AB6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DF3A-9916-4165-911B-C961C543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DDFA31-4449-43A9-8D29-A51D2B2F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4D683C-F9A1-4A20-88AA-C0D42175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17646E-264E-458C-AB28-BC5C353B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3C026F-905E-4C6F-B6C8-A595F2B1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8AD006-FF50-4FA8-B59A-B9C009D9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A13958-B237-4DE7-8335-993065BE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52FD0C-07F0-4763-9CC6-EEB900F7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03B0-4FBA-4F28-BDAC-88919CAE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2E68-C104-4CA1-9F95-B5735D88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1277-1950-4108-8C3A-E0A95940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BF96C-4A57-4762-98CE-248CFB71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07665-9C85-49CD-8BC6-BA816EA2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1008E-DB7F-4542-9B44-79613776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C3D62-A080-4876-BFDA-2E1B71C4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DDAD6-7108-4ABA-91C1-F0775F14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EEC6-D39B-4C9F-849F-48CD9353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431A4-DC6B-44A3-B3F0-5E8D4253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13CC6-A2B9-4BC0-8BBE-B606BB20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7B557-1C3F-4EA8-94FD-EE679BA4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70CC2-8C3C-4805-938D-7910057F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471A6-66B9-4B6A-8193-6DC2B3B4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E84B8-51CA-45EA-ABC8-9735E71A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17C8D-017E-4B73-8F7F-DBB842A0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FB841C-3D78-4AE3-964D-8C11062C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962274-F58C-4107-B5F3-B23A9651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B70C2B-B26C-4F43-9B90-EF2E3A01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522E-1E57-4A77-A1FF-A44A2898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512659-2CE9-4D64-BB6B-67A498B2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F0D3DC-0453-435A-B001-C8A94E65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047C83-1C5C-4920-8BD5-7B6F6370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66CAEB-903B-47C2-A30F-8654A410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1932C4-C028-4D56-8FDF-460E2204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30FAE9-1A99-494C-A347-39870625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1B3667-64A4-4408-9F6A-03D0CF92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789F22-BAE4-4BBF-9B73-E9C0622C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393937-51A7-4143-A310-51AA2411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495C8-1573-4071-AECD-18E5FD65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9F2D-1685-4AD7-A661-C6B0D9B3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BB424-674F-4A85-A201-670A9974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8DFDB-6C22-4B88-AC2D-B5F65A40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50860-90B5-406B-943E-9BBD1FB5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87B43-5985-4D6C-82B5-ACC3AAC3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02C07-977D-4E08-AAA7-AF0955BA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8DD26-EDCA-4941-A0BE-A323056A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83CCA-3264-441A-A7AB-11FFAC19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F6773-B279-48BB-A183-5097A3AD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BADBE-8FF2-458B-8C92-24A0E40A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72302-4752-49DC-9AED-709E4236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082A-8552-4ED7-A49E-38DFD5BE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FFEE7-0ADA-48C0-923A-DE937F50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F2DD7-214E-4A9C-9C3F-A43A27C6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90FE6-36B4-47BE-82FB-4C07E9D1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DEB20-D0B5-4C45-8B8D-7D71E6DD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EAD3D-510C-4194-8D5B-AE883BEB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48C24-3993-41A1-92F5-3C422AFB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8C6C4-27FB-443B-9E09-1A5CE5F3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0D9E6-154B-4E3C-917C-35498D80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525F5-3725-4A07-98CE-5457BDB7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039BB-907B-44E3-AE2E-13EBD6BA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E7BC-3EF0-4525-AE13-7408AE36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37B6F-FF71-4E8D-A93A-4C42D693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9B2D7-36A2-4830-9DDE-AE255600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AC01F-2E4A-40BC-B221-326F05F5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920B9-5D7A-4144-B9C3-8418E173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55F93-10C9-4567-954A-C4938CCC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4CB97-BEC4-4CF4-98F3-334F68B1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C2E44-F9BA-4FA3-A20B-195FAF06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0F609-DE05-4226-B3C1-55E42D6E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DC89A-C0CF-448D-A9F5-0827B605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E138A-7EBC-4618-BC97-97D71DCB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7F7-DD3B-4072-BD28-8ABBD936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1D696-258A-4749-B62F-F79B9C03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7703B-4CDF-41D2-94A8-DFF73321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1E5BB-51C2-4866-9763-0D367D5B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9E33D-B9A7-49F1-B3BA-4217D384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3B753-4AF2-43E8-B61E-837E056C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9F0FD-929D-45EE-A01D-628C3539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354E9-19FE-42E9-928A-B6372B0B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1E1E8-749A-4489-9AE8-1EA81146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16B37-F97A-4C9F-A9A9-2CBA320C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E2743-61F5-4158-85EB-9231836C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1DAE-C6AF-4FC4-A55C-50B9135D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690F1-11E9-4A3D-903D-8C9C2C05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65FC9-76F7-446B-BDE4-6C221472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0F46F-2871-4FCA-B349-53F9C79C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956A6-A948-4935-BF51-2D1FE09F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7613B-46B6-4390-9009-646F2706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FDB70-6BB8-453D-8DAF-A3B1F91C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6888F-0609-4376-98B7-9A5DCC0F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04A7FF-8929-46E1-B64A-55D7338D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B06D05-7048-4F8B-A74B-A1F0AE85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B503A9-EC6D-4C62-9480-4C9A52BE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5b5d51"/>
              </a:gs>
              <a:gs pos="100000">
                <a:srgbClr val="686b5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525040"/>
                </a:gs>
                <a:gs pos="100000">
                  <a:srgbClr val="686b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75a4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a4e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4574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7366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c6f6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3d2a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3d2a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86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936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5b7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2CDA-1444-4F13-BD2B-08FC015FC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2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3770-AAA8-4B48-B932-8AC75B8F5B9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8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08F6-8E5E-4139-B4C7-2C31C3B00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4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F74B-60F8-4F9C-B89B-73C453A5A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0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715" name="PlaceHolder 1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2438-532D-46E3-AC0A-6173870A2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5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dt" idx="4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ftr" idx="4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DEAB-573E-4A81-A404-9711D8541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80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4063-5F6B-4D03-878F-D117708DC4D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86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8D39-2742-4812-A50A-D88CBCEDA80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1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7E07-AB98-4390-9F04-0891EB7F64F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7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5B72-75F2-4F82-9FD6-CF2167AE538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525040"/>
                </a:gs>
                <a:gs pos="100000">
                  <a:srgbClr val="686b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75a4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a4e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4574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7366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c6f6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3d2a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033D-A5DA-40C0-A33E-4D227A9E4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dad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dcdad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86b5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dad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cdad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89362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dad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dcdad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5b7a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dad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dcdad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dad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dcdad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dad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2FB7-65A6-4802-A61E-C9CA79EBD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D936-1CF7-49F9-8B44-D6985D970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94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pic>
          <p:nvPicPr>
            <p:cNvPr id="29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C256-F212-4433-A538-B6A913D0A9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20AA-3C0C-4C13-A043-4CC9273001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BC30-907F-432D-B900-48B20A6D98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F826-5D9A-4D44-9086-DDDD82DF3B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6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232A-23CE-4475-9C47-447299A7453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7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d9d9ff"/>
                </a:solidFill>
                <a:latin typeface="Arial"/>
              </a:rPr>
              <a:t>Черговість спадкування за законом</a:t>
            </a:r>
            <a:r>
              <a:rPr b="0" lang="ru-RU" sz="48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371600" y="2997360"/>
            <a:ext cx="68724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спадкоємці за законом одержують право на спадкування почергов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ahoma"/>
              </a:rPr>
              <a:t>Обов'язкова частка у спадщині</a:t>
            </a:r>
            <a:br>
              <a:rPr sz="3800"/>
            </a:br>
            <a:r>
              <a:rPr b="0" lang="uk-UA" sz="3800" spc="-1" strike="noStrike">
                <a:solidFill>
                  <a:srgbClr val="ffffff"/>
                </a:solidFill>
                <a:latin typeface="Tahoma"/>
              </a:rPr>
              <a:t>(частина спадщини, на яку особа має право незалежно від змісту заповіту)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Діти спадкодавця : малолітні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та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еповнолітні 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овнолітні непрацездатні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епрацездатна вдова (вдівець)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епрацездатні батьк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Позбавлення права на спадкуванн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соби, які умисно позбавили життя спадкодавця чи будь-кого з можливих спадкоємців або вчи­нили замах на їхнє життя 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Батьки після дитини, щодо якої вони були позбавлені батьківських прав (права не були поновлені на час відкриття спадщини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7138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b9efee"/>
                </a:solidFill>
                <a:latin typeface="Garamond"/>
              </a:rPr>
              <a:t>Особи одна після одної, шлюб між якими є недійсним (або визнаний таким за рішенням суду)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2385720"/>
            <a:ext cx="76104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Особа, яка ухилялася від надання допомоги спадкодавцеві, який через похилий вік, тяжку хворобу або каліцтво був у безпорадному стані (усувається від права на спадкування за рішенням суду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Завдання :</a:t>
            </a: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Життя свідчить, що спадкування за законом буває частіше, ніж спадкування за заповітом. Як Ви вважаєте, чому ? Відповідь аргументуйте. 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Перша черг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•  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Діти спадкодавц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•  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той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одружжя, який пережив спадкодавц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•  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батьки спадкодавц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"/>
          <p:cNvSpPr/>
          <p:nvPr/>
        </p:nvSpPr>
        <p:spPr>
          <a:xfrm>
            <a:off x="7823160" y="3652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1729" y="10145"/>
                </a:moveTo>
                <a:lnTo>
                  <a:pt x="21729" y="1014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8c0039"/>
                </a:solidFill>
                <a:latin typeface="Arial"/>
              </a:rPr>
              <a:t>Друга черга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ідні брати і сестри спадкодавц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баба та дід спадкодавця (як з боку батька, так і з боку матері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ffffcc"/>
                </a:solidFill>
                <a:latin typeface="Tahoma"/>
              </a:rPr>
              <a:t>Третя черг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Рідні дядько т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тітка спадкодавця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eec94"/>
                </a:solidFill>
                <a:latin typeface="Times New Roman"/>
              </a:rPr>
              <a:t>Четверта черг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* Особи, які проживали зі спадкодавцем однією сім’єю не менш ніж 5 років до часу відкриття спадщин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Verdana"/>
              </a:rPr>
              <a:t>П'ята черга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927000" y="1915920"/>
            <a:ext cx="7196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•   </a:t>
            </a: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Родичі, не зазначені у попередніх чергах спадкоємців, до шостого сту­пеня споріднення включно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•   </a:t>
            </a: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утриманці спадкодавця, які не були членами його сім'ї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Arial"/>
              </a:rPr>
              <a:t>Утриманець -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— 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неповнолітня або непрацездатна особа, яка не була членом сім'ї спадкодав­ця, але не менш ніж 5 років одержувала від нього матеріальну допомогу, що була для неї єдиним або основним джерелом засобів для існуванн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Tahoma"/>
              </a:rPr>
              <a:t>           </a:t>
            </a:r>
            <a:r>
              <a:rPr b="0" lang="uk-UA" sz="4200" spc="-1" strike="noStrike">
                <a:solidFill>
                  <a:srgbClr val="ffffcc"/>
                </a:solidFill>
                <a:latin typeface="Tahoma"/>
              </a:rPr>
              <a:t>Завдання :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Хто належить до спадкоємців за законом та якої саме черг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* Батьк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•  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хрещений батько;  •  </a:t>
            </a:r>
            <a:r>
              <a:rPr b="0" i="1" lang="uk-UA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естра;  •     сусідка;  •    двоюрідний брат;  •    чолові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• 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дочка;  •     баба; »    тітка;  •     кум;  •     подруга;    ону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7:29:25Z</dcterms:created>
  <dc:creator>FuckYouBill</dc:creator>
  <dc:description/>
  <dc:language>en-US</dc:language>
  <cp:lastModifiedBy>FuckYouBill</cp:lastModifiedBy>
  <dcterms:modified xsi:type="dcterms:W3CDTF">2010-02-08T18:25:49Z</dcterms:modified>
  <cp:revision>5</cp:revision>
  <dc:subject/>
  <dc:title>Черговість спадкування за законом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6000000000001024140</vt:lpwstr>
  </property>
</Properties>
</file>