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613E-72EC-4906-B7CE-F3FA54D1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997-F950-4A3F-8FE2-1CD48FB9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9C8673-4D72-4BFC-B358-56643343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D052ED-804B-44F8-8BA8-0DCCC1A7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5153E4-50FC-47FC-A739-5AAB0997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4F1A12-33C6-4960-AC68-C3A117F8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2FA13D-872E-497A-A22D-98A79F3F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BF281B-4052-45D5-8A1C-6A2D9ED8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0051F3-2309-4FC0-81E2-A39C9B19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D32C7B-660C-49F7-B80D-DAC209CF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CAE296-D962-43C7-A3BD-08F411D8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99D7F-D111-4FF2-8657-1350468F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DAC-5312-44A7-A1F9-062A681F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75353-24FA-4B95-A629-1A91F061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F411D-0EEC-4461-8BC1-2572C0BC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3B170-596F-41CD-84FB-92BBCAD6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32E23-66C4-4EED-8CC6-3D83DB55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2C292-7044-495A-8252-75DFBC57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8D6F4-EA84-49B9-973B-3D4567DC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E953F-9EAC-4C74-95EF-C2EFDBEF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D3CA9-8CE6-48AF-88B3-DB10E544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26099-D21A-46E3-AC31-4436560C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90461-B431-48CB-8165-7B71CB62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A7D-087C-4653-A1A3-A09F7B2A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7C277-D7C3-4908-9FCD-D7F70F27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12E8A-BA1D-44CE-A384-32713005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BF3A1-DC79-4E03-9363-92DA1BC6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327FE-F821-4CE2-8716-9E3D6D68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3E78E-97D1-4F98-B899-12AB45AF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715A8-2FB1-4D2A-ADB6-3C35CB54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037FE-B734-4B3B-9770-8652B3D5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45773-06A6-49CB-81A1-CC05F160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3A6FE-4B7E-4CDE-A907-4DC9A471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BD672-BDBD-4F3A-911E-B6401CAB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D050-8AD9-4252-8B03-97363C9C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07B93-9665-4D7A-AAC2-AB480CCF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1B40F-7BD7-4C25-9EEA-AF7254E9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3F8AB-8E06-4847-83D7-85691555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B2558-C06C-48CA-88C1-0B533D8F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A0085-51AC-4628-9864-69975FD8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A2A3E-1BB9-4A60-A611-F7CB8F85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52A33-A53A-45E4-9C17-000104B5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1FA76-0865-46E6-8053-4E46D2A7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087EA-F7F7-4119-81D6-701134E3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547EB-7E43-4041-8016-F02C0E92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1350-D71B-48BD-AFE2-9D5E0018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AB76A-81AF-4ECD-9FD8-64002050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F2250-8F10-47DA-B729-4C0E16A5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192DC-A970-447D-BC6C-70C895DB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54BF2-09D1-4A29-B60E-D4DAB7C8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23375-A427-4CB2-867E-D2EBCC9D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CFA1EB-0673-4128-8647-34791C29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02C93-78BC-4801-9E68-5CBD722E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B88020-B187-4F15-836F-6747519C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8D2C9-C34E-4F13-BE79-C63738DD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F41E3-35AF-46A6-A1E5-F26F9B4B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4725-1247-4911-B1D2-28997907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9ED1A0-DBE0-49DF-9FCD-9999670A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735AB-B3FD-4694-8112-A46E35C2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F5541-D00B-46AE-9FC5-CAECE42E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2B2C3-AD09-4078-8553-25A715BD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7079D-7A13-40C7-A52C-EA7131DB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BADDA9-8DA2-42C9-9881-0031BFA7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490F6-E51C-48CB-A75F-02FB188F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6D4CC-2127-425B-9331-7772DBC5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0BFCC9-AEFC-44EC-A469-C809E2FB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33B52A-45BD-42CB-81A8-3D2438C7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56C3-9621-44BD-B883-DB0BB174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F1487F-2556-434A-9DE3-D8D7A1FB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A0FAB-94B7-4CDD-913D-8BFFFB75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50114F-3610-4A76-8ADD-D2B10029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24A37-57AF-4F45-A303-9A02960D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DA47E-F0BB-4DD2-8603-936B3601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7BF66-A303-48AA-8637-19DA1141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4835F-B803-4879-BCE9-637B5435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4544C-DE31-49FD-B05D-9A88A28D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27E18D-DF77-4429-9D99-2796BD58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7870-FA85-4BD2-A72D-B26C982A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C697-88E0-48B0-BD40-D66AEA1A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53D1-4229-47B2-AA34-39A5384E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4A7-5389-4408-99BD-027203EC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302F-2146-491C-B3B2-8CF77A40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CD28-539E-49D2-AF27-6816ED4E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B50F-3367-4AF3-84B2-4C1A2EAD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AC3E-456B-44CC-A449-8B7C0DE2D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DC3E-8613-4B77-9EEE-C78B0648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D243E-9EF3-437B-AEDA-6FC31214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CB726-6B42-4150-A31D-14F703B6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341A2-D37A-45C4-BA29-ACC7E4F5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A8AC6-094A-46EF-BD30-4DDAA2FC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A2589-D961-4118-AF2A-A557BBF9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92D3-9B8F-4AFA-911B-2B307AC8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30E5E-3E6D-42DA-B105-744B4A4F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2641B-05E8-4B78-BF64-3CCD6933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91862-B3DF-4018-B0FF-37DEC4D7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CFD7D-4636-4E48-8124-871B3F99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DA1D-13C9-451C-8FAC-5CD33BB0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FFBF7-ADA6-4914-82EC-D0411A19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B841E-0443-4720-AE21-E50F1D56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685A7-030D-4D9F-B75C-11E2097E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D4A74-87D2-46D8-9B0D-96579D1F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7447D-0945-4990-A532-F217F8AE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215-2764-4F23-96A2-FE4C7E62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A4C40-0306-4A11-97A4-94D77B79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7F8EA-B417-479F-A47F-9B56B077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5E074-DBCF-4F3A-B904-F995320C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49A9F-CF24-4075-A4C8-E23041BF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51CEE-98CB-4366-9B34-F3966BFE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2B4DB-C357-4891-A51D-C6E9A81D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0660F-F5B7-4035-9694-345C6899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7372B-F067-4335-98EE-24116330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B5CF8-FA10-45CF-B0BB-3AE35944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89058-263D-4934-9415-E595E443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F1E-5B40-4FCE-B9A5-4633898A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C3440-8239-41DE-93DB-9849A105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F4A5B-3014-4D4B-8D57-4B74B9D0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F01CE-9F9E-4FDD-AF55-2C43680E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03F57-80F2-41B5-BAB9-E41014FA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66A31-2BE4-4119-97C9-7EFFC07B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DA371-4415-4767-B976-5DA28FD3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A55FA-5C81-47C8-8D43-D8438CD0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2D42B-C646-452D-A974-86091D0F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98CCC-91B1-4144-8283-A055751B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F45DA-CE3A-4726-BE3E-ACD2FC48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0A8-1D50-4157-8739-D1E20899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6CC4B-BB19-4BD7-8671-CCD35421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3EF1A-C865-4C13-9B79-64645D69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D7F03-26FC-4926-8762-0A1B0321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E3618-F70B-44E4-984F-59A90387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EB7C7-BB71-4997-A66E-978F1545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93DA6-F8DA-42C1-A2A0-6478DC7C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008E0-04C5-4A27-9B5D-B4BA3C2E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63777-7609-406C-8C2B-BBDCF6E5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119A5-3AA3-4D44-B9D7-F4953CCE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D1C4A-52AB-49B6-989A-30F930AB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DE6-2FEF-49E1-B93F-17884DEE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76C85-D5A1-4C63-9734-2FB0442A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BC9E8-C522-4001-B27D-B2EC12B3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A2760-04D0-4EFC-8C79-D00C8D78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B3BE2-EB22-413C-A529-CD9C6430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3224A-352E-49B5-A4F5-06EC649C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19BFE-305E-4A5D-9DA0-D4B24ED8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95EC8-255C-49EC-9C1F-DD0681C3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96676-5788-4DDE-976A-28C210BE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F325F-0081-4C34-978A-85FADACD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3E667-11A2-4376-B7D2-AA2B6413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091-CFD1-488C-9B26-29A0B29F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EEE02-8E02-447E-9994-288835BE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3100A-C713-4AEC-8B42-AA27CEFF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F47EE-D237-4C3D-9AB7-5EB56345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E4C33-9BA3-482A-A864-41C9B7B3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D9AAB-AD46-4F8A-9DF2-A50C9B7A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B7064-6B2E-4133-81FC-F41B5766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A5956-53E6-4CAB-9384-B54384B1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644A6-5231-45CE-B0A7-DC972095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55AF6-AD68-4BBF-AC17-18BB3B51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34174-8504-4CFE-A254-335034D8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E07F-D856-4791-B956-2C97B6D9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5656C-B964-4C6C-853A-8FC244F3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CE39F-286F-43D1-AAE3-FC08D44B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7A420-979A-4D22-BD69-3892079F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D8960-5E3B-4471-AC52-0D7CE53E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1EF3A-3D55-4B16-99AA-0FBA5B44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CF2BA-D1CF-447B-80BD-6A2C68D1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30EA1-A343-4DCA-8ECD-27A4FDCD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35B56E-E14D-42E5-B679-8E2F3632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A2231C-DF50-491B-B4A9-FC2D4B27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517E96-B11F-4FDB-B6EF-78C6377E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7470-C742-4C64-A191-AFDD6C15B9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2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11FC-BF52-4152-BC31-E49DE821E9E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683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68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B4B5-FC01-46FF-9A66-20B73798CB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FA6C-EEB9-4FD7-B19E-A500C8F6B9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76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7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7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7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77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80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80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0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1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82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83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84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84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4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5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8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33AC-EADA-4BBE-94BD-3A558345DFC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94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4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94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5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5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5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6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6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6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7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7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7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97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98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98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99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9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9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00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00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00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00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01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02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02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02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02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3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3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3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4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4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4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5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06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DB26-A7F8-452A-ACBB-82B3B95DFBD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3262-E0F6-43AC-B03E-6625CC4644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93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6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0B5E-3D15-4344-9E09-92387EDEEA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73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86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F567-6C5C-4661-AFF1-D91B92FC2DE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5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31A7-9C54-467B-8AA7-C3878486A82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C073-98AA-4241-9303-E38AFD24FB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3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D0D0-B252-45FF-BB82-95AA0BBEA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6946-93FB-4706-A86E-8326FB879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5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5AEC-FBA4-4E7F-8ECF-4DBD446ABE0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СПАДКУВАННЯ ЗА ЗАПОВІТОМ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900000" y="3428640"/>
            <a:ext cx="708840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Заповіт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— особисте розпорядження фізичної особи на випадок своєї смерті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В будинку для осіб похилого віку та інвалідів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Директор будинку, головний лікар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На морському, річковому судні, що ходить під прапором України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Капітан судна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8c0039"/>
                </a:solidFill>
                <a:latin typeface="Arial"/>
              </a:rPr>
              <a:t>В пошуковій або іншій     експедиції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340000" y="3213000"/>
            <a:ext cx="6400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чальник експедиці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 Black"/>
              </a:rPr>
              <a:t>Командир військової частини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285228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00"/>
                </a:solidFill>
                <a:latin typeface="Arial Black"/>
              </a:rPr>
              <a:t>В пункті дислокації військової частини, де немає нотаріуса чи органу, що вчиняє нотаріальні дії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В місцях  позбавлення волі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та с</a:t>
            </a: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лідчому  ізоляторі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Verdana"/>
              </a:rPr>
              <a:t>Начальник слідчого ізолятора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 та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uk-UA" sz="4400" spc="-1" strike="noStrike">
                <a:solidFill>
                  <a:srgbClr val="ffffff"/>
                </a:solidFill>
                <a:latin typeface="Verdana"/>
              </a:rPr>
              <a:t>начальник місця позбавлення волі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c0039"/>
                </a:solidFill>
                <a:latin typeface="Arial"/>
              </a:rPr>
              <a:t>Завдання : В яких випадках заповіт буде визнано дійсним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а)    Заповіт    виголошено    у    присутності  3 свідків, у тому числі депутата райрад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)   заповіт завірено нотаріусо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910640" cy="7207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1042920" y="1844640"/>
            <a:ext cx="7842240" cy="41054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)   заповіт завірено капітаном морського судна під час плаванн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)    заповіт завірено сусід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)   заповіт завірено головним лікарем санаторі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є) заповіт завірено директором заводу та начальником ЖЕК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99"/>
                </a:solidFill>
                <a:latin typeface="Arno Pro Smbd Display"/>
              </a:rPr>
              <a:t>Вимоги</a:t>
            </a: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 до форми заповіту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Форма заповіту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исьмова форма, зазначається місце і час складення заповіт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Особистий підпис заповідач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свідчений нотаріусом (або іншою посадовою, службовою особою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 населеному пункті, де немає нотаріуса, заповіт може бути посвідчений уповноваженою на це посадовою, службовою особою відповідного органу місцевого самоврядування (це положення не стосується секретного заповіту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Види заповітів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овіт складени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 письмовій формі із зазначенням місця та часу його складання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ідписаний особист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повідачем 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нотаріально посвідчений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7d47d"/>
                </a:solidFill>
                <a:latin typeface="Arial"/>
              </a:rPr>
              <a:t>Заповіт з умовою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Заповіт, в якому заповідач обумовив виникнення права на спадкування в особи, призначеної у заповіті,наявністю певної умови, як пов'язаної, так і не пов'язаної з її поведінкою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uk-UA" sz="4400" spc="-1" strike="noStrike">
                <a:solidFill>
                  <a:srgbClr val="ffff99"/>
                </a:solidFill>
                <a:latin typeface="Arial"/>
              </a:rPr>
              <a:t>Заповіт </a:t>
            </a:r>
            <a:r>
              <a:rPr b="0" lang="uk-UA" sz="4400" spc="-1" strike="noStrike">
                <a:solidFill>
                  <a:srgbClr val="ffff99"/>
                </a:solidFill>
                <a:latin typeface="Arial"/>
              </a:rPr>
              <a:t>подружжя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пільний заповіт подружжя щодо майна,яке належить йому на праві спільної сумісної власності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     </a:t>
            </a: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Секретний запові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аповіт, який посвідчується нотаріусом бе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ознайомлення з йо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місто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Посвідчення заповіту іншою посадовою, службовою особою (у разі неможливості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посвідчити </a:t>
            </a:r>
            <a:r>
              <a:rPr b="1" lang="uk-UA" sz="3200" spc="-1" strike="noStrike">
                <a:solidFill>
                  <a:srgbClr val="2f1311"/>
                </a:solidFill>
                <a:latin typeface="Arial"/>
              </a:rPr>
              <a:t>його нотаріусом) (посвідчується при свідках)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Особа, яка посвідчує заповіт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 стаціонарному закладі охорони здоров'я (госпіталі, лікарні тощ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ачальник госпіталю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оловний лікар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аступник головного лікаря з медичної частин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черговий лікар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02:52:55Z</dcterms:created>
  <dc:creator>FuckYouBill</dc:creator>
  <dc:description/>
  <dc:language>en-US</dc:language>
  <cp:lastModifiedBy>FuckYouBill</cp:lastModifiedBy>
  <dcterms:modified xsi:type="dcterms:W3CDTF">2010-02-08T18:23:46Z</dcterms:modified>
  <cp:revision>19</cp:revision>
  <dc:subject/>
  <dc:title>СПАДОК ЗА ЗАПОВІТ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07000000000001024140</vt:lpwstr>
  </property>
</Properties>
</file>