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359E-E1A9-4CF0-825B-22A8DEF8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9A85-5F00-43E3-9944-06624696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37F7F3-D3B2-4B7A-ADCC-B864CD01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CE8600-AC7E-4CCE-9B5C-054F223B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2A2B3B-AAFB-4E03-B7EA-4B60CEA8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4C5E1D-481F-4E3C-B00C-092CAB75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98C28C-4065-47FF-A100-FA22A093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3D9EF9-56F1-426B-B921-60DC3029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133380-207F-476D-A3A5-3D44A694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0955D6-A371-4819-B693-2D586BDE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BA82FC-57E3-47D8-96DE-1B475292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7DC93-6DB1-4B94-9BB6-B099F26C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79A-80BE-46F0-A91A-F2B59DCF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B5E13-7F89-48D6-873B-8C628632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2CB0A-7302-4AB8-85C7-71696E9D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A00D5-4114-4744-8F33-FBB71594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FAE1B-882E-49CA-A686-E69CA641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3D480-4B9E-4ED8-BAA7-EB6FA97E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905F0-CED7-4F84-A7E0-37634619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10EED-16A3-4C1B-A9FE-B634FC63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83AD0-0FEC-41BB-BC2B-153E31E4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B9E29-46E9-4DD4-875F-E7357215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2B6F4-E7BC-4541-9A11-F39E0266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98F-4E41-417E-983C-83338431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2D99A-49DE-4F69-9A07-D87BE0E8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5BFE3-F22D-4D41-B23E-170AC979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9807B-7036-4792-8D90-8413AE82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23355-6837-4944-93E6-36E6B8B1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F056E-CE41-43DE-913F-3DB1F61B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5951C-79D3-4268-93CE-679DFA96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B6935-B5D0-48E4-8D5B-EA3745B3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87968-EA3A-4A21-B853-39C86D0E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8174D-F531-4BA2-8C69-1BC2F659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7E5C7-9708-4D31-8B6F-8ABC38CB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2EAF-5FB6-4B72-A0F0-DD1E4D35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4BF04-9D2A-455D-AE8B-90005FFD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11BA1-187E-4023-ABF3-0F7AE079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17AD4-065E-40D5-9B01-6BA5CF14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08B1B-0FD0-429E-A602-750B1BB4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F7B80-8A30-4D7D-8074-12B240C3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1189B-10CD-491A-A333-2F6CC5A2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C9245-B565-4857-AC85-40CB710E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AA730-89FB-42D9-BE3E-9D5FC0D1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2A81B-0082-41CB-BF4A-B070AFFB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8BB8F-CD17-4C96-9266-525D5928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B145-8D84-430B-9BA4-34DAA118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EFE4C-CB92-4513-AA1F-5C7AF445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0A153-B82A-49EA-80C4-4CF53CDA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FF928-2F33-48D6-9AE1-4CD0F185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1576D-A070-4FC9-BB34-44F27E82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5B7FA-AAED-473F-A169-65EB5A74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AE06FA-BF66-41B4-93D5-6967C3EF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87FBBD-4376-4F3C-8420-10BE4881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8F39B2-D2B4-4E65-A81C-9AF2E785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59307E-1CE1-4780-B209-9CE3E0B6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C5511-4120-47BE-9752-511302A2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B709-219D-4F8A-B86C-03EC946B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54755-2FBF-42EF-BCFF-DAD2B5EB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DA3F3-04DD-4487-AE60-170D7A7E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3FCBE-A6C9-484B-96EB-A2B91377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9E5299-F2B9-4E33-90C7-EBDB70C3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B4C5B-D87F-4198-9ECE-9A60FAD3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70EF1-84F7-42AD-984F-79F5AE18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4EB7F5-4F07-468C-A39B-82E1438C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F5A830-2311-45F0-B9B0-692F274C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8CAE1F-86A5-43DF-AC13-24492A04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AA5ECB-AEDC-4106-A9CF-D73FA722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62DB-039C-4109-9822-153107D8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3F98F3-1982-4F64-87EC-E49C6175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B6655-94A5-455A-8EE9-D4753B6A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F1700B-C272-4C7F-B1EA-E19EA0D7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DF3E7C-B573-4DF3-94DA-17196495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78544-1BAE-4C0B-822B-475FF4BC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8F92D-2F85-4959-91FD-8AD0F7A0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C3437A-95C9-4A85-A462-3A1F0611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E9E35D-D3B3-4315-90C2-BEBAECCC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0A20DB-EC7C-49D2-9330-60406B6A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45FDBD-0545-47F4-B8C7-60B29B97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D302-FDF9-4CD7-AC73-CA9A5BB9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96435C-2A22-49C5-9F9B-540772DC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689F4B-67B1-4196-B5B5-310CF29C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2090D5-66D7-4711-8654-0CB6BF72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AF738A-FC68-4D3F-B40B-546D659F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B82D7A-FA46-4F73-AAD1-53F6811D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9A47F2-3806-42A2-9DD5-B7643FB7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505289-AAF5-4F92-8DF0-74D3FC24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C0F3FF-772E-44F0-BFF8-E09152AB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0A2C22-FC8D-438A-A7FC-7EF11C56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53530D-A19D-4E91-A45C-A938960A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62BE-9DCE-448E-BF5D-0C2E986B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C0D4C-2160-4F2E-B52B-F5E700CD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7A5934-5DB8-4C1E-9545-38E75C39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A986C4-8C73-4502-850E-5B6C92C3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977774-9B9E-4639-ABF3-B5152AA2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FD7616-B92A-4CD0-8B3B-5C058EC6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77BA3B-7F70-4574-853F-E2D70802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C5427C-A407-4870-A3D6-76845D02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B5E395-CA4F-462E-9426-E610244C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6AEE6D-7CE5-448C-9A02-FF506B5E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44ECFA-6C07-43E1-9500-DF24B71C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BC38-1696-461A-B298-FD52F4E9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672AAD-33F6-45C9-ABC3-E375B35A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B48D57-C462-42B5-9EEF-03D9F55B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297A9D-A4FA-4BAE-91D8-38FEBA3F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18BA2A-710D-47E7-9A61-D189B1C7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5A935B-58AA-4F85-BCAA-39560FAB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BC9C7B-7D11-465B-9DB8-7E02D02C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069AE2-03E4-4411-8813-884D21D7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D49052-FBE1-4B42-BCE9-5FC231E2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572052-B00B-43CA-AB12-6497E88E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2E7731-6460-452C-A71E-35BDB7D6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6AF-FF84-4D78-AC13-D1641A70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1CCD-61A3-4FF3-8BB1-5F79D121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59D82E-F394-45F2-A06E-A30972BE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970AAF-F2F6-49C1-B375-BD0AC72F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D8466B-F66F-4005-BE2D-92928215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60CD34-02F9-45B6-B37F-85EF8E5A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4F0401-6F58-4AF1-AB43-F4D51ADC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05F5D7-8D6C-4BFA-B092-09BFFA0B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172974-6B5F-4995-9998-F63DEDCD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0A67FA-C485-4F8A-860F-BA71551C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E98EEC-C113-4447-B8E1-46C29683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D6AC26-0247-402E-8B87-C6EAFF2C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8DB7-FB73-40EF-9D73-B2B52A3B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4EDE87-814B-4C3E-92C2-BE882E1D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51E997-0772-4BD5-8886-9A5336F4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89C12C-6B35-4490-B2F2-5CC71612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C59D1E-FA60-4C13-91BE-A569B7E8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796F31-9BB3-4A44-B4AE-83D86EE3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85EC10-C213-4005-A8AE-8EB7AA57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26CC63-A02E-4A85-837C-F105E076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3677-EEF3-4043-A277-9DBA5D74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59FE-88D3-4E4B-B081-F7AA7F56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9464-832B-46F7-8A06-52BEDCE6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05B6D-54BB-4E6D-B295-6AC6ED9A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040B5-5555-4EE1-99EA-92BEF5F8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8F9BD-9E8E-44D9-BBB2-60DFBBCD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8EDFD-2730-47B1-A91E-E28E6B3B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9383C-EA64-47D5-820E-45383357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698-19FF-4DB3-A788-1FF0AE7F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2F405-5E24-4E64-8CBF-9B8E4681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70AAF-0529-4268-A771-6D22F333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C84DF-83FC-417C-A713-3E12CF96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F3CC3-3CCF-471F-B6D6-F89BC755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3C6FA-DD2E-4ABC-A2E7-5175E32D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4CA42-A0A3-45E1-BE16-4EFC7671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11339-7920-4C0A-964F-2E42821E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15BE5D-DBBA-4AD8-AD42-8F14E049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13563E-B33E-4298-91E1-25D66E01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190B39-3DC7-48F7-A059-9AA1BB72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FCB-309F-4701-8220-D7E54B64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713E4C-FCA2-46E5-BDF7-4F385ABA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7AB489-05E7-46A4-ABDE-317EE4BE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FA526E-AC57-4F9A-A408-34CC2EED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538897-BF6F-4E7E-89D0-2182C22C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CE7CD0-EC60-4F4C-A28E-5185E626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A3E0C1-4FD7-4806-B6CA-69E84818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840C1F-F9ED-44B8-92A2-561DAFE7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61F63F-0A53-400F-AD53-66507D49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89324F-AAF8-4B10-8DE7-388162A9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127B5-6E03-47E6-B81F-10B82D52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67A7-F611-42A5-AAC1-57B74926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7C990-CFE3-46E2-87A5-B9962991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A7324-CD06-44C1-93CC-A098D202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A8ED2-3F30-4AE4-B92D-46993C05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3E47B-11B7-4AC3-A2DF-71671AA2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E6EC8-7B5A-4147-8160-1ADCE4AB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A8AFF-4BB7-453C-8DD1-396F2725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5CB19-0EEE-42FB-8CE5-60A44C00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B3AF0-60A1-42BF-9057-0D091D9B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4E435-C1B8-4E69-B5C1-2FB9AEB5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46018-76A6-4053-82D9-61574543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87B2-34DA-4CA0-9D0E-F25FF4FD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77C42-9D17-4174-9E16-6F44D52A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868FF-42B9-4EFF-B002-258F6006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01364-A194-4285-9F28-058444B5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0FB97-4EAB-4911-B9A1-34B22081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94F1A-5563-4C6E-926A-A62A1811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0F35A-1045-43C5-8962-DA6D113D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FB123-1850-4CF4-BE33-613CA87D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16BA7-7507-4D8D-9F6E-029ED867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22686-2169-4C80-868B-B5989636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EF02B-C5AF-4EF2-B4F7-84C75925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A55-CE3E-400E-BD9D-81C5C48E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7A611-CBAF-48CD-8FF7-2A73EE00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BEBD4-2177-483B-A1C9-FD10B6E7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CC72C-EEDC-43F8-AE3E-ABF2747F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FE58E-5822-49ED-8D41-5E49FAD5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86BF5-7D3B-4CE5-A248-F7A7DEEA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4A3FF-D861-4690-90A3-E48D34DF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56974-BE27-4DEE-9368-661B997E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B7131-CC6E-4F59-A037-CE2D2C44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F3DC4-7D64-4A70-8ADE-C62238E1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A5C12-1769-4CDD-A88E-BF410FCD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6F31-73BA-45E1-9B91-FF975634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092FD-8C95-467B-ACD9-8C20E2C0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36C4F-9564-4AE5-ABA8-855F85F1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E49E2-BAF4-4887-BD4B-E7438924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D08C2-E0FE-4B16-A16A-E3CFD385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DE51B-BFF3-4D86-AAFD-62ABDC5E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2076B-75CB-4D09-A344-DBBFE8FE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A440C-FD84-49BF-B70F-E3F51D09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5C0B6-BC39-4CA6-B0B7-7E29170A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EC6AD-757F-4AE0-B827-1517CAFB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4A3B6-EA07-4B01-AF6E-E44932B5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0D9D-DD3C-4265-808C-78227578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6BC92-8906-4FCA-AF17-90522F36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DF0EA-F7D2-43E0-9819-7777FB66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C52D1-48B2-4522-AF02-CB73F2E5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226A0-A3D7-4676-9E7A-70E5A3FF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795BF-1DDB-43BC-82DB-8D028C91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81958-6185-41B0-AAFA-37A7CCCB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F55EE-5530-48C5-96BE-F56CFD09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607B50-CC14-40A2-98ED-FF96705E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827D9D-F5D7-4512-8461-4AB70FFB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EE755D-E66A-4234-99CA-290C0E93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5b5d51"/>
              </a:gs>
              <a:gs pos="100000">
                <a:srgbClr val="686b5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525040"/>
                </a:gs>
                <a:gs pos="100000">
                  <a:srgbClr val="686b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75a4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a4e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4574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7366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c6f6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d2a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3d2a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86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936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5b7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FD06-2483-46BF-A080-1475FA126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2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C72E-05CC-43B8-93F6-A43EED11094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8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75D0-2506-4983-B3A2-803E63440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4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09E4-96A2-474E-9CB8-0B1408855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0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715" name="PlaceHolder 1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8ABD-6A69-4208-9A23-945157310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5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4E34-7100-46E2-A1FA-C8AD042C7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80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C356-1447-41A5-BCE4-530B64E0AB9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86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8830-15CE-4DAB-BBB0-EE4F80712EE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1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6DAC-B2A1-492E-8C41-E973A632B0E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7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E82A-4FFD-4B70-BA96-EFB4AA84182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525040"/>
                </a:gs>
                <a:gs pos="100000">
                  <a:srgbClr val="686b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75a4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a4e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4574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7366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c6f6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3d2a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621B-096D-4346-BDEC-7E622255F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dad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dcdad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86b5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dad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cdad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89362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dad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dcdad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5b7a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dad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dcdad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dad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dcdad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dad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E959-11FC-47D8-AC74-B4253FCC0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7193-0DAE-4E35-9C25-70DBCC32D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94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2C09-9379-4C7F-A0C7-3B96983BF3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DBF1-73CB-486E-9CF6-6762F29BB4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7FAA-DEAC-411C-A3D0-C63126D0109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98B0-C3FD-48DE-88E6-C24F8DADBB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6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1E8C-29F3-493F-B870-33B39C0FB31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d9d9ff"/>
                </a:solidFill>
                <a:latin typeface="Arial"/>
              </a:rPr>
              <a:t>Черговість спадкування за законом</a:t>
            </a:r>
            <a:r>
              <a:rPr b="0" lang="ru-RU" sz="48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371600" y="2997360"/>
            <a:ext cx="68724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спадкоємці за законом одержують право на спадкування почергов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ahoma"/>
              </a:rPr>
              <a:t>Обов'язкова частка у спадщині</a:t>
            </a:r>
            <a:br>
              <a:rPr sz="3800"/>
            </a:br>
            <a:r>
              <a:rPr b="0" lang="uk-UA" sz="3800" spc="-1" strike="noStrike">
                <a:solidFill>
                  <a:srgbClr val="ffffff"/>
                </a:solidFill>
                <a:latin typeface="Tahoma"/>
              </a:rPr>
              <a:t>(частина спадщини, на яку особа має право незалежно від змісту заповіту)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Діти спадкодавця : малолітні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та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еповнолітні 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овнолітні непрацездатні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епрацездатна вдова (вдівець)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епрацездатні батьк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Позбавлення права на спадкуванн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соби, які умисно позбавили життя спадкодавця чи будь-кого з можливих спадкоємців або вчи­нили замах на їхнє життя 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атьки після дитини, щодо якої вони були позбавлені батьківських прав (права не були поновлені на час відкриття спадщини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7138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b9efee"/>
                </a:solidFill>
                <a:latin typeface="Garamond"/>
              </a:rPr>
              <a:t>Особи одна після одної, шлюб між якими є недійсним (або визнаний таким за рішенням суду)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2385720"/>
            <a:ext cx="76104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Особа, яка ухилялася від надання допомоги спадкодавцеві, який через похилий вік, тяжку хворобу або каліцтво був у безпорадному стані (усувається від права на спадкування за рішенням суду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Завдання :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Життя свідчить, що спадкування за законом буває частіше, ніж спадкування за заповітом. Як Ви вважаєте, чому ? Відповідь аргументуйте. 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Перша черг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•  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Діти спадкодавц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•  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той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одружжя, який пережив спадкодавц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•  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батьки спадкодавц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"/>
          <p:cNvSpPr/>
          <p:nvPr/>
        </p:nvSpPr>
        <p:spPr>
          <a:xfrm>
            <a:off x="7823160" y="3652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729" y="10145"/>
                </a:moveTo>
                <a:lnTo>
                  <a:pt x="21729" y="1014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c0039"/>
                </a:solidFill>
                <a:latin typeface="Arial"/>
              </a:rPr>
              <a:t>Друга черга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ідні брати і сестри спадкодав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аба та дід спадкодавця (як з боку батька, так і з боку матері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ffffcc"/>
                </a:solidFill>
                <a:latin typeface="Tahoma"/>
              </a:rPr>
              <a:t>Третя черг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Рідні дядько 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тітка спадкодавця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eec94"/>
                </a:solidFill>
                <a:latin typeface="Times New Roman"/>
              </a:rPr>
              <a:t>Четверта черг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* Особи, які проживали зі спадкодавцем однією сім’єю не менш ніж 5 років до часу відкриття спадщи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Verdana"/>
              </a:rPr>
              <a:t>П'ята черга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27000" y="1915920"/>
            <a:ext cx="7196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•   </a:t>
            </a: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Родичі, не зазначені у попередніх чергах спадкоємців, до шостого сту­пеня споріднення включно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•   </a:t>
            </a: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утриманці спадкодавця, які не були членами його сім'ї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Arial"/>
              </a:rPr>
              <a:t>Утриманець -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— 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неповнолітня або непрацездатна особа, яка не була членом сім'ї спадкодав­ця, але не менш ніж 5 років одержувала від нього матеріальну допомогу, що була для неї єдиним або основним джерелом засобів для існуванн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           </a:t>
            </a: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Завдання :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Хто належить до спадкоємців за законом та якої саме черг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* Батьк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•  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хрещений батько;  •  </a:t>
            </a:r>
            <a:r>
              <a:rPr b="0" i="1" lang="uk-UA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естра;  •     сусідка;  •    двоюрідний брат;  •    чолові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• 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дочка;  •     баба; »    тітка;  •     кум;  •     подруга;    ону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7:29:25Z</dcterms:created>
  <dc:creator>FuckYouBill</dc:creator>
  <dc:description/>
  <dc:language>en-US</dc:language>
  <cp:lastModifiedBy>FuckYouBill</cp:lastModifiedBy>
  <dcterms:modified xsi:type="dcterms:W3CDTF">2010-02-08T18:25:49Z</dcterms:modified>
  <cp:revision>5</cp:revision>
  <dc:subject/>
  <dc:title>Черговість спадкування за законом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6000000000001024140</vt:lpwstr>
  </property>
</Properties>
</file>