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6669-1157-49AE-B43A-11BAD759B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5714-CB90-43E0-9540-C7CCBBBDD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0D4727-D368-4870-9C1F-719C7C893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2D745E-A9D5-4B42-B20F-3D5DE918A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620120" cy="95382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81E7B1-BE6E-4F9B-982B-6EC0B5A70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EFFB591-8AE5-4BB5-978A-F3D779F95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A7CA88-1312-431E-BFA4-F522C93F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83A62E-E066-4FC4-85E8-8614B3E52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1347F3-7F12-4FBD-A564-323730E5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D3FB41-8672-434A-8F5C-69A542757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52628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69060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236232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52628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69060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F5A09D-8C6F-49AA-89B9-12524658C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D2EC72-1674-453C-9C02-57E764FE9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29E1-3F73-4C0E-B0B5-407C17DEA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668FC3-D0CA-4DDD-A8C4-649254FEC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574F4B-11A6-4963-B654-7A35CA871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A4EA5E-E93F-4932-A7F2-62A44CFF9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C7BA00-472D-4112-80EE-2D4B6082D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620120" cy="95382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3DD120-E785-45B4-AB70-792DD5CB4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F18FA6-DB91-4672-BBA2-7D505127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08FA69-D7A5-447B-8F89-6F08C34D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93E2BB-559C-48B5-AD07-22D4F031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E10031-7060-4BE8-870E-AD42183C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E197EF-A7E8-456C-A698-F339DD78F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2628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9060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36232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52628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69060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245D-8151-4CD4-803A-B78674BA2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52628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69060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236232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452628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669060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2420C1-F842-4B0F-B06E-ADAB96505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70D2FB-0ABA-4EB9-823F-80FBAF20B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F4BB11-853A-48F7-8DE9-10D54A24A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25F3F7-9FD3-4465-81A3-50A5EE16D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347C26-C41E-4A85-ABD3-C552DDAB7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394970-AC6E-4545-9A26-A4A889663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620120" cy="95382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4C99A1-B56C-4671-BF53-9F9A977EB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2A2AE8-FE67-4B1B-974D-8062A79B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20349D-37C6-451A-BE54-3DB75188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BADC54-CC0B-4B59-8329-FF3DDA8C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4C9D8-90F5-4972-A176-B26095038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660D04-3F6D-4C9E-B122-326F12768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E5A1D5-A964-4F94-B4C1-A8B5273E5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52628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69060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236232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452628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669060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D43CEA-71C3-4A48-B724-1438489A4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EE5470-65A5-45C1-8207-2E3A3C857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D1EC15-DEB3-4A20-A23A-8E8F10740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009AE0-D742-4874-8D8E-05E730F43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616550-8963-4E28-A876-AFC4FFB05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5419E6-2BB7-408F-9355-D11D6D499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620120" cy="95382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B9F5C9-EC9B-4C8F-B268-B4935D743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38CE11-993F-4D4D-8305-E4C7D15C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98862-A1AC-4F25-A4F2-8A16632B6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25E456-F8DC-465A-B04F-9B77BDDB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00765F-4004-4325-AF28-A8470FCB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DF0E7B-C1DF-4E5A-90A2-A084B5F5A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F9B288-E49A-4738-82EF-CCD13C60E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52628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69060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236232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6"/>
          <p:cNvSpPr>
            <a:spLocks noGrp="1"/>
          </p:cNvSpPr>
          <p:nvPr>
            <p:ph/>
          </p:nvPr>
        </p:nvSpPr>
        <p:spPr>
          <a:xfrm>
            <a:off x="452628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7"/>
          <p:cNvSpPr>
            <a:spLocks noGrp="1"/>
          </p:cNvSpPr>
          <p:nvPr>
            <p:ph/>
          </p:nvPr>
        </p:nvSpPr>
        <p:spPr>
          <a:xfrm>
            <a:off x="669060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379135-8683-4B82-83D5-65B54B1A5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91150E-0000-4489-AB37-074D031B9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0B356A-8A3F-4F47-806E-02012EFA3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B14576-49CD-42BF-A5D5-D4D73696C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3BFA2B-31B7-4D02-B313-F3CF94994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913D36-0629-45AC-9A47-1BB706831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7F664-42C6-4736-9FAA-575E79BAC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620120" cy="95382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A2966D-09A1-4AEE-9496-2962818D0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B7EF2F-0B19-4EC9-906D-B0A3B530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E12DA7-8437-4D36-8811-C055679E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4AAFEE-E8A9-48E2-A90A-5010FE4E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14EB31-835D-40A1-AA5E-15079296C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F2D963-1E19-4302-A4F2-A7DE03112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52628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669060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236232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6"/>
          <p:cNvSpPr>
            <a:spLocks noGrp="1"/>
          </p:cNvSpPr>
          <p:nvPr>
            <p:ph/>
          </p:nvPr>
        </p:nvSpPr>
        <p:spPr>
          <a:xfrm>
            <a:off x="452628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7"/>
          <p:cNvSpPr>
            <a:spLocks noGrp="1"/>
          </p:cNvSpPr>
          <p:nvPr>
            <p:ph/>
          </p:nvPr>
        </p:nvSpPr>
        <p:spPr>
          <a:xfrm>
            <a:off x="669060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CCDBA6-7FA9-4CEC-BD46-D959A23FD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85804A-9684-4A95-84EB-D83738A9F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58879E-BFEC-4292-BCC4-81859E009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1001B8-042A-4A5E-9D3F-402085895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FBCA4-0DA4-4341-A343-B546831F9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B3DE6C-6AC9-40BE-896A-F4DEE2789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A27AB7-5725-41B0-AB4C-6D32339F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620120" cy="95382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0EA53C-6703-4CA6-A497-4EF461FB1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79EC19-5B32-443F-B221-4162F373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18B9B8-D316-4635-A0E0-B814AEE7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45C589-A549-4CE2-BC00-3B1F9DA6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00093A-28F9-414E-89D7-24B9BD0F4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5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62672C-C444-4C12-B40E-B27242D94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2628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669060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/>
          </p:nvPr>
        </p:nvSpPr>
        <p:spPr>
          <a:xfrm>
            <a:off x="236232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6"/>
          <p:cNvSpPr>
            <a:spLocks noGrp="1"/>
          </p:cNvSpPr>
          <p:nvPr>
            <p:ph/>
          </p:nvPr>
        </p:nvSpPr>
        <p:spPr>
          <a:xfrm>
            <a:off x="452628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7"/>
          <p:cNvSpPr>
            <a:spLocks noGrp="1"/>
          </p:cNvSpPr>
          <p:nvPr>
            <p:ph/>
          </p:nvPr>
        </p:nvSpPr>
        <p:spPr>
          <a:xfrm>
            <a:off x="669060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D62DFF-CA37-437D-906C-D008AF56B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EAD94-698C-4BF1-8198-D7ED4940B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620120" cy="95382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014C1-46A9-414A-9F23-634D75466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3DBFF-24A0-4802-ABFB-8CA31990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5934-AA60-4615-805B-9B9CBF7B2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B550C-4030-4B1B-83AB-0ACAC9C6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F8DD2-47B3-4BE4-9846-10FDC555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0C920-4148-4F72-8281-68D8F6B0B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4946F-8413-4F0F-8438-DC5582491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2628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69060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36232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452628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69060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83528-79F5-44DE-93AF-E7AFDEFE3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67EEA-E08C-41F6-83DF-21C296FE3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9D783-7D7F-4A3C-A70E-4ECF64711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4D741-3475-4643-9097-6A493F37A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47740-6505-41BD-95E3-FDC4A49D8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D17F6-C676-4221-A850-00FC3BE57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2318-CE16-451A-BFF2-7EF6E2E98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620120" cy="95382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1FA41-323C-4BF1-98E2-636E96BF3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8959E-74CD-43B9-81CD-34CCB712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4912F-DD53-4FD9-9904-C80E73FC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53386-06A1-481A-882F-3999C556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51839-0602-4982-B841-73B95C5E5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F3703-474C-417F-9384-D59F35254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2628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69060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236232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452628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69060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A30AE-1A7F-4D12-B6E4-D8603FB9B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7D908-DA42-4909-899C-2BF67FFDE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6CBEF-3C3C-4C91-BBF4-D322F1E4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CE59F-BFBD-48F6-9C9E-359B66DB4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FB7D-7E19-43D0-9AC0-DDF7CCBB0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C5B7C-2C24-4874-8E2C-F6F126944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2149E-DCEC-4252-8890-CFE1D4384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620120" cy="95382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B52A3-337B-440F-9F0C-877253F3A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6D119-FA49-4316-815F-831D37DA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2D8BA-9363-4A21-BCF4-06C86B1D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0DC9C-EAEF-4ADD-B813-27D0DCEB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54EDC-88E0-4276-B5B4-7C8183E3B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C4FE4-0C76-4FB0-9AD2-AA23E1C62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2628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69060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236232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452628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69060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CE18E-F215-4451-8ABF-BF68704D5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7C20B-B333-4CC2-9193-B9C5DE021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F3E3-AFB1-47CA-8E7F-6AC6C0251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605B0-0064-4A7D-808C-E710BC4DD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CA0FA-AE78-4F11-B4CA-287D7C73E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4AC38-3ADD-4A4B-B8FE-B031F907C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EA689-10E3-480A-A5A2-F4795C943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620120" cy="95382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E6AD6-1CD1-48C2-A3BD-1EA826519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A809A-3C8D-475F-9C9C-2987305C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063C7-36A1-477D-B40F-7665989D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3260D-DE7D-4809-9BBE-15A04DF0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8AF72-F4A6-4502-B8CB-411521854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5DE48-8AC3-4DBF-83E2-C89DDBB22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620120" cy="95382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9F11-93C9-454E-810F-716300F0C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52628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9060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236232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452628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69060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DC3DD-7450-4634-8188-D2C2121BF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33AF6-0BA4-4E2E-968D-2CFDDAF99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52A19-37F6-439E-93D7-2BC4B28B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FD554-4676-4D2C-995F-05E9006D3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233DE-A125-4524-9DC6-E7FB00E78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571CC9-775C-490C-ADB0-75B6C2A54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620120" cy="95382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09AAD-40A3-4442-81A3-0494E9D97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06BD3-7BCA-43F9-9C7F-6FAE6166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594D4-0C33-4576-97E0-D50C0E6F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9184AF-F6D1-4CE4-A901-2BA630FF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467A-E01A-4F85-B98A-6F9CFD95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A20EA-C023-4566-97F8-9096C17C2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1BB1C-1BA0-4C8A-B7C0-3F1287B70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2628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69060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236232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452628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69060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6AA59-4EC4-427A-A8B2-643CD4EA2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4F7E9D-B0BD-425A-BA4C-9A8E9EFA0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22EA4-32EE-411D-8FDB-41915745D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5C56F-D6A4-4566-838B-25B7E616A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7344C-64A8-4A69-BE95-A368664C7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2EFDC3-B959-44A6-A97C-115FF071A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620120" cy="95382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A549FE-9BE9-4977-AABF-F6A79F79C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D39AC0-63F3-4555-AF84-3D5326FB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EAC6-6898-40C4-A7AC-47A0F636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7B5449-14CD-4C2C-A6C1-8C21715C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8F4F3E-085C-4CBB-B84C-308248FCF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4389B1-9450-4096-9176-F8F31F2C6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4FB51C-D442-40B6-90F5-116EBE826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2628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69060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236232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452628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69060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2E6B3D-6522-4E97-AFBA-9ABCDFE11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5B32A5-9C48-43E8-96CD-8C4F73BE5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28FFC1-242A-4A00-8257-A2676FC99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1B78B4-818D-4B03-9B1E-DB8F1F6C9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FE7BA1-CD0C-45ED-912B-B3276DA54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1CE8E8-065E-456C-84D1-64207F201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51D3-CA06-4F25-9565-21F75BCA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620120" cy="95382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A61B4F-E3B9-4AE8-B17D-4A3875464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C2065B-E749-477B-928D-9765D7E9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8A4D6D-AA58-4B05-BA8D-7797EEBE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0A13DB-F22F-4B10-984A-BA9F0FDF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CB8D6E-7FF6-47D2-AD64-3E7C3B859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A3345A-5B12-49E2-B635-3BDBDD995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2628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69060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236232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452628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69060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70C059-0FB2-4815-9458-C819A2793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F75C22-4AA2-4878-95C1-85C23CA68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4BEF12-865F-47AD-93E0-FE64EFF84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E1334D-C120-4172-B267-1180DD11D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E721E-B92B-4E5E-94B9-31355B3D583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2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69463-EEF5-4C9D-BD08-E4EE1A62468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2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683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pic>
          <p:nvPicPr>
            <p:cNvPr id="68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 type="dt" idx="3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 type="sldNum" idx="3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AAF15-2F1A-455B-8902-2588818BD8F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727" name="PlaceHolder 1"/>
          <p:cNvSpPr>
            <a:spLocks noGrp="1"/>
          </p:cNvSpPr>
          <p:nvPr>
            <p:ph type="dt" idx="3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CBC4C-135B-484F-ABE1-C795DBECD69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769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770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772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773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775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776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778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779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780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2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783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784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6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787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8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9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790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2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793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5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796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8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799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0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1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802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3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4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805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6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7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808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0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811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2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3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814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5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6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817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9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820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1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2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823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4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5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826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8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829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1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832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4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835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6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7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838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9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0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841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2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3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844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5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46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grpSp>
              <p:nvGrpSpPr>
                <p:cNvPr id="848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49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1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52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4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55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7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858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0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861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3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864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6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867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9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870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1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2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873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4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5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876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8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879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0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81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866A7-6F57-48FD-A72F-CD1DAD9BF5E0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4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945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946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948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949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950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951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2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3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954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955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7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958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9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0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961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2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3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964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5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6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967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8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9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970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1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2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973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5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976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8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979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0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1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982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3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4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985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6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7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988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9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0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991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2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3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994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6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997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8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9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1000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2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1003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4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5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1006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7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8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1009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0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11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1012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3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14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1015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6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17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8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19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1020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1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22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1023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4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25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1026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7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28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1029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0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1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1032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4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1035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6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7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1038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40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1041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2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43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1044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5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46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1047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8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49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050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1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052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1053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1054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5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7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8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9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0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61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62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1063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6346C-D876-4E36-BAC6-255170707CA5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083CF-5534-484A-83A9-6ABA1D7FB04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93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06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70FF8-AFB7-4368-A24B-216846BF481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273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86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D522B-6FA0-4440-8F98-A4485724FE9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52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85D4D-6FEB-48BC-B147-B32E495C46B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396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398" name="PlaceHolder 1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12214-6619-48CE-A70F-FE6DD404B9D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39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4DE1-AEB2-4EAB-B3C0-D96CDA35D3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99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CF03E-B822-46AE-98A5-CF966C18FE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58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4B870-8D21-4376-8237-6B3B950ECAF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dt" idx="2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685800" y="134100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7d47d"/>
                </a:solidFill>
                <a:latin typeface="Arial"/>
              </a:rPr>
              <a:t>СПАДКУВАННЯ ЗА ЗАПОВІТОМ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 type="subTitle"/>
          </p:nvPr>
        </p:nvSpPr>
        <p:spPr>
          <a:xfrm>
            <a:off x="900000" y="3428640"/>
            <a:ext cx="7088400" cy="22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f1311"/>
                </a:solidFill>
                <a:latin typeface="Arial"/>
              </a:rPr>
              <a:t>Заповіт </a:t>
            </a: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— особисте розпорядження фізичної особи на випадок своєї смерті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uk-UA" sz="4400" spc="-1" strike="noStrike">
                <a:solidFill>
                  <a:srgbClr val="feec94"/>
                </a:solidFill>
                <a:latin typeface="Times New Roman"/>
              </a:rPr>
              <a:t>В будинку для осіб похилого віку та інвалідів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Директор будинку, головний лікар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8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ffffcc"/>
                </a:solidFill>
                <a:latin typeface="Tahoma"/>
              </a:rPr>
              <a:t>На морському, річковому судні, що ходить під прапором України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uk-UA" sz="4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328428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ahoma"/>
              </a:rPr>
              <a:t>Капітан судна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22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uk-UA" sz="4400" spc="-1" strike="noStrike">
                <a:solidFill>
                  <a:srgbClr val="8c0039"/>
                </a:solidFill>
                <a:latin typeface="Arial"/>
              </a:rPr>
              <a:t>В пошуковій або іншій     експедиції</a:t>
            </a: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2340000" y="3213000"/>
            <a:ext cx="64008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Начальник експедиції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 Black"/>
              </a:rPr>
              <a:t>Командир військової частини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685800" y="2852280"/>
            <a:ext cx="77724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cc00"/>
                </a:solidFill>
                <a:latin typeface="Arial Black"/>
              </a:rPr>
              <a:t>В пункті дислокації військової частини, де немає нотаріуса чи органу, що вчиняє нотаріальні дії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20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99"/>
                </a:solidFill>
                <a:latin typeface="Arial"/>
              </a:rPr>
              <a:t>В місцях  позбавлення волі</a:t>
            </a: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 та с</a:t>
            </a:r>
            <a:r>
              <a:rPr b="0" lang="uk-UA" sz="4400" spc="-1" strike="noStrike">
                <a:solidFill>
                  <a:srgbClr val="ffff99"/>
                </a:solidFill>
                <a:latin typeface="Arial"/>
              </a:rPr>
              <a:t>лідчому  ізоляторі</a:t>
            </a: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2565360"/>
            <a:ext cx="822960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Verdana"/>
              </a:rPr>
              <a:t>Начальник слідчого ізолятора</a:t>
            </a: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 та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uk-UA" sz="4400" spc="-1" strike="noStrike">
                <a:solidFill>
                  <a:srgbClr val="ffffff"/>
                </a:solidFill>
                <a:latin typeface="Verdana"/>
              </a:rPr>
              <a:t>начальник місця позбавлення волі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8c0039"/>
                </a:solidFill>
                <a:latin typeface="Arial"/>
              </a:rPr>
              <a:t>Завдання : В яких випадках заповіт буде визнано дійсним</a:t>
            </a: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а)    Заповіт    виголошено    у    присутності  3 свідків, у тому числі депутата райрад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б)   заповіт завірено нотаріусом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910640" cy="7207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 type="subTitle"/>
          </p:nvPr>
        </p:nvSpPr>
        <p:spPr>
          <a:xfrm>
            <a:off x="1042920" y="1844640"/>
            <a:ext cx="7842240" cy="410544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)   заповіт завірено капітаном морського судна під час плаван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г)    заповіт завірено сусіда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)   заповіт завірено головним лікарем санаторі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є) заповіт завірено директором заводу та начальником ЖЕКу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99"/>
                </a:solidFill>
                <a:latin typeface="Arno Pro Smbd Display"/>
              </a:rPr>
              <a:t>Вимоги</a:t>
            </a:r>
            <a:r>
              <a:rPr b="1" lang="uk-UA" sz="4400" spc="-1" strike="noStrike">
                <a:solidFill>
                  <a:srgbClr val="ffff99"/>
                </a:solidFill>
                <a:latin typeface="Arial"/>
              </a:rPr>
              <a:t> до форми заповіту</a:t>
            </a: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Форма заповіту 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исьмова форма, зазначається місце і час складення заповіту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собистий підпис заповідач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свідчений нотаріусом (або іншою посадовою, службовою особою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У населеному пункті, де немає нотаріуса, заповіт може бути посвідчений уповноваженою на це посадовою, службовою особою відповідного органу місцевого самоврядування (це положення не стосується секретного заповіту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99"/>
                </a:solidFill>
                <a:latin typeface="Arial"/>
              </a:rPr>
              <a:t>       </a:t>
            </a:r>
            <a:r>
              <a:rPr b="1" lang="uk-UA" sz="4400" spc="-1" strike="noStrike">
                <a:solidFill>
                  <a:srgbClr val="ffff99"/>
                </a:solidFill>
                <a:latin typeface="Arial"/>
              </a:rPr>
              <a:t>Види заповітів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повіт складени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письмовій формі із зазначенням місця та часу його складання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ідписаний особист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повідачем і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отаріально посвідчений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7d47d"/>
                </a:solidFill>
                <a:latin typeface="Arial"/>
              </a:rPr>
              <a:t>Заповіт з умовою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Заповіт, в якому заповідач обумовив виникнення права на спадкування в особи, призначеної у заповіті,наявністю певної умови, як пов'язаної, так і не пов'язаної з її поведінкою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99"/>
                </a:solidFill>
                <a:latin typeface="Arial"/>
              </a:rPr>
              <a:t>       </a:t>
            </a:r>
            <a:r>
              <a:rPr b="1" lang="uk-UA" sz="4400" spc="-1" strike="noStrike">
                <a:solidFill>
                  <a:srgbClr val="ffff99"/>
                </a:solidFill>
                <a:latin typeface="Arial"/>
              </a:rPr>
              <a:t>Заповіт </a:t>
            </a:r>
            <a:r>
              <a:rPr b="0" lang="uk-UA" sz="4400" spc="-1" strike="noStrike">
                <a:solidFill>
                  <a:srgbClr val="ffff99"/>
                </a:solidFill>
                <a:latin typeface="Arial"/>
              </a:rPr>
              <a:t>подружжя</a:t>
            </a: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ільний заповіт подружжя щодо майна,яке належить йому на праві спільної сумісної власності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eec94"/>
                </a:solidFill>
                <a:latin typeface="Times New Roman"/>
              </a:rPr>
              <a:t>     </a:t>
            </a:r>
            <a:r>
              <a:rPr b="1" lang="uk-UA" sz="4400" spc="-1" strike="noStrike">
                <a:solidFill>
                  <a:srgbClr val="feec94"/>
                </a:solidFill>
                <a:latin typeface="Times New Roman"/>
              </a:rPr>
              <a:t>Секретний заповіт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Заповіт, який посвідчується нотаріусом бе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ознайомлення з йог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змістом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f1311"/>
                </a:solidFill>
                <a:latin typeface="Arial"/>
              </a:rPr>
              <a:t>Посвідчення заповіту іншою посадовою, службовою особою (у разі неможливості </a:t>
            </a: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посвідчити </a:t>
            </a:r>
            <a:r>
              <a:rPr b="1" lang="uk-UA" sz="3200" spc="-1" strike="noStrike">
                <a:solidFill>
                  <a:srgbClr val="2f1311"/>
                </a:solidFill>
                <a:latin typeface="Arial"/>
              </a:rPr>
              <a:t>його нотаріусом) (посвідчується при свідках)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Tahoma"/>
              </a:rPr>
              <a:t>Особа, яка посвідчує заповіт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В стаціонарному закладі охорони здоров'я (госпіталі, лікарні тощ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Начальник госпіталю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головний лікар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заступник головного лікаря з медичної частини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черговий лікар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7T02:52:55Z</dcterms:created>
  <dc:creator>FuckYouBill</dc:creator>
  <dc:description/>
  <dc:language>en-US</dc:language>
  <cp:lastModifiedBy>FuckYouBill</cp:lastModifiedBy>
  <dcterms:modified xsi:type="dcterms:W3CDTF">2010-02-08T18:23:46Z</dcterms:modified>
  <cp:revision>19</cp:revision>
  <dc:subject/>
  <dc:title>СПАДОК ЗА ЗАПОВІТО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807000000000001024140</vt:lpwstr>
  </property>
</Properties>
</file>