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790-10E5-47B5-A474-F0232560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4D31-329F-4EF7-9013-82F4B42E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EB0DA3-8BE5-40FB-BEE4-9E287786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EF8BC5-7789-4B33-8D72-522A8A78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6FEF63-184E-4F55-AC2C-EAD85882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7E912D-B1E9-4C82-AD60-E527752E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75C981-1257-4618-A2C3-309CA62E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771935-CB8F-40C2-B11B-2EEA08B3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04084E-6A96-40F0-909A-81340A6E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F02435-6573-417E-90C8-C360F176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0CF2A4-ED67-43BE-A52A-82E32D1E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6B059-0CF2-4838-B6E3-06544AD5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25A-0791-4252-867A-976667CE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50E91-BF51-4378-9B02-A71BF417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94D0D-0F03-4437-83F2-42150C41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EF5A4-7F43-487D-B3EA-C584E9BE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CA6C0-E92A-47EB-83B0-8E52E6B2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AD5B7-C510-4913-B1D1-368F5ADC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14641-0712-491E-B8F2-645F3830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5E19B-AF1F-4024-A7C1-A48176A1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CFFEB-A61E-418C-877F-7B853386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820ED-1A52-46CE-9476-2282EC86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04587-DA53-46BF-8465-BCEDC571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3E8-16FA-4283-ADF1-E3A74D10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34C27-9D1A-47FB-8E6F-A8EAE6FF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5DC8A-EA35-4785-A812-F7BD1CC7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A1FF0-32AC-4878-AA43-AC86C900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A2331-A63A-405B-BAA7-ACAFA919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3BD7A-2201-4ACC-BA16-187366BE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3BEC4-CBE6-4924-8275-5BD7B47E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0482E-2A46-4C7B-A5CA-4E9EF341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9BE38-A09B-4C1C-989C-B6A0EACB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D6F39-EABA-4B98-B8F2-B6F55664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29DB7-7B99-4E4A-8511-7FA2E3C9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27B1-C8F3-4FE3-8FEB-2F7DF7CC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CB87A-AECC-4D82-9CBF-5E1654E9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30EF5-CB19-46A1-A11B-38227DC3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2CCFD-A403-4529-AEF7-DF652639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8E8E5-160C-4A8E-AD1B-C5F82C63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37DF4-A516-4ABF-B24E-7F0D4479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17C38-5EBB-4E5C-83AB-DF51A189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A1632-D37B-483B-AB7F-757EB0A8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CE49B-C53C-4227-97FD-910C6504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78A35-CD49-44B9-BE84-FA22E238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B2AA6-8EE9-43B8-9C29-30FA5AC1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7303-D12D-426D-8456-E10502B3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48D13-E8F4-4B54-8EF9-8303AE9A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42A2E-27DB-4E9A-BF0F-C55E7ED7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317A6-14FE-424A-A71B-1E2FA1C3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42997-2009-4458-A6AD-6C38E088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E616E-7F57-4A08-9FAA-DE8EDB38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9670B-FD44-4E16-A62E-15E40747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A4CF8-9967-488E-8011-20A9960C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6FC19-44E0-4445-AE10-04845E0E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5F6ACF-4BB1-4C3E-8DFF-DEAED6CC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E2B77-81D7-4833-A75D-4D21C012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6605-9CB9-4B9A-8D24-1D378DFB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E4B706-3FE7-4AD9-8E70-2728B547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9F2828-5B4D-4762-8486-6D19BC0E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EE64A-A3DA-4E90-A3E9-FD51686D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E85BC-B83B-46A0-97F5-AED97652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637E8-0D03-412C-950A-18B43D8D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FC562-8D67-4A11-92D9-6F8C70AE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D3D55-9FE3-432E-AFB3-AD13BF67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F6C6D8-D98D-401E-9A13-0D974D2D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3BFC5-E656-4AA8-9B9E-BBD5623A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96757-586F-4E96-BEBF-28EC7204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1DAB-59BD-4518-9492-DCE870F0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208DC-37E9-468F-BDE4-82365896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463CEB-6339-4CC6-8D93-8BEFC4AA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23D6FF-4A09-4ECD-81B3-8DBDF24A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38510-CF2E-4D2B-BAD2-33A7E4B7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415F6-34E4-40C8-A9BA-A216C037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E9D56-4759-412D-8E1B-3C96D49B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BE5A03-83AC-43B9-968F-F4C6F372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047EFD-0305-4168-8720-B391C9A4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96B35-850E-408D-B8E4-0AC82193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C1996F-2384-47BC-830C-47D380F9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71E4-2A64-48A7-9B66-DBB176AA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A295C-4C39-4D27-8D23-7DE8F498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6DCE53-F45A-4146-AD35-71F2A869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664EE3-EB4F-49A4-BA01-8CEDD0AC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EACFDD-AA7C-442C-BD7A-17A23CCE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7EE7E-2B1F-469A-AA37-DC5D525B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1AB202-4474-48B4-9A8B-BE884304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DEB195-F428-4F65-A8E7-7FB264DC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9F9B0-C10A-485C-B0F1-077AA088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06EBB7-868B-4EB5-8C24-48D3D446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B4F01-2331-49F0-9807-551BF8C8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BDCB-DFAC-4F1B-AB5B-4C5FE147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7A65F0-8FBD-4BC6-88E1-6459F6E8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6A401-C0FD-4D84-AF7E-13A221CC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2B639F-31AB-4285-8A0D-75345D7A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E497ED-F65A-40B8-BC24-BB0FF3CD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74AB20-9B4C-43EB-8E76-336056F4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51F75A-E5E5-4B61-A251-85AB1A1F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209FF8-D771-47F3-9C97-CEB5E17C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739F2-AAB8-41CA-A4D0-0BA76377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D01F82-BB34-4C94-913B-88C42637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21C316-ABA7-4F0D-A0E3-09B050B9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D5A1-5257-40F5-A454-B075FEA5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AAB6E-1085-406A-BCB4-6B37F14C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593B97-806F-4731-AEF2-83C6160B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5ECAD3-F81A-49BC-B52D-C0B4405D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D5C947-CC70-467E-A9C2-A429AECA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3544D-010F-4A72-A158-D9F37383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5DB6DF-FC7F-40F2-AAE6-8C6E782F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FFD1EC-9C81-479E-8EE2-BF73E55A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EFED9-44DB-48DB-918C-F4A8360E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0CF61-5C21-4AA5-9288-FF757EC4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AF1589-5310-4D56-AF1F-D86CBAF9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15A-4146-476A-B826-95C5E94E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E883-EFE4-4C3D-B75C-3510BC7F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3ED338-D570-4344-AF4E-01881367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EE238B-0433-4CF4-9108-A542A8BF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A1095B-77C6-4F3B-819D-6ED6386C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C3B060-22FC-4610-A91C-86C853BE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472612-3AC8-4CF9-AED1-8684E85D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28486-6E83-40D9-97DC-12A0AE2C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606690-7815-495D-BD83-735A17C8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39C87B-1A1D-4B0A-A9D2-DCF59C5E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B750D8-64FC-463D-8BA2-657958D5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66EA56-1D97-458F-B720-A7F2A30C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CF42-E13B-4E39-B36C-5678BC19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A6510E-7A2F-4185-984C-07EDB280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FFBAA7-2EA5-40A0-8C7C-C9F46AA1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53CAEC-17F5-4386-8096-37A44EA8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F99B5-FF9A-4237-B1B0-FC691A73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B96FF-070B-4483-8141-7C0D41F8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8A4A0E-A48D-42A0-95F1-2C466AE5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40935B-43F0-4641-BCEE-8B24F6E5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BEAF-E6CF-43C5-BE07-C81741F8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37CD-8E03-4D3A-934E-2F0016D4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3A9E-20D4-4CC6-8D32-50FB00B1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5B83-A5F1-497B-AB37-E3EA8694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3C64-6AB9-4F04-A9CD-D66ED901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62505-A0B2-4C16-BBE1-098F2618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9587E-E9AE-40EC-8652-034FBEAF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AD0AC-4342-41C4-87D7-BA7B00C9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DE6-96BA-4407-8840-809F606A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C1491-93D3-4176-8024-84BE8012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DC1F1-65DC-4C4A-889D-D7910D4E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5A4A-85CC-40F8-B6D4-B29501C6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3D33-3427-4499-B627-1FF590BF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0F9B-C728-41D8-A4B8-5922BFDF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0E91A-FA9A-4480-AE41-B1E7B4BE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CFA57-0154-4346-9DFE-04A9CB2B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07E5D-DB17-42B6-9DE4-36066E21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D079B4-8D80-4239-81A3-9ED11DE4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F474CF-10B1-405F-98B5-7CCB9993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AE7-4054-479D-9A0A-E9EC16D2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6A57E-A90E-47AC-B2A7-23091235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F68F9B-8728-41C0-A54B-B9795D37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B150A5-A82E-48F3-B91F-AFFCB757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F73D6C-00AA-4615-9583-DF7EE8E1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42D7B-4E55-4D44-8D34-D0E008BD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3D69B7-655A-4B0A-A712-8E798CFC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B45B9-5E04-425A-B673-2186E5F7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C89225-4545-47C8-8EE2-6E627089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126BA-FF64-4239-B22B-ABFF9DBC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8C453-C810-431D-A759-96C19800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9D5-8DF3-4DE4-8153-A74EB4BE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5219B-8D39-463B-977A-47774DCD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FD77B-5735-42DF-A693-07FD99B5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CA554-8EDB-43BB-AA6A-69BEEF6E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CD02F-693A-4603-831E-337F898B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76A49-ABA8-4A48-9B3F-7D91A801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DD2E7-49FA-4ABE-8F99-5ACFE354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335E3-4478-4485-98FD-51143D90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B3A1D-1361-4B7A-9D4F-B4EB7461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3A395-6FD5-428E-BD34-CD05FC18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432C7-E837-4FDF-93A9-706E6FF2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EED-1D46-4B69-A13C-CEF052DA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321B7-502E-416A-B00D-74701A76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9EA90-3019-4A62-ADFF-6C2C703D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2E8DC-FDEA-4EFA-8FB5-215443B8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D78FE-EADF-4A81-9432-B1E42349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A0D8D-B3E3-4F20-B240-AA16A4F6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934E8-44CB-40CF-82A1-16B8CBFE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0ED27-90A3-4486-8E0D-63A0BF45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17825-7BAF-45AD-8184-E249789A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A0A09-9FF4-49D0-AA47-998ECFAB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1E1B5-07A7-4CEF-9D25-0B7A4C81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5CC-3BA3-4062-8951-87F0ADDC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783E2-E849-4D8E-B3DC-F9439291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2363D-0FD4-4029-B3E4-E8B193E3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02B2C-6D77-4FC6-AF76-6BF5E755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39259-59A6-4C3F-864D-46C1D4FA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D5EA8-16CE-428E-BE34-5431E546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377FE-6877-4DDF-9560-ED0234FF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6CC52-C690-4F17-AFA4-59D6B9B6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F98E7-7C2F-46B6-A43B-635BAF4A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9A0FB-A0E8-42DE-8D2C-283F61CD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45253-2F72-4905-9ECD-4984891E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960-CC4A-4331-89FF-37EB7FF8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F28BB-E04C-49AE-8718-6D70BC0C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2BCD5-ECF1-4BE0-A12C-4195C934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B4B21-B2B4-4EC9-A719-7F48F034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7C38A-C5FC-42CC-AAFC-F1A7CA0D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5C912-B687-4593-943C-ACA5B826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B3A36-CF3A-42F2-8906-967B9EA4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E94A2-AC42-4E6A-BAE9-37EC0855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8387A-8738-4B90-A898-FB69A8D2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1A166-0459-4F3A-A014-94DE864B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96F6E-8F34-416A-BEBB-B03E9118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22B-9860-4A43-8EF7-42B77832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2E525-2A60-4DF1-AE79-6D2A31F6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A7AE8-DA80-4534-830A-30FBBCC8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1E248-D156-4B71-AF15-66FCF07A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579DC-FD3D-491E-BEB2-69AC6D58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916CB-F0BA-4A05-9E90-40619ABC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C8088-DB27-4908-9161-2C9A9516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2E691-A45C-4FFE-BEF5-1C2F7897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17C216-907B-4837-BD70-662FF777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E8BB12-9C29-4DC1-8FBC-2E84CAEC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6F2A94-5CC9-4DD4-89C3-F65F5766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5b5d51"/>
              </a:gs>
              <a:gs pos="100000">
                <a:srgbClr val="686b5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75a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a4e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45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7366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c6f6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3d2a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86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89362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5b7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9BEA-EDEC-405A-9DA8-906DE0375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2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D393-8928-460D-A7C6-3EC6C3464B1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8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AAFC-D2A8-4021-8329-C4688E844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4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475C-FE22-4EEA-AB69-4C124E407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0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715" name="PlaceHolder 1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D34E-35D3-4FBB-B6F1-D9B4D820F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5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dt" idx="4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ftr" idx="4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104A-A43C-4C78-9D25-477F4F3AD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0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1FAC-1605-4150-8ABE-08490B9B328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6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EB6C-D7AC-49BB-88F6-2D1B0FD7D64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1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53BC-4D49-4504-A411-212E638EC05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7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F987-A853-4AD8-800A-BB63B3EAF18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5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525040"/>
                </a:gs>
                <a:gs pos="100000">
                  <a:srgbClr val="686b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75a4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5e605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5b5d5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a4e"/>
                  </a:gs>
                  <a:gs pos="100000">
                    <a:srgbClr val="686b5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6054"/>
                  </a:gs>
                  <a:gs pos="100000">
                    <a:srgbClr val="686b5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457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b5d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7366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6c6f6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6c6f61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616457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686b5d"/>
                  </a:gs>
                  <a:gs pos="100000">
                    <a:srgbClr val="61645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646759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25040"/>
                  </a:gs>
                  <a:gs pos="100000">
                    <a:srgbClr val="686b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52504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cdad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25040"/>
                    </a:gs>
                    <a:gs pos="100000">
                      <a:srgbClr val="686b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86b5d"/>
                    </a:gs>
                    <a:gs pos="100000">
                      <a:srgbClr val="52504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dcdad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3d2a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E242-A3AF-48E3-8FB0-E8858C907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dad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dad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cdad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86b5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dad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cdad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89362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dad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dcdad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5b7a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dad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dcdad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dad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dcdad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cda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dad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9CA3-71E9-4F98-9C31-7C8ED368F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695D-D7C0-4C0F-AED8-5AE72F1F6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294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95F6-ABF2-46AE-99D0-39E67E28CF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4572-1610-4784-B2B9-34BA322C0F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22D1-4CFA-46E5-AC3A-50F696C9A7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03B5-EB5E-4577-A63B-59BC4AB962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6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dcdad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2BCC-B0AD-4A40-8F75-8CD078647C9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7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d9d9ff"/>
                </a:solidFill>
                <a:latin typeface="Arial"/>
              </a:rPr>
              <a:t>Черговість спадкування за законом</a:t>
            </a:r>
            <a:r>
              <a:rPr b="0" lang="ru-RU" sz="4800" spc="-1" strike="noStrike">
                <a:solidFill>
                  <a:srgbClr val="d9d9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8724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спадкоємці за законом одержують право на спадкування почергов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ffffff"/>
                </a:solidFill>
                <a:latin typeface="Tahoma"/>
              </a:rPr>
              <a:t>Обов'язкова частка у спадщині</a:t>
            </a:r>
            <a:br>
              <a:rPr sz="3800"/>
            </a:br>
            <a:r>
              <a:rPr b="0" lang="uk-UA" sz="3800" spc="-1" strike="noStrike">
                <a:solidFill>
                  <a:srgbClr val="ffffff"/>
                </a:solidFill>
                <a:latin typeface="Tahoma"/>
              </a:rPr>
              <a:t>(частина спадщини, на яку особа має право незалежно від змісту заповіту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Діти спадкодавця : малолітні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та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еповнолітні 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овнолітні непрацездатні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епрацездатна вдова (вдівець)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непрацездатні бать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Позбавлення права на спадкування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соби, які умисно позбавили життя спадкодавця чи будь-кого з можливих спадкоємців або вчи­нили замах на їхнє життя 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атьки після дитини, щодо якої вони були позбавлені батьківських прав (права не були поновлені на час відкриття спадщини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71380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b9efee"/>
                </a:solidFill>
                <a:latin typeface="Garamond"/>
              </a:rPr>
              <a:t>Особи одна після одної, шлюб між якими є недійсним (або визнаний таким за рішенням суду)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2385720"/>
            <a:ext cx="76104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Особа, яка ухилялася від надання допомоги спадкодавцеві, який через похилий вік, тяжку хворобу або каліцтво був у безпорадному стані (усувається від права на спадкування за рішенням суду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Завдання :</a:t>
            </a:r>
            <a:endParaRPr b="0" lang="en-US" sz="4400" spc="-1" strike="noStrike">
              <a:solidFill>
                <a:srgbClr val="d3d2a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7a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Життя свідчить, що спадкування за законом буває частіше, ніж спадкування за заповітом. Як Ви вважаєте, чому ? Відповідь аргументуйте. </a:t>
            </a:r>
            <a:endParaRPr b="0" lang="en-US" sz="32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Tahoma"/>
              </a:rPr>
              <a:t>Перша черг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Діти спадкодавц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той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подружжя, який пережив спадкодавц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батьки спадкодавц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"/>
          <p:cNvSpPr/>
          <p:nvPr/>
        </p:nvSpPr>
        <p:spPr>
          <a:xfrm>
            <a:off x="7823160" y="3652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729" y="10145"/>
                </a:moveTo>
                <a:lnTo>
                  <a:pt x="21729" y="10145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dcda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c0039"/>
                </a:solidFill>
                <a:latin typeface="Arial"/>
              </a:rPr>
              <a:t>Друга черга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ідні брати і сестри спадкодавц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аба та дід спадкодавця (як з боку батька, так і з боку матері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ffffcc"/>
                </a:solidFill>
                <a:latin typeface="Tahoma"/>
              </a:rPr>
              <a:t>Третя черг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Рідні дядько 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тітка спадкодавця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eec94"/>
                </a:solidFill>
                <a:latin typeface="Times New Roman"/>
              </a:rPr>
              <a:t>Четверта черг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* Особи, які проживали зі спадкодавцем однією сім’єю не менш ніж 5 років до часу відкриття спадщин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Verdana"/>
              </a:rPr>
              <a:t>П'ята черга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27000" y="1915920"/>
            <a:ext cx="71964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•   </a:t>
            </a: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Родичі, не зазначені у попередніх чергах спадкоємців, до шостого сту­пеня споріднення включно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•   </a:t>
            </a: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утриманці спадкодавця, які не були членами його сім'ї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cc"/>
                </a:solidFill>
                <a:latin typeface="Arial"/>
              </a:rPr>
              <a:t>Утриманець -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— </a:t>
            </a:r>
            <a:r>
              <a:rPr b="0" lang="uk-UA" sz="3200" spc="-1" strike="noStrike">
                <a:solidFill>
                  <a:srgbClr val="eaeaea"/>
                </a:solidFill>
                <a:latin typeface="Verdana"/>
              </a:rPr>
              <a:t>неповнолітня або непрацездатна особа, яка не була членом сім'ї спадкодав­ця, але не менш ніж 5 років одержувала від нього матеріальну допомогу, що була для неї єдиним або основним джерелом засобів для існуванн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           </a:t>
            </a: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Завдання :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то належить до спадкоємців за законом та якої саме черг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* Батьк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•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хрещений батько;  •  </a:t>
            </a:r>
            <a:r>
              <a:rPr b="0" i="1" lang="uk-UA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естра;  •     сусідка;  •    двоюрідний брат;  •    чоловік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•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очка;  •     баба; »    тітка;  •     кум;  •     подруга;    ону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7:29:25Z</dcterms:created>
  <dc:creator>FuckYouBill</dc:creator>
  <dc:description/>
  <dc:language>en-US</dc:language>
  <cp:lastModifiedBy>FuckYouBill</cp:lastModifiedBy>
  <dcterms:modified xsi:type="dcterms:W3CDTF">2010-02-08T18:25:49Z</dcterms:modified>
  <cp:revision>5</cp:revision>
  <dc:subject/>
  <dc:title>Черговість спадкування за законом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6000000000001024140</vt:lpwstr>
  </property>
</Properties>
</file>