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1D7-BE89-4D38-8CE5-485030F6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8A6-3FDC-40E0-B203-C57118F8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9FBD6-89CD-49E4-AB82-CEE1AD5C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28B238-3BED-4361-A409-12316D73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21FBE-D3F3-480B-B019-AF1D7CF4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D52C8-75B1-4D4D-85B9-D98355C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2C653-A79E-44DA-9D11-C4B9309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0822A-94BE-4028-8823-73994731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320F6-079A-46B1-AE93-82BAD085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30B77-FCA7-4E56-8F97-BAA19D8B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08D24-9149-4407-8985-3A6DAFAB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B5713-5862-430C-985B-FF04FF2B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8C4-52F9-4EE2-B0B6-8FED0C8A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B78BC-D91D-494D-A1BC-5FBDD84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A04F7-1064-4E7D-BA4A-EEA5797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3DA5A-08E9-4E00-AB2B-8AA327A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DD098-A404-4AEC-978E-78370F9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ACD98-7C64-44F1-BA97-584C5CBD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6865C-3CF6-4432-85D2-CDFD38C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15717-953D-4112-AB5E-04F45F5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47F37-EBE9-49DF-8287-FF95210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FC8E4-551C-4283-8BEC-0B323BE1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6F94D-2D9E-467E-B255-371EC81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33B-EA9A-4541-9F5C-3AA264A4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DBB25-B4ED-4F91-AAFB-A92953BF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10AAE-FACD-476B-83CA-DC5EF242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A1198-4497-4448-B02F-DBB5C7F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2668-5E1A-47BA-BF1E-5EFE2E02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CC5D-597E-484E-A762-A07CEC71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8847D-40F4-4C89-B813-4861918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42115-094F-43D4-B311-83A65E18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50A6-8334-4333-8FA4-BA145E3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D0FA8-FC26-4B3F-8F0F-6A33939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59599-6E01-4476-804E-389F772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B85A-B5B8-4254-AFA8-2ACE61E3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CF4C-56D1-45C9-8FDF-E7FA1721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0D79-30C5-43B8-B55C-0E83EF1B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636F7-6B57-4D77-B83D-598294C2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BBBDB-7497-4D2D-9972-D9920B64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9D954-BE7D-4B9F-A00B-FFEFD245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4CE53-CCBB-4A9F-8B0C-BBF64644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0586D-D16E-4B31-874D-BA6F116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2C604-236F-42AF-8907-0023AD1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8B739-64A6-461E-A527-7B7AFA1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D8572-5790-415D-B7D4-EBA218D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D291-5368-43F1-A2D1-26CA03CD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7308E-332A-43BE-BDC7-65938B4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AEB27-9FF8-4F17-86FA-95ECEBF6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A3EF1-E0CE-4103-A770-2DEEDE75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D5896-25EE-4F2B-8E05-D2A5539D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5B170-1613-4E47-8683-9ABEAF67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680DE-B67F-4922-923E-F6E383B4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88CD8-E21F-4934-864B-8E710A06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8252B-843E-4027-BCC6-894AABD8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714DA-1F59-40CE-A304-55A38745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06C81-081E-4D13-AE23-86A51680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68A-2B94-4F32-B327-2AB78E0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A4121-50C6-4472-A4A4-314BAAB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7D59A-7188-4DEC-A4D5-C690543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2D0C2-5868-4242-A498-379D584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268F5-FCA3-4C0F-9B88-E2C8A6E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14A7B-4058-4D1F-9770-DFB47AAA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3CA3D-FE6D-4FEE-B560-04A2C7DE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4BE75-77C0-4A20-99AD-73ED832E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2A867-8A76-461C-9FAB-254347AE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FDF6B-E6D6-49D4-A289-9F6DB04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DA621-AB32-432A-9DC9-1A3CD1B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949C-1038-4133-A4E6-6F28FBF5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3DD55-AA63-40AE-AECD-6B17E7E4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7F041-FE57-4110-B3B0-7007964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A1569-C88C-4849-B920-0364F55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BB88F-15DA-49DC-A179-00C9E6F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3A177-3D99-4F1E-8C68-B93C307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D1A2D-B2E8-42B2-B6AF-02247A9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D31A6-D68E-49F9-ABED-10F51180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B11C7-1B47-49F1-BE9D-0202FD92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09BF5-44B2-46BB-A1D6-F63084BA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2E2A-72DA-433E-96C7-6C814CD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47FA-09A4-4589-AFA3-9A450C7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A82-925E-454F-B14C-82B4815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4FF-3F79-4CC4-9C2E-BB32EC95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61E-98A5-49C3-B4B9-12E9578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494-5B8F-4BE3-B1F4-5F4D34DB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44B-EECF-4DD1-B66C-EBCB0A6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D77-463D-4E26-93E3-ADA78DDF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452C-6D5E-49E4-A8C3-65AA5219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7153-816A-408A-BEC4-83B830EE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E1EA-F7AA-4E6C-8E1D-5D8375B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E048-C2B4-46C3-B268-0F23D7C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125B-B804-4E74-8AC2-B247A2D5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9548-89E6-46BE-961B-A2B76B6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E0C-4675-41FA-81A0-C4B1BF4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2E46-CCE9-4F88-A927-FCC3CA9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48EF-BE76-4585-BD01-EC4420E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1915-2669-4F45-9332-C5455B3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4FF3-2400-4D6F-9693-DE02DD7F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07F2-016E-46F4-9DE2-0EEE6D2F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3A9B-2810-4136-B9AD-09337BC5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6818-88D4-4C5B-BC00-4988EC5E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6117-3FFE-443C-8577-8339392B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03DB-AEAD-46DC-913D-CAB726D1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8B2C-8496-4F2A-B3B8-EFCD9324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80C-252C-4B63-B5E2-05C214FE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98C6-DF57-4281-93D8-B9F7B1DB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6A77-AC96-48D1-A372-5C5CF754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903A-9F55-4D7B-B551-59FE5C6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F292-53A4-4616-8AA0-C559C56E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C768-663E-42C0-A49B-6F2AE81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866E-D6CA-483F-872E-AA6433D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2396-3451-47D3-A84C-DEDEB1E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CD4A-6183-45A4-837E-CC7883A0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CEAC-0599-47D2-B807-D2F7CA77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FE16-D444-4F1A-AB3C-59329100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B1C-6C59-4FB2-8474-058FFFA2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32B8-2C1D-47CE-903C-8B49288D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CB68-793B-45B8-A81F-83FF512D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77D5-83C7-481F-8187-82F8BBA3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7301-F0FD-4A00-8D98-DAB7DD9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7C73-EFF4-4257-8E20-DE4DD99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BE12-0613-4FE8-8F3D-A114345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D44C-FD7C-4833-AAA6-3F3CED2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EC73B-D321-4D56-BB21-A05477D0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330E-22F0-4298-BDA4-4A910B18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2895-6ECE-4444-8FBB-D0FF0ECB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2F3-97DC-4450-9BDB-50BB9B9E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B899-10F6-48B9-A9DD-F22B46A5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BCA8-FD8F-47A2-A806-ED333E2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D891-867E-4E55-839E-2A0EBF4B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EB28-0FE0-4308-AA12-B594738F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16E8-6B4D-4289-B2B3-FAC45E66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6434-D6B1-45CE-AB40-63C4931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C2C30-EEEA-4779-AD63-3C6ADBB6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86831-65D7-44A0-99D5-8487D07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A64D0-B0C4-4AF6-8FC5-1EED13D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6FC2-4F63-4968-9E55-9D46B91D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F4A-EF84-488F-893E-F7C461A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8A54-1ACF-41EE-B66E-8EE15D78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4C5FE-FAB5-4BD2-A3B9-855C9021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14DF-86D8-43C7-8AEB-E44F85DB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F890F-3253-40B1-8206-C9340B82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D1F7-0C74-4E53-808A-09D3F7B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AD4D0-06C4-409E-BBA9-264B6AC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5A129-664F-428F-902A-3A52A06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6C6F-B776-469A-AAB2-F6CB22F4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64E8-1E0C-4711-9452-9A02E723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F8360-BFA3-42A6-AF61-ADF535C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C3C-F000-4B84-A038-169835B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9FC3-F125-4F86-B601-DA1F0EB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B297-DD38-404A-ABE7-7A6B30F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87F1-DEAE-49D8-AB65-5ADE0DC3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A6CE-6B4D-4633-8A52-C5E1651A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9E92E-DB2C-4E60-9BA3-50001454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DA0B3-B33F-4E04-8751-7A4223FD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C9691-3CE8-4353-8EA1-630DD62E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EEF9-6F33-4841-9D9A-BF4683CD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7FE58-7CBF-4322-96EC-09047E5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D5ACC-E030-4F13-A6E9-D2DD7FE4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801-DDC9-42B8-BFB5-0FF6BE6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98DAB-8C4A-491A-A7E2-9BD532C0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26C2-B918-43B7-9C1E-7A766B4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5DF76-7577-4A78-BA53-20D244D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2573B-557F-4BDB-89D5-C6882A6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D7E77-C520-49EC-A1E8-65FB9DC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EC9E1-AB51-4E3F-AD94-DD3BDFD1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3A24-F30B-4449-A601-E2C82E6A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24AA1-4F6D-47A0-8D5E-1D6CC9BC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3AB14-190E-4912-BE58-5E12A12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0F83E-AA59-4103-97AF-4372460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EBD-5306-43BD-A679-07F94EAA07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86B-266A-4518-A544-6D29C8D232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6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E1C9-CC34-4FF3-88A2-1EF7A393D8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3249-0214-48ED-89ED-D6495AF37F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6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7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7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048A-C90C-49F0-BC50-D0452B3D902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4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4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6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F26-BF54-4AAD-B9BC-6087E52407D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3832-F120-463C-B82D-E0A913257E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4526-20A7-44B8-9FB6-3BE1478F5C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2D52-B0F0-4ADD-8570-50C5EB8244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FF0B-D651-4FC3-9E39-F22F9E82B2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1937-E529-441E-86CF-BCBA5151EF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D78-7BE9-4D63-8DD8-B07817FA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8568-F9C2-4AAD-BB50-3A2F90D51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288-998E-4D49-A3A4-6DCB80FCF9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СПАДКУВАННЯ ЗА ЗАПОВІТ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08840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Заповіт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— особисте розпорядження фізичної особи на випадок своєї смерті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 будинку для осіб похилого віку та інвалідів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иректор будинку, головний лікар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На морському, річковому судні, що ходить під прапором Україн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Капітан судн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8c0039"/>
                </a:solidFill>
                <a:latin typeface="Arial"/>
              </a:rPr>
              <a:t>В пошуковій або іншій     експедиції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34000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чальник експедиці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Командир військової частин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Arial Black"/>
              </a:rPr>
              <a:t>В пункті дислокації військової частини, де немає нотаріуса чи органу, що вчиняє нотаріальні дії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В місцях  позбавлення вол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та с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лідчому  ізолятор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слідчого ізолятора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місця позбавлення вол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c0039"/>
                </a:solidFill>
                <a:latin typeface="Arial"/>
              </a:rPr>
              <a:t>Завдання : В яких випадках заповіт буде визнано дійсни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)    Заповіт    виголошено    у    присутності  3 свідків, у тому числі депутата райрад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)   заповіт завірено нотаріус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910640" cy="720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842240" cy="4105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  заповіт завірено капітаном морського судна під час пла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   заповіт завірено сусід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)   заповіт завірено головним лікарем санатор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) заповіт завірено директором заводу та начальником ЖЕК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99"/>
                </a:solidFill>
                <a:latin typeface="Arno Pro Smbd Display"/>
              </a:rPr>
              <a:t>Вимоги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до форми заповіту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Форма заповіту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сьмова форма, зазначається місце і час складення запові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обистий підпис запові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відчений нотаріусом (або іншою посадовою, службовою особою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населеному пункті, де немає нотаріуса, заповіт може бути посвідчений уповноваженою на це посадовою, службовою особою відповідного органу місцевого самоврядування (це положення не стосується секретного заповіт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Види заповіті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клад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письмовій формі із зазначенням місця та часу його складанн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писаний особис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дачем 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таріально посвідчен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Заповіт з умовою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аповіт, в якому заповідач обумовив виникнення права на спадкування в особи, призначеної у заповіті,наявністю певної умови, як пов'язаної, так і не пов'язаної з її поведінкою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Заповіт 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подружж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льний заповіт подружжя щодо майна,яке належить йому на праві спільної сумісної власност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екретний запові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овіт, який посвідчується нотаріусом б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знайомлення з й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с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Посвідчення заповіту іншою посадовою, службовою особою (у разі неможливості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свідчити </a:t>
            </a: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його нотаріусом) (посвідчується при свідках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соба, яка посвідчує заповіт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стаціонарному закладі охорони здоров'я (госпіталі, лікарні тощ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чальник госпітал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вний лік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ступник головного лікаря з медичної частин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рговий ліка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2:52:55Z</dcterms:created>
  <dc:creator>FuckYouBill</dc:creator>
  <dc:description/>
  <dc:language>en-US</dc:language>
  <cp:lastModifiedBy>FuckYouBill</cp:lastModifiedBy>
  <dcterms:modified xsi:type="dcterms:W3CDTF">2010-02-08T18:23:46Z</dcterms:modified>
  <cp:revision>19</cp:revision>
  <dc:subject/>
  <dc:title>СПАДОК ЗА ЗАПОВІТ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4140</vt:lpwstr>
  </property>
</Properties>
</file>