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27.wmf" ContentType="image/x-wmf"/>
  <Override PartName="/ppt/media/image4.wmf" ContentType="image/x-wmf"/>
  <Override PartName="/ppt/media/image28.wmf" ContentType="image/x-wmf"/>
  <Override PartName="/ppt/media/image2.png" ContentType="image/png"/>
  <Override PartName="/ppt/media/image35.wmf" ContentType="image/x-wmf"/>
  <Override PartName="/ppt/media/image33.jpeg" ContentType="image/jpeg"/>
  <Override PartName="/ppt/media/image30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29.wmf" ContentType="image/x-wmf"/>
  <Override PartName="/ppt/media/image6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39.wmf" ContentType="image/x-wmf"/>
  <Override PartName="/ppt/media/image9.wmf" ContentType="image/x-wmf"/>
  <Override PartName="/ppt/media/image7.gif" ContentType="image/gif"/>
  <Override PartName="/ppt/media/image18.wmf" ContentType="image/x-wmf"/>
  <Override PartName="/ppt/media/image32.jpeg" ContentType="image/jpeg"/>
  <Override PartName="/ppt/media/image20.wmf" ContentType="image/x-wmf"/>
  <Override PartName="/ppt/media/image11.wmf" ContentType="image/x-wmf"/>
  <Override PartName="/ppt/media/image3.png" ContentType="image/png"/>
  <Override PartName="/ppt/media/image31.wmf" ContentType="image/x-wmf"/>
  <Override PartName="/ppt/media/image5.gif" ContentType="image/gif"/>
  <Override PartName="/ppt/media/image41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36.gif" ContentType="image/gi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E33-C13B-453D-AF90-F7C4AC2C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E5D-CF19-4302-A2F7-4A7523A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138-C6F3-473B-BD26-A3A50707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2D7-E024-4EF2-83FF-41B166B7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A793-D1FF-4493-BEC8-25ACAE27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EE07-850E-4687-B72A-32E77961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2523-0762-4798-B4D4-5C77CF22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0132-FB63-429E-8259-F0A12AE2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129C-AD9E-4F1B-9792-26A5851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6BFE-2C76-4930-A4C5-8A8D2730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B629-0D32-4522-BC59-81134E7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CCA-FDD0-417E-A284-75A7956D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F912-39B4-409D-9D6C-F36685E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C1D6-E940-4CC1-B40A-5E422575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E23C-D3CC-43C9-B429-2B15106D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BB50-10C8-43A7-A5DE-64FB6BC6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92A8-C013-439C-A8CC-DB26D490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98DE-0402-4A37-90DA-950C326B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05D2-9566-4091-85DA-CA397274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8CCC-5F19-444C-8AEE-D2FB626B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CE99-C878-4B2F-B794-CC713CDF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17AA-6F80-41AF-A4F8-B8963140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957-CD40-4A98-AAFC-5C5AA24C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E29E-8DEE-448C-BF57-34D0CA63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065A-89DC-4618-B38B-CDE49763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6F89-7CF6-43AE-81E1-582FE9B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8EE2-1671-4FF2-907A-02DE25A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10B2-06D1-46E4-99A1-3301A0FC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1859-0238-4D9A-8A67-F76BA839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E608-A449-46FC-8684-0B69CC84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F775-187D-43D6-B542-9105407A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4A080-DD2A-4712-8BF1-0DBC34A5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FAC2-B94F-45C2-B3A1-4FE73B5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1B6-38EB-4970-B969-DBEFB220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565F1-04D2-4431-AB77-7A6621EC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861D5-8C6D-44DA-8148-A4824111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98E8-B7F8-4652-9A76-6716420D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4B69-1F5E-47B1-8370-D6026102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C155-2663-4993-85B3-32E4F73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30B5-EF49-4432-8E57-CABF626E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0691-7D79-4BF9-A86E-9726A364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9BE3-8EDA-4E9E-BB14-AA80811E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8474-62DD-4090-8665-1CFF4CE9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281-E8BB-480D-80D0-59C8ACC5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9F4-D74B-466F-AF88-0E01D89F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8A5-AD65-4C51-9630-732DB480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461-3104-46C4-BFD4-F673F29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88A-4B31-43B1-8F4E-C7EFBAB6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D375-59F6-4249-99DA-1CC99404FE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E1FB-790F-40E8-B809-F62B9E189A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E471-9AC1-45AB-BFF4-C20D32F63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53B5-DAB8-489A-8029-0C6A07947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2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ff00"/>
                </a:solidFill>
                <a:latin typeface="Monotype Corsiva"/>
              </a:rPr>
              <a:t>ЯКІ  ПРАВА  МАЮТЬ СПОЖИВАЧІ  В  УКРАЇНІ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6600"/>
                </a:solidFill>
                <a:latin typeface="Monotype Corsiva"/>
              </a:rPr>
              <a:t>ПРОБЛЕМУ  ДОСЛІДЖУВАЛИ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6600"/>
                </a:solidFill>
                <a:latin typeface="Monotype Corsiva"/>
              </a:rPr>
              <a:t>ЮНІ  ЗНАВЦІ  ПРАВА  9-А  </a:t>
            </a:r>
            <a:r>
              <a:rPr b="0" i="1" lang="ru-RU" sz="2800" spc="-1" strike="noStrike">
                <a:solidFill>
                  <a:srgbClr val="006600"/>
                </a:solidFill>
                <a:latin typeface="Monotype Corsiva"/>
              </a:rPr>
              <a:t>КЛАСУ НОВОВОЛИНСЬКО</a:t>
            </a:r>
            <a:r>
              <a:rPr b="0" i="1" lang="uk-UA" sz="2800" spc="-1" strike="noStrike">
                <a:solidFill>
                  <a:srgbClr val="006600"/>
                </a:solidFill>
                <a:latin typeface="Monotype Corsiva"/>
              </a:rPr>
              <a:t>Ї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6600"/>
                </a:solidFill>
                <a:latin typeface="Monotype Corsiva"/>
              </a:rPr>
              <a:t>ЗАГАЛЬНООСВІТНЬОЇ</a:t>
            </a:r>
            <a:r>
              <a:rPr b="0" i="1" lang="ru-RU" sz="2800" spc="-1" strike="noStrike">
                <a:solidFill>
                  <a:srgbClr val="006600"/>
                </a:solidFill>
                <a:latin typeface="Monotype Corsiva"/>
              </a:rPr>
              <a:t> ШКОЛИ №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e7ff"/>
            </a:gs>
            <a:gs pos="100000">
              <a:srgbClr val="99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444920" y="1844640"/>
            <a:ext cx="4699080" cy="4248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643280" y="1052640"/>
            <a:ext cx="4248360" cy="4392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500364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То неси усе назад 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І негайно, у цю ж м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Має право спожив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На безпечнії товар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Щоб не шкодили здоров’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Й домішок не ма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  <p:sndAc>
      <p:stSnd>
        <p:snd r:embed="rId3" name="chimes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9000"/>
                            </p:stCondLst>
                            <p:childTnLst>
                              <p:par>
                                <p:cTn id="530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0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0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Monotype Corsiva"/>
              </a:rPr>
              <a:t>6. ПРАВО  НА  ВІДШКОДУВАННЯ ЗБИТКІВ,  ЗАВДАНИХ   ТОВАРАМИ НЕНАЛЕЖНОЇ   ЯКОСТІ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Я сидів та грав у гр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Враз комп'ютер  задим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Купив його я не дав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Arial"/>
              </a:rPr>
              <a:t>То чому ж він вмить згорі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4103640" cy="4422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407340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500"/>
                            </p:stCondLst>
                            <p:childTnLst>
                              <p:par>
                                <p:cTn id="60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000"/>
                            </p:stCondLst>
                            <p:childTnLst>
                              <p:par>
                                <p:cTn id="61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ff"/>
                </a:solidFill>
                <a:latin typeface="Arial"/>
              </a:rPr>
              <a:t>Знаю я , що право ма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ff"/>
                </a:solidFill>
                <a:latin typeface="Arial"/>
              </a:rPr>
              <a:t>На відшкодування збитків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ff"/>
                </a:solidFill>
                <a:latin typeface="Arial"/>
              </a:rPr>
              <a:t>Чи товар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344484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chimes.wav"/>
      </p:stSnd>
    </p:sndAc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5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00ff"/>
                </a:solidFill>
                <a:latin typeface="Arial"/>
              </a:rPr>
              <a:t>Чи грошим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00ff"/>
                </a:solidFill>
                <a:latin typeface="Arial"/>
              </a:rPr>
              <a:t>Збережу пожитки!!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71808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chimes.wav"/>
      </p:stSnd>
    </p:sndAc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"/>
                            </p:stCondLst>
                            <p:childTnLst>
                              <p:par>
                                <p:cTn id="65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33"/>
                </a:solidFill>
                <a:latin typeface="Monotype Corsiva"/>
              </a:rPr>
              <a:t>7. ПРАВО  НА  ЗВЕРНЕННЯ  ДО  СУДУ ЗА  ЗАХИСТОМ  ПОРУШЕНИХ   ПРА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Якщо ж порушили мої пра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То звернусь до су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Суд наш мудрий, як со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Захищеним бу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183200" y="3860640"/>
            <a:ext cx="496080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50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8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500"/>
                            </p:stCondLst>
                            <p:childTnLst>
                              <p:par>
                                <p:cTn id="721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a50021"/>
                </a:solidFill>
                <a:latin typeface="Monotype Corsiva"/>
              </a:rPr>
              <a:t>ЧИ МУДРІ ВИ СПОЖИВАЧІ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Поміркуйте про речі, які б ви хотіли мат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99"/>
                </a:solidFill>
                <a:latin typeface="Arial"/>
              </a:rPr>
              <a:t>КНИГУ,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ff"/>
                </a:solidFill>
                <a:latin typeface="Arial"/>
              </a:rPr>
              <a:t>ОДЯГ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00"/>
                </a:solidFill>
                <a:latin typeface="Arial"/>
              </a:rPr>
              <a:t>М’ЯЧ,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КОМП’Ю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І скажі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22600" y="2408400"/>
            <a:ext cx="4219920" cy="30924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4103640" cy="4681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4124160" y="2266920"/>
            <a:ext cx="4410360" cy="3557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427640" y="1628640"/>
            <a:ext cx="445284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5" name="chimes.wav"/>
      </p:stSnd>
    </p:sndAc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3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6000"/>
                            </p:stCondLst>
                            <p:childTnLst>
                              <p:par>
                                <p:cTn id="7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8000"/>
                            </p:stCondLst>
                            <p:childTnLst>
                              <p:par>
                                <p:cTn id="763" nodeType="afterEffect" fill="hold" presetClass="exit" presetID="1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3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4500"/>
                            </p:stCondLst>
                            <p:childTnLst>
                              <p:par>
                                <p:cTn id="77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784" nodeType="afterEffect" fill="hold" presetClass="exit" presetID="1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79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05" nodeType="afterEffect" fill="hold" presetClass="exit" presetID="1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0"/>
                            </p:stCondLst>
                            <p:childTnLst>
                              <p:par>
                                <p:cTn id="81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3500"/>
                            </p:stCondLst>
                            <p:childTnLst>
                              <p:par>
                                <p:cTn id="8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826" nodeType="afterEffect" fill="hold" presetClass="exit" presetID="1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9500"/>
                            </p:stCondLst>
                            <p:childTnLst>
                              <p:par>
                                <p:cTn id="8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3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42500"/>
                            </p:stCondLst>
                            <p:childTnLst>
                              <p:par>
                                <p:cTn id="840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41" dur="2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Чи є ця річ тим, що вам життєво необхідно, чи тим, що ви просто хотіли б мат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9933"/>
                </a:solidFill>
                <a:latin typeface="Arial"/>
              </a:rPr>
              <a:t>Назвіть місця, де її можна придба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3399"/>
                </a:solidFill>
                <a:latin typeface="Arial"/>
              </a:rPr>
              <a:t>Якому з них ви віддасте пере-вагу? Чо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788000" cy="3716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5175360" cy="3568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056200" y="1484280"/>
            <a:ext cx="3471840" cy="4032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00720" y="5805360"/>
            <a:ext cx="485928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cc"/>
                </a:solidFill>
                <a:latin typeface="Arial"/>
              </a:rPr>
              <a:t>БАЗ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734080"/>
            <a:ext cx="478800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cc"/>
                </a:solidFill>
                <a:latin typeface="Arial"/>
              </a:rPr>
              <a:t>МАГАЗ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  <p:sndAc>
      <p:stSnd>
        <p:snd r:embed="rId4" name="chimes.wav"/>
      </p:stSnd>
    </p:sndAc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55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0"/>
                            </p:stCondLst>
                            <p:childTnLst>
                              <p:par>
                                <p:cTn id="857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7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4000"/>
                            </p:stCondLst>
                            <p:childTnLst>
                              <p:par>
                                <p:cTn id="892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1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66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cc"/>
                </a:solidFill>
                <a:latin typeface="Arial"/>
              </a:rPr>
              <a:t>Чи є в продажу різні моделі цього вироб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33cc33"/>
                </a:solidFill>
                <a:latin typeface="Arial"/>
              </a:rPr>
              <a:t>Які фактори вплинуть на ваш вибір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6600"/>
                </a:solidFill>
                <a:latin typeface="Arial"/>
              </a:rPr>
              <a:t>Як можна більше дізнатися про товар, що вам потрібен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827760" y="404640"/>
            <a:ext cx="2316240" cy="3383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302436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27" dur="1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85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4d4d4d"/>
                </a:solidFill>
                <a:latin typeface="Monotype Corsiva"/>
              </a:rPr>
              <a:t>   </a:t>
            </a:r>
            <a:r>
              <a:rPr b="1" i="1" lang="uk-UA" sz="6000" spc="-1" strike="noStrike">
                <a:solidFill>
                  <a:srgbClr val="ff00ff"/>
                </a:solidFill>
                <a:latin typeface="Monotype Corsiva"/>
              </a:rPr>
              <a:t>Як захистити свої права?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317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Добре вивчити Закон України “Про захист прав споживачів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"/>
              </a:rPr>
              <a:t>Своєчасно звернутися до продавця, у якого придбали неякісний тов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2171880" cy="2160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003640" y="4221000"/>
            <a:ext cx="33134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6000"/>
                            </p:stCondLst>
                            <p:childTnLst>
                              <p:par>
                                <p:cTn id="96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7500"/>
                            </p:stCondLst>
                            <p:childTnLst>
                              <p:par>
                                <p:cTn id="9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537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66"/>
                </a:solidFill>
                <a:latin typeface="Arial"/>
              </a:rPr>
              <a:t>Написати скаргу(претензію) на ім'я директора чи власника магаз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99ff"/>
                </a:solidFill>
                <a:latin typeface="Arial"/>
              </a:rPr>
              <a:t>Просити про допомогу у товаристві захисту прав споживач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cc"/>
                </a:solidFill>
                <a:latin typeface="Arial"/>
              </a:rPr>
              <a:t>Звернутися до су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046920" y="-243000"/>
            <a:ext cx="3097080" cy="3095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519800" cy="3324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6897600" y="4797360"/>
            <a:ext cx="224640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4" name="chimes.wav"/>
      </p:stSnd>
    </p:sndAc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9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6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6870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ff"/>
                </a:solidFill>
                <a:latin typeface="Comic Sans MS"/>
              </a:rPr>
              <a:t>НАШІ</a:t>
            </a:r>
            <a:r>
              <a:rPr b="1" lang="uk-U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i="1" lang="uk-UA" sz="4400" spc="-1" strike="noStrike">
                <a:solidFill>
                  <a:srgbClr val="ff00ff"/>
                </a:solidFill>
                <a:latin typeface="Comic Sans MS"/>
              </a:rPr>
              <a:t>ЗАВДАН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dff"/>
                </a:solidFill>
                <a:latin typeface="Comic Sans MS"/>
              </a:rPr>
              <a:t>РЕТЕЛЬНО ОПРАЦЮВАТИ ЗАКОН УКРАЇНИ “ПРО ЗАХИСТ ПРАВ СПОЖИВАЧІВ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dff"/>
                </a:solidFill>
                <a:latin typeface="Comic Sans MS"/>
              </a:rPr>
              <a:t>ПОЯСНИТИ, ЯК МИ ЗРОЗУМІЛИ СТАТТІ ЗАКО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84720" y="4573440"/>
            <a:ext cx="2135520" cy="2284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259092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Monotype Corsiva"/>
              </a:rPr>
              <a:t>ОТОЖ,, УСІМ  БАЖАЄМ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Arial"/>
              </a:rPr>
              <a:t>ДОБРЕ ЗНАТИ СВОЇ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Arial"/>
              </a:rPr>
              <a:t>ЗАВЖДИ БУТИ УВАЖ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Arial"/>
              </a:rPr>
              <a:t>І ЗАХИЩЕН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Arial"/>
              </a:rPr>
              <a:t>СПОЖИВАТИ ЛИШЕ НАЙКРАЩ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Arial"/>
              </a:rPr>
              <a:t>І НАЙЯКІСНІШІ ТОВ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509560" cy="2735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2303640" cy="3613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3818160" cy="4044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2843280" y="4292640"/>
            <a:ext cx="6300720" cy="2278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4716360" y="2822400"/>
            <a:ext cx="4672080" cy="4035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3492360" y="692280"/>
            <a:ext cx="4969080" cy="284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7" name="chimes.wav"/>
      </p:stSnd>
    </p:sndAc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1" dur="1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9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8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9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10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99"/>
                </a:solidFill>
                <a:latin typeface="Comic Sans MS"/>
              </a:rPr>
              <a:t>МИ СТВОРИЛИ ПРАВОЗНАВЧО-ПОЕТИЧНУ ГРУП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3772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Comic Sans MS"/>
              </a:rPr>
              <a:t>І ДОСЛІДИЛ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Comic Sans MS"/>
              </a:rPr>
              <a:t>ЩО СПОЖИВАЧІ В УКРАЇНІ МАЮТЬ ТАКІ ПРА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598920" cy="2881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24360" y="4149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4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5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35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35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350"/>
                            </p:stCondLst>
                            <p:childTnLst>
                              <p:par>
                                <p:cTn id="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0066"/>
                </a:solidFill>
                <a:latin typeface="Monotype Corsiva"/>
              </a:rPr>
              <a:t>1. ПРАВО  НА  ВІЛЬНИЙ  ВИБІР ТОВАР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Вибирать товар ми мож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В будь-якого продавц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Він постійно допом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Вибрати сальця, м’ясц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Нам завжди він посприя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Вибрать вільно речі ці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Бо закон забороня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0000"/>
                </a:solidFill>
                <a:latin typeface="Arial"/>
              </a:rPr>
              <a:t>Тиснути на покупц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3411360"/>
            <a:ext cx="41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51200" y="2328840"/>
            <a:ext cx="4191120" cy="3117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155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1155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1155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1155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ff"/>
                </a:solidFill>
                <a:latin typeface="Monotype Corsiva"/>
              </a:rPr>
              <a:t>2. ПРАВО  НА  ГАРАНТОВАНИЙ РІВЕНЬ  СПОЖИВАНН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Ми купуємо товар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Стільки, скільки тре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Щоб задовольняли н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Аж в усіх потреб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84720" y="2924280"/>
            <a:ext cx="3203640" cy="3035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334200" y="765000"/>
            <a:ext cx="2809800" cy="266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315900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5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Monotype Corsiva"/>
              </a:rPr>
              <a:t>3. ПРАВО  НА  НАЛЕЖНУ  ЯКІСТЬ ТОВАРІ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Arial"/>
              </a:rPr>
              <a:t>Як купуєте продук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9900"/>
                </a:solidFill>
                <a:latin typeface="Arial"/>
              </a:rPr>
              <a:t>То перевіряйте вс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Якість</a:t>
            </a:r>
            <a:r>
              <a:rPr b="1" lang="uk-UA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0021"/>
                </a:solidFill>
                <a:latin typeface="Arial"/>
              </a:rPr>
              <a:t>Ва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cc33"/>
                </a:solidFill>
                <a:latin typeface="Arial"/>
              </a:rPr>
              <a:t>Грош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Ці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305160" cy="3673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124000" y="3284640"/>
            <a:ext cx="4672080" cy="2841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203640" y="1844640"/>
            <a:ext cx="3717720" cy="3352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427640" y="1341360"/>
            <a:ext cx="4194000" cy="3532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5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85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385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38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38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4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500"/>
                            </p:stCondLst>
                            <p:childTnLst>
                              <p:par>
                                <p:cTn id="2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0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85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385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299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2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9500"/>
                            </p:stCondLst>
                            <p:childTnLst>
                              <p:par>
                                <p:cTn id="325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0"/>
            <a:ext cx="419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Arial"/>
              </a:rPr>
              <a:t>Продавця просіть ви мит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Arial"/>
              </a:rPr>
              <a:t>Документ хай принес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Arial"/>
              </a:rPr>
              <a:t>Щоб засвідчитись іще раз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Arial"/>
              </a:rPr>
              <a:t>Що це – якісний тов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Arial"/>
              </a:rPr>
              <a:t>От тоді лише купу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Arial"/>
              </a:rPr>
              <a:t>Геть усе – увесь баз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897600" y="1341360"/>
            <a:ext cx="2246400" cy="3697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995640" y="2421000"/>
            <a:ext cx="425160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50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500"/>
                            </p:stCondLst>
                            <p:childTnLst>
                              <p:par>
                                <p:cTn id="352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0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6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800080"/>
                </a:solidFill>
                <a:latin typeface="Monotype Corsiva"/>
              </a:rPr>
              <a:t>4. ПРАВО  НА  ДОСТОВІРНУ ІНФОРМАЦІЮ  ПРО  ЯКІСТЬ, КІЛЬКІСТЬ І АСОРТИМЕНТ  ТОВАРІВ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6796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Є технічні докумен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Що розкажуть про тов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Їх шукай на етикетц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Чи талона вимаг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Розказати все там мус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Нам по-українсь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Не по-польськи чи китайсь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ff"/>
                </a:solidFill>
                <a:latin typeface="Arial"/>
              </a:rPr>
              <a:t>І не по-англійсь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950000" y="2349360"/>
            <a:ext cx="4194000" cy="268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000"/>
                            </p:stCondLst>
                            <p:childTnLst>
                              <p:par>
                                <p:cTn id="41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500"/>
                            </p:stCondLst>
                            <p:childTnLst>
                              <p:par>
                                <p:cTn id="423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24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00"/>
                </a:solidFill>
                <a:latin typeface="Monotype Corsiva"/>
              </a:rPr>
              <a:t>5. ПРАВО  НА  БЕЗПЕКУ  ТОВАРІ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194000" cy="46083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ff"/>
                </a:solidFill>
                <a:latin typeface="Arial"/>
              </a:rPr>
              <a:t>Якщо йогурт трішки здувс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ff"/>
                </a:solidFill>
                <a:latin typeface="Arial"/>
              </a:rPr>
              <a:t>Ковбаса уже смерди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79800" y="1557360"/>
            <a:ext cx="3797280" cy="5300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083280" y="907920"/>
            <a:ext cx="28814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1000" autoRev="1" fill="hold"/>
                                        <p:tgtEl>
                                          <p:spTgt spid="2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000"/>
                            </p:stCondLst>
                            <p:childTnLst>
                              <p:par>
                                <p:cTn id="482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1000" autoRev="1" fill="hold"/>
                                        <p:tgtEl>
                                          <p:spTgt spid="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6:43:20Z</dcterms:created>
  <dc:creator>USER</dc:creator>
  <dc:description/>
  <dc:language>en-US</dc:language>
  <cp:lastModifiedBy>Customer</cp:lastModifiedBy>
  <dcterms:modified xsi:type="dcterms:W3CDTF">2010-09-27T18:12:28Z</dcterms:modified>
  <cp:revision>31</cp:revision>
  <dc:subject/>
  <dc:title>Які права мають споживачі в Україні?</dc:title>
</cp:coreProperties>
</file>