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2D0A-1B84-4C2E-BD67-5F7CD1B5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FC3-336D-48C0-AFF7-DCF0CE72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5997-F9B6-4542-AD3A-61AA8BDD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48C1-3CC2-4EE1-87A4-3A000DB7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EC90-93E6-4E81-BF4A-AC594D28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A0D7-E4C5-48CB-B939-896FB8AD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360F-D4C3-4807-975C-65D16F7A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2F99-265F-495A-AE23-292F0589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7E47-BBE4-4F3E-9A78-5C7F70A9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0D9B-519C-4460-8858-FD829EE6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79BA-6A0A-40A3-8876-75424F0E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0CE1-203E-4885-A6AB-719497C4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6D95-9CE1-4148-9DB3-0776A096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8E53-39F6-4149-8F87-8ECC57B8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7604-A4C1-4FD0-A6E2-7D2F8E47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2F4D-8409-4FC5-A92F-E63C54AB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9433-BADE-493A-8EB9-EB61D889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8549-D62B-449C-9DEA-4BC9B0B5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1783-8C13-4EF1-9306-2AD0EF42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EABB-7EE2-4945-BFCB-1B77AD27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5299-F734-48A2-9291-AD7203CC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EDA-1EBA-4FC2-BAEF-C32855B0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0DF2-F486-4E2C-A25F-1317D322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F8CB-72BC-4C45-A658-708930C0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E87E-5C63-4A2B-90D9-BC687BCAE4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0F6E-5FE1-450D-B26E-908FCDD3D9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b7"/>
                </a:solidFill>
                <a:latin typeface="Comic Sans MS"/>
              </a:rPr>
              <a:t>Суспільні комахи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Мураха лісова руда (Formica rufa Linnaeus, 1758). Джерело: http://www.de.wikipedia.org"/>
          <p:cNvPicPr/>
          <p:nvPr/>
        </p:nvPicPr>
        <p:blipFill>
          <a:blip r:embed="rId1"/>
          <a:stretch/>
        </p:blipFill>
        <p:spPr>
          <a:xfrm>
            <a:off x="838080" y="1371600"/>
            <a:ext cx="3657600" cy="2019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657600" cy="2019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219320" y="9144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МУРАХ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9144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ТЕРМІ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3657600" cy="2133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600200" y="3581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БДЖО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952880" y="4076640"/>
            <a:ext cx="3657600" cy="2247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86400" y="3581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О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b7"/>
                </a:solidFill>
                <a:latin typeface="Arial Black"/>
              </a:rPr>
              <a:t>СПОСІБ ЖИТТ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Чорні садові мурашки будують мурашники в різних місцях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ід невеликими грудками землі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орінням старих і стовбурами повалених дерев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у трухлявих пенька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ід плоскими каменя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 стінах будівел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b7"/>
                </a:solidFill>
                <a:latin typeface="Century"/>
              </a:rPr>
              <a:t>Житло мурах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5351400" cy="56386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867280" y="129528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1295280"/>
            <a:ext cx="29718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1 – камера, де знаходиться королева, що відкладає яйц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2 – “ приміщення ”, де зберігаються коко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entury Gothic"/>
              </a:rPr>
              <a:t>3 – личинки або їж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РАЦІОН ХАРЧУВАНН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КОМАХ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ФРУК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МЕ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МЕДЯНА РО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ДОЯТЬ ” ТЛ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ОСНОВНІ ДАНІ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69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овжина – близько 4 м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Форма і колір – коричневий або чор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рила – є тільки у самців і молодих короле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ількість яєчок – протягом 6-7 років королева відкладає по 1 яйцю кожні 10 хвил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Тривалість життя : самці – декілька місяців, королева і робітники – декілька рокі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9144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Century"/>
              </a:rPr>
              <a:t>Ареал чорної садової мураш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603576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устрічається практично на всій території Європи, в багатьох районах Азії і в Північній Америц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Наші дослідженн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6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Реагують на температуру (робочі мурашки постійно переносять личинки і яйця то ближче до поверхні, то в глиб мурашника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обре реагують на запа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вечері орієнтуються  за допомогою зорових орієнтирі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9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1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Значення мурах в природі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озносять насіння росл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окращують якість ґрунту, збагачуючи його поживними речовин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мінюючи стан ґрунту, мурашки здійснюють величезний вплив на розвиток росли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Є санітар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385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Види мура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9240" y="1905120"/>
            <a:ext cx="3365280" cy="2019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23880" y="10666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МУРАШКА САДОВА ЧОР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41148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РУДА ЛІСОВА МУРА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Колонія Медових мурах (Мyrmecocystus sp.). Джерело: http://www.en.wikipedia.org"/>
          <p:cNvPicPr/>
          <p:nvPr/>
        </p:nvPicPr>
        <p:blipFill>
          <a:blip r:embed="rId2"/>
          <a:stretch/>
        </p:blipFill>
        <p:spPr>
          <a:xfrm>
            <a:off x="5105520" y="1905120"/>
            <a:ext cx="3120840" cy="2019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34120" y="12193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МЕДОВІ МУРАХ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Мураха лісова руда (Formica rufa Linnaeus, 1758). Джерело: http://www.de.wikipedia.org"/>
          <p:cNvPicPr/>
          <p:nvPr/>
        </p:nvPicPr>
        <p:blipFill>
          <a:blip r:embed="rId3"/>
          <a:stretch/>
        </p:blipFill>
        <p:spPr>
          <a:xfrm>
            <a:off x="5029200" y="4495680"/>
            <a:ext cx="3200400" cy="2019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робоча мураха Formica rufa"/>
          <p:cNvPicPr/>
          <p:nvPr/>
        </p:nvPicPr>
        <p:blipFill>
          <a:blip r:embed="rId4"/>
          <a:stretch/>
        </p:blipFill>
        <p:spPr>
          <a:xfrm>
            <a:off x="1066680" y="4437000"/>
            <a:ext cx="33530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71600" y="40384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РОБОЧА МУРА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3124080" cy="2514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98560" y="341280"/>
            <a:ext cx="237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6094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МУРАХИ-ШВАЧ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3276720" cy="2362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029200" y="754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МУРАХА-ЛИСТОРІ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38080" y="4375080"/>
            <a:ext cx="3200400" cy="1873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066680" y="3878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РОГАТА МУРА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38098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МУРАШКИ-БУЛЬДО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29200" y="4343400"/>
            <a:ext cx="3276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7621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МАНДРУЮЧІ МУРА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Мураха марсіанська (Martialis heureka Rabeling &amp; Verhaagh, 2008) - найнезвичніша мураха на Землі. Джерело: http://www.lasius.narod.ru"/>
          <p:cNvPicPr/>
          <p:nvPr/>
        </p:nvPicPr>
        <p:blipFill>
          <a:blip r:embed="rId1"/>
          <a:stretch/>
        </p:blipFill>
        <p:spPr>
          <a:xfrm>
            <a:off x="5105520" y="609480"/>
            <a:ext cx="3425760" cy="2438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257800" y="228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МАРСІАНСЬКА МУРА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Скамянілий відбиток самки Форміції велетенської (Formicium giganteum Lutz, 1986) - найбільшої мурахи за історію Землі. Джерело: http://www.lasius.narod.ru"/>
          <p:cNvPicPr/>
          <p:nvPr/>
        </p:nvPicPr>
        <p:blipFill>
          <a:blip r:embed="rId2"/>
          <a:stretch/>
        </p:blipFill>
        <p:spPr>
          <a:xfrm>
            <a:off x="5105520" y="4267080"/>
            <a:ext cx="3429000" cy="2210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181480" y="411480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27672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ФОРМІЦІЯ ВЕЛЕТЕНСЬ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(50-40 млн.року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33520" y="1371600"/>
            <a:ext cx="3733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МУРАШКА САДОВА ЧОРНА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534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6169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ffff"/>
                </a:solidFill>
                <a:latin typeface="Arial"/>
              </a:rPr>
              <a:t>Чорні садові мурашки - один з 14 000 відомих на сьогоднішній день видів цієї численної родини. Нерідко їх можна зустріти на городі, в коморі, а інколи - навіть і на кухні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69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Чорні садові мурашки тримаються великими добре організованими спільнотами, які іноді називаються „Державами мурашок". Кожна особина тут виконує певну функцію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ОЗМНОЖЕН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ОРЯД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О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ЖИТЕЛІ КОЛОНІЇ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королева (здатна до роз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ноження самка, яка відкладає яйця),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король, або самець (здатний до розмноження крилатий самец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робочі мурашки (безплідні самки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іклуються про яйця і личинок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будують або роз­ширюють мурашник, підтримують в ньому порядок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ходять на пошуки їжі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іклуються про королеву і охороняють мураш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6214320"/>
            <a:ext cx="72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5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b7"/>
                </a:solidFill>
                <a:latin typeface="Century Gothic"/>
              </a:rPr>
              <a:t>ОСОБЛИВОСТІ ЧОРНОЇ САДОВОЇ МУРАШК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3-01-01T02:43:3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08000000000001024140</vt:lpwstr>
  </property>
  <property fmtid="{D5CDD505-2E9C-101B-9397-08002B2CF9AE}" pid="3" name="Version">
    <vt:r8>1</vt:r8>
  </property>
</Properties>
</file>