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  <p:custShowLst>
    <p:custShow name="Основной" id="0">
      <p:sldLst>
        <p:sld r:id="rId5"/>
        <p:sld r:id="rId7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DCF3-80A8-43E6-8856-D45FC40407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56F3-B886-4662-BF1E-2FBA1564B748}" type="slidenum">
              <a:rPr b="0" lang="ru-RU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им к изучению надземной части растения – побега. Ты узнаешь, какие бывают побеги и как их различать. Мы изучим строение побега и познакомимся с тем, как могут располагаться на стебле лист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30A1-01BB-42C8-A3B4-EE36610AE95B}" type="slidenum">
              <a:rPr b="0" lang="ru-RU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еперь взгляни на ту веточку, которую мы уже рассматривали, но до того, как осенью с нее опали листья. Ведь твой компьютер позволяет творить и такие чудес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ишь, почки находятся между стеблем и основанием листа? Это место называется пазухой листа, а почки – боковыми или пазуш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знаешь ли ты, что на побеге есть узлы, которые никто не завязывал? Оказывается, узлом называется то место стебля, от которого отходят лист и пазушная поч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тояние от одного узла до другого называется междоузл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4DD6-607A-4EFE-8917-9938B492CA28}" type="slidenum">
              <a:rPr b="0" lang="ru-RU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беги растений могут иметь разную длину междоузл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, у подорожника или одуванчика междоузлия настолько малы, что практически неразличимы, а вот у бамбука они могут достигать десятков сантимет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2593E-01B4-4665-95DB-E0E8E3203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834E-618F-4011-ADC5-7E8D4F7B8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9BF5-AC7C-4A46-8F9B-E792119D0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5951-F96F-4689-880A-C2A54D75A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6BF37-89D3-44F5-B194-C925BD4FE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8BAEC-7664-4949-AB07-1593D8D24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88521-B758-42A8-848B-E95EA59D4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3CB6-2BDE-49E8-9923-C2054070E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2731-AB04-4697-9003-7DCD72B47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A089E-E829-40A9-ACE3-3E654CDCE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A77F4-F4EA-49D0-A55E-0D8D497A4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CA19-55A5-4C35-9D99-7D5379E27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8f8"/>
            </a:gs>
            <a:gs pos="100000">
              <a:srgbClr val="ddd7d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3" marL="1752480" indent="-380880">
              <a:spcBef>
                <a:spcPts val="799"/>
              </a:spcBef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4" marL="2209680" indent="-3808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5" marL="2209680" indent="-3808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6" marL="2209680" indent="-3808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4FB1-6B93-44A7-B9D6-85F75B3850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8f8"/>
            </a:gs>
            <a:gs pos="100000">
              <a:srgbClr val="ddd7d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3" marL="1752480" indent="-380880">
              <a:spcBef>
                <a:spcPts val="799"/>
              </a:spcBef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4" marL="2209680" indent="-3808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5" marL="2209680" indent="-3808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6" marL="2209680" indent="-3808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d201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4146-97AA-490C-8D99-A4C57FFEFB75}" type="datetime3">
              <a:rPr b="0" lang="ru-RU" sz="1400" spc="-1" strike="noStrike">
                <a:solidFill>
                  <a:srgbClr val="2d2015"/>
                </a:solidFill>
                <a:latin typeface="Times New Roman"/>
              </a:rPr>
              <a:t>31 июля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372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01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523e26"/>
                </a:solidFill>
                <a:latin typeface="Arial"/>
              </a:rPr>
              <a:t>Пагін. </a:t>
            </a:r>
            <a:br>
              <a:rPr sz="4800"/>
            </a:br>
            <a:r>
              <a:rPr b="0" lang="uk-UA" sz="4800" spc="-1" strike="noStrike">
                <a:solidFill>
                  <a:srgbClr val="523e26"/>
                </a:solidFill>
                <a:latin typeface="Arial"/>
              </a:rPr>
              <a:t>Його будова, основні функції</a:t>
            </a:r>
            <a:endParaRPr b="0" lang="en-US" sz="4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23e26"/>
                </a:solidFill>
                <a:latin typeface="Arial"/>
              </a:rPr>
              <a:t>Конус наростання пагона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88" name="Picture 2" descr="http://koledj.ru/tw_refs/12/11656/11656_html_13022df3.jpg"/>
          <p:cNvPicPr/>
          <p:nvPr/>
        </p:nvPicPr>
        <p:blipFill>
          <a:blip r:embed="rId1"/>
          <a:stretch/>
        </p:blipFill>
        <p:spPr>
          <a:xfrm>
            <a:off x="208080" y="1779480"/>
            <a:ext cx="4840200" cy="4986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5364000" y="1557000"/>
            <a:ext cx="3600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d2015"/>
                </a:solidFill>
                <a:latin typeface="Arial"/>
              </a:rPr>
              <a:t>1- конус наростання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d2015"/>
                </a:solidFill>
                <a:latin typeface="Arial"/>
              </a:rPr>
              <a:t>2- верхівкова твірна тканина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d2015"/>
                </a:solidFill>
                <a:latin typeface="Arial"/>
              </a:rPr>
              <a:t>3-зачаткові листочки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d2015"/>
                </a:solidFill>
                <a:latin typeface="Arial"/>
              </a:rPr>
              <a:t>4-зачатки майбутніх листків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523e26"/>
                </a:solidFill>
                <a:latin typeface="Arial"/>
              </a:rPr>
              <a:t>Основні частини пагона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91" name="Picture 3" descr="побег с листьями"/>
          <p:cNvPicPr/>
          <p:nvPr/>
        </p:nvPicPr>
        <p:blipFill>
          <a:blip r:embed="rId1"/>
          <a:stretch/>
        </p:blipFill>
        <p:spPr>
          <a:xfrm>
            <a:off x="484200" y="1405080"/>
            <a:ext cx="4444920" cy="452736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4"/>
          <p:cNvGrpSpPr/>
          <p:nvPr/>
        </p:nvGrpSpPr>
        <p:grpSpPr>
          <a:xfrm>
            <a:off x="3121200" y="1633680"/>
            <a:ext cx="5421240" cy="1277280"/>
            <a:chOff x="3121200" y="1633680"/>
            <a:chExt cx="5421240" cy="1277280"/>
          </a:xfrm>
        </p:grpSpPr>
        <p:sp>
          <p:nvSpPr>
            <p:cNvPr id="93" name="Arc 5"/>
            <p:cNvSpPr/>
            <p:nvPr/>
          </p:nvSpPr>
          <p:spPr>
            <a:xfrm>
              <a:off x="3121200" y="2685240"/>
              <a:ext cx="252360" cy="2257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1" y="0"/>
                    <a:pt x="21588" y="9658"/>
                    <a:pt x="21599" y="2158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1" y="0"/>
                    <a:pt x="21588" y="9658"/>
                    <a:pt x="21599" y="2158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d2015"/>
                </a:solidFill>
                <a:latin typeface="Arial"/>
              </a:endParaRPr>
            </a:p>
          </p:txBody>
        </p:sp>
        <p:sp>
          <p:nvSpPr>
            <p:cNvPr id="94" name="Text Box 6"/>
            <p:cNvSpPr/>
            <p:nvPr/>
          </p:nvSpPr>
          <p:spPr>
            <a:xfrm>
              <a:off x="5435640" y="1633680"/>
              <a:ext cx="310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2d2015"/>
                  </a:solidFill>
                  <a:latin typeface="Arial"/>
                </a:rPr>
                <a:t>листкова пазуха</a:t>
              </a:r>
              <a:endParaRPr b="0" lang="en-US" sz="2800" spc="-1" strike="noStrike">
                <a:solidFill>
                  <a:srgbClr val="2d2015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3246480" y="1942920"/>
              <a:ext cx="498600" cy="772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d2015"/>
                </a:solidFill>
                <a:latin typeface="Arial"/>
              </a:endParaRPr>
            </a:p>
          </p:txBody>
        </p:sp>
        <p:sp>
          <p:nvSpPr>
            <p:cNvPr id="96" name="Line 8"/>
            <p:cNvSpPr/>
            <p:nvPr/>
          </p:nvSpPr>
          <p:spPr>
            <a:xfrm>
              <a:off x="3705120" y="1943280"/>
              <a:ext cx="1839960" cy="4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2d2015"/>
                </a:solidFill>
                <a:latin typeface="Arial"/>
              </a:endParaRPr>
            </a:p>
          </p:txBody>
        </p:sp>
      </p:grpSp>
      <p:grpSp>
        <p:nvGrpSpPr>
          <p:cNvPr id="97" name="Group 9"/>
          <p:cNvGrpSpPr/>
          <p:nvPr/>
        </p:nvGrpSpPr>
        <p:grpSpPr>
          <a:xfrm>
            <a:off x="2124000" y="5002200"/>
            <a:ext cx="5904000" cy="1325160"/>
            <a:chOff x="2124000" y="5002200"/>
            <a:chExt cx="5904000" cy="1325160"/>
          </a:xfrm>
        </p:grpSpPr>
        <p:sp>
          <p:nvSpPr>
            <p:cNvPr id="98" name="Line 10"/>
            <p:cNvSpPr/>
            <p:nvPr/>
          </p:nvSpPr>
          <p:spPr>
            <a:xfrm>
              <a:off x="2124000" y="5002200"/>
              <a:ext cx="1295640" cy="1033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d2015"/>
                </a:solidFill>
                <a:latin typeface="Arial"/>
              </a:endParaRPr>
            </a:p>
          </p:txBody>
        </p:sp>
        <p:sp>
          <p:nvSpPr>
            <p:cNvPr id="99" name="Line 11"/>
            <p:cNvSpPr/>
            <p:nvPr/>
          </p:nvSpPr>
          <p:spPr>
            <a:xfrm>
              <a:off x="3419640" y="6036120"/>
              <a:ext cx="1944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d2015"/>
                </a:solidFill>
                <a:latin typeface="Arial"/>
              </a:endParaRPr>
            </a:p>
          </p:txBody>
        </p:sp>
        <p:sp>
          <p:nvSpPr>
            <p:cNvPr id="100" name="Text Box 12"/>
            <p:cNvSpPr/>
            <p:nvPr/>
          </p:nvSpPr>
          <p:spPr>
            <a:xfrm>
              <a:off x="5435640" y="5806800"/>
              <a:ext cx="25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2d2015"/>
                  </a:solidFill>
                  <a:latin typeface="Arial"/>
                </a:rPr>
                <a:t>вузол</a:t>
              </a:r>
              <a:endParaRPr b="0" lang="en-US" sz="2800" spc="-1" strike="noStrike">
                <a:solidFill>
                  <a:srgbClr val="2d2015"/>
                </a:solidFill>
                <a:latin typeface="Arial"/>
              </a:endParaRPr>
            </a:p>
          </p:txBody>
        </p:sp>
      </p:grpSp>
      <p:grpSp>
        <p:nvGrpSpPr>
          <p:cNvPr id="101" name="Group 13"/>
          <p:cNvGrpSpPr/>
          <p:nvPr/>
        </p:nvGrpSpPr>
        <p:grpSpPr>
          <a:xfrm>
            <a:off x="2630520" y="3018600"/>
            <a:ext cx="5541840" cy="1252080"/>
            <a:chOff x="2630520" y="3018600"/>
            <a:chExt cx="5541840" cy="1252080"/>
          </a:xfrm>
        </p:grpSpPr>
        <p:sp>
          <p:nvSpPr>
            <p:cNvPr id="102" name="Text Box 14"/>
            <p:cNvSpPr/>
            <p:nvPr/>
          </p:nvSpPr>
          <p:spPr>
            <a:xfrm>
              <a:off x="5580000" y="3750120"/>
              <a:ext cx="25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2d2015"/>
                  </a:solidFill>
                  <a:latin typeface="Arial"/>
                </a:rPr>
                <a:t>міжвузля</a:t>
              </a:r>
              <a:endParaRPr b="0" lang="en-US" sz="2800" spc="-1" strike="noStrike">
                <a:solidFill>
                  <a:srgbClr val="2d2015"/>
                </a:solidFill>
                <a:latin typeface="Arial"/>
              </a:endParaRPr>
            </a:p>
          </p:txBody>
        </p:sp>
        <p:sp>
          <p:nvSpPr>
            <p:cNvPr id="103" name="AutoShape 15"/>
            <p:cNvSpPr/>
            <p:nvPr/>
          </p:nvSpPr>
          <p:spPr>
            <a:xfrm rot="13040400">
              <a:off x="2894040" y="2987280"/>
              <a:ext cx="216000" cy="94284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4480 h 942840"/>
                <a:gd name="textAreaBottom" fmla="*/ 918360 h 94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d2015"/>
                </a:solidFill>
                <a:latin typeface="Arial"/>
              </a:endParaRPr>
            </a:p>
          </p:txBody>
        </p:sp>
        <p:sp>
          <p:nvSpPr>
            <p:cNvPr id="104" name="Line 16"/>
            <p:cNvSpPr/>
            <p:nvPr/>
          </p:nvSpPr>
          <p:spPr>
            <a:xfrm>
              <a:off x="3059280" y="3499200"/>
              <a:ext cx="1008000" cy="509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d2015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 flipH="1">
              <a:off x="4067280" y="4002480"/>
              <a:ext cx="1512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d2015"/>
                </a:solidFill>
                <a:latin typeface="Arial"/>
              </a:endParaRPr>
            </a:p>
          </p:txBody>
        </p:sp>
      </p:grpSp>
      <p:sp>
        <p:nvSpPr>
          <p:cNvPr id="106" name="Line 10"/>
          <p:cNvSpPr/>
          <p:nvPr/>
        </p:nvSpPr>
        <p:spPr>
          <a:xfrm>
            <a:off x="2476440" y="3714840"/>
            <a:ext cx="1295640" cy="1035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>
            <a:off x="3772080" y="4749840"/>
            <a:ext cx="194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3483000" y="1417680"/>
            <a:ext cx="2062080" cy="17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5692680" y="452268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d2015"/>
                </a:solidFill>
                <a:latin typeface="Arial"/>
              </a:rPr>
              <a:t>пазушна брунька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5456160" y="1123920"/>
            <a:ext cx="35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d2015"/>
                </a:solidFill>
                <a:latin typeface="Arial"/>
              </a:rPr>
              <a:t>верхівкова брунька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23e26"/>
                </a:solidFill>
                <a:latin typeface="Arial"/>
              </a:rPr>
              <a:t>Размір міжвузля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12" name="Picture 3" descr="Бамбук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924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podoroznik"/>
          <p:cNvPicPr/>
          <p:nvPr/>
        </p:nvPicPr>
        <p:blipFill>
          <a:blip r:embed="rId2"/>
          <a:stretch/>
        </p:blipFill>
        <p:spPr>
          <a:xfrm>
            <a:off x="1333440" y="1600200"/>
            <a:ext cx="3238560" cy="2379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одуванчик"/>
          <p:cNvPicPr/>
          <p:nvPr/>
        </p:nvPicPr>
        <p:blipFill>
          <a:blip r:embed="rId3"/>
          <a:stretch/>
        </p:blipFill>
        <p:spPr>
          <a:xfrm>
            <a:off x="395280" y="4145040"/>
            <a:ext cx="323856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523e26"/>
                </a:solidFill>
                <a:latin typeface="Arial"/>
              </a:rPr>
              <a:t>Види бруньок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16" name="Picture 2" descr="http://school.xvatit.com/images/f/fd/P41.jpg"/>
          <p:cNvPicPr/>
          <p:nvPr/>
        </p:nvPicPr>
        <p:blipFill>
          <a:blip r:embed="rId1"/>
          <a:stretch/>
        </p:blipFill>
        <p:spPr>
          <a:xfrm>
            <a:off x="1359000" y="1096920"/>
            <a:ext cx="7029360" cy="5705640"/>
          </a:xfrm>
          <a:prstGeom prst="rect">
            <a:avLst/>
          </a:prstGeom>
          <a:ln w="0">
            <a:noFill/>
          </a:ln>
        </p:spPr>
      </p:pic>
      <p:sp>
        <p:nvSpPr>
          <p:cNvPr id="117" name="Скругленный прямоугольник 6"/>
          <p:cNvSpPr/>
          <p:nvPr/>
        </p:nvSpPr>
        <p:spPr>
          <a:xfrm>
            <a:off x="3419640" y="6165720"/>
            <a:ext cx="273672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18" name="Скругленный прямоугольник 7"/>
          <p:cNvSpPr/>
          <p:nvPr/>
        </p:nvSpPr>
        <p:spPr>
          <a:xfrm>
            <a:off x="1547640" y="3933720"/>
            <a:ext cx="302760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d2015"/>
                </a:solidFill>
                <a:latin typeface="Arial"/>
              </a:rPr>
              <a:t>Вегетативна</a:t>
            </a:r>
            <a:r>
              <a:rPr b="0" lang="uk-UA" sz="1800" spc="-1" strike="noStrike">
                <a:solidFill>
                  <a:srgbClr val="2d201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19" name="Скругленный прямоугольник 9"/>
          <p:cNvSpPr/>
          <p:nvPr/>
        </p:nvSpPr>
        <p:spPr>
          <a:xfrm flipV="1" rot="10800000">
            <a:off x="4574880" y="3932640"/>
            <a:ext cx="370044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d2015"/>
                </a:solidFill>
                <a:latin typeface="Arial"/>
              </a:rPr>
              <a:t>Квіткова</a:t>
            </a:r>
            <a:r>
              <a:rPr b="0" lang="uk-UA" sz="1800" spc="-1" strike="noStrike">
                <a:solidFill>
                  <a:srgbClr val="2d201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d201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523e26"/>
                </a:solidFill>
                <a:latin typeface="Arial"/>
              </a:rPr>
              <a:t>Типи пагонів за розташуванням у просторі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21" name="Picture 2" descr="http://bibdocs.ru/tw_files2/urls_4/79/d-78542/7z-docs/5_html_6913b9e5.png"/>
          <p:cNvPicPr/>
          <p:nvPr/>
        </p:nvPicPr>
        <p:blipFill>
          <a:blip r:embed="rId1"/>
          <a:stretch/>
        </p:blipFill>
        <p:spPr>
          <a:xfrm>
            <a:off x="-19080" y="1914480"/>
            <a:ext cx="94186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523e26"/>
                </a:solidFill>
                <a:latin typeface="Arial"/>
              </a:rPr>
              <a:t>Зробіть підписи до малюнку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23" name="Picture 2" descr="http://tnu.podelise.ru/pars_docs/refs/356/355939/355939_html_m5d086492.jpg"/>
          <p:cNvPicPr/>
          <p:nvPr/>
        </p:nvPicPr>
        <p:blipFill>
          <a:blip r:embed="rId1"/>
          <a:srcRect l="0" t="0" r="59" b="92"/>
          <a:stretch/>
        </p:blipFill>
        <p:spPr>
          <a:xfrm>
            <a:off x="73080" y="981000"/>
            <a:ext cx="8997840" cy="57816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6"/>
          <p:cNvSpPr/>
          <p:nvPr/>
        </p:nvSpPr>
        <p:spPr>
          <a:xfrm>
            <a:off x="6516720" y="1379520"/>
            <a:ext cx="255420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2d2015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25" name="Прямоугольник 8"/>
          <p:cNvSpPr/>
          <p:nvPr/>
        </p:nvSpPr>
        <p:spPr>
          <a:xfrm>
            <a:off x="6505560" y="2075040"/>
            <a:ext cx="255420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2d2015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26" name="Прямоугольник 9"/>
          <p:cNvSpPr/>
          <p:nvPr/>
        </p:nvSpPr>
        <p:spPr>
          <a:xfrm>
            <a:off x="6516720" y="2857680"/>
            <a:ext cx="255420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2d2015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27" name="Прямоугольник 10"/>
          <p:cNvSpPr/>
          <p:nvPr/>
        </p:nvSpPr>
        <p:spPr>
          <a:xfrm>
            <a:off x="6516720" y="3517920"/>
            <a:ext cx="255420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2d2015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28" name="Прямоугольник 11"/>
          <p:cNvSpPr/>
          <p:nvPr/>
        </p:nvSpPr>
        <p:spPr>
          <a:xfrm>
            <a:off x="6516720" y="4300560"/>
            <a:ext cx="255420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2d2015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2d201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523e26"/>
                </a:solidFill>
                <a:latin typeface="Arial"/>
              </a:rPr>
              <a:t>Зробіть підписи до малюнку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30" name="Picture 2" descr="http://bibdocs.ru/tw_files2/urls_4/79/d-78542/7z-docs/5_html_5e2bb20e.jpg"/>
          <p:cNvPicPr/>
          <p:nvPr/>
        </p:nvPicPr>
        <p:blipFill>
          <a:blip r:embed="rId1"/>
          <a:stretch/>
        </p:blipFill>
        <p:spPr>
          <a:xfrm>
            <a:off x="1073160" y="1316160"/>
            <a:ext cx="7412040" cy="53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4:42:49Z</dcterms:created>
  <dc:creator>Букина О.Н</dc:creator>
  <dc:description/>
  <dc:language>en-US</dc:language>
  <cp:lastModifiedBy>админ</cp:lastModifiedBy>
  <dcterms:modified xsi:type="dcterms:W3CDTF">2014-11-13T20:49:29Z</dcterms:modified>
  <cp:revision>41</cp:revision>
  <dc:subject/>
  <dc:title>10 Строение побег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1a000000000001024140</vt:lpwstr>
  </property>
  <property fmtid="{D5CDD505-2E9C-101B-9397-08002B2CF9AE}" pid="3" name="Version">
    <vt:r8>1</vt:r8>
  </property>
</Properties>
</file>