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45D-D36F-4CF8-9A3A-C6A9E192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AE3-3427-4722-82DC-205A2B3F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6EC-1C84-47E7-9982-CC7B5650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336-7DF0-4FF8-91AA-6A1E5473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CB10-7B11-4043-BD51-7A394665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C892-7C14-43CF-9DD7-F4337E5A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D2E5-6038-4739-A1EA-BC587F9B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ED81-F996-45B7-8CD1-18544E0A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803C-43F8-4365-9E2B-6CC6499F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A9DD-D479-47B9-B2FB-CCAC5A3A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5C92-17C2-4546-A4BE-91CC2699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E56-BAC9-4F74-9461-F92DD30C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14FB-168A-4621-B5DA-0991D4B7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ED38-F62D-43DE-B48D-A29104AB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885D-E3C7-41B3-88FA-C4AFA8F4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187A-B304-4E43-BD24-889B4185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882E-A73C-43C0-AB55-69A1A421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5E3-9206-483B-88B5-F0A4BB88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688-B9A8-4100-BF53-38560F5C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008-12F1-4605-9549-123C0BE1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6D7-2F4B-42E3-B040-B52A358C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F27-5183-4B6E-B5A4-4196699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CEA-09DE-4715-ADCC-761166ED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4DC-9BA8-4824-9BC3-B9541177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6063-850A-4477-BA91-CE39C74BDB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5D9A-B544-420A-8B9E-C060C6A21E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eec94"/>
                </a:solidFill>
                <a:latin typeface="Monotype Corsiva"/>
              </a:rPr>
              <a:t>ЗЕМНОВОДНІ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4080" y="0"/>
            <a:ext cx="8834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ба озер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71680"/>
            <a:ext cx="9144000" cy="571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ба гостромор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Жаба тра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я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9160"/>
            <a:ext cx="9144000" cy="661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ба пруд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3080" y="0"/>
            <a:ext cx="8458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опух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62080"/>
            <a:ext cx="9144000" cy="6332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Часничниц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80880"/>
            <a:ext cx="9144000" cy="6094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Кум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55680" y="0"/>
            <a:ext cx="6631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Кумка звичай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85920"/>
            <a:ext cx="9144000" cy="608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Кільчаст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черв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яг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0" y="0"/>
            <a:ext cx="9085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Цейлонський рибозмі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52480"/>
            <a:ext cx="9144000" cy="5151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Гігантська саламанд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лямиста саламанд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93840"/>
            <a:ext cx="9144000" cy="6070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ритон звичай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93760"/>
            <a:ext cx="9144000" cy="6269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ритон гребінчаст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ритон карпатсь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36560"/>
            <a:ext cx="9144000" cy="538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ритон альпійсь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19:42:41Z</dcterms:created>
  <dc:creator>Ostap</dc:creator>
  <dc:description/>
  <dc:language>en-US</dc:language>
  <cp:lastModifiedBy>Ostap</cp:lastModifiedBy>
  <dcterms:modified xsi:type="dcterms:W3CDTF">2015-01-15T20:07:52Z</dcterms:modified>
  <cp:revision>2</cp:revision>
  <dc:subject/>
  <dc:title>ЗЕМНОВОДН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12000000000001024140</vt:lpwstr>
  </property>
</Properties>
</file>