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6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E99-586B-4ED6-9B03-FC51CB84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C50-E882-49DB-8BBC-878EC3C0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4B6-2069-41F1-8E35-91550B5A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DC3-8D9B-4A8C-84D3-70758259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EBF-0883-4C06-9C80-8F3BECF3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365-7596-4EA6-94FC-5675FD84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3D9-6FB2-42DC-BDAA-19E47A41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CEE-F3B2-4485-B968-FE2DF065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F41-0B1C-45BC-A2BF-DBA0DBE5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10F-67D3-4DFF-99C4-CD6A4066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EE1-1498-4B26-8E1D-E0464571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41B-95E9-42A7-8F7E-8FD033A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D267-3D05-4E20-B252-8728454CD0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Ц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Я ЛЮДИНИ: СКЛАД, СТРУКТУРА, ОСНОВНІ ПРОЦЕ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556000" y="4365720"/>
            <a:ext cx="402912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смертності та народжуван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364500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13340"/>
                </a:solidFill>
                <a:latin typeface="Times New Roman"/>
                <a:ea typeface="Times New Roman"/>
              </a:rPr>
              <a:t>ОКРЕМА ЛЮДИНА – ЦЕ СТИСЛИЙ ЕТЮД УСЬОГО ЛЮДСТВА</a:t>
            </a:r>
            <a:br>
              <a:rPr sz="3200"/>
            </a:br>
            <a:r>
              <a:rPr b="0" i="1" lang="uk-UA" sz="2500" spc="-1" strike="noStrike">
                <a:solidFill>
                  <a:srgbClr val="313340"/>
                </a:solidFill>
                <a:latin typeface="Times New Roman"/>
                <a:ea typeface="Times New Roman"/>
              </a:rPr>
              <a:t>СТЕФАН ЦВЕЙ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475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52e1f"/>
                </a:solidFill>
                <a:latin typeface="Times New Roman"/>
                <a:ea typeface="Times New Roman"/>
              </a:rPr>
              <a:t>Генетика – наука, що пояснює, чому ти схожий на свого батька, якщо схожий, та чому не схожий на нього, якщо так стало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52e1f"/>
                </a:solidFill>
                <a:latin typeface="Times New Roman"/>
                <a:ea typeface="Times New Roman"/>
              </a:rPr>
              <a:t>Станіслав Єжи Л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делевські ознаки людина – це ознаки, які підпорядковуються або успадковуються за закономірностями, встановленими Г.Мендел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ініз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ви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кров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ілення підборідд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чхайкерів палец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ипалі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очки на щок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а чи суха вушна сір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льні чи закріплені мочки вух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виний пі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хідактилі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816440" y="2924280"/>
            <a:ext cx="42958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іжні результати дослідже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797040" y="1384200"/>
            <a:ext cx="7662600" cy="4205520"/>
          </a:xfrm>
          <a:prstGeom prst="rect">
            <a:avLst/>
          </a:prstGeom>
          <a:ln w="57240">
            <a:solidFill>
              <a:srgbClr val="934c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13824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439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316080" y="1628640"/>
            <a:ext cx="8288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воєне підборідд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2924280"/>
            <a:ext cx="403848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64832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винн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276640"/>
            <a:ext cx="4495680" cy="20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4648320" y="1484280"/>
            <a:ext cx="4322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очки на щіч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431640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4768920" y="1844640"/>
            <a:ext cx="412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навчальна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закріпити знання зі структури популяції, дати характеристику популяції людини; закріпити вміння у розв’язанні задач з популяційної генети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розвивальн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удосконалювати спеціальні вміння роботи з додатковою літературою; продовжувати формувати вміння порівнювати, аналізувати, узагальнювати та формувати висновки; розвивати інтерес до вивчення біології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иховна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прияти  розвитку пам’яті, логічного мислення, цікавості, спостережливості, комунікативних навичо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713120" y="1557360"/>
            <a:ext cx="3908520" cy="42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57200" y="2637000"/>
            <a:ext cx="40384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ий скарб усього людства є сама людина</a:t>
            </a: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Довже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411280" y="3200400"/>
            <a:ext cx="44863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конспект «Загальна характеристика популяції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и зміст малю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овити на вибір публікації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арактеристика популяції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обливості популяції людин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івняння Харді-Вайнберг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736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1916280"/>
            <a:ext cx="77724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ЛЮДИНА ДОТИ МОГУТНЯ І НЕПЕРЕМОЖНА, ПОКИ ВОНА ВІРНА ЗАКОНАМ ПРИРОДИ – ПІЗНАНИМ І НЕПІЗНАНИМ…</a:t>
            </a:r>
            <a:br>
              <a:rPr sz="4000"/>
            </a:br>
            <a:br>
              <a:rPr sz="40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О.СУХОМЛИНСЬ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5840" y="4640400"/>
            <a:ext cx="30434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сти сенкан «популяці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щ асоціацій «стан популяції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и визначення поняттям: «фенотип», «генотип», «дрейф генів», «популяційні хвилі», «гомозигота», «гетерозигота», «популяція», «екосистема», «приріст», «мікроеволюція», «демографічний вибу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уляція – одне з основних понять екології – означає сукупність особин певного виду, які тривалий час живуть на певній території і вільно схрещуються між собо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382920" y="2565360"/>
            <a:ext cx="5761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Характеристики популяці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2"/>
          <a:stretch/>
        </p:blipFill>
        <p:spPr>
          <a:xfrm>
            <a:off x="378000" y="1189080"/>
            <a:ext cx="843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діл населення селища Шабельківка за статтю та ві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56800" cy="2248200"/>
          </a:xfrm>
          <a:prstGeom prst="rect">
            <a:avLst/>
          </a:prstGeom>
          <a:ln w="57240">
            <a:solidFill>
              <a:srgbClr val="934c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57200" y="1268280"/>
            <a:ext cx="40384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4648320" y="1268280"/>
            <a:ext cx="40384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 смертності та народжуваності в Шабельківці за 5 рок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717480" y="1773360"/>
            <a:ext cx="7670880" cy="4248000"/>
          </a:xfrm>
          <a:prstGeom prst="rect">
            <a:avLst/>
          </a:prstGeom>
          <a:ln w="57240">
            <a:solidFill>
              <a:srgbClr val="9794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6:55:50Z</dcterms:created>
  <dc:creator>НВТ</dc:creator>
  <dc:description/>
  <dc:language>en-US</dc:language>
  <cp:lastModifiedBy>Admin</cp:lastModifiedBy>
  <dcterms:modified xsi:type="dcterms:W3CDTF">2014-12-24T14:47:30Z</dcterms:modified>
  <cp:revision>17</cp:revision>
  <dc:subject/>
  <dc:title>ПОПУЛЯЦІЯ ЛЮДИНИ: СКЛАД, СТРУКТУРА, ОСНОВНІ ПРОЦЕ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c000000000001024140</vt:lpwstr>
  </property>
</Properties>
</file>