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6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B30-E285-46AC-8EE3-B62ACE67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270-E0D7-48F4-95FA-A49574DF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87C-E898-485D-8099-88FFB652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52C-DB6D-4071-8215-83BCBA44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56A-529E-4D2A-871F-96F260A0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DB6-9E32-4DFD-B04F-13CB7FB8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110-801E-4053-8752-4C27FDFE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43F-D016-4B64-802A-E357B4EF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24E-33B7-459F-A22E-A6ECD0B2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77B-89BA-4922-A801-649906A4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546-06FC-4469-90F3-C9D4363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8C9-D578-4F53-BB74-75D70227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968D-A363-4096-BCBB-86400B41C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Ц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Я ЛЮДИНИ: СКЛАД, СТРУКТУРА, ОСНОВНІ ПРОЦЕ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556000" y="4365720"/>
            <a:ext cx="402912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смертності та народжуван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364500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ОКРЕМА ЛЮДИНА – ЦЕ СТИСЛИЙ ЕТЮД УСЬОГО ЛЮДСТВА</a:t>
            </a:r>
            <a:br>
              <a:rPr sz="3200"/>
            </a:br>
            <a:r>
              <a:rPr b="0" i="1" lang="uk-UA" sz="25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СТЕФАН ЦВЕЙ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475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Генетика – наука, що пояснює, чому ти схожий на свого батька, якщо схожий, та чому не схожий на нього, якщо так стало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Станіслав Єжи 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вські ознаки людина – це ознаки, які підпорядковуються або успадковуються за закономірностями, встановленими Г.Мендел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ініз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кров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ілення підборідд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чхайкерів палец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палі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о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а чи суха вушна сір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і чи закріплені мочки вух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виний пі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хідактилі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816440" y="2924280"/>
            <a:ext cx="42958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іжні результати дослідж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97040" y="1384200"/>
            <a:ext cx="7662600" cy="420552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13824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439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316080" y="1628640"/>
            <a:ext cx="8288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воєне підборідд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2924280"/>
            <a:ext cx="403848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276640"/>
            <a:ext cx="4495680" cy="20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4648320" y="1484280"/>
            <a:ext cx="4322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іч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431640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4768920" y="1844640"/>
            <a:ext cx="412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навчаль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закріпити знання зі структури популяції, дати характеристику популяції людини; закріпити вміння у розв’язанні задач з популяційної генет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розвиваль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удосконалювати спеціальні вміння роботи з додатковою літературою; продовжувати формувати вміння порівнювати, аналізувати, узагальнювати та формувати висновки; розвивати інтерес до вивчення біології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ихов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прияти  розвитку пам’яті, логічного мислення, цікавості, спостережливості, комунікативних навичо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713120" y="1557360"/>
            <a:ext cx="3908520" cy="42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57200" y="2637000"/>
            <a:ext cx="4038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ий скарб усього людства є сама людина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Довж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411280" y="3200400"/>
            <a:ext cx="44863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конспект «Загальна 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и зміст малю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овити на вибір публікації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обливості популяції людин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івняння Харді-Вайнберг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736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1916280"/>
            <a:ext cx="77724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ЛЮДИНА ДОТИ МОГУТНЯ І НЕПЕРЕМОЖНА, ПОКИ ВОНА ВІРНА ЗАКОНАМ ПРИРОДИ – ПІЗНАНИМ І НЕПІЗНАНИМ…</a:t>
            </a:r>
            <a:br>
              <a:rPr sz="4000"/>
            </a:br>
            <a:br>
              <a:rPr sz="40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О.СУХОМЛИНСЬ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5840" y="4640400"/>
            <a:ext cx="3043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сти сенкан «популяці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щ асоціацій «стан популяції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визначення поняттям: «фенотип», «генотип», «дрейф генів», «популяційні хвилі», «гомозигота», «гетерозигота», «популяція», «екосистема», «приріст», «мікроеволюція», «демографічний виб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уляція – одне з основних понять екології – означає сукупність особин певного виду, які тривалий час живуть на певній території і вільно схрещуються між собо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382920" y="2565360"/>
            <a:ext cx="5761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Характеристики популяці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378000" y="1189080"/>
            <a:ext cx="843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діл населення селища Шабельківка за статтю та ві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56800" cy="224820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57200" y="126828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648320" y="126828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 смертності та народжуваності в Шабельківці за 5 ро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717480" y="1773360"/>
            <a:ext cx="7670880" cy="4248000"/>
          </a:xfrm>
          <a:prstGeom prst="rect">
            <a:avLst/>
          </a:prstGeom>
          <a:ln w="57240">
            <a:solidFill>
              <a:srgbClr val="9794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6:55:50Z</dcterms:created>
  <dc:creator>НВТ</dc:creator>
  <dc:description/>
  <dc:language>en-US</dc:language>
  <cp:lastModifiedBy>Admin</cp:lastModifiedBy>
  <dcterms:modified xsi:type="dcterms:W3CDTF">2014-12-24T14:47:30Z</dcterms:modified>
  <cp:revision>17</cp:revision>
  <dc:subject/>
  <dc:title>ПОПУЛЯЦІЯ ЛЮДИНИ: СКЛАД, СТРУКТУРА, ОСНОВНІ ПРОЦЕ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c000000000001024140</vt:lpwstr>
  </property>
</Properties>
</file>