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24B-D07F-458F-83C1-3A66AC67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0B1-2132-42A8-8908-B7544959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6C2-9ED5-4A50-8DAC-CBC6BCB8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A5E-FB79-433C-B5E4-A139DB1C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133-CEE3-49D5-84DF-9BD45931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463-A9FF-4508-9681-16D94D61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0DE-FD9D-48A7-8153-A7518D3B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E11-73EF-4808-B7F1-1AF55E9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04B-945A-43FC-829F-04F1765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25B-FDA5-4162-894B-47CF8A8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F0D-3565-4F41-BBC4-B4E77C5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FFF-EC6F-49B7-AE6C-2714D57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688D-77D2-44FE-A3C8-9D0AF32CC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Я ЛЮДИНИ: СКЛАД, СТРУКТУРА, ОСНОВНІ ПРОЦЕ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40291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смертності та народжува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64500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ОКРЕМА ЛЮДИНА – ЦЕ СТИСЛИЙ ЕТЮД УСЬОГО ЛЮДСТВА</a:t>
            </a:r>
            <a:br>
              <a:rPr sz="3200"/>
            </a:br>
            <a:r>
              <a:rPr b="0" i="1" lang="uk-UA" sz="25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СТЕФАН ЦВЕЙ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47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Генетика – наука, що пояснює, чому ти схожий на свого батька, якщо схожий, та чому не схожий на нього, якщо так стал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Станіслав Єжи 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вські ознаки людина – це ознаки, які підпорядковуються або успадковуються за закономірностями, встановленими Г.Менде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ініз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кров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ення підборідд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чхайкерів палец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палі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а чи суха вушна сір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і чи закріплені мочки в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ний пі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ідактилі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816440" y="2924280"/>
            <a:ext cx="42958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іжні результати дослідж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97040" y="1384200"/>
            <a:ext cx="7662600" cy="420552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13824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43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16080" y="1628640"/>
            <a:ext cx="8288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воєне підборід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40384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276640"/>
            <a:ext cx="44956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322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і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1640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768920" y="1844640"/>
            <a:ext cx="412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вчаль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закріпити знання зі структури популяції, дати характеристику популяції людини; закріпити вміння у розв’язанні задач з популяційної гене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розвиваль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удосконалювати спеціальні вміння роботи з додатковою літературою; продовжувати формувати вміння порівнювати, аналізувати, узагальнювати та формувати висновки; розвивати інтерес до вивчення біолог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хов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прияти  розвитку пам’яті, логічного мислення, цікавості, спостережливості, комунікативних навичо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13120" y="1557360"/>
            <a:ext cx="390852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2637000"/>
            <a:ext cx="4038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ий скарб усього людства є сама людина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Довж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411280" y="3200400"/>
            <a:ext cx="4486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конспект «Загальна 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и зміст малю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ити на вибір публікації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ливості популяції людин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івняння Харді-Вайнберг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73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191628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ЛЮДИНА ДОТИ МОГУТНЯ І НЕПЕРЕМОЖНА, ПОКИ ВОНА ВІРНА ЗАКОНАМ ПРИРОДИ – ПІЗНАНИМ І НЕПІЗНАНИМ…</a:t>
            </a:r>
            <a:br>
              <a:rPr sz="4000"/>
            </a:br>
            <a:br>
              <a:rPr sz="40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840" y="4640400"/>
            <a:ext cx="3043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сенкан «популяці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асоціацій «стан популяції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изначення поняттям: «фенотип», «генотип», «дрейф генів», «популяційні хвилі», «гомозигота», «гетерозигота», «популяція», «екосистема», «приріст», «мікроеволюція», «демографічний виб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уляція – одне з основних понять екології – означає сукупність особин певного виду, які тривалий час живуть на певній території і вільно схрещуються між соб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популя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378000" y="1189080"/>
            <a:ext cx="843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діл населення селища Шабельківка за статтю та ві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56800" cy="224820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648320" y="1268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 смертності та народжуваності в Шабельківці за 5 ро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17480" y="1773360"/>
            <a:ext cx="7670880" cy="4248000"/>
          </a:xfrm>
          <a:prstGeom prst="rect">
            <a:avLst/>
          </a:prstGeom>
          <a:ln w="57240">
            <a:solidFill>
              <a:srgbClr val="9794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6:55:50Z</dcterms:created>
  <dc:creator>НВТ</dc:creator>
  <dc:description/>
  <dc:language>en-US</dc:language>
  <cp:lastModifiedBy>Admin</cp:lastModifiedBy>
  <dcterms:modified xsi:type="dcterms:W3CDTF">2014-12-24T14:47:30Z</dcterms:modified>
  <cp:revision>17</cp:revision>
  <dc:subject/>
  <dc:title>ПОПУЛЯЦІЯ ЛЮДИНИ: СКЛАД, СТРУКТУРА, ОСНОВНІ ПРОЦЕ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