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2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6.gif" ContentType="image/gif"/>
  <Override PartName="/ppt/media/image5.jpeg" ContentType="image/jpeg"/>
  <Override PartName="/ppt/media/image24.gif" ContentType="image/gif"/>
  <Override PartName="/ppt/media/image1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3.gif" ContentType="image/gi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6DC-7E19-44F4-BB17-21BF7F5D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40E-66D6-40FA-A1A9-6D2DCDD9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0F7-787B-4046-857B-C14D8A27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EA1-73FE-4B50-A2E0-080BDB03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3398-AFBC-4351-A1EB-E67ADEAA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D99D-F3A5-411C-B8E1-B3FC31D3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AD3-63BB-4767-8595-7C933299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523-A6C4-40C9-BC43-B42908A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036-52DF-4D1C-89D8-B413EB3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8E3D-67F4-4AA5-984C-CAA46061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D92-D4BB-447E-B126-118DBE3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63F-3CC6-41FF-B574-514C3CF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5FB-E67B-407B-856E-DBE929E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BBE5-D31B-4E03-8966-57E9168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792-F2B6-48FF-9B1A-0D1926F2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3B8-E8E0-4B70-86C0-5C68EFDC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2D7-8E08-45DF-8E2D-CD8818B5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0333-50F2-4DEA-8EAA-E38E5B92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224E-8D98-44BB-88CA-C14EF25C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FBD1-0D47-4046-B474-DF08303A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B352-BD4C-465D-B067-0DD9BF41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AFA3-2678-4B42-B291-27D9C324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8B3-1595-424E-8E40-1B4BCD91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D85E-012C-4722-A51C-8066D86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10E3-440D-4796-ACDA-6D26D47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FC21-F0F6-4969-8671-359E0D0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0174-87E2-4CB0-8210-0AB9EAC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5FE2-B183-4798-B170-39FA569E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085F-477A-457E-94D2-56EFD1FA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50E1-C135-48D7-BB10-A56698CF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E5E5-3850-4F52-B14B-D9BCDC99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EFA4-4C33-4EBA-B416-22BDCCF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D103-D6DF-4284-B46C-4D6572FB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C37-26FD-4B02-BD33-3BA8797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75D1-4F48-4276-B1F7-BCC4A93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1AA5-880B-402A-A97D-F4D4E3F7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A6B3-EE93-4869-A908-AA1253E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43F7-C0A1-40DD-BCD8-1C077D3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BC36-6378-466B-A8BC-FC2C845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47E6-1B3E-4FCE-816D-3BEB8FA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C50E-F6F9-449F-B822-9D98D0C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8BE7-8382-4AE0-8401-87D8B893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7ED8-8EB6-450F-9F36-BD73B7C1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C67-DE70-4D43-88C5-0E0AE76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44C-A430-4847-9692-CAC7E56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12E-F874-45A2-95AC-36D5C23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2A6-D517-4D7C-9007-C736B72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594-72EF-4C45-A050-87E4002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61F-7910-4766-97DC-E101C0490D20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05D9-1557-4850-AA0B-0995BB31412B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FAF0-861E-4D5B-9BDD-63995BE6B9A2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кутник з одним вирізаним округленим кут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й трикут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іліні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іліні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955-4D03-4B8A-B388-4B12D7218CA1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83763"/>
                </a:solidFill>
                <a:latin typeface="Candara"/>
              </a:rPr>
              <a:t>Тема уроку: </a:t>
            </a:r>
            <a:r>
              <a:rPr b="0" lang="uk-UA" sz="3600" spc="-1" strike="noStrike">
                <a:solidFill>
                  <a:srgbClr val="c00000"/>
                </a:solidFill>
                <a:latin typeface="Candara"/>
              </a:rPr>
              <a:t>Тканини рослин.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Розсохуватський НВК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Бандура Валентина Олександрівна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5" name="Picture 2" descr="C:\Documents and Settings\1\Рабочий стол\сало 3.jpeg"/>
          <p:cNvPicPr/>
          <p:nvPr/>
        </p:nvPicPr>
        <p:blipFill>
          <a:blip r:embed="rId1"/>
          <a:stretch/>
        </p:blipFill>
        <p:spPr>
          <a:xfrm>
            <a:off x="3564000" y="3789360"/>
            <a:ext cx="2997000" cy="2592360"/>
          </a:xfrm>
          <a:prstGeom prst="rect">
            <a:avLst/>
          </a:prstGeom>
          <a:ln w="38160">
            <a:solidFill>
              <a:srgbClr val="0c9b74"/>
            </a:solidFill>
            <a:miter/>
          </a:ln>
        </p:spPr>
      </p:pic>
      <p:pic>
        <p:nvPicPr>
          <p:cNvPr id="206" name="Picture 2" descr="C:\image075.jpg"/>
          <p:cNvPicPr/>
          <p:nvPr/>
        </p:nvPicPr>
        <p:blipFill>
          <a:blip r:embed="rId2"/>
          <a:stretch/>
        </p:blipFill>
        <p:spPr>
          <a:xfrm>
            <a:off x="1714680" y="2643120"/>
            <a:ext cx="6286320" cy="3857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image006.jpg"/>
          <p:cNvPicPr/>
          <p:nvPr/>
        </p:nvPicPr>
        <p:blipFill>
          <a:blip r:embed="rId1"/>
          <a:stretch/>
        </p:blipFill>
        <p:spPr>
          <a:xfrm>
            <a:off x="1847880" y="1285920"/>
            <a:ext cx="5448240" cy="278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image109.jpg"/>
          <p:cNvPicPr/>
          <p:nvPr/>
        </p:nvPicPr>
        <p:blipFill>
          <a:blip r:embed="rId2"/>
          <a:stretch/>
        </p:blipFill>
        <p:spPr>
          <a:xfrm>
            <a:off x="2666880" y="4214880"/>
            <a:ext cx="381024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3" descr=""/>
          <p:cNvPicPr/>
          <p:nvPr/>
        </p:nvPicPr>
        <p:blipFill>
          <a:blip r:embed="rId3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cc00cc"/>
                </a:solidFill>
                <a:latin typeface="Arial"/>
              </a:rPr>
              <a:t>Функції тканин</a:t>
            </a:r>
            <a:endParaRPr b="0" lang="en-US" sz="59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484280"/>
          <a:ext cx="8229600" cy="482436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и тк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вір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ють початок іншим ткан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кри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ежовують від навколишнього середовища, захищають від ушкод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бувається процес фотосинтезу, запасаються поживні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від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ь для транспортування по рослині розчинених у воді поживних речо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Механ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ає міцності та пруж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7864560" cy="1365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1557360"/>
            <a:ext cx="81421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ьогодні я зрозумів 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не здивувало,  те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Я дізнався,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Тепер я зможу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AG00317_"/>
          <p:cNvPicPr/>
          <p:nvPr/>
        </p:nvPicPr>
        <p:blipFill>
          <a:blip r:embed="rId2"/>
          <a:stretch/>
        </p:blipFill>
        <p:spPr>
          <a:xfrm>
            <a:off x="539640" y="5157720"/>
            <a:ext cx="2376720" cy="151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71280" y="115920"/>
            <a:ext cx="585324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ацювати в підручник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§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сно відповісти на питання  до парагра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міркуйте чому? Рослинам потрібні різні типи тк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21M2"/>
          <p:cNvPicPr/>
          <p:nvPr/>
        </p:nvPicPr>
        <p:blipFill>
          <a:blip r:embed="rId1"/>
          <a:stretch/>
        </p:blipFill>
        <p:spPr>
          <a:xfrm>
            <a:off x="7020000" y="5229360"/>
            <a:ext cx="1846080" cy="133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prazd-00"/>
          <p:cNvPicPr/>
          <p:nvPr/>
        </p:nvPicPr>
        <p:blipFill>
          <a:blip r:embed="rId2"/>
          <a:stretch/>
        </p:blipFill>
        <p:spPr>
          <a:xfrm rot="20566200">
            <a:off x="179280" y="333000"/>
            <a:ext cx="2467080" cy="1381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11280" y="135972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слух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чу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дивити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бач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відповід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мір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omic Sans MS"/>
              </a:rPr>
              <a:t>Дружно і плідно працюва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AG00013_"/>
          <p:cNvPicPr/>
          <p:nvPr/>
        </p:nvPicPr>
        <p:blipFill>
          <a:blip r:embed="rId1"/>
          <a:stretch/>
        </p:blipFill>
        <p:spPr>
          <a:xfrm>
            <a:off x="0" y="1844640"/>
            <a:ext cx="3745080" cy="3146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2d700"/>
                </a:solidFill>
                <a:latin typeface="Arial"/>
              </a:rPr>
              <a:t>Епіграф до уроку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397188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90792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1. Ознайомити учнів з поняттям тканини, розглянути основні типи тканин рослин, виявити взаємозалежність між їх будовою і функція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2. 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Розвивати вміння порівнювати  між собою життєві процеси організмів, також розвивати критичне мислення, робити виснов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3. Вихов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увати</a:t>
            </a: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 любов до навколишнього світ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124920"/>
            <a:ext cx="822960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13" name="Місце для вмісту 3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655120" cy="6448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image017.jpg"/>
          <p:cNvPicPr/>
          <p:nvPr/>
        </p:nvPicPr>
        <p:blipFill>
          <a:blip r:embed="rId1"/>
          <a:stretch/>
        </p:blipFill>
        <p:spPr>
          <a:xfrm>
            <a:off x="500040" y="1571760"/>
            <a:ext cx="4357800" cy="392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image008.jpg"/>
          <p:cNvPicPr/>
          <p:nvPr/>
        </p:nvPicPr>
        <p:blipFill>
          <a:blip r:embed="rId2"/>
          <a:stretch/>
        </p:blipFill>
        <p:spPr>
          <a:xfrm>
            <a:off x="5214960" y="1571760"/>
            <a:ext cx="3571920" cy="38574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3" descr=""/>
          <p:cNvPicPr/>
          <p:nvPr/>
        </p:nvPicPr>
        <p:blipFill>
          <a:blip r:embed="rId3"/>
          <a:stretch/>
        </p:blipFill>
        <p:spPr>
          <a:xfrm>
            <a:off x="450720" y="42084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image06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48280" cy="336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image052.gif"/>
          <p:cNvPicPr/>
          <p:nvPr/>
        </p:nvPicPr>
        <p:blipFill>
          <a:blip r:embed="rId2"/>
          <a:stretch/>
        </p:blipFill>
        <p:spPr>
          <a:xfrm>
            <a:off x="3143160" y="1357200"/>
            <a:ext cx="6000840" cy="508176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3" descr=""/>
          <p:cNvPicPr/>
          <p:nvPr/>
        </p:nvPicPr>
        <p:blipFill>
          <a:blip r:embed="rId3"/>
          <a:stretch/>
        </p:blipFill>
        <p:spPr>
          <a:xfrm>
            <a:off x="450720" y="281160"/>
            <a:ext cx="8321760" cy="87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image034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535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image087.jpg"/>
          <p:cNvPicPr/>
          <p:nvPr/>
        </p:nvPicPr>
        <p:blipFill>
          <a:blip r:embed="rId1"/>
          <a:stretch/>
        </p:blipFill>
        <p:spPr>
          <a:xfrm>
            <a:off x="2357280" y="1643040"/>
            <a:ext cx="5177160" cy="368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image087.jpg"/>
          <p:cNvPicPr/>
          <p:nvPr/>
        </p:nvPicPr>
        <p:blipFill>
          <a:blip r:embed="rId2"/>
          <a:stretch/>
        </p:blipFill>
        <p:spPr>
          <a:xfrm>
            <a:off x="2509920" y="1795320"/>
            <a:ext cx="5176800" cy="3686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image087.jpg"/>
          <p:cNvPicPr/>
          <p:nvPr/>
        </p:nvPicPr>
        <p:blipFill>
          <a:blip r:embed="rId3"/>
          <a:stretch/>
        </p:blipFill>
        <p:spPr>
          <a:xfrm>
            <a:off x="2571840" y="1785960"/>
            <a:ext cx="5176800" cy="3686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4" descr=""/>
          <p:cNvPicPr/>
          <p:nvPr/>
        </p:nvPicPr>
        <p:blipFill>
          <a:blip r:embed="rId4"/>
          <a:stretch/>
        </p:blipFill>
        <p:spPr>
          <a:xfrm>
            <a:off x="450720" y="49356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image038 (1).gif"/>
          <p:cNvPicPr/>
          <p:nvPr/>
        </p:nvPicPr>
        <p:blipFill>
          <a:blip r:embed="rId1"/>
          <a:stretch/>
        </p:blipFill>
        <p:spPr>
          <a:xfrm>
            <a:off x="1495440" y="1314360"/>
            <a:ext cx="6153120" cy="422928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2" descr=""/>
          <p:cNvPicPr/>
          <p:nvPr/>
        </p:nvPicPr>
        <p:blipFill>
          <a:blip r:embed="rId2"/>
          <a:stretch/>
        </p:blipFill>
        <p:spPr>
          <a:xfrm>
            <a:off x="109440" y="208080"/>
            <a:ext cx="89679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8T07:34:52Z</dcterms:modified>
  <cp:revision>46</cp:revision>
  <dc:subject/>
  <dc:title>18 жовт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</Properties>
</file>