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0.png" ContentType="image/png"/>
  <Override PartName="/ppt/media/image8.jpeg" ContentType="image/jpeg"/>
  <Override PartName="/ppt/media/image25.gif" ContentType="image/gif"/>
  <Override PartName="/ppt/media/image12.png" ContentType="image/png"/>
  <Override PartName="/ppt/media/image20.jpeg" ContentType="image/jpeg"/>
  <Override PartName="/ppt/media/image7.png" ContentType="image/png"/>
  <Override PartName="/ppt/media/image6.gif" ContentType="image/gif"/>
  <Override PartName="/ppt/media/image5.jpeg" ContentType="image/jpeg"/>
  <Override PartName="/ppt/media/image24.gif" ContentType="image/gif"/>
  <Override PartName="/ppt/media/image1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1.png" ContentType="image/png"/>
  <Override PartName="/ppt/media/image23.gif" ContentType="image/gif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15EA-C11B-444F-80B4-A89039BF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24C5-FE8A-46D8-9FEC-765EE300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F531-168A-4F73-9771-F4F39350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728-E2E0-4087-9EEF-C93180912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AD3B-321D-4E7A-B708-47D68E92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E4E0-9FC6-477D-8EA9-F487C6926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4967-414A-46A1-9A76-1BF695F29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1F34-0F9C-4AFB-BEB7-147BE0DD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BCC1-8907-4CF1-B083-252C22E9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3748-E14D-4A1F-86F2-7D5F8751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5758-384C-4B93-A5B8-3D4F8763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7D14-9BED-45C7-B0AE-7DC74F05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2AEF-C721-4D4D-A3D0-ED5FE7BC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1606-ECF3-4BF7-BC47-C9ADEF97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02A0-1B82-4555-A3B5-A23E694FE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A428-09C1-40CA-A39F-E60DEDB1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9DA7-347E-4890-B0B2-45128196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13F8-BA82-47B3-80D4-A0675D42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44295-920F-4A6D-85AB-37DCCF30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3CDC9-F4C8-4E4B-85A1-2DCA84A1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A437-F6A3-475D-AC18-37F21EEA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56954-294A-41DD-B116-CEAE3B2B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2216-F4E8-4CD0-8C20-69F04473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D03AE-3572-4977-B051-628160241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2A20E-64EF-47FA-A43C-CFDB55F0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46ED1-00AE-4293-8A78-F2B7B7A6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E286-0EDB-41C7-8333-2C79192A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615B9-93A2-46E0-AD29-A740EF1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3399C-D916-4CDC-9357-8EBB6D50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A2562-2BF3-48DA-AE27-525F5CECC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B3188-1CA0-46A4-923F-81A319249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9AE33-E9D7-4298-A007-2975D193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7374C-479D-4495-840D-0F8B917B7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433B-DFF1-41B0-AE4C-46073F9E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B4B7-E7A1-4707-B2E1-D4B586DD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D547BE-6F18-46C6-BE3F-8CC90CEB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B035E-B352-4435-9ADC-9DDCC27FA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FF77D-65EA-4140-B50A-A2DEDF0C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D9FDF-CF8B-4706-A337-ED64155F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6FB34-D2BA-48D3-A385-967B9FD5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F526F-B73F-44E8-8731-E9D7F89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38944-384E-4F4E-9197-66DF1881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F5BFA-567C-421C-BA64-BDEF6894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402-8CDD-4EB4-8F42-0DCD3385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7DD3-A0D1-4A7B-93D6-E5C2C083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783E-3AEC-49AE-9803-94D75CD5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D08C-9278-427D-AA00-69574BAC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1938-4728-4B28-BFA6-E9AC6568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76CD8-CB0B-484D-9897-C0BE0CD9C00B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648B-5A53-4FF6-A852-D68707D17D2B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B03C-F891-4BF0-B672-19B8A37965F5}" type="slidenum">
              <a:rPr b="0" lang="uk-UA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іліні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іліні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Групувати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іліні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Поліліні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Поліліні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7" name="Поліліні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Прямокутник з одним вирізаним округленим кут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кутний трикут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іліні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іліні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48FA-5F3D-4B10-92E1-07B5640F0B64}" type="slidenum">
              <a:rPr b="0" lang="uk-UA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83763"/>
                </a:solidFill>
                <a:latin typeface="Candara"/>
              </a:rPr>
              <a:t>Тема уроку: </a:t>
            </a:r>
            <a:r>
              <a:rPr b="0" lang="uk-UA" sz="3600" spc="-1" strike="noStrike">
                <a:solidFill>
                  <a:srgbClr val="c00000"/>
                </a:solidFill>
                <a:latin typeface="Candara"/>
              </a:rPr>
              <a:t>Тканини рослин.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Розсохуватський НВК</a:t>
            </a:r>
            <a:br>
              <a:rPr sz="3600"/>
            </a:br>
            <a:r>
              <a:rPr b="0" lang="uk-UA" sz="3600" spc="-1" strike="noStrike">
                <a:solidFill>
                  <a:srgbClr val="7030a0"/>
                </a:solidFill>
                <a:latin typeface="Candara"/>
              </a:rPr>
              <a:t>Бандура Валентина Олександрівна</a:t>
            </a:r>
            <a:endParaRPr b="0" lang="en-US" sz="36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5" name="Picture 2" descr="C:\Documents and Settings\1\Рабочий стол\сало 3.jpeg"/>
          <p:cNvPicPr/>
          <p:nvPr/>
        </p:nvPicPr>
        <p:blipFill>
          <a:blip r:embed="rId1"/>
          <a:stretch/>
        </p:blipFill>
        <p:spPr>
          <a:xfrm>
            <a:off x="3564000" y="3789360"/>
            <a:ext cx="2997000" cy="2592360"/>
          </a:xfrm>
          <a:prstGeom prst="rect">
            <a:avLst/>
          </a:prstGeom>
          <a:ln w="38160">
            <a:solidFill>
              <a:srgbClr val="0c9b74"/>
            </a:solidFill>
            <a:miter/>
          </a:ln>
        </p:spPr>
      </p:pic>
      <p:pic>
        <p:nvPicPr>
          <p:cNvPr id="206" name="Picture 2" descr="C:\image075.jpg"/>
          <p:cNvPicPr/>
          <p:nvPr/>
        </p:nvPicPr>
        <p:blipFill>
          <a:blip r:embed="rId2"/>
          <a:stretch/>
        </p:blipFill>
        <p:spPr>
          <a:xfrm>
            <a:off x="1714680" y="2643120"/>
            <a:ext cx="6286320" cy="38577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image006.jpg"/>
          <p:cNvPicPr/>
          <p:nvPr/>
        </p:nvPicPr>
        <p:blipFill>
          <a:blip r:embed="rId1"/>
          <a:stretch/>
        </p:blipFill>
        <p:spPr>
          <a:xfrm>
            <a:off x="1847880" y="1285920"/>
            <a:ext cx="5448240" cy="27860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image109.jpg"/>
          <p:cNvPicPr/>
          <p:nvPr/>
        </p:nvPicPr>
        <p:blipFill>
          <a:blip r:embed="rId2"/>
          <a:stretch/>
        </p:blipFill>
        <p:spPr>
          <a:xfrm>
            <a:off x="2666880" y="4214880"/>
            <a:ext cx="3810240" cy="2214360"/>
          </a:xfrm>
          <a:prstGeom prst="rect">
            <a:avLst/>
          </a:prstGeom>
          <a:ln w="0">
            <a:noFill/>
          </a:ln>
        </p:spPr>
      </p:pic>
      <p:pic>
        <p:nvPicPr>
          <p:cNvPr id="229" name="Заголовок 3" descr=""/>
          <p:cNvPicPr/>
          <p:nvPr/>
        </p:nvPicPr>
        <p:blipFill>
          <a:blip r:embed="rId3"/>
          <a:stretch/>
        </p:blipFill>
        <p:spPr>
          <a:xfrm>
            <a:off x="450720" y="35388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900" spc="-1" strike="noStrike">
                <a:solidFill>
                  <a:srgbClr val="cc00cc"/>
                </a:solidFill>
                <a:latin typeface="Arial"/>
              </a:rPr>
              <a:t>Функції тканин</a:t>
            </a:r>
            <a:endParaRPr b="0" lang="en-US" sz="59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484280"/>
          <a:ext cx="8229600" cy="4824360"/>
        </p:xfrm>
        <a:graphic>
          <a:graphicData uri="http://schemas.openxmlformats.org/drawingml/2006/table">
            <a:tbl>
              <a:tblPr/>
              <a:tblGrid>
                <a:gridCol w="3322800"/>
                <a:gridCol w="4906800"/>
              </a:tblGrid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и ткан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ункці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Твір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ють початок іншим тканин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Покри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межовують від навколишнього середовища, захищають від ушкодж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снов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ідбувається процес фотосинтезу, запасаються поживні речов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ровід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ать для транспортування по рослині розчинених у воді поживних речов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Механіч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дає міцності та пружност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>
    <p:wheel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530280" y="122400"/>
            <a:ext cx="7864560" cy="13651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3160" y="1557360"/>
            <a:ext cx="81421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Сьогодні я зрозумів …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Мене здивувало,  те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Я дізнався, що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800" spc="-1" strike="noStrike">
                <a:solidFill>
                  <a:srgbClr val="000000"/>
                </a:solidFill>
                <a:latin typeface="Arial"/>
              </a:rPr>
              <a:t>Тепер я зможу …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5" descr="AG00317_"/>
          <p:cNvPicPr/>
          <p:nvPr/>
        </p:nvPicPr>
        <p:blipFill>
          <a:blip r:embed="rId2"/>
          <a:stretch/>
        </p:blipFill>
        <p:spPr>
          <a:xfrm>
            <a:off x="539640" y="5157720"/>
            <a:ext cx="2376720" cy="151128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771280" y="115920"/>
            <a:ext cx="5853240" cy="100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990000"/>
                </a:solidFill>
                <a:latin typeface="Arial"/>
              </a:rPr>
              <a:t>Домашнє завдання</a:t>
            </a:r>
            <a:endParaRPr b="0" lang="en-US" sz="46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2400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ацювати в підручнику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§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  <a:ea typeface="Arial"/>
              </a:rPr>
              <a:t>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Усно відповісти на питання  до параграф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Поміркуйте чому? Рослинам потрібні різні типи ткани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21M2"/>
          <p:cNvPicPr/>
          <p:nvPr/>
        </p:nvPicPr>
        <p:blipFill>
          <a:blip r:embed="rId1"/>
          <a:stretch/>
        </p:blipFill>
        <p:spPr>
          <a:xfrm>
            <a:off x="7020000" y="5229360"/>
            <a:ext cx="1846080" cy="1330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prazd-00"/>
          <p:cNvPicPr/>
          <p:nvPr/>
        </p:nvPicPr>
        <p:blipFill>
          <a:blip r:embed="rId2"/>
          <a:stretch/>
        </p:blipFill>
        <p:spPr>
          <a:xfrm rot="20566200">
            <a:off x="179280" y="333000"/>
            <a:ext cx="2467080" cy="1381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411280" y="1359720"/>
            <a:ext cx="67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слух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чу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дивити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бачи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Не просто відповідат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lang="uk-UA" sz="3600" spc="-1" strike="noStrike">
                <a:solidFill>
                  <a:srgbClr val="089ca3"/>
                </a:solidFill>
                <a:latin typeface="Comic Sans MS"/>
              </a:rPr>
              <a:t>а міркува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c00000"/>
                </a:solidFill>
                <a:latin typeface="Comic Sans MS"/>
              </a:rPr>
              <a:t>Дружно і плідно працюва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3" descr="AG00013_"/>
          <p:cNvPicPr/>
          <p:nvPr/>
        </p:nvPicPr>
        <p:blipFill>
          <a:blip r:embed="rId1"/>
          <a:stretch/>
        </p:blipFill>
        <p:spPr>
          <a:xfrm>
            <a:off x="0" y="1844640"/>
            <a:ext cx="3745080" cy="31464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2d700"/>
                </a:solidFill>
                <a:latin typeface="Arial"/>
              </a:rPr>
              <a:t>Епіграф до уроку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397188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Verdana"/>
                <a:ea typeface="Times New Roman"/>
              </a:rPr>
              <a:t>Мета уроку: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95280" y="907920"/>
            <a:ext cx="8353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1. Ознайомити учнів з поняттям тканини, розглянути основні типи тканин рослин, виявити взаємозалежність між їх будовою і функціям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2. 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Розвивати вміння порівнювати  між собою життєві процеси організмів, також розвивати критичне мислення, робити висновки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3. Вихов</a:t>
            </a:r>
            <a:r>
              <a:rPr b="1" lang="uk-UA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увати</a:t>
            </a:r>
            <a:r>
              <a:rPr b="1" lang="ru-RU" sz="3300" spc="-1" strike="noStrike">
                <a:solidFill>
                  <a:srgbClr val="24067a"/>
                </a:solidFill>
                <a:latin typeface="Times New Roman"/>
                <a:ea typeface="Times New Roman"/>
              </a:rPr>
              <a:t> любов до навколишнього світу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124920"/>
            <a:ext cx="8229600" cy="961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7030a0"/>
              </a:solidFill>
              <a:latin typeface="Arial"/>
            </a:endParaRPr>
          </a:p>
        </p:txBody>
      </p:sp>
      <p:pic>
        <p:nvPicPr>
          <p:cNvPr id="213" name="Місце для вмісту 3" descr=""/>
          <p:cNvPicPr/>
          <p:nvPr/>
        </p:nvPicPr>
        <p:blipFill>
          <a:blip r:embed="rId1"/>
          <a:stretch/>
        </p:blipFill>
        <p:spPr>
          <a:xfrm>
            <a:off x="171360" y="92160"/>
            <a:ext cx="8655120" cy="64483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image017.jpg"/>
          <p:cNvPicPr/>
          <p:nvPr/>
        </p:nvPicPr>
        <p:blipFill>
          <a:blip r:embed="rId1"/>
          <a:stretch/>
        </p:blipFill>
        <p:spPr>
          <a:xfrm>
            <a:off x="500040" y="1571760"/>
            <a:ext cx="4357800" cy="3929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C:\image008.jpg"/>
          <p:cNvPicPr/>
          <p:nvPr/>
        </p:nvPicPr>
        <p:blipFill>
          <a:blip r:embed="rId2"/>
          <a:stretch/>
        </p:blipFill>
        <p:spPr>
          <a:xfrm>
            <a:off x="5214960" y="1571760"/>
            <a:ext cx="3571920" cy="3857400"/>
          </a:xfrm>
          <a:prstGeom prst="rect">
            <a:avLst/>
          </a:prstGeom>
          <a:ln w="0">
            <a:noFill/>
          </a:ln>
        </p:spPr>
      </p:pic>
      <p:pic>
        <p:nvPicPr>
          <p:cNvPr id="216" name="Заголовок 3" descr=""/>
          <p:cNvPicPr/>
          <p:nvPr/>
        </p:nvPicPr>
        <p:blipFill>
          <a:blip r:embed="rId3"/>
          <a:stretch/>
        </p:blipFill>
        <p:spPr>
          <a:xfrm>
            <a:off x="450720" y="42084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image061.jpg"/>
          <p:cNvPicPr/>
          <p:nvPr/>
        </p:nvPicPr>
        <p:blipFill>
          <a:blip r:embed="rId1"/>
          <a:stretch/>
        </p:blipFill>
        <p:spPr>
          <a:xfrm>
            <a:off x="214200" y="1857240"/>
            <a:ext cx="3248280" cy="3362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C:\image052.gif"/>
          <p:cNvPicPr/>
          <p:nvPr/>
        </p:nvPicPr>
        <p:blipFill>
          <a:blip r:embed="rId2"/>
          <a:stretch/>
        </p:blipFill>
        <p:spPr>
          <a:xfrm>
            <a:off x="3143160" y="1357200"/>
            <a:ext cx="6000840" cy="508176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3" descr=""/>
          <p:cNvPicPr/>
          <p:nvPr/>
        </p:nvPicPr>
        <p:blipFill>
          <a:blip r:embed="rId3"/>
          <a:stretch/>
        </p:blipFill>
        <p:spPr>
          <a:xfrm>
            <a:off x="450720" y="281160"/>
            <a:ext cx="8321760" cy="8712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image034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535752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C:\image087.jpg"/>
          <p:cNvPicPr/>
          <p:nvPr/>
        </p:nvPicPr>
        <p:blipFill>
          <a:blip r:embed="rId1"/>
          <a:stretch/>
        </p:blipFill>
        <p:spPr>
          <a:xfrm>
            <a:off x="2357280" y="1643040"/>
            <a:ext cx="5177160" cy="3686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image087.jpg"/>
          <p:cNvPicPr/>
          <p:nvPr/>
        </p:nvPicPr>
        <p:blipFill>
          <a:blip r:embed="rId2"/>
          <a:stretch/>
        </p:blipFill>
        <p:spPr>
          <a:xfrm>
            <a:off x="2509920" y="1795320"/>
            <a:ext cx="5176800" cy="3686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" descr="C:\image087.jpg"/>
          <p:cNvPicPr/>
          <p:nvPr/>
        </p:nvPicPr>
        <p:blipFill>
          <a:blip r:embed="rId3"/>
          <a:stretch/>
        </p:blipFill>
        <p:spPr>
          <a:xfrm>
            <a:off x="2571840" y="1785960"/>
            <a:ext cx="5176800" cy="3686040"/>
          </a:xfrm>
          <a:prstGeom prst="rect">
            <a:avLst/>
          </a:prstGeom>
          <a:ln w="0">
            <a:noFill/>
          </a:ln>
        </p:spPr>
      </p:pic>
      <p:pic>
        <p:nvPicPr>
          <p:cNvPr id="224" name="Заголовок 4" descr=""/>
          <p:cNvPicPr/>
          <p:nvPr/>
        </p:nvPicPr>
        <p:blipFill>
          <a:blip r:embed="rId4"/>
          <a:stretch/>
        </p:blipFill>
        <p:spPr>
          <a:xfrm>
            <a:off x="450720" y="493560"/>
            <a:ext cx="83217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5395"/>
            </a:gs>
            <a:gs pos="100000">
              <a:srgbClr val="dee5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image038 (1).gif"/>
          <p:cNvPicPr/>
          <p:nvPr/>
        </p:nvPicPr>
        <p:blipFill>
          <a:blip r:embed="rId1"/>
          <a:stretch/>
        </p:blipFill>
        <p:spPr>
          <a:xfrm>
            <a:off x="1495440" y="1314360"/>
            <a:ext cx="6153120" cy="4229280"/>
          </a:xfrm>
          <a:prstGeom prst="rect">
            <a:avLst/>
          </a:prstGeom>
          <a:ln w="0">
            <a:noFill/>
          </a:ln>
        </p:spPr>
      </p:pic>
      <p:pic>
        <p:nvPicPr>
          <p:cNvPr id="226" name="Заголовок 2" descr=""/>
          <p:cNvPicPr/>
          <p:nvPr/>
        </p:nvPicPr>
        <p:blipFill>
          <a:blip r:embed="rId2"/>
          <a:stretch/>
        </p:blipFill>
        <p:spPr>
          <a:xfrm>
            <a:off x="109440" y="208080"/>
            <a:ext cx="8967960" cy="871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8T07:34:52Z</dcterms:modified>
  <cp:revision>46</cp:revision>
  <dc:subject/>
  <dc:title>18 жовтня Класна робота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00c000000000001024140</vt:lpwstr>
  </property>
</Properties>
</file>