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2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6.gif" ContentType="image/gif"/>
  <Override PartName="/ppt/media/image5.jpeg" ContentType="image/jpeg"/>
  <Override PartName="/ppt/media/image24.gif" ContentType="image/gif"/>
  <Override PartName="/ppt/media/image1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3.gif" ContentType="image/gi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3A9-6766-4F15-8D1E-3378205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33B-89BE-47ED-9C33-72252DBC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723-60CB-4A08-97D7-249FA1F9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C5F-C1A2-4A6D-997D-68D4062E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04CE-D159-46EC-8137-07D74213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B8CB-1E77-44FA-81D5-052FA6BD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2759-176F-496D-AB24-E69566C7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23F2-AF20-4EAE-A15A-4F68C6A7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2124-7256-4270-96C7-8C76A6F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A40E-44D6-444E-8055-67C4B514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C07C-8B2E-46F6-83FE-1161E9B6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2EB3-9A42-4C30-B21A-8E1670E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7F21-5815-4949-B22B-347FAE32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5961-C8E5-4B3A-8A93-49368073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0C8B-B6C6-48CE-8CE5-DEA2A82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0B78-CD99-4B34-A08B-C19DDD36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5C25-B5F4-4E14-A1B2-641AA128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8D48-2E67-4E7A-9849-375DFAF2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17DB7-0452-412C-9020-27BC610B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8AB0F-A4AF-4024-9482-D79FF72D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E9ABB-87F8-4846-BF45-BEDCFFF0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A555-6DFF-4FE9-A8D0-3C80797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934-96B2-4D9A-AB47-12842B98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20BF-CFDC-4079-A602-9AB89392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70EC2-D391-4D28-A59D-E79C358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652F-4B44-46AE-BBBC-CD878693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5249-4BD0-4CAF-8AB4-83BE21F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B717C-6E30-4455-A670-4B30DB07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0EA2E-F909-4E10-B32B-E09D9397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528B-018A-413A-A3CA-7D3E20EBE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F91E-1AAA-4DC4-8D2F-415BA738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1E8A-A3ED-4162-9477-237B5019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5EEEA-E399-4594-9C56-9E10BAB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E52-9E36-42E9-B939-0E41186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1C13-4F3B-4977-A93D-8E82B164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42BA-FA5D-4581-B62A-62D31633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09584-0BE9-4180-9873-549C2472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FC5FE-1CE9-48B6-B4C9-1AFCCF13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C95F9-4C3A-4B37-8E2A-3CC289E8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BBF3-2952-47BF-AAF5-9F0B515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C295-5933-49A4-98A2-091655E0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08EC6-5CE3-4D80-A5F2-0C453ABE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24CD8-F68F-4781-AF50-85C628AD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01D-B29D-42B5-953C-57EA2F55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3B7-7214-4468-BF68-0BA3F365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0C1-5972-40AC-BDB4-EACE9D17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563-AE89-4831-9995-0B47A122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5EB6-6E47-4AB8-8EDD-732BAE9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22BD-6933-47B3-84DE-B3B05E63B8F9}" type="slidenum">
              <a:rPr b="0" lang="uk-U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1010-04B1-4354-A2F5-DFC71B1D813E}" type="slidenum">
              <a:rPr b="0" lang="uk-U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EEA3-59F9-46B1-9517-C834F2DC5AD7}" type="slidenum">
              <a:rPr b="0" lang="uk-U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кутник з одним вирізаним округленим кут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кутний трикут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іліні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іліні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9E73-D04A-405F-B40E-B043CBEC57C9}" type="slidenum">
              <a:rPr b="0" lang="uk-U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83763"/>
                </a:solidFill>
                <a:latin typeface="Candara"/>
              </a:rPr>
              <a:t>Тема уроку: </a:t>
            </a:r>
            <a:r>
              <a:rPr b="0" lang="uk-UA" sz="3600" spc="-1" strike="noStrike">
                <a:solidFill>
                  <a:srgbClr val="c00000"/>
                </a:solidFill>
                <a:latin typeface="Candara"/>
              </a:rPr>
              <a:t>Тканини рослин.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ndara"/>
              </a:rPr>
              <a:t>Розсохуватський НВК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ndara"/>
              </a:rPr>
              <a:t>Бандура Валентина Олександрівна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5" name="Picture 2" descr="C:\Documents and Settings\1\Рабочий стол\сало 3.jpeg"/>
          <p:cNvPicPr/>
          <p:nvPr/>
        </p:nvPicPr>
        <p:blipFill>
          <a:blip r:embed="rId1"/>
          <a:stretch/>
        </p:blipFill>
        <p:spPr>
          <a:xfrm>
            <a:off x="3564000" y="3789360"/>
            <a:ext cx="2997000" cy="2592360"/>
          </a:xfrm>
          <a:prstGeom prst="rect">
            <a:avLst/>
          </a:prstGeom>
          <a:ln w="38160">
            <a:solidFill>
              <a:srgbClr val="0c9b74"/>
            </a:solidFill>
            <a:miter/>
          </a:ln>
        </p:spPr>
      </p:pic>
      <p:pic>
        <p:nvPicPr>
          <p:cNvPr id="206" name="Picture 2" descr="C:\image075.jpg"/>
          <p:cNvPicPr/>
          <p:nvPr/>
        </p:nvPicPr>
        <p:blipFill>
          <a:blip r:embed="rId2"/>
          <a:stretch/>
        </p:blipFill>
        <p:spPr>
          <a:xfrm>
            <a:off x="1714680" y="2643120"/>
            <a:ext cx="6286320" cy="3857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image006.jpg"/>
          <p:cNvPicPr/>
          <p:nvPr/>
        </p:nvPicPr>
        <p:blipFill>
          <a:blip r:embed="rId1"/>
          <a:stretch/>
        </p:blipFill>
        <p:spPr>
          <a:xfrm>
            <a:off x="1847880" y="1285920"/>
            <a:ext cx="5448240" cy="278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image109.jpg"/>
          <p:cNvPicPr/>
          <p:nvPr/>
        </p:nvPicPr>
        <p:blipFill>
          <a:blip r:embed="rId2"/>
          <a:stretch/>
        </p:blipFill>
        <p:spPr>
          <a:xfrm>
            <a:off x="2666880" y="4214880"/>
            <a:ext cx="3810240" cy="22143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3" descr=""/>
          <p:cNvPicPr/>
          <p:nvPr/>
        </p:nvPicPr>
        <p:blipFill>
          <a:blip r:embed="rId3"/>
          <a:stretch/>
        </p:blipFill>
        <p:spPr>
          <a:xfrm>
            <a:off x="450720" y="35388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cc00cc"/>
                </a:solidFill>
                <a:latin typeface="Arial"/>
              </a:rPr>
              <a:t>Функції тканин</a:t>
            </a:r>
            <a:endParaRPr b="0" lang="en-US" sz="59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484280"/>
          <a:ext cx="8229600" cy="482436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и тк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вір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ють початок іншим ткан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кри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ежовують від навколишнього середовища, захищають від ушкодж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бувається процес фотосинтезу, запасаються поживні речов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від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ь для транспортування по рослині розчинених у воді поживних речо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Механі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ає міцності та пруж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122400"/>
            <a:ext cx="7864560" cy="13651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1557360"/>
            <a:ext cx="81421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ьогодні я зрозумів …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ене здивувало,  те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Я дізнався,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Тепер я зможу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AG00317_"/>
          <p:cNvPicPr/>
          <p:nvPr/>
        </p:nvPicPr>
        <p:blipFill>
          <a:blip r:embed="rId2"/>
          <a:stretch/>
        </p:blipFill>
        <p:spPr>
          <a:xfrm>
            <a:off x="539640" y="5157720"/>
            <a:ext cx="2376720" cy="151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71280" y="115920"/>
            <a:ext cx="585324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Arial"/>
              </a:rPr>
              <a:t>Домашнє завдання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ацювати в підручнику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§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сно відповісти на питання  до параграф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міркуйте чому? Рослинам потрібні різні типи ткан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21M2"/>
          <p:cNvPicPr/>
          <p:nvPr/>
        </p:nvPicPr>
        <p:blipFill>
          <a:blip r:embed="rId1"/>
          <a:stretch/>
        </p:blipFill>
        <p:spPr>
          <a:xfrm>
            <a:off x="7020000" y="5229360"/>
            <a:ext cx="1846080" cy="133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prazd-00"/>
          <p:cNvPicPr/>
          <p:nvPr/>
        </p:nvPicPr>
        <p:blipFill>
          <a:blip r:embed="rId2"/>
          <a:stretch/>
        </p:blipFill>
        <p:spPr>
          <a:xfrm rot="20566200">
            <a:off x="179280" y="333000"/>
            <a:ext cx="2467080" cy="1381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411280" y="1359720"/>
            <a:ext cx="67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слуха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чу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дивити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бач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відповіда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міркув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omic Sans MS"/>
              </a:rPr>
              <a:t>Дружно і плідно працюва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AG00013_"/>
          <p:cNvPicPr/>
          <p:nvPr/>
        </p:nvPicPr>
        <p:blipFill>
          <a:blip r:embed="rId1"/>
          <a:stretch/>
        </p:blipFill>
        <p:spPr>
          <a:xfrm>
            <a:off x="0" y="1844640"/>
            <a:ext cx="3745080" cy="3146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2d700"/>
                </a:solidFill>
                <a:latin typeface="Arial"/>
              </a:rPr>
              <a:t>Епіграф до уроку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397188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90792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1. Ознайомити учнів з поняттям тканини, розглянути основні типи тканин рослин, виявити взаємозалежність між їх будовою і функціям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2. </a:t>
            </a:r>
            <a:r>
              <a:rPr b="1" lang="uk-UA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Розвивати вміння порівнювати  між собою життєві процеси організмів, також розвивати критичне мислення, робити виснов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3. Вихов</a:t>
            </a:r>
            <a:r>
              <a:rPr b="1" lang="uk-UA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увати</a:t>
            </a: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 любов до навколишнього світу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124920"/>
            <a:ext cx="822960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13" name="Місце для вмісту 3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8655120" cy="6448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image017.jpg"/>
          <p:cNvPicPr/>
          <p:nvPr/>
        </p:nvPicPr>
        <p:blipFill>
          <a:blip r:embed="rId1"/>
          <a:stretch/>
        </p:blipFill>
        <p:spPr>
          <a:xfrm>
            <a:off x="500040" y="1571760"/>
            <a:ext cx="4357800" cy="392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image008.jpg"/>
          <p:cNvPicPr/>
          <p:nvPr/>
        </p:nvPicPr>
        <p:blipFill>
          <a:blip r:embed="rId2"/>
          <a:stretch/>
        </p:blipFill>
        <p:spPr>
          <a:xfrm>
            <a:off x="5214960" y="1571760"/>
            <a:ext cx="3571920" cy="385740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3" descr=""/>
          <p:cNvPicPr/>
          <p:nvPr/>
        </p:nvPicPr>
        <p:blipFill>
          <a:blip r:embed="rId3"/>
          <a:stretch/>
        </p:blipFill>
        <p:spPr>
          <a:xfrm>
            <a:off x="450720" y="42084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image061.jpg"/>
          <p:cNvPicPr/>
          <p:nvPr/>
        </p:nvPicPr>
        <p:blipFill>
          <a:blip r:embed="rId1"/>
          <a:stretch/>
        </p:blipFill>
        <p:spPr>
          <a:xfrm>
            <a:off x="214200" y="1857240"/>
            <a:ext cx="3248280" cy="3362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image052.gif"/>
          <p:cNvPicPr/>
          <p:nvPr/>
        </p:nvPicPr>
        <p:blipFill>
          <a:blip r:embed="rId2"/>
          <a:stretch/>
        </p:blipFill>
        <p:spPr>
          <a:xfrm>
            <a:off x="3143160" y="1357200"/>
            <a:ext cx="6000840" cy="508176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3" descr=""/>
          <p:cNvPicPr/>
          <p:nvPr/>
        </p:nvPicPr>
        <p:blipFill>
          <a:blip r:embed="rId3"/>
          <a:stretch/>
        </p:blipFill>
        <p:spPr>
          <a:xfrm>
            <a:off x="450720" y="281160"/>
            <a:ext cx="8321760" cy="87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image034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535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image087.jpg"/>
          <p:cNvPicPr/>
          <p:nvPr/>
        </p:nvPicPr>
        <p:blipFill>
          <a:blip r:embed="rId1"/>
          <a:stretch/>
        </p:blipFill>
        <p:spPr>
          <a:xfrm>
            <a:off x="2357280" y="1643040"/>
            <a:ext cx="5177160" cy="368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image087.jpg"/>
          <p:cNvPicPr/>
          <p:nvPr/>
        </p:nvPicPr>
        <p:blipFill>
          <a:blip r:embed="rId2"/>
          <a:stretch/>
        </p:blipFill>
        <p:spPr>
          <a:xfrm>
            <a:off x="2509920" y="1795320"/>
            <a:ext cx="5176800" cy="3686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image087.jpg"/>
          <p:cNvPicPr/>
          <p:nvPr/>
        </p:nvPicPr>
        <p:blipFill>
          <a:blip r:embed="rId3"/>
          <a:stretch/>
        </p:blipFill>
        <p:spPr>
          <a:xfrm>
            <a:off x="2571840" y="1785960"/>
            <a:ext cx="5176800" cy="368604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4" descr=""/>
          <p:cNvPicPr/>
          <p:nvPr/>
        </p:nvPicPr>
        <p:blipFill>
          <a:blip r:embed="rId4"/>
          <a:stretch/>
        </p:blipFill>
        <p:spPr>
          <a:xfrm>
            <a:off x="450720" y="49356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image038 (1).gif"/>
          <p:cNvPicPr/>
          <p:nvPr/>
        </p:nvPicPr>
        <p:blipFill>
          <a:blip r:embed="rId1"/>
          <a:stretch/>
        </p:blipFill>
        <p:spPr>
          <a:xfrm>
            <a:off x="1495440" y="1314360"/>
            <a:ext cx="6153120" cy="422928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2" descr=""/>
          <p:cNvPicPr/>
          <p:nvPr/>
        </p:nvPicPr>
        <p:blipFill>
          <a:blip r:embed="rId2"/>
          <a:stretch/>
        </p:blipFill>
        <p:spPr>
          <a:xfrm>
            <a:off x="109440" y="208080"/>
            <a:ext cx="89679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8T07:34:52Z</dcterms:modified>
  <cp:revision>46</cp:revision>
  <dc:subject/>
  <dc:title>18 жовтня Класна робот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c000000000001024140</vt:lpwstr>
  </property>
</Properties>
</file>