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png" ContentType="image/png"/>
  <Override PartName="/ppt/media/image19.jpeg" ContentType="image/jpeg"/>
  <Override PartName="/ppt/media/image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011-A82C-49F4-BCDA-F86000BD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606-EE4B-4B84-8DD4-71D9C569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C12-86D3-4D9B-A0DE-17B187B6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A40-19F7-4050-806D-D779630F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E41-FEEF-41F7-B81A-8997CF47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9DF-BA77-4982-8A3F-4ECED77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DA9-FA3F-4526-A17F-0475636F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3B2-810A-4DA2-9035-A262E3B5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67C-E843-4038-ACFF-67E6E0A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FFC-8CE9-4CEE-AECE-B544B54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698-9FDC-4894-ACE0-12FF669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E17-2D62-4776-8F7A-FA9AD14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DF0F-C6F4-477F-AC10-100F952D4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.foto.radikal.ru/0704/ad/f07f42087741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http://smiles.33b.ru/smile.30659.html" TargetMode="External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52 из 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91440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Будо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линної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кліт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39625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ітинна обол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99800">
            <a:off x="4346640" y="312372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160" y="2666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9680" y="39225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ку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707800">
            <a:off x="2746440" y="30492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ас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і вам відомі середовища існування водоросте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тіло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пособом живлення водорості автотрофні чи гетеротрофн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едіть приклади автотрофних організм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іть типову будову клітини водор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ються водорості, які заселяють товщу води океан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морськ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 чого складається прісноводний фітопланк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у назву мають водорості, що ростуть на дні водойм або різних водних об’єкті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к називається наука, що вивчає походження, будову та різноманітність водорос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 знаходиться пігмент водоростей, який їх забарвлю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будовою слані водорості бувают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14300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7c8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і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50000">
                    <a:srgbClr val="ff7c8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4920" y="2590920"/>
          <a:ext cx="8534160" cy="2514240"/>
        </p:xfrm>
        <a:graphic>
          <a:graphicData uri="http://schemas.openxmlformats.org/drawingml/2006/table">
            <a:tbl>
              <a:tblPr/>
              <a:tblGrid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  <a:gridCol w="776520"/>
                <a:gridCol w="776160"/>
                <a:gridCol w="774720"/>
                <a:gridCol w="77616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13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c7e274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1143000" y="457200"/>
            <a:ext cx="71629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ір сусі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cfcf6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600" y="0"/>
            <a:ext cx="48006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ін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ьогоднішнього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у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85800" y="3808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1080" y="2722680"/>
            <a:ext cx="317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24 вивчи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- підгот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овідом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Відді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ff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523880"/>
            <a:ext cx="6781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яку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за співпрацю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08" name="" descr="SugarwareZ-223.gif"/>
          <p:cNvPicPr/>
          <p:nvPr/>
        </p:nvPicPr>
        <p:blipFill>
          <a:blip r:embed="rId1"/>
          <a:stretch/>
        </p:blipFill>
        <p:spPr>
          <a:xfrm>
            <a:off x="5791320" y="5029200"/>
            <a:ext cx="1752480" cy="1452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Изображени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12952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332712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і ми жителі води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ми можна пожив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юбляємо сонця про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тому ми автотроф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 зелені, червоненьк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І великі, і маленьк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ще ми буваєм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 знайте віднині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клітинні й багатоклітин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оніальні буваємо теж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має різновидам краю і ме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то впізнав нас, дітл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словіть свої дум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533520" y="5335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765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альн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а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оростей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едовище існування.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ісля 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ього уроку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 зможете: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93800" cy="403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1712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95120" y="304920"/>
            <a:ext cx="5867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зповісти про особливост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и середовища існуванн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ти характеристику елементарній одиниці будов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значити екологічні групи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атизувати відділ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9268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8600" y="304920"/>
            <a:ext cx="454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крити 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6600"/>
                  </a:solidFill>
                  <a:miter/>
                </a:ln>
                <a:solidFill>
                  <a:srgbClr val="3399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і поняття:</a:t>
            </a:r>
            <a:endParaRPr b="0" lang="en-US" sz="1800" spc="1" strike="noStrike">
              <a:ln w="3240">
                <a:solidFill>
                  <a:srgbClr val="006600"/>
                </a:solidFill>
                <a:miter/>
              </a:ln>
              <a:solidFill>
                <a:srgbClr val="3399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ижчі росли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а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хроматофо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ітопланк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ентосні водор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ьгологі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а живих організмів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удова водоро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основна структурна одиниця водор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поділ водоростей за будовою сла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Екологічні групи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Різноманітність водор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802200">
            <a:off x="304560" y="-304560"/>
            <a:ext cx="3047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План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2520" y="48006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р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8098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елені водор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2952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поро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057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у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327672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вощ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26708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иніофі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9144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л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457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ритонасін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743200"/>
            <a:ext cx="18288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11400" y="617220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рево життя рослин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5205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3048120"/>
            <a:ext cx="588960" cy="1218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2224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8193240" y="838080"/>
            <a:ext cx="9507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590920" y="4648320"/>
            <a:ext cx="33948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8153280" y="5105520"/>
            <a:ext cx="66672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666880" y="304920"/>
            <a:ext cx="4496040" cy="609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1e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арство Рос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6f9f6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ж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водорост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1752480"/>
            <a:ext cx="3429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наземні росл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інь і паг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3276720"/>
            <a:ext cx="27432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ee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лом (сла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б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029200"/>
            <a:ext cx="2057400" cy="9144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50000">
                <a:srgbClr val="fefefe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04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0080" y="1066680"/>
            <a:ext cx="1219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647960" y="43434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ь</cp:lastModifiedBy>
  <dcterms:modified xsi:type="dcterms:W3CDTF">2008-12-08T13:33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b000000000001024140</vt:lpwstr>
  </property>
  <property fmtid="{D5CDD505-2E9C-101B-9397-08002B2CF9AE}" pid="3" name="Version">
    <vt:r8>1</vt:r8>
  </property>
</Properties>
</file>