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E58-DABA-466C-9EDF-0D5463D4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E74-0DB8-4790-B801-5AF1A69E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750-FD0E-4B8D-866C-9EFABF8A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CFF-1734-491F-947E-7993E41F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DEF-443A-4145-85F4-AE32FD7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B7E-626E-4041-90BE-B1FBB07A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717-8201-4706-BFB5-D1C5194E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CD1-91C7-4284-B22E-FD25186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AE4-FA63-43D6-9F2E-036A287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F57-FB33-4255-80C6-21627F66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869-6C9E-47BB-8BF4-9A67F31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607-3EAA-4D85-8FDB-F1B7CE38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704-17B1-484F-AD9B-C3022FE0A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.foto.radikal.ru/0704/ad/f07f42087741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smiles.33b.ru/smile.3065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52 из 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91440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удо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линної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літ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39625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ітинна обол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99800">
            <a:off x="4346640" y="31237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160" y="2666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9680" y="39225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ку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07800">
            <a:off x="2746440" y="3049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ас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і вам відомі середовища існування водорос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тіло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пособом живлення водорості автотрофні чи гетеротрофн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едіть приклади автотрофних організ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іть типову будову клітини водор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ються водорості, які заселяють товщу води океан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морськ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прісноводн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у назву мають водорості, що ростуть на дні водойм або різних водних об’єкт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наука, що вивчає походження, будову та різноманітність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 знаходиться пігмент водоростей, який їх забарвлю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будовою слані водорості буваю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1430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7c8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і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7c8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2590920"/>
          <a:ext cx="8534160" cy="251424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1143000" y="457200"/>
            <a:ext cx="7162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усі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cfcf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600" y="0"/>
            <a:ext cx="4800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ін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ьогоднішнього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у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5800" y="3808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2722680"/>
            <a:ext cx="317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24 вивч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підгот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відом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Відді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523880"/>
            <a:ext cx="6781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як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за співпрацю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08" name="" descr="SugarwareZ-223.gif"/>
          <p:cNvPicPr/>
          <p:nvPr/>
        </p:nvPicPr>
        <p:blipFill>
          <a:blip r:embed="rId1"/>
          <a:stretch/>
        </p:blipFill>
        <p:spPr>
          <a:xfrm>
            <a:off x="5791320" y="5029200"/>
            <a:ext cx="175248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33271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і ми жителі води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и можна пожи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юбляємо сонця про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тому ми автотроф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 зелені, червоненьк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великі, і маленьк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ще ми буваєм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 знайте відни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клітинні й багатоклітин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іальні буваємо теж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ає різновидам краю і м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то впізнав нас, дітл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словіть свої ду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533520" y="5335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765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льн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ростей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довище існування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ісля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ього уроку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 зможете: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9380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1712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95120" y="304920"/>
            <a:ext cx="5867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зповісти про особливост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и середовища існуванн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ти характеристику елементарній одиниц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значити екологічні груп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тизувати відділ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8600" y="304920"/>
            <a:ext cx="454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крит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і поняття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а живих організмів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ова водор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основна структурна одиниц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поділ водоростей за будовою сла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Екологічні груп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Різноманітність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802200">
            <a:off x="304560" y="-30456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лан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48006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р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8098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елен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2952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пор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057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у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327672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вощ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2670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иніоф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914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рит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743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1400" y="617220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ево життя росли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5205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3048120"/>
            <a:ext cx="58896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2224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93240" y="838080"/>
            <a:ext cx="9507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90920" y="4648320"/>
            <a:ext cx="33948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8153280" y="5105520"/>
            <a:ext cx="66672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304920"/>
            <a:ext cx="4496040" cy="609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1e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арство Рос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6f9f6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ж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водорост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наземні росл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інь і паг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e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лом (сл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б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04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47960" y="43434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ь</cp:lastModifiedBy>
  <dcterms:modified xsi:type="dcterms:W3CDTF">2008-12-08T13:33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140</vt:lpwstr>
  </property>
  <property fmtid="{D5CDD505-2E9C-101B-9397-08002B2CF9AE}" pid="3" name="Version">
    <vt:r8>1</vt:r8>
  </property>
</Properties>
</file>