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jpeg" ContentType="image/jpeg"/>
  <Override PartName="/ppt/media/image5.jpeg" ContentType="image/jpeg"/>
  <Override PartName="/ppt/media/image21.png" ContentType="image/png"/>
  <Override PartName="/ppt/media/image19.jpeg" ContentType="image/jpeg"/>
  <Override PartName="/ppt/media/image1.gif" ContentType="image/gif"/>
  <Override PartName="/ppt/media/image18.jpeg" ContentType="image/jpeg"/>
  <Override PartName="/ppt/media/image23.gif" ContentType="image/gif"/>
  <Override PartName="/ppt/media/image17.jpeg" ContentType="image/jpeg"/>
  <Override PartName="/ppt/media/image14.png" ContentType="image/png"/>
  <Override PartName="/ppt/media/image16.jpeg" ContentType="image/jpeg"/>
  <Override PartName="/ppt/media/image15.jpeg" ContentType="image/jpeg"/>
  <Override PartName="/ppt/media/image2.jpeg" ContentType="image/jpeg"/>
  <Override PartName="/ppt/media/image3.jpeg" ContentType="image/jpeg"/>
  <Override PartName="/ppt/media/image22.gif" ContentType="image/gif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565E2-B590-4E29-8975-196CCF9D6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4CCD8-A896-4B5A-8E3A-E698E633E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90E45-7047-497F-B76D-4433B5BA0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BC488-054A-45AA-8EC0-CC5EA4CA0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D71A4-88AB-499E-AC5E-E8D4D80E3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52D35-B706-47AD-9495-D5B3DA43D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44F20-145A-467C-9994-717259DDB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35E0C-03A7-4689-B754-A90C991B3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84570-057A-4B98-A121-40E137B9A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7D2B1-23A4-4457-90F6-C704BDB7D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DC31C-F76F-422C-A5CE-D937F3AC3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7A82A-75FC-4848-80B9-1884B8C57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24099-784B-46A4-9CF0-7F909E651F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v.foto.radikal.ru/0704/ad/f07f42087741.gif" TargetMode="Externa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hyperlink" Target="http://smiles.33b.ru/smile.30659.html" TargetMode="External"/><Relationship Id="rId3" Type="http://schemas.openxmlformats.org/officeDocument/2006/relationships/image" Target="../media/image23.gif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png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Картинка 152 из 20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38088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 txBox="1"/>
          <p:nvPr/>
        </p:nvSpPr>
        <p:spPr>
          <a:xfrm>
            <a:off x="4648320" y="914400"/>
            <a:ext cx="510516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Будова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рослинної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клітин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  <p:sp>
        <p:nvSpPr>
          <p:cNvPr id="90" name=""/>
          <p:cNvSpPr/>
          <p:nvPr/>
        </p:nvSpPr>
        <p:spPr>
          <a:xfrm>
            <a:off x="4953600" y="3962520"/>
            <a:ext cx="23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клітинна оболон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rot="1699800">
            <a:off x="4346640" y="3123720"/>
            <a:ext cx="153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цитоплаз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86160" y="2666880"/>
            <a:ext cx="74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ядр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119680" y="3922560"/>
            <a:ext cx="110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вакуол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20707800">
            <a:off x="2746440" y="304920"/>
            <a:ext cx="125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ластид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l"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0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14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2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3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4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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Які вам відомі середовища існування водоростей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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Як називається тіло водоростей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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а способом живлення водорості автотрофні чи гетеротрофні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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ведіть приклади автотрофних організмі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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звіть типову будову клітини водорост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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Як називаються водорості, які заселяють товщу води океанів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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 чого складається морський фітопланктон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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 чого складається прісноводний фітопланктон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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Яку назву мають водорості, що ростуть на дні водойм або різних водних об’єктів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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Як називається наука, що вивчає походження, будову та різноманітність водоростей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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е знаходиться пігмент водоростей, який їх забарвлює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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а будовою слані водорості бувають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1143000" y="1143000"/>
            <a:ext cx="685800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0000"/>
                    </a:gs>
                    <a:gs pos="50000">
                      <a:srgbClr val="ff7c80"/>
                    </a:gs>
                    <a:gs pos="100000">
                      <a:srgbClr val="9900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Молодці!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90000"/>
                  </a:gs>
                  <a:gs pos="50000">
                    <a:srgbClr val="ff7c80"/>
                  </a:gs>
                  <a:gs pos="100000">
                    <a:srgbClr val="990000"/>
                  </a:gs>
                </a:gsLst>
                <a:lin ang="5400000"/>
              </a:gra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slow">
    <p:comb dir="horz"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51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57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63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69" dur="5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75" dur="5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81" dur="50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87" dur="5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3" dur="500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9" dur="500"/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/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05" dur="500"/>
                                        <p:tgtEl>
                                          <p:spTgt spid="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/>
                                        <p:tgtEl>
                                          <p:spTgt spid="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11" dur="500"/>
                                        <p:tgtEl>
                                          <p:spTgt spid="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/>
                                        <p:tgtEl>
                                          <p:spTgt spid="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17" dur="500"/>
                                        <p:tgtEl>
                                          <p:spTgt spid="9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/>
                                        <p:tgtEl>
                                          <p:spTgt spid="9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228600" y="533520"/>
            <a:ext cx="8610480" cy="559584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8" name=""/>
          <p:cNvGraphicFramePr/>
          <p:nvPr/>
        </p:nvGraphicFramePr>
        <p:xfrm>
          <a:off x="304920" y="2590920"/>
          <a:ext cx="8534160" cy="2514240"/>
        </p:xfrm>
        <a:graphic>
          <a:graphicData uri="http://schemas.openxmlformats.org/drawingml/2006/table">
            <a:tbl>
              <a:tblPr/>
              <a:tblGrid>
                <a:gridCol w="776160"/>
                <a:gridCol w="774720"/>
                <a:gridCol w="776160"/>
                <a:gridCol w="776520"/>
                <a:gridCol w="776160"/>
                <a:gridCol w="774720"/>
                <a:gridCol w="776160"/>
                <a:gridCol w="776520"/>
                <a:gridCol w="776160"/>
                <a:gridCol w="774720"/>
                <a:gridCol w="776160"/>
              </a:tblGrid>
              <a:tr h="1122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cc00"/>
                        </a:gs>
                        <a:gs pos="50000">
                          <a:srgbClr val="c7e274"/>
                        </a:gs>
                        <a:gs pos="100000">
                          <a:srgbClr val="99cc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cc00"/>
                        </a:gs>
                        <a:gs pos="50000">
                          <a:srgbClr val="c7e274"/>
                        </a:gs>
                        <a:gs pos="100000">
                          <a:srgbClr val="99cc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cc00"/>
                        </a:gs>
                        <a:gs pos="50000">
                          <a:srgbClr val="c7e274"/>
                        </a:gs>
                        <a:gs pos="100000">
                          <a:srgbClr val="99cc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cc00"/>
                        </a:gs>
                        <a:gs pos="50000">
                          <a:srgbClr val="c7e274"/>
                        </a:gs>
                        <a:gs pos="100000">
                          <a:srgbClr val="99cc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cc00"/>
                        </a:gs>
                        <a:gs pos="50000">
                          <a:srgbClr val="c7e274"/>
                        </a:gs>
                        <a:gs pos="100000">
                          <a:srgbClr val="99cc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cc00"/>
                        </a:gs>
                        <a:gs pos="50000">
                          <a:srgbClr val="c7e274"/>
                        </a:gs>
                        <a:gs pos="100000">
                          <a:srgbClr val="99cc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cc00"/>
                        </a:gs>
                        <a:gs pos="50000">
                          <a:srgbClr val="c7e274"/>
                        </a:gs>
                        <a:gs pos="100000">
                          <a:srgbClr val="99cc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cc00"/>
                        </a:gs>
                        <a:gs pos="50000">
                          <a:srgbClr val="c7e274"/>
                        </a:gs>
                        <a:gs pos="100000">
                          <a:srgbClr val="99cc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cc00"/>
                        </a:gs>
                        <a:gs pos="50000">
                          <a:srgbClr val="c7e274"/>
                        </a:gs>
                        <a:gs pos="100000">
                          <a:srgbClr val="99cc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cc00"/>
                        </a:gs>
                        <a:gs pos="50000">
                          <a:srgbClr val="c7e274"/>
                        </a:gs>
                        <a:gs pos="100000">
                          <a:srgbClr val="99cc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cc00"/>
                        </a:gs>
                        <a:gs pos="50000">
                          <a:srgbClr val="c7e274"/>
                        </a:gs>
                        <a:gs pos="100000">
                          <a:srgbClr val="99cc00"/>
                        </a:gs>
                      </a:gsLst>
                      <a:lin ang="5400000"/>
                    </a:gradFill>
                  </a:tcPr>
                </a:tc>
              </a:tr>
              <a:tr h="1391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cc00"/>
                        </a:gs>
                        <a:gs pos="50000">
                          <a:srgbClr val="c7e274"/>
                        </a:gs>
                        <a:gs pos="100000">
                          <a:srgbClr val="99cc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cc00"/>
                        </a:gs>
                        <a:gs pos="50000">
                          <a:srgbClr val="c7e274"/>
                        </a:gs>
                        <a:gs pos="100000">
                          <a:srgbClr val="99cc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cc00"/>
                        </a:gs>
                        <a:gs pos="50000">
                          <a:srgbClr val="c7e274"/>
                        </a:gs>
                        <a:gs pos="100000">
                          <a:srgbClr val="99cc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cc00"/>
                        </a:gs>
                        <a:gs pos="50000">
                          <a:srgbClr val="c7e274"/>
                        </a:gs>
                        <a:gs pos="100000">
                          <a:srgbClr val="99cc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cc00"/>
                        </a:gs>
                        <a:gs pos="50000">
                          <a:srgbClr val="c7e274"/>
                        </a:gs>
                        <a:gs pos="100000">
                          <a:srgbClr val="99cc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cc00"/>
                        </a:gs>
                        <a:gs pos="50000">
                          <a:srgbClr val="c7e274"/>
                        </a:gs>
                        <a:gs pos="100000">
                          <a:srgbClr val="99cc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cc00"/>
                        </a:gs>
                        <a:gs pos="50000">
                          <a:srgbClr val="c7e274"/>
                        </a:gs>
                        <a:gs pos="100000">
                          <a:srgbClr val="99cc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cc00"/>
                        </a:gs>
                        <a:gs pos="50000">
                          <a:srgbClr val="c7e274"/>
                        </a:gs>
                        <a:gs pos="100000">
                          <a:srgbClr val="99cc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cc00"/>
                        </a:gs>
                        <a:gs pos="50000">
                          <a:srgbClr val="c7e274"/>
                        </a:gs>
                        <a:gs pos="100000">
                          <a:srgbClr val="99cc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cc00"/>
                        </a:gs>
                        <a:gs pos="50000">
                          <a:srgbClr val="c7e274"/>
                        </a:gs>
                        <a:gs pos="100000">
                          <a:srgbClr val="99cc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cc00"/>
                        </a:gs>
                        <a:gs pos="50000">
                          <a:srgbClr val="c7e274"/>
                        </a:gs>
                        <a:gs pos="100000">
                          <a:srgbClr val="99cc00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sp>
        <p:nvSpPr>
          <p:cNvPr id="99" name=""/>
          <p:cNvSpPr txBox="1"/>
          <p:nvPr/>
        </p:nvSpPr>
        <p:spPr>
          <a:xfrm>
            <a:off x="1143000" y="457200"/>
            <a:ext cx="7162920" cy="134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еревір сусіда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slow"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00"/>
            </a:gs>
            <a:gs pos="50000">
              <a:srgbClr val="fcfcf6"/>
            </a:gs>
            <a:gs pos="100000">
              <a:srgbClr val="cc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029200" y="457200"/>
            <a:ext cx="3892680" cy="54864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 txBox="1"/>
          <p:nvPr/>
        </p:nvSpPr>
        <p:spPr>
          <a:xfrm>
            <a:off x="228600" y="0"/>
            <a:ext cx="480060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240">
                  <a:solidFill>
                    <a:srgbClr val="006600"/>
                  </a:solidFill>
                  <a:miter/>
                </a:ln>
                <a:solidFill>
                  <a:srgbClr val="339933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Терміни </a:t>
            </a:r>
            <a:endParaRPr b="0" lang="en-US" sz="1800" spc="1" strike="noStrike">
              <a:ln w="3240">
                <a:solidFill>
                  <a:srgbClr val="006600"/>
                </a:solidFill>
                <a:miter/>
              </a:ln>
              <a:solidFill>
                <a:srgbClr val="339933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240">
                  <a:solidFill>
                    <a:srgbClr val="006600"/>
                  </a:solidFill>
                  <a:miter/>
                </a:ln>
                <a:solidFill>
                  <a:srgbClr val="339933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ьогоднішнього </a:t>
            </a:r>
            <a:endParaRPr b="0" lang="en-US" sz="1800" spc="1" strike="noStrike">
              <a:ln w="3240">
                <a:solidFill>
                  <a:srgbClr val="006600"/>
                </a:solidFill>
                <a:miter/>
              </a:ln>
              <a:solidFill>
                <a:srgbClr val="339933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240">
                  <a:solidFill>
                    <a:srgbClr val="006600"/>
                  </a:solidFill>
                  <a:miter/>
                </a:ln>
                <a:solidFill>
                  <a:srgbClr val="339933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уроку:</a:t>
            </a:r>
            <a:endParaRPr b="0" lang="en-US" sz="1800" spc="1" strike="noStrike">
              <a:ln w="3240">
                <a:solidFill>
                  <a:srgbClr val="006600"/>
                </a:solidFill>
                <a:miter/>
              </a:ln>
              <a:solidFill>
                <a:srgbClr val="339933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685800" y="20574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нижчі рослин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тало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хроматофор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фітопланктон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бентосні водорості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альгологі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ld"/>
  </p:transition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1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10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914400"/>
            <a:ext cx="9144000" cy="59436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 txBox="1"/>
          <p:nvPr/>
        </p:nvSpPr>
        <p:spPr>
          <a:xfrm>
            <a:off x="685800" y="380880"/>
            <a:ext cx="75438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Домашнє завдання: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991080" y="2722680"/>
            <a:ext cx="31708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-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§</a:t>
            </a:r>
            <a:r>
              <a:rPr b="1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 24 вивчит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- підготуват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повідомленн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про Відділ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водорост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1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10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9" dur="10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4" dur="10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9" dur="10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9933ff"/>
              </a:gs>
            </a:gsLst>
            <a:path path="rect">
              <a:fillToRect l="0" t="0" r="100000" b="100000"/>
            </a:path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990720" y="1523880"/>
            <a:ext cx="6781680" cy="312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3300"/>
                    </a:gs>
                    <a:gs pos="100000">
                      <a:srgbClr val="ffffff"/>
                    </a:gs>
                  </a:gsLst>
                  <a:lin ang="13500000"/>
                </a:gradFill>
                <a:latin typeface="Impact"/>
              </a:rPr>
              <a:t>Дякую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3300"/>
                  </a:gs>
                  <a:gs pos="100000">
                    <a:srgbClr val="ffffff"/>
                  </a:gs>
                </a:gsLst>
                <a:lin ang="135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3300"/>
                    </a:gs>
                    <a:gs pos="100000">
                      <a:srgbClr val="ffffff"/>
                    </a:gs>
                  </a:gsLst>
                  <a:lin ang="13500000"/>
                </a:gradFill>
                <a:latin typeface="Impact"/>
              </a:rPr>
              <a:t>за співпрацю!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3300"/>
                  </a:gs>
                  <a:gs pos="100000">
                    <a:srgbClr val="ffffff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  <p:pic>
        <p:nvPicPr>
          <p:cNvPr id="108" name="" descr="SugarwareZ-223.gif"/>
          <p:cNvPicPr/>
          <p:nvPr/>
        </p:nvPicPr>
        <p:blipFill>
          <a:blip r:embed="rId1"/>
          <a:stretch/>
        </p:blipFill>
        <p:spPr>
          <a:xfrm>
            <a:off x="5791320" y="5029200"/>
            <a:ext cx="1752480" cy="14526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Изображение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228600"/>
            <a:ext cx="1295280" cy="259092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8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03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7" dur="10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1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5" dur="4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4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5562720" y="762120"/>
            <a:ext cx="3327120" cy="43434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228240" y="0"/>
            <a:ext cx="792468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сі ми жителі водиці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Нами можна поживить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олюбляємо сонця промені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І тому ми автотрофні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Ми зелені, червоненькі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І великі, і маленькі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А ще ми буваємо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и знайте віднині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дноклітинні й багатоклітинні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Колоніальні буваємо теж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Немає різновидам краю і меж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Хто впізнав нас, дітлах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исловіть свої дум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5" name=""/>
          <p:cNvSpPr txBox="1"/>
          <p:nvPr/>
        </p:nvSpPr>
        <p:spPr>
          <a:xfrm>
            <a:off x="533520" y="533520"/>
            <a:ext cx="320040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Тема: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76520"/>
            <a:ext cx="8153280" cy="3733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240">
                  <a:solidFill>
                    <a:srgbClr val="000000"/>
                  </a:solidFill>
                  <a:miter/>
                </a:ln>
                <a:solidFill>
                  <a:srgbClr val="ff33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Загальна</a:t>
            </a:r>
            <a:endParaRPr b="1" lang="en-US" sz="1800" spc="1" strike="noStrike">
              <a:ln w="3240">
                <a:solidFill>
                  <a:srgbClr val="000000"/>
                </a:solidFill>
                <a:miter/>
              </a:ln>
              <a:solidFill>
                <a:srgbClr val="ff33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240">
                  <a:solidFill>
                    <a:srgbClr val="000000"/>
                  </a:solidFill>
                  <a:miter/>
                </a:ln>
                <a:solidFill>
                  <a:srgbClr val="ff33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</a:t>
            </a:r>
            <a:r>
              <a:rPr b="1" lang="en-US" sz="1800" spc="1" strike="noStrike">
                <a:ln w="3240">
                  <a:solidFill>
                    <a:srgbClr val="000000"/>
                  </a:solidFill>
                  <a:miter/>
                </a:ln>
                <a:solidFill>
                  <a:srgbClr val="ff33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характеристика</a:t>
            </a:r>
            <a:endParaRPr b="1" lang="en-US" sz="1800" spc="1" strike="noStrike">
              <a:ln w="3240">
                <a:solidFill>
                  <a:srgbClr val="000000"/>
                </a:solidFill>
                <a:miter/>
              </a:ln>
              <a:solidFill>
                <a:srgbClr val="ff33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240">
                  <a:solidFill>
                    <a:srgbClr val="000000"/>
                  </a:solidFill>
                  <a:miter/>
                </a:ln>
                <a:solidFill>
                  <a:srgbClr val="ff33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</a:t>
            </a:r>
            <a:r>
              <a:rPr b="1" lang="en-US" sz="1800" spc="1" strike="noStrike">
                <a:ln w="3240">
                  <a:solidFill>
                    <a:srgbClr val="000000"/>
                  </a:solidFill>
                  <a:miter/>
                </a:ln>
                <a:solidFill>
                  <a:srgbClr val="ff33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водоростей.</a:t>
            </a:r>
            <a:endParaRPr b="1" lang="en-US" sz="1800" spc="1" strike="noStrike">
              <a:ln w="3240">
                <a:solidFill>
                  <a:srgbClr val="000000"/>
                </a:solidFill>
                <a:miter/>
              </a:ln>
              <a:solidFill>
                <a:srgbClr val="ff33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240">
                  <a:solidFill>
                    <a:srgbClr val="000000"/>
                  </a:solidFill>
                  <a:miter/>
                </a:ln>
                <a:solidFill>
                  <a:srgbClr val="ff33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ередовище існування.</a:t>
            </a:r>
            <a:endParaRPr b="1" lang="en-US" sz="1800" spc="1" strike="noStrike">
              <a:ln w="3240">
                <a:solidFill>
                  <a:srgbClr val="000000"/>
                </a:solidFill>
                <a:miter/>
              </a:ln>
              <a:solidFill>
                <a:srgbClr val="ff33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ransition spd="slow">
    <p:cover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-28440"/>
            <a:ext cx="9144000" cy="68864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 txBox="1"/>
          <p:nvPr/>
        </p:nvSpPr>
        <p:spPr>
          <a:xfrm>
            <a:off x="685800" y="1219320"/>
            <a:ext cx="7772400" cy="320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2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Після </a:t>
            </a:r>
            <a:endParaRPr b="1" lang="en-US" sz="1800" spc="1" strike="noStrike">
              <a:ln w="32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2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цього уроку</a:t>
            </a:r>
            <a:endParaRPr b="1" lang="en-US" sz="1800" spc="1" strike="noStrike">
              <a:ln w="32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2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 </a:t>
            </a:r>
            <a:r>
              <a:rPr b="1" lang="en-US" sz="1800" spc="1" strike="noStrike">
                <a:ln w="32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ви зможете:</a:t>
            </a:r>
            <a:endParaRPr b="1" lang="en-US" sz="1800" spc="1" strike="noStrike">
              <a:ln w="32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slow">
    <p:split dir="in" orient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04920" y="685800"/>
            <a:ext cx="2593800" cy="40384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648320" y="1712880"/>
            <a:ext cx="3200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2895120" y="304920"/>
            <a:ext cx="5867640" cy="62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розповісти про особливості будови водоросте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назвати середовища існування водоросте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дати характеристику елементарній одиниці будови водоросте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изначити екологічні групи водоросте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истематизувати відділи водорост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5e"/>
            </a:gs>
            <a:gs pos="50000">
              <a:srgbClr val="ffffcc"/>
            </a:gs>
            <a:gs pos="100000">
              <a:srgbClr val="75755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029200" y="457200"/>
            <a:ext cx="3892680" cy="54864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 txBox="1"/>
          <p:nvPr/>
        </p:nvSpPr>
        <p:spPr>
          <a:xfrm>
            <a:off x="228600" y="304920"/>
            <a:ext cx="454356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240">
                  <a:solidFill>
                    <a:srgbClr val="006600"/>
                  </a:solidFill>
                  <a:miter/>
                </a:ln>
                <a:solidFill>
                  <a:srgbClr val="339933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розкрити </a:t>
            </a:r>
            <a:endParaRPr b="0" lang="en-US" sz="1800" spc="1" strike="noStrike">
              <a:ln w="3240">
                <a:solidFill>
                  <a:srgbClr val="006600"/>
                </a:solidFill>
                <a:miter/>
              </a:ln>
              <a:solidFill>
                <a:srgbClr val="339933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240">
                  <a:solidFill>
                    <a:srgbClr val="006600"/>
                  </a:solidFill>
                  <a:miter/>
                </a:ln>
                <a:solidFill>
                  <a:srgbClr val="339933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такі поняття:</a:t>
            </a:r>
            <a:endParaRPr b="0" lang="en-US" sz="1800" spc="1" strike="noStrike">
              <a:ln w="3240">
                <a:solidFill>
                  <a:srgbClr val="006600"/>
                </a:solidFill>
                <a:miter/>
              </a:ln>
              <a:solidFill>
                <a:srgbClr val="339933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685800" y="20574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нижчі рослин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тало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хроматофор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фітопланктон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бентосні водорості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альгологі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ld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228600" y="990360"/>
            <a:ext cx="86868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оява живих організмів на Землі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Будова водоросте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а) основна структурна одиниця водоросте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б) поділ водоростей за будовою слані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  Екологічні групи водорост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.  Різноманітність водорост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 rot="802200">
            <a:off x="304560" y="-304560"/>
            <a:ext cx="304776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a800"/>
                    </a:gs>
                    <a:gs pos="100000">
                      <a:srgbClr val="825600"/>
                    </a:gs>
                  </a:gsLst>
                  <a:path path="rect">
                    <a:fillToRect l="50000" t="50000" r="50000" b="50000"/>
                  </a:path>
                </a:gradFill>
                <a:latin typeface="Arial"/>
              </a:rPr>
              <a:t>План: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a800"/>
                  </a:gs>
                  <a:gs pos="100000">
                    <a:srgbClr val="825600"/>
                  </a:gs>
                </a:gsLst>
                <a:path path="rect">
                  <a:fillToRect l="50000" t="50000" r="50000" b="50000"/>
                </a:path>
              </a:gradFill>
              <a:latin typeface="Arial"/>
              <a:ea typeface="Arial"/>
            </a:endParaRPr>
          </a:p>
        </p:txBody>
      </p:sp>
    </p:spTree>
  </p:cSld>
  <p:transition spd="slow">
    <p:split dir="out" orient="vert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295280" y="0"/>
            <a:ext cx="6858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3962520" y="4800600"/>
            <a:ext cx="18288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Бурі водорості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52480" y="3809880"/>
            <a:ext cx="18288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Зелені водорості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52880" y="1295280"/>
            <a:ext cx="18288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Папороті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095880" y="2057400"/>
            <a:ext cx="18288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Плаун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3276720"/>
            <a:ext cx="18288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Хвощі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486400" y="4267080"/>
            <a:ext cx="18288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Риніофі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581280" y="914400"/>
            <a:ext cx="18288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Голонасінні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057400" y="457200"/>
            <a:ext cx="18288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Покритонасінні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2743200"/>
            <a:ext cx="18288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Мох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711400" y="6172200"/>
            <a:ext cx="316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Дерево життя рослин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4572000" y="3048120"/>
            <a:ext cx="520560" cy="11430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8229600" y="3048120"/>
            <a:ext cx="588960" cy="12189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228600" y="1066680"/>
            <a:ext cx="822240" cy="9907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4"/>
          <a:stretch/>
        </p:blipFill>
        <p:spPr>
          <a:xfrm>
            <a:off x="8193240" y="838080"/>
            <a:ext cx="950760" cy="12193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5"/>
          <a:stretch/>
        </p:blipFill>
        <p:spPr>
          <a:xfrm>
            <a:off x="2590920" y="4648320"/>
            <a:ext cx="339480" cy="17524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6"/>
          <a:stretch/>
        </p:blipFill>
        <p:spPr>
          <a:xfrm>
            <a:off x="8153280" y="5105520"/>
            <a:ext cx="666720" cy="99036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666880" y="304920"/>
            <a:ext cx="4496040" cy="60948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50000">
                <a:srgbClr val="fef1ee"/>
              </a:gs>
              <a:gs pos="100000">
                <a:srgbClr val="ff3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Царство Рослин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990720" y="1752480"/>
            <a:ext cx="3429000" cy="91440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50000">
                <a:srgbClr val="f6f9f6"/>
              </a:gs>
              <a:gs pos="100000">
                <a:srgbClr val="00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Нижч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водорості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952880" y="1752480"/>
            <a:ext cx="3429000" cy="91440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50000">
                <a:srgbClr val="fefefe"/>
              </a:gs>
              <a:gs pos="100000">
                <a:srgbClr val="00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ищ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наземні рослин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257800" y="3276720"/>
            <a:ext cx="2743200" cy="9144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efefe"/>
              </a:gs>
              <a:gs pos="100000">
                <a:srgbClr val="ffff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орінь і пагі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371600" y="3276720"/>
            <a:ext cx="2743200" cy="9144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efeee"/>
              </a:gs>
              <a:gs pos="100000">
                <a:srgbClr val="ffff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талом (слань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5029200"/>
            <a:ext cx="2057400" cy="914400"/>
          </a:xfrm>
          <a:prstGeom prst="rect">
            <a:avLst/>
          </a:prstGeom>
          <a:gradFill rotWithShape="0">
            <a:gsLst>
              <a:gs pos="0">
                <a:srgbClr val="9966ff"/>
              </a:gs>
              <a:gs pos="50000">
                <a:srgbClr val="fefefe"/>
              </a:gs>
              <a:gs pos="100000">
                <a:srgbClr val="9966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тебл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867280" y="5029200"/>
            <a:ext cx="2057400" cy="914400"/>
          </a:xfrm>
          <a:prstGeom prst="rect">
            <a:avLst/>
          </a:prstGeom>
          <a:gradFill rotWithShape="0">
            <a:gsLst>
              <a:gs pos="0">
                <a:srgbClr val="9966ff"/>
              </a:gs>
              <a:gs pos="50000">
                <a:srgbClr val="fefefe"/>
              </a:gs>
              <a:gs pos="100000">
                <a:srgbClr val="9966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лист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3200040" y="1066680"/>
            <a:ext cx="121932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410080" y="1066680"/>
            <a:ext cx="121932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666880" y="281952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629400" y="281952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4647960" y="4343400"/>
            <a:ext cx="160020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934320" y="4267080"/>
            <a:ext cx="0" cy="609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Учень</cp:lastModifiedBy>
  <dcterms:modified xsi:type="dcterms:W3CDTF">2008-12-08T13:33:50Z</dcterms:modified>
  <cp:revision>3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e0b000000000001024140</vt:lpwstr>
  </property>
  <property fmtid="{D5CDD505-2E9C-101B-9397-08002B2CF9AE}" pid="3" name="Version">
    <vt:r8>1</vt:r8>
  </property>
</Properties>
</file>