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wmf" ContentType="image/x-wmf"/>
  <Override PartName="/ppt/media/image30.jpeg" ContentType="image/jpeg"/>
  <Override PartName="/ppt/media/image47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BA6-D69B-499B-8644-2DD61DF6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4D5-AD63-4FC4-85DF-9722A15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5CE-18FF-47B8-95AC-9BEAA512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2E3-9490-4C57-8598-DD58C7F9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03F-C3B0-4FED-A982-38F427D5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F33-9A20-4933-931C-89E48E65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BEB-D107-4C55-AF15-41D5B36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EF0-DCD8-4F5D-AB20-EB1CFBD1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7D3-8EB2-4B16-8654-E4A893EE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796-0B7F-4685-AB81-7D43B2F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A3EC-F513-43C8-983A-2E0C3183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F42-4974-4511-86C4-B31B577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9922-F89C-485D-8F7B-904AD995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 на встановлення відповідност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59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множуються  за допомогою коренев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змножуються бульбами чи їх частин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атність відновлювати весь організм з його окремих част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оцес, щ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ідбувається за участю окремих органів рос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дземними пагонами (вусами)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змножу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множення кореневими нащадка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булинами розмножу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пеціальні клітини, або групи клітин, укриті захисною оболон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мородини, винограду, верби, троянди можл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посіб вегетативного розмноження у садівницт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Рослина, з якої беруть живец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27280" y="1197000"/>
            <a:ext cx="2737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егенер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сп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гетативне розмноженн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озмноження череш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 осика, горобина, мали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Е) ірис (півник), конвалія, пир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Є) щепле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Ж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ниця, полуниц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З) топінамбур, орхідея, картоп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И) прищ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І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ілія, тюльпан, час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купність плодолистиків (маточки) – гініцей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прей волохатий та Магнолія віргінсь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4321080" cy="319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404352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иметричні (актиноморфні) та 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симетричні (зигоморфні) кві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60360" y="1557360"/>
            <a:ext cx="4125960" cy="496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4920" y="1557360"/>
            <a:ext cx="39909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вітки двостатев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32360" y="3867120"/>
            <a:ext cx="3983040" cy="2990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4360" y="3887640"/>
            <a:ext cx="39589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932360" y="1015920"/>
            <a:ext cx="3887640" cy="291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55640" y="981000"/>
            <a:ext cx="3852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віти роздільностатеві: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кукурудза, осика, кабачок, огі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657600" cy="2482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708360" cy="2424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img13.jpg"/>
          <p:cNvPicPr/>
          <p:nvPr/>
        </p:nvPicPr>
        <p:blipFill>
          <a:blip r:embed="rId3"/>
          <a:stretch/>
        </p:blipFill>
        <p:spPr>
          <a:xfrm>
            <a:off x="7048440" y="3357720"/>
            <a:ext cx="2095560" cy="3500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56000" y="3125880"/>
            <a:ext cx="2217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статеві квіти (воронковидні, трубчасті - крайові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3280" y="1873080"/>
            <a:ext cx="4500720" cy="371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87308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Рослини однодомні (береза)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 дводомні ( тополя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38120" y="1557360"/>
            <a:ext cx="3629160" cy="511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74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Нектар приваблює різних твар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2000" y="2133720"/>
            <a:ext cx="3132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4468680"/>
            <a:ext cx="318456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3203640" cy="2224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132000" y="1268280"/>
            <a:ext cx="3006720" cy="216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716360" y="4443480"/>
            <a:ext cx="33116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« Так чи ні»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946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 Квітка — це генеративний орган рос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) Квітка забезпечує нестатеве розмнож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) Тонке стебло, на якому тримається квітка,— це квіткол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4) Оцвітина в рослини буває проста і подвій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5) Чашолистики не можуть захищати квітку від пошкодження, особливо в стані бу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6) У центрі квітки розташована мат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7) Маточка і тичинки — головні частини кві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8) Форма квітколожа може бути лише видовженою, пласк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9) На квітколожі розташовані такі частини квітки: чашолистики, пелюстки, маточки, тич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0)  У вишні, сливи, шипшини квітки мають просту оцвіт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1)  Кожна тичинка має тичинкову нитку, що закінчується пиля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2) У шипшини, яблуні квітки двостате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ке значення квітів у природі 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 житті лю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чення квітки в житті росл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рган статевого розмнож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ються плоди і нас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чення квітки в житті люд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стетична насол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ровина для лік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роматерапі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овують у їжу (квіти кабачка, гарбуза),  як приправу (шафран), варення (троянда, акація, кульбаб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жерело нектару і пил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країнський віночок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 прекрасних квіто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348000" y="4848120"/>
            <a:ext cx="2736720" cy="2009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26920" y="4898880"/>
            <a:ext cx="2521080" cy="1959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log Posts Tagged With - urinary-tract-infections The Comple…"/>
          <p:cNvPicPr/>
          <p:nvPr/>
        </p:nvPicPr>
        <p:blipFill>
          <a:blip r:embed="rId3"/>
          <a:stretch/>
        </p:blipFill>
        <p:spPr>
          <a:xfrm>
            <a:off x="0" y="3284640"/>
            <a:ext cx="1800360" cy="1660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55640" y="141300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020000" y="3357720"/>
            <a:ext cx="2124000" cy="1668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6084720" y="4832280"/>
            <a:ext cx="2697480" cy="2025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3419640" y="1413000"/>
            <a:ext cx="2481120" cy="20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012000" y="145404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3348000" y="342900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3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віти, квіти... Чарівні квіти,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льорові, великі й малі..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и умієте душу зігріти,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о й самі ви — душа землі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.Красоткіна</a:t>
            </a:r>
            <a:br>
              <a:rPr sz="2400"/>
            </a:b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Я-то воображал, что владею единственным в мире цветком, какого больше ни у кого и нигде нет, а это была самая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обыкновенная роза</a:t>
            </a:r>
            <a:r>
              <a:rPr b="0" lang="uk-UA" sz="28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.С.Екзюпері</a:t>
            </a:r>
            <a:br>
              <a:rPr sz="2400"/>
            </a:b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Квіти - залишки раю на землі</a:t>
            </a:r>
            <a:r>
              <a:rPr b="0" lang="uk-UA" sz="32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о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нштадтський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Запах - душа квітки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ль Верн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Лабораторна робота №9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“Будова і різноманітність квіто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вивчити будову квітки, навчитися визначати частини квітки; ознайомитися із різноманітністю квіт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Обладнання і матеріали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: живі (заспиртовані) квіти, квітки кімнатних рослин,  фото квіток, гербарні колекції квіткових рослин, препарувальна голка, скальпель, лу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Інструктивна кар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 Розгляньте запропоновану квітку. Знайдіть її частини - квітконіжку, квітколоже, оцвітину, тичинки, маточку та позначте їх на малюн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гляньте запропоновані квітки та визначте, які з них мають подвійну оцвітину, а які просту. У яких квіток віночок вільнопелюстковий, а в яких зрослопелюстковий. Зробіть відповідні підписи під малюн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здивіться фото запропоновані вчителем (гербарні зразки). Визначте, які квіти належать до одностатевих, а які до двостатевих. Зробіть відповідні запи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результатами роботи запишіть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висново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а – це 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а складається з ____________________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овні частини квітки 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вітки відрізняються між собою за ___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81600" y="3619440"/>
            <a:ext cx="17715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«Закінчи реченн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корочений, видозмінений і обмежений у рості пагін, який пристосований до статевого розмноження рослин, називаєть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ловними частинами квітки є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хищає внутрішні частини квітки від несприятливих умов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вітина, утворена тільки віночком, називаєтьс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цвітина, утворена віночком і чашечкою, називаєть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іноча частина квітки називається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аточка складається з таких частин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Чоловіча частина квітки називається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ичинка складається з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0)За наявністю тичинок і маточки у квітках їх поділяють на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енкан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віти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іжні, пахучі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остуть, посміхаються, квітнуть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чуття танцюють з вітром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рацювати §17, зап.1-6 (ІІ-ІІІ рівн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дивідуальні та творчі завдання: скласти сенкан та загадки на тему “Квітка”; підготувати повідомлення про незвичайні суцвітт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ова і різноманітність кві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7377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ідготувала вчитель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З “Приморська ЗОШ І-ІІІ ступенів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еціаліст І категор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сіка Світлана Миколаї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ізнаємо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62800" y="1460520"/>
            <a:ext cx="4840200" cy="4916520"/>
            <a:chOff x="2062800" y="1460520"/>
            <a:chExt cx="4840200" cy="4916520"/>
          </a:xfrm>
        </p:grpSpPr>
        <p:sp>
          <p:nvSpPr>
            <p:cNvPr id="51" name="_s3090"/>
            <p:cNvSpPr/>
            <p:nvPr/>
          </p:nvSpPr>
          <p:spPr>
            <a:xfrm>
              <a:off x="3224880" y="1460520"/>
              <a:ext cx="2516040" cy="277200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2000"/>
                <a:gd name="textAreaBottom" fmla="*/ 2772360 h 27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091"/>
            <p:cNvSpPr/>
            <p:nvPr/>
          </p:nvSpPr>
          <p:spPr>
            <a:xfrm rot="4320000">
              <a:off x="3892320" y="2225160"/>
              <a:ext cx="2771640" cy="2516040"/>
            </a:xfrm>
            <a:custGeom>
              <a:avLst/>
              <a:gdLst>
                <a:gd name="textAreaLeft" fmla="*/ 0 w 2771640"/>
                <a:gd name="textAreaRight" fmla="*/ 2771640 w 2771640"/>
                <a:gd name="textAreaTop" fmla="*/ 0 h 2516040"/>
                <a:gd name="textAreaBottom" fmla="*/ 2516400 h 25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092"/>
            <p:cNvSpPr/>
            <p:nvPr/>
          </p:nvSpPr>
          <p:spPr>
            <a:xfrm rot="8640000">
              <a:off x="3717360" y="3128760"/>
              <a:ext cx="2516040" cy="277200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2000"/>
                <a:gd name="textAreaBottom" fmla="*/ 2772360 h 27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097"/>
            <p:cNvSpPr/>
            <p:nvPr/>
          </p:nvSpPr>
          <p:spPr>
            <a:xfrm rot="12960000">
              <a:off x="2733480" y="3130560"/>
              <a:ext cx="2516040" cy="2771640"/>
            </a:xfrm>
            <a:custGeom>
              <a:avLst/>
              <a:gdLst>
                <a:gd name="textAreaLeft" fmla="*/ 0 w 2516040"/>
                <a:gd name="textAreaRight" fmla="*/ 2516400 w 2516040"/>
                <a:gd name="textAreaTop" fmla="*/ 0 h 2771640"/>
                <a:gd name="textAreaBottom" fmla="*/ 2771640 h 277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 rot="17280000">
              <a:off x="2301480" y="2226960"/>
              <a:ext cx="2772000" cy="2516040"/>
            </a:xfrm>
            <a:custGeom>
              <a:avLst/>
              <a:gdLst>
                <a:gd name="textAreaLeft" fmla="*/ 0 w 2772000"/>
                <a:gd name="textAreaRight" fmla="*/ 2772360 w 2772000"/>
                <a:gd name="textAreaTop" fmla="*/ 0 h 2516040"/>
                <a:gd name="textAreaBottom" fmla="*/ 2516400 h 25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78"/>
            <p:cNvSpPr/>
            <p:nvPr/>
          </p:nvSpPr>
          <p:spPr>
            <a:xfrm>
              <a:off x="5128920" y="157680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значе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частин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3079"/>
            <p:cNvSpPr/>
            <p:nvPr/>
          </p:nvSpPr>
          <p:spPr>
            <a:xfrm>
              <a:off x="5813640" y="3900960"/>
              <a:ext cx="92520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Ч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вс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однаков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81"/>
            <p:cNvSpPr/>
            <p:nvPr/>
          </p:nvSpPr>
          <p:spPr>
            <a:xfrm>
              <a:off x="4020480" y="533844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Щ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та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формул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3"/>
            <p:cNvSpPr/>
            <p:nvPr/>
          </p:nvSpPr>
          <p:spPr>
            <a:xfrm>
              <a:off x="2912040" y="157680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будо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096"/>
            <p:cNvSpPr/>
            <p:nvPr/>
          </p:nvSpPr>
          <p:spPr>
            <a:xfrm>
              <a:off x="2227320" y="3900960"/>
              <a:ext cx="924840" cy="101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Яке значенн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квітів у природі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00"/>
                  </a:solidFill>
                  <a:latin typeface="Arial"/>
                </a:rPr>
                <a:t>і житті люд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удова квітки. Оцвіт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316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ітка – репродуктивний орган покритонасінних рослин, що складається з укороченого стебла (вісь квітки), на якому розташовані покрив квітки (оцвітина), тичинки (мікроспорофіли)  і маточки, що складаються з одного або декількох плодолистків (мегаспорофілів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3280" y="32130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530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удова квітки. </a:t>
            </a:r>
            <a:br>
              <a:rPr sz="40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ичинка, 2 - пелюстка, 3 -  маточка, 4 - чашолистики, 5 - квітколоже, 6 - квітконіжка, 7 - пиляк, 8 - тичинкова нитка, 9 -  приймочка, 10 - стовпчик, 11 - зав'яз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28720" cy="352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двійна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ЦВІТИНА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       пр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вітина, що складається, з чашечки і віночка називається подвійною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цвітина, яка не поділяється на віночок і чашечку, а все листочки квітки більш-менш однакові - про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692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62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887640" cy="3111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3816360" cy="30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92720" y="4224240"/>
            <a:ext cx="2792520" cy="2633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11280" y="4365720"/>
            <a:ext cx="316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дільно- й зрослопелюсткові віночки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Шипшина та іпоме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4038480" cy="331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229068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купність тичинок в квітці називають андроцеєм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тосифон тичинковий (нирковий чай) та  Анемона японсь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824360" cy="3262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427640" y="332100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2T12:34:45Z</dcterms:created>
  <dc:creator>Билл</dc:creator>
  <dc:description/>
  <dc:language>en-US</dc:language>
  <cp:lastModifiedBy>Билл</cp:lastModifiedBy>
  <dcterms:modified xsi:type="dcterms:W3CDTF">2014-12-06T12:34:05Z</dcterms:modified>
  <cp:revision>34</cp:revision>
  <dc:subject/>
  <dc:title>Будова і різноманітність квіт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c000000000001024140</vt:lpwstr>
  </property>
</Properties>
</file>