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124-4789-4150-8B93-A46DFE7B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A24-0CA2-4624-9B68-5AB88B51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777-314E-4A55-A706-A9B92D33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DC5-F361-4317-9261-17E46960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02C4-CE5B-4FBE-A177-4D92E0E4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5B58-BB8E-4B96-9CEB-5F1916B9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B4A3-8210-442A-BA8F-01EE54F6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2170-3F95-4D47-8808-8FC92F25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FCC1-1DC5-4C59-8210-838CBFC4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8619-79D4-417F-827E-74BAD58E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7E38-2E73-470B-9E11-F547B35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397-272B-4E55-B2FA-73E025E9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73FB-0A1D-4DC0-9C60-A50B6E23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61BD-2B07-4D87-9216-C7C7AA6D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E4C5-83C6-401C-97D0-8B24A72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73CE-A802-44B6-BEDF-291BB290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207F-4F42-487F-B0A2-3485736B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089-919E-459F-AD98-4DAFADCD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660-1F9A-49E9-A1E5-AB8FBB6D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8F6-2EE4-4755-866A-4FDAFA78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5EA-16BB-4DFC-89E8-94D40C3F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689-BEB4-49CD-A31B-2986EC16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4A1-10B0-4328-8730-436A001A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26D-D88E-45D0-88BA-620AFB45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C70C-F755-40B6-B3B1-98DC229BC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DD5E-541F-4736-AAD7-15E32D6383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Урок узагальнення знань з теми “ Царство Гриби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5965920"/>
            <a:ext cx="3276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рок у 7 клас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54843"/>
          <p:cNvPicPr/>
          <p:nvPr/>
        </p:nvPicPr>
        <p:blipFill>
          <a:blip r:embed="rId1"/>
          <a:stretch/>
        </p:blipFill>
        <p:spPr>
          <a:xfrm>
            <a:off x="2411280" y="2060640"/>
            <a:ext cx="49039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c51d1d"/>
                </a:solidFill>
                <a:uFillTx/>
                <a:latin typeface="Arial"/>
              </a:rPr>
              <a:t>Вправа “Грибні ситуації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82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Поясн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 знайшли “сімейку” опеньків,але чомусь вони без “фартушків”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 знайшли чудового великого білого гриба. Він старий, 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кий, червиви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а узбіччі лісу біля поля ви знайшли групу чудових білих грибів, які ростуть біля купи мінеральних добри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 опинились поруч з людиною, яка отруїлась грибами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 принесли з лісу умовно їстівні гриби і вирішили їх засмажит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3394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Виліку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c51d1d"/>
                </a:solidFill>
                <a:uFillTx/>
                <a:latin typeface="Arial"/>
              </a:rPr>
              <a:t>Повідомлення учнів про лікувальні властивості грибів та лишайник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8" descr="it_shln"/>
          <p:cNvPicPr/>
          <p:nvPr/>
        </p:nvPicPr>
        <p:blipFill>
          <a:blip r:embed="rId1"/>
          <a:stretch/>
        </p:blipFill>
        <p:spPr>
          <a:xfrm>
            <a:off x="1476360" y="4076640"/>
            <a:ext cx="3637080" cy="2781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tsetrariya-350x262"/>
          <p:cNvPicPr/>
          <p:nvPr/>
        </p:nvPicPr>
        <p:blipFill>
          <a:blip r:embed="rId2"/>
          <a:stretch/>
        </p:blipFill>
        <p:spPr>
          <a:xfrm>
            <a:off x="0" y="155736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tchaga_b"/>
          <p:cNvPicPr/>
          <p:nvPr/>
        </p:nvPicPr>
        <p:blipFill>
          <a:blip r:embed="rId3"/>
          <a:stretch/>
        </p:blipFill>
        <p:spPr>
          <a:xfrm>
            <a:off x="6572160" y="3905280"/>
            <a:ext cx="2571840" cy="295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zaga_beresovaya"/>
          <p:cNvPicPr/>
          <p:nvPr/>
        </p:nvPicPr>
        <p:blipFill>
          <a:blip r:embed="rId4"/>
          <a:stretch/>
        </p:blipFill>
        <p:spPr>
          <a:xfrm>
            <a:off x="5003640" y="1916280"/>
            <a:ext cx="25401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Викона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80074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ідручник “Біологія” 7 клас, ст. 242 – 24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c51d1d"/>
                </a:solidFill>
                <a:uFillTx/>
                <a:latin typeface="Arial"/>
              </a:rPr>
              <a:t>Робота з тес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38548163"/>
          <p:cNvPicPr/>
          <p:nvPr/>
        </p:nvPicPr>
        <p:blipFill>
          <a:blip r:embed="rId1"/>
          <a:stretch/>
        </p:blipFill>
        <p:spPr>
          <a:xfrm>
            <a:off x="0" y="3362400"/>
            <a:ext cx="4140360" cy="3495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RedVoloBogBolete"/>
          <p:cNvPicPr/>
          <p:nvPr/>
        </p:nvPicPr>
        <p:blipFill>
          <a:blip r:embed="rId2"/>
          <a:stretch/>
        </p:blipFill>
        <p:spPr>
          <a:xfrm>
            <a:off x="4576680" y="3016080"/>
            <a:ext cx="45673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РЕФЛЕКСІ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Що вам сподобалося на уроці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е в майбутньому ви зможете використати набуті знання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езентація п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тки грибнику – початківц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51d1d"/>
                </a:solidFill>
                <a:latin typeface="Arial"/>
              </a:rPr>
              <a:t>Домашнє завдання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овторити про загальні ознаки Царства Гриб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класти тестові завдання з теми “Царство Гриби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Пам</a:t>
            </a:r>
            <a:r>
              <a:rPr b="1" i="1" lang="en-US" sz="4400" spc="-1" strike="noStrike" u="sng">
                <a:solidFill>
                  <a:srgbClr val="c51d1d"/>
                </a:solidFill>
                <a:uFillTx/>
                <a:latin typeface="Arial Black"/>
              </a:rPr>
              <a:t>’</a:t>
            </a: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ятка грибникам - початківця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6" descr="IMG_6830"/>
          <p:cNvPicPr/>
          <p:nvPr/>
        </p:nvPicPr>
        <p:blipFill>
          <a:blip r:embed="rId1"/>
          <a:stretch/>
        </p:blipFill>
        <p:spPr>
          <a:xfrm>
            <a:off x="1116000" y="1700280"/>
            <a:ext cx="7343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800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Урок підготув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вчитель біолог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Ясеновецького НВ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Мудрак Людмила Льві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51d1d"/>
                </a:solidFill>
                <a:latin typeface="Arial"/>
              </a:rPr>
              <a:t>Бажаю успіху у вивченні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51d1d"/>
                </a:solidFill>
                <a:latin typeface="Arial"/>
              </a:rPr>
              <a:t>наступних тем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Цілі уроку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загальнити знання учнів про різноманітність представників Царства Гриб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озвивати вміння вести частково – пошукову діяльність, осмислювати проблемну ситуацію, робити виснов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ормувати екологічні переконання учнів, вміння застосовувати набуті знання у нестандартних ситуаці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 u="sng">
                <a:solidFill>
                  <a:srgbClr val="c51d1d"/>
                </a:solidFill>
                <a:uFillTx/>
                <a:latin typeface="Arial Black"/>
              </a:rPr>
              <a:t>ДЕВІЗ УРОКУ:</a:t>
            </a:r>
            <a:br>
              <a:rPr sz="4000"/>
            </a:br>
            <a:r>
              <a:rPr b="1" i="1" lang="uk-UA" sz="4000" spc="-1" strike="noStrike" u="sng">
                <a:solidFill>
                  <a:srgbClr val="c51d1d"/>
                </a:solidFill>
                <a:uFillTx/>
                <a:latin typeface="Arial Black"/>
              </a:rPr>
              <a:t>“ ПІЗНАЮ – ЗНАЧИТЬ ІСНУЮ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35640" y="1844640"/>
            <a:ext cx="342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Щойно – хто і як зумів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Царство вивчили </a:t>
            </a:r>
            <a:r>
              <a:rPr b="1" lang="uk-UA" sz="1800" spc="-1" strike="noStrike">
                <a:solidFill>
                  <a:srgbClr val="c51d1d"/>
                </a:solidFill>
                <a:latin typeface="Arial"/>
              </a:rPr>
              <a:t>ГРИБ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То ж тепер ви не барі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 знаннями поділі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 до кошиків свої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Цих трофеїв лісов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Щонайбільше покладі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Бал високий заробі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розуміли в чому суть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Що ж, тоді в щасливу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50920" y="1844640"/>
            <a:ext cx="39272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Часу всі ми не марнуєм,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 підручнику мандрує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ін секретів не тримає,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Таємниці розкриває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допитливих умі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Що сторінка – море див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ли царства ви і вид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ідділи, роди, підви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казкове тридеся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заморське триде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яте,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0" descr="Armillaria_mellea_6"/>
          <p:cNvPicPr/>
          <p:nvPr/>
        </p:nvPicPr>
        <p:blipFill>
          <a:blip r:embed="rId1"/>
          <a:stretch/>
        </p:blipFill>
        <p:spPr>
          <a:xfrm>
            <a:off x="3059280" y="5084640"/>
            <a:ext cx="252072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Актуалізація опорних зна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007120" cy="20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облемні запитанн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Чому гриби відокремили в окреме царство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Що спільного у грибів з рослинами і тваринами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20110211192609"/>
          <p:cNvPicPr/>
          <p:nvPr/>
        </p:nvPicPr>
        <p:blipFill>
          <a:blip r:embed="rId1"/>
          <a:stretch/>
        </p:blipFill>
        <p:spPr>
          <a:xfrm>
            <a:off x="2050920" y="2997360"/>
            <a:ext cx="49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Пригада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51d1d"/>
                </a:solidFill>
                <a:uFillTx/>
                <a:latin typeface="Arial"/>
              </a:rPr>
              <a:t>Вправа “Словниковий дощ” – дати визначення термінам</a:t>
            </a:r>
            <a:r>
              <a:rPr b="1" i="1" lang="ru-RU" sz="2000" spc="-1" strike="noStrike" u="sng">
                <a:solidFill>
                  <a:srgbClr val="c51d1d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50920" y="2205000"/>
            <a:ext cx="4608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іколог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Хіти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Гетеротроф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ук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ластинчасті гриб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рубчасті гриб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Гіф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356000" y="2276640"/>
            <a:ext cx="460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іцелій(грибниц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ікориза(грибокорін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рутов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имбі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Лишай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лодове ті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еніц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3322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Опиш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 група – Нижчі гриб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 група – Вищі гриб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І група - Лишай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c51d1d"/>
                </a:solidFill>
                <a:uFillTx/>
                <a:latin typeface="Arial"/>
              </a:rPr>
              <a:t>Описати представників вибраного відділу Царства Гри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ples2"/>
          <p:cNvPicPr/>
          <p:nvPr/>
        </p:nvPicPr>
        <p:blipFill>
          <a:blip r:embed="rId1"/>
          <a:stretch/>
        </p:blipFill>
        <p:spPr>
          <a:xfrm>
            <a:off x="6300720" y="1989000"/>
            <a:ext cx="1890720" cy="151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fly-agaric"/>
          <p:cNvPicPr/>
          <p:nvPr/>
        </p:nvPicPr>
        <p:blipFill>
          <a:blip r:embed="rId2"/>
          <a:stretch/>
        </p:blipFill>
        <p:spPr>
          <a:xfrm>
            <a:off x="4716360" y="3284640"/>
            <a:ext cx="2376720" cy="1922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03020404"/>
          <p:cNvPicPr/>
          <p:nvPr/>
        </p:nvPicPr>
        <p:blipFill>
          <a:blip r:embed="rId3"/>
          <a:stretch/>
        </p:blipFill>
        <p:spPr>
          <a:xfrm>
            <a:off x="6227640" y="4941720"/>
            <a:ext cx="2916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3322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Дослід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4753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чень 1. Цікаві гри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чень 2. Цікаво знати щ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чень 3. Історія французького сиру “Рокфор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чень 4. Лишай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c51d1d"/>
                </a:solidFill>
                <a:uFillTx/>
                <a:latin typeface="Arial"/>
              </a:rPr>
              <a:t>Випереджувальні завдання для уч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101005-115843-2090"/>
          <p:cNvPicPr/>
          <p:nvPr/>
        </p:nvPicPr>
        <p:blipFill>
          <a:blip r:embed="rId1"/>
          <a:stretch/>
        </p:blipFill>
        <p:spPr>
          <a:xfrm>
            <a:off x="5508720" y="2276640"/>
            <a:ext cx="2462040" cy="20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6942155_w200_h200_shotaren_250ml"/>
          <p:cNvPicPr/>
          <p:nvPr/>
        </p:nvPicPr>
        <p:blipFill>
          <a:blip r:embed="rId2"/>
          <a:stretch/>
        </p:blipFill>
        <p:spPr>
          <a:xfrm>
            <a:off x="6804000" y="2276640"/>
            <a:ext cx="190512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brie5"/>
          <p:cNvPicPr/>
          <p:nvPr/>
        </p:nvPicPr>
        <p:blipFill>
          <a:blip r:embed="rId3"/>
          <a:stretch/>
        </p:blipFill>
        <p:spPr>
          <a:xfrm>
            <a:off x="3708360" y="4392720"/>
            <a:ext cx="309564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82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Відгада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825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 група – гриби, бактерії, слизовики, лишайн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 група – паразити, автотрофи, гетеротрофи, симбіон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І група – хітин, глікоген, хлорофі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fungi-940x705"/>
          <p:cNvPicPr/>
          <p:nvPr/>
        </p:nvPicPr>
        <p:blipFill>
          <a:blip r:embed="rId1"/>
          <a:stretch/>
        </p:blipFill>
        <p:spPr>
          <a:xfrm>
            <a:off x="5796000" y="2276640"/>
            <a:ext cx="3348000" cy="2241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c51d1d"/>
                </a:solidFill>
                <a:uFillTx/>
                <a:latin typeface="Arial"/>
              </a:rPr>
              <a:t>Вправа “Знайди логічну помилку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9" descr="hryby_w"/>
          <p:cNvPicPr/>
          <p:nvPr/>
        </p:nvPicPr>
        <p:blipFill>
          <a:blip r:embed="rId2"/>
          <a:stretch/>
        </p:blipFill>
        <p:spPr>
          <a:xfrm>
            <a:off x="4500720" y="4581360"/>
            <a:ext cx="33843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іколог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ото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ндикат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лодове ті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тру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л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c51d1d"/>
                </a:solidFill>
                <a:uFillTx/>
                <a:latin typeface="Arial"/>
              </a:rPr>
              <a:t>Вправа “Знайди пару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708360" y="1844640"/>
            <a:ext cx="3228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іколог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ото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ндикат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лодове ті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тру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л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6" descr="coprinus_naturalist_if_ua"/>
          <p:cNvPicPr/>
          <p:nvPr/>
        </p:nvPicPr>
        <p:blipFill>
          <a:blip r:embed="rId1"/>
          <a:stretch/>
        </p:blipFill>
        <p:spPr>
          <a:xfrm>
            <a:off x="6300720" y="4873680"/>
            <a:ext cx="2843280" cy="1984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Beskud"/>
          <p:cNvPicPr/>
          <p:nvPr/>
        </p:nvPicPr>
        <p:blipFill>
          <a:blip r:embed="rId2"/>
          <a:stretch/>
        </p:blipFill>
        <p:spPr>
          <a:xfrm>
            <a:off x="0" y="0"/>
            <a:ext cx="3348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3:31:32Z</dcterms:created>
  <dc:creator>Юля</dc:creator>
  <dc:description/>
  <dc:language>en-US</dc:language>
  <cp:lastModifiedBy>Юлия</cp:lastModifiedBy>
  <dcterms:modified xsi:type="dcterms:W3CDTF">2014-01-05T17:28:50Z</dcterms:modified>
  <cp:revision>7</cp:revision>
  <dc:subject/>
  <dc:title>Урок узагальнення знань з теми “ Царство Гриби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b000000000001024140</vt:lpwstr>
  </property>
</Properties>
</file>