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551-FDB9-4365-94B2-E340AA2C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845A-8010-4E7F-94CD-8FD3123D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FBB-8DB8-45B2-A8AC-8357DB19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6DC-F507-459F-9C2B-269176E9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645D-EC68-45D7-8C33-D4F1D11A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F32D-21A8-40B6-8DF5-C5AE7D3D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7006-0FB6-4D62-91D5-3CC03F77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554A-9FEE-4ECF-B164-61DD53DC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C965-EBD3-4065-A246-B72C1B2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9EBB-FEDC-4EA5-81AB-57A42298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A74B-BA30-4D35-850B-C20C42F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596-7716-4FEE-A13E-EC1949B8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AE2E-427A-4C3C-A602-2BAA6B7B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11B3-2C99-4021-BD2F-B36F2C56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0915-3A20-452F-90B5-FFD8B877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DADD-357F-4BE3-BCCB-1A48D30E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B667-292D-45F0-A575-FF29E99D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CDA-1F38-4B65-A837-F84C5D63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DEA-7F10-453A-BCEF-735D0532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8CA-B4C7-4C36-BFC3-BE8ACC68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0C2-B47A-490D-9BB5-C1A880DF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282-78AD-43F2-A182-200FBF13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68A-C908-4D22-A5E8-8833E688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FA3-7645-4854-847A-8D67877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7CDF-4883-4BEF-BB48-396778609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BF36-BE10-4A8A-8AED-0F17AC5476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Урок узагальнення знань з теми “ Царство Гриби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5965920"/>
            <a:ext cx="3276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рок у 7 клас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54843"/>
          <p:cNvPicPr/>
          <p:nvPr/>
        </p:nvPicPr>
        <p:blipFill>
          <a:blip r:embed="rId1"/>
          <a:stretch/>
        </p:blipFill>
        <p:spPr>
          <a:xfrm>
            <a:off x="2411280" y="2060640"/>
            <a:ext cx="490392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Вправа “Грибні ситуації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82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Поясн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 знайшли “сімейку” опеньків,але чомусь вони без “фартушків”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 знайшли чудового великого білого гриба. Він старий, 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ий, червиви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а узбіччі лісу біля поля ви знайшли групу чудових білих грибів, які ростуть біля купи мінеральних добри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 опинились поруч з людиною, яка отруїлась грибами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 принесли з лісу умовно їстівні гриби і вирішили їх засмажит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3394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Виліку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Повідомлення учнів про лікувальні властивості грибів та лишайник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8" descr="it_shln"/>
          <p:cNvPicPr/>
          <p:nvPr/>
        </p:nvPicPr>
        <p:blipFill>
          <a:blip r:embed="rId1"/>
          <a:stretch/>
        </p:blipFill>
        <p:spPr>
          <a:xfrm>
            <a:off x="1476360" y="4076640"/>
            <a:ext cx="3637080" cy="2781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tsetrariya-350x262"/>
          <p:cNvPicPr/>
          <p:nvPr/>
        </p:nvPicPr>
        <p:blipFill>
          <a:blip r:embed="rId2"/>
          <a:stretch/>
        </p:blipFill>
        <p:spPr>
          <a:xfrm>
            <a:off x="0" y="155736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tchaga_b"/>
          <p:cNvPicPr/>
          <p:nvPr/>
        </p:nvPicPr>
        <p:blipFill>
          <a:blip r:embed="rId3"/>
          <a:stretch/>
        </p:blipFill>
        <p:spPr>
          <a:xfrm>
            <a:off x="6572160" y="3905280"/>
            <a:ext cx="257184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zaga_beresovaya"/>
          <p:cNvPicPr/>
          <p:nvPr/>
        </p:nvPicPr>
        <p:blipFill>
          <a:blip r:embed="rId4"/>
          <a:stretch/>
        </p:blipFill>
        <p:spPr>
          <a:xfrm>
            <a:off x="5003640" y="1916280"/>
            <a:ext cx="25401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Викон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8007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ідручник “Біологія” 7 клас, ст. 242 – 24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c51d1d"/>
                </a:solidFill>
                <a:uFillTx/>
                <a:latin typeface="Arial"/>
              </a:rPr>
              <a:t>Робота з тест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38548163"/>
          <p:cNvPicPr/>
          <p:nvPr/>
        </p:nvPicPr>
        <p:blipFill>
          <a:blip r:embed="rId1"/>
          <a:stretch/>
        </p:blipFill>
        <p:spPr>
          <a:xfrm>
            <a:off x="0" y="3362400"/>
            <a:ext cx="4140360" cy="3495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RedVoloBogBolete"/>
          <p:cNvPicPr/>
          <p:nvPr/>
        </p:nvPicPr>
        <p:blipFill>
          <a:blip r:embed="rId2"/>
          <a:stretch/>
        </p:blipFill>
        <p:spPr>
          <a:xfrm>
            <a:off x="4576680" y="3016080"/>
            <a:ext cx="45673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РЕФЛЕКСІ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Що вам сподобалося на уроці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е в майбутньому ви зможете використати набуті знання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езентація па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тки грибнику – початківц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51d1d"/>
                </a:solidFill>
                <a:latin typeface="Arial"/>
              </a:rPr>
              <a:t>Домашнє завдання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овторити про загальні ознаки Царства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класти тестові завдання з теми “Царство Гриби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Пам</a:t>
            </a:r>
            <a:r>
              <a:rPr b="1" i="1" lang="en-US" sz="4400" spc="-1" strike="noStrike" u="sng">
                <a:solidFill>
                  <a:srgbClr val="c51d1d"/>
                </a:solidFill>
                <a:uFillTx/>
                <a:latin typeface="Arial Black"/>
              </a:rPr>
              <a:t>’</a:t>
            </a: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ятка грибникам - початківця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6" descr="IMG_6830"/>
          <p:cNvPicPr/>
          <p:nvPr/>
        </p:nvPicPr>
        <p:blipFill>
          <a:blip r:embed="rId1"/>
          <a:stretch/>
        </p:blipFill>
        <p:spPr>
          <a:xfrm>
            <a:off x="1116000" y="1700280"/>
            <a:ext cx="7343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800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Урок підготув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вчитель біолог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Ясеновецького НВ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Мудрак Людмила Льві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51d1d"/>
                </a:solidFill>
                <a:latin typeface="Arial"/>
              </a:rPr>
              <a:t>Бажаю успіху у вивченні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51d1d"/>
                </a:solidFill>
                <a:latin typeface="Arial"/>
              </a:rPr>
              <a:t>наступних тем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Цілі уроку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загальнити знання учнів про різноманітність представників Царства Гриб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озвивати вміння вести частково – пошукову діяльність, осмислювати проблемну ситуацію, робити виснов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ормувати екологічні переконання учнів, вміння застосовувати набуті знання у нестандартних ситуаці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 u="sng">
                <a:solidFill>
                  <a:srgbClr val="c51d1d"/>
                </a:solidFill>
                <a:uFillTx/>
                <a:latin typeface="Arial Black"/>
              </a:rPr>
              <a:t>ДЕВІЗ УРОКУ:</a:t>
            </a:r>
            <a:br>
              <a:rPr sz="4000"/>
            </a:br>
            <a:r>
              <a:rPr b="1" i="1" lang="uk-UA" sz="4000" spc="-1" strike="noStrike" u="sng">
                <a:solidFill>
                  <a:srgbClr val="c51d1d"/>
                </a:solidFill>
                <a:uFillTx/>
                <a:latin typeface="Arial Black"/>
              </a:rPr>
              <a:t>“ ПІЗНАЮ – ЗНАЧИТЬ ІСНУЮ”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35640" y="1844640"/>
            <a:ext cx="342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Щойно – хто і як зумів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Царство вивчили </a:t>
            </a:r>
            <a:r>
              <a:rPr b="1" lang="uk-UA" sz="1800" spc="-1" strike="noStrike">
                <a:solidFill>
                  <a:srgbClr val="c51d1d"/>
                </a:solidFill>
                <a:latin typeface="Arial"/>
              </a:rPr>
              <a:t>ГРИБ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о ж тепер ви не барі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 знаннями поділі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 до кошиків свої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Цих трофеїв лісов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Щонайбільше покладі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Бал високий заробі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розуміли в чому суть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Що ж, тоді в щасливу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250920" y="1844640"/>
            <a:ext cx="39272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Часу всі ми не марнуєм,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 підручнику мандрує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ін секретів не тримає,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аємниці розкриває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допитливих умі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Що сторінка – море див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ли царства ви і вид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ідділи, роди, підви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казкове тридесят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заморське триде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яте,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0" descr="Armillaria_mellea_6"/>
          <p:cNvPicPr/>
          <p:nvPr/>
        </p:nvPicPr>
        <p:blipFill>
          <a:blip r:embed="rId1"/>
          <a:stretch/>
        </p:blipFill>
        <p:spPr>
          <a:xfrm>
            <a:off x="3059280" y="5084640"/>
            <a:ext cx="252072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Актуалізація опорних знан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007120" cy="20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блемні запитанн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Чому гриби відокремили в окреме царство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Що спільного у грибів з рослинами і тваринами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20110211192609"/>
          <p:cNvPicPr/>
          <p:nvPr/>
        </p:nvPicPr>
        <p:blipFill>
          <a:blip r:embed="rId1"/>
          <a:stretch/>
        </p:blipFill>
        <p:spPr>
          <a:xfrm>
            <a:off x="2050920" y="2997360"/>
            <a:ext cx="49690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754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Пригад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51d1d"/>
                </a:solidFill>
                <a:uFillTx/>
                <a:latin typeface="Arial"/>
              </a:rPr>
              <a:t>Вправа “Словниковий дощ” – дати визначення термінам</a:t>
            </a:r>
            <a:r>
              <a:rPr b="1" i="1" lang="ru-RU" sz="2000" spc="-1" strike="noStrike" u="sng">
                <a:solidFill>
                  <a:srgbClr val="c51d1d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50920" y="2205000"/>
            <a:ext cx="4608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колог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Хіти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етеротроф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ук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ластинчасті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рубчасті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Гіф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356000" y="2276640"/>
            <a:ext cx="460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целій(грибниц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кориза(грибокорін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рутов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имбі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Лишай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лодове ті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еніц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3322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Опиш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 група – Нижчі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 група – Вищі гриб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І група - Лишай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Описати представників вибраного відділу Царства Гриб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8" descr="ples2"/>
          <p:cNvPicPr/>
          <p:nvPr/>
        </p:nvPicPr>
        <p:blipFill>
          <a:blip r:embed="rId1"/>
          <a:stretch/>
        </p:blipFill>
        <p:spPr>
          <a:xfrm>
            <a:off x="6300720" y="1989000"/>
            <a:ext cx="1890720" cy="15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fly-agaric"/>
          <p:cNvPicPr/>
          <p:nvPr/>
        </p:nvPicPr>
        <p:blipFill>
          <a:blip r:embed="rId2"/>
          <a:stretch/>
        </p:blipFill>
        <p:spPr>
          <a:xfrm>
            <a:off x="4716360" y="3284640"/>
            <a:ext cx="2376720" cy="1922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03020404"/>
          <p:cNvPicPr/>
          <p:nvPr/>
        </p:nvPicPr>
        <p:blipFill>
          <a:blip r:embed="rId3"/>
          <a:stretch/>
        </p:blipFill>
        <p:spPr>
          <a:xfrm>
            <a:off x="6227640" y="4941720"/>
            <a:ext cx="2916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3322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Досліди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4753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чень 1. Цікаві гри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чень 2. Цікаво знати щ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чень 3. Історія французького сиру “Рокфор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чень 4. Лишай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Випереджувальні завдання для уч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101005-115843-2090"/>
          <p:cNvPicPr/>
          <p:nvPr/>
        </p:nvPicPr>
        <p:blipFill>
          <a:blip r:embed="rId1"/>
          <a:stretch/>
        </p:blipFill>
        <p:spPr>
          <a:xfrm>
            <a:off x="5508720" y="2276640"/>
            <a:ext cx="2462040" cy="20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6942155_w200_h200_shotaren_250ml"/>
          <p:cNvPicPr/>
          <p:nvPr/>
        </p:nvPicPr>
        <p:blipFill>
          <a:blip r:embed="rId2"/>
          <a:stretch/>
        </p:blipFill>
        <p:spPr>
          <a:xfrm>
            <a:off x="6804000" y="2276640"/>
            <a:ext cx="1905120" cy="20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brie5"/>
          <p:cNvPicPr/>
          <p:nvPr/>
        </p:nvPicPr>
        <p:blipFill>
          <a:blip r:embed="rId3"/>
          <a:stretch/>
        </p:blipFill>
        <p:spPr>
          <a:xfrm>
            <a:off x="3708360" y="4392720"/>
            <a:ext cx="30956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3829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 u="sng">
                <a:solidFill>
                  <a:srgbClr val="c51d1d"/>
                </a:solidFill>
                <a:uFillTx/>
                <a:latin typeface="Arial Black"/>
              </a:rPr>
              <a:t>Відгадай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825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 група – гриби, бактерії, слизовики, лишайн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 група – паразити, автотрофи, гетеротрофи, симбіон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І група – хітин, глікоген, хлорофі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fungi-940x705"/>
          <p:cNvPicPr/>
          <p:nvPr/>
        </p:nvPicPr>
        <p:blipFill>
          <a:blip r:embed="rId1"/>
          <a:stretch/>
        </p:blipFill>
        <p:spPr>
          <a:xfrm>
            <a:off x="5796000" y="2276640"/>
            <a:ext cx="3348000" cy="2241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c51d1d"/>
                </a:solidFill>
                <a:uFillTx/>
                <a:latin typeface="Arial"/>
              </a:rPr>
              <a:t>Вправа “Знайди логічну помилку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hryby_w"/>
          <p:cNvPicPr/>
          <p:nvPr/>
        </p:nvPicPr>
        <p:blipFill>
          <a:blip r:embed="rId2"/>
          <a:stretch/>
        </p:blipFill>
        <p:spPr>
          <a:xfrm>
            <a:off x="4500720" y="4581360"/>
            <a:ext cx="33843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колог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ото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ндикат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лодове ті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тру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л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4246560" y="189000"/>
            <a:ext cx="4897440" cy="2060640"/>
          </a:xfrm>
          <a:prstGeom prst="cloudCallout">
            <a:avLst>
              <a:gd name="adj1" fmla="val -44944"/>
              <a:gd name="adj2" fmla="val 5909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c51d1d"/>
                </a:solidFill>
                <a:uFillTx/>
                <a:latin typeface="Arial"/>
              </a:rPr>
              <a:t>Вправа “Знайди пару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708360" y="1844640"/>
            <a:ext cx="3228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ікологі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отосинте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ндикат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лодове ті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тру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л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6" descr="coprinus_naturalist_if_ua"/>
          <p:cNvPicPr/>
          <p:nvPr/>
        </p:nvPicPr>
        <p:blipFill>
          <a:blip r:embed="rId1"/>
          <a:stretch/>
        </p:blipFill>
        <p:spPr>
          <a:xfrm>
            <a:off x="6300720" y="4873680"/>
            <a:ext cx="2843280" cy="198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Beskud"/>
          <p:cNvPicPr/>
          <p:nvPr/>
        </p:nvPicPr>
        <p:blipFill>
          <a:blip r:embed="rId2"/>
          <a:stretch/>
        </p:blipFill>
        <p:spPr>
          <a:xfrm>
            <a:off x="0" y="0"/>
            <a:ext cx="3348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3:31:32Z</dcterms:created>
  <dc:creator>Юля</dc:creator>
  <dc:description/>
  <dc:language>en-US</dc:language>
  <cp:lastModifiedBy>Юлия</cp:lastModifiedBy>
  <dcterms:modified xsi:type="dcterms:W3CDTF">2014-01-05T17:28:50Z</dcterms:modified>
  <cp:revision>7</cp:revision>
  <dc:subject/>
  <dc:title>Урок узагальнення знань з теми “ Царство Гриби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b000000000001024140</vt:lpwstr>
  </property>
</Properties>
</file>