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9.png" ContentType="image/png"/>
  <Override PartName="/ppt/media/image38.jpeg" ContentType="image/jpeg"/>
  <Override PartName="/ppt/media/image44.jpeg" ContentType="image/jpeg"/>
  <Override PartName="/ppt/media/image40.jpeg" ContentType="image/jpeg"/>
  <Override PartName="/ppt/media/image32.png" ContentType="image/png"/>
  <Override PartName="/ppt/media/image45.jpeg" ContentType="image/jpeg"/>
  <Override PartName="/ppt/media/image30.png" ContentType="image/png"/>
  <Override PartName="/ppt/media/image41.jpeg" ContentType="image/jpeg"/>
  <Override PartName="/ppt/media/image54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1.jpeg" ContentType="image/jpeg"/>
  <Override PartName="/ppt/media/image53.png" ContentType="image/png"/>
  <Override PartName="/ppt/media/image39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CAA6-F7A4-4680-BBCC-9F6D149DD6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volution.verges.ru/images/pictures/muscles5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6A50-06E2-4C85-83D4-C64C86A38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tudmed.ru/3/30.files/image00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edicinform.net/human/anatomy/ms1_cha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мышечная тк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2DA3-ECC7-4F04-9B86-6DEA628F9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8CF-A448-4350-AFC9-DE308B2B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911-014F-4B7B-B51A-FEB6D812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74511-B5EC-4F46-BCEA-E76BBE5C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80768-6636-482C-9F16-3E5104CD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F1A9A-8EC5-4458-8578-43326CD3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EB5DB-D589-47AA-9311-2EF24914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49BCC-4254-4276-9A87-D5740FA9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8D80C-BC71-4ECA-9401-985D281F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0FDF9-E2AC-457B-AB9A-80EAEE58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375AF-1B53-4E51-B2C7-DBDD6B37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64160-7FB1-45A9-9879-DB26C440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88A94-A65D-4DED-833E-94483DFA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A11-B5E1-4A4E-B2FE-64E7ECF7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7C51F-E301-4AE7-AFEC-9552C0F8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B51ED-82B8-49A3-B95B-FF767664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DD581-569A-4E5E-A6F6-E9948174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8FD01-349B-4E44-8CC2-48ABE414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D04AA-FE56-4A9D-9F94-D91F8F2D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27D4E-35AA-4CF7-95CB-4C69B710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522C6-E3B1-492D-927A-ADAF2A4C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FBB63-0B04-42FC-BBAE-8CC3B655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877AE-4B59-4619-8ED0-4C570D4B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E06A7-5408-4C1B-A731-50CAC10C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AD8-80EB-4EC5-BFCF-0B762E88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AFE54-5C41-4918-A9A7-0FBBD2AE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D4F83-895F-40F1-BB12-BE1958C0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1797B-F134-4D39-B320-429A7EF8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E3165-9872-4FC7-9E43-1ED6B57C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9C322-1D07-4570-8B5E-7438AD6B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E8955-8DAD-45F0-A6BE-A418A37F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961C5-9C82-4D9E-9DB3-3BF33494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8D6C6-1EA7-48F5-BAAD-152B2D4A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73DEB-F12B-4D47-BB1B-2E3FF64B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98F9F-CA84-4AB1-BCF0-6E793130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A1A3-C2BF-4ABD-91A1-63773242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BBC9E-FA22-4A85-A7B2-917B0FC4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6DC05-931D-45BE-A8AA-8BE5A022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8FAA2-0D3D-4B58-98B8-61B70DD9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4D7DF-62A6-4659-91DA-FAA4EE3E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8A6B9-FE88-4AD2-AEE6-29D79ED3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52FBB-B906-411C-926F-94C5B579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E3C44-4821-439F-AA1D-6FE178FB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0721A-DDA5-48EC-8923-10D2B309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63DA2-9CC2-4DA5-9FC9-2FB16D59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D0F18-95F4-4CBA-B37E-0D0978B0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D1B8-D2BE-4A89-8695-061F8C4B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ACB67-4100-40BF-BDD7-AF98DA48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0E13F-2621-4D35-A85D-751670D5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BC59F-D060-443F-8811-4C0DA40B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3162F-C1F5-4428-87BF-25D7C538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77041-6B94-4F7E-B781-7645C292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F5568-17FE-468B-A610-70BAE9AE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92F4A-206A-4537-ADA8-8F2EB9EE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A0C11-DD80-467A-83F5-D16CBC37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69961-C887-4984-A7A8-CB2D7120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F4B63-B0AA-4B2E-B316-3488B758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599D-F2E8-4119-BF47-D9F2748E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B7A55-80C6-4145-B749-AE16281B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CDB71-6FA8-48A1-A98B-DEB9730E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3A50A-A755-469A-A6F7-CA896057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51366-64B9-4EEB-B54A-1112CEAD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E1154-4640-422D-A30A-23AF0D9D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AB399-1B58-415D-B9DC-2E1755A7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AF022-9670-4022-B7C9-558749F8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9628C-CB72-4CC3-BC95-FAB09FD9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C756D-9539-48E9-A72E-0A9CEB53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C0AC8-1AB7-40D3-91B7-85F7E6AF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34F0-3C1A-4CDC-8697-2A5CAC1D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5BDFE-FDA5-4F05-90B6-37B89082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D39F1-1591-4299-9E84-A8980F6F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BE695-43C6-4DFF-AA16-D5C4C3B8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889BE-E09B-451E-8A29-BC4C3833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A5D1A8-C25D-4D83-B50A-DE5DED4E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3ED2E-F9A7-4B1C-9CCD-A73A9C24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F1DD9-8143-4F8D-988E-E6314AE5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09580A-ABAD-44D6-BC10-04C68EA2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906B4-CE41-404E-845E-25BA07C7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5F286-246B-4B3D-957F-55BEEC9A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D9F7-6BD6-4A05-9082-CE38209C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C402D-BF58-4F75-AB7A-C5C6F8F6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827FF-C496-40BA-8AFE-11B6CFFA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526DD-C0E1-41F9-BFBD-8637DD01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0392D-53D5-4E03-AAA4-839A2AAB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6FB4E-8D8C-4EDE-80CE-6A1B2223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F80AC-ACAC-48AC-8776-DBD50D54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B8AE51-38EE-4DD2-BD43-025BAA4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95449-93F9-446A-9E8E-DAAF91BE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2B927-81F1-479B-BA60-DD41269A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191E3-F160-48D6-AE4C-3CD2361A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CD6C-6F1E-432B-8E61-478E4B62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9A0A1-58B9-441F-8E27-168E1CD1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DD4E2-1A45-4E8D-9FE5-8463C4A8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4DC09-811F-4379-B56D-A49AE736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47F15-372C-425C-A2CA-2EA4A89C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65404-17DD-4BD7-B547-BAAEA47B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B5891-BAF1-4B40-B1FF-3C87A768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A3210B-AD8B-4656-B7C9-3ACB9272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A04BF-A414-4FCF-A622-43878306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87841-769A-40DA-A23E-48A09B46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4C4511-4989-4E4F-9BE8-6F949E98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5F7E-7C1E-4AB5-98DD-99FD7129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65706F-8C65-497D-B44A-0F0C81CC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CD571-F01E-4400-B17F-819D74F4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EF6577-E990-4C8B-8FF5-59F99F4D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FAFF8-C699-46A9-819E-33FED9A2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0E467E-C255-447C-A397-3BE8727B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4E088-929B-46BE-B096-3E3EEB2B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D2E8C6-7B26-4DBA-8986-15436227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FD1539-B2B1-4D0F-B0C5-56C0DDF3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81719-32AA-4F69-ABDD-A2B341B4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08138-DBA1-44D3-B763-E32352D4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5B5-15A9-42D1-A935-1F10113E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527B-D94C-4EDB-8118-FE9A1BEF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C0A919-D73C-47D4-98B5-594DF807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D13B6C-FF56-4B27-94BC-0B4EBD8B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BCD8A-21E0-457B-97C2-C398E1A2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3711F-8831-4EF1-89D3-55186A91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7D54CB-9974-44C5-81CE-EE93AC45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A5EC-7A97-4F61-BDF4-BEC1F036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E3C8-BAC8-42B2-BF9E-D063DE39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0B15-0592-455C-B3B8-E02A7FB5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0D92-0E0F-4737-9508-02D35ACE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4E33-9B2B-4F6F-B3F9-C575A281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88EDA-76FD-46B5-8E62-79A41C85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499B1-FC13-4BC7-B7CC-69885F27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7D2C7-CF80-4238-AC47-F5543D51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D1551-E6A8-4F9F-8604-B7429B54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BD9-1AED-420C-BF50-F15761D5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84C5-5946-4321-8855-85742FD9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BBA32-401D-4334-8A07-EC2DFEF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C2F0A-BE7F-4ABD-ABC7-176D210D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A9968-71B3-4745-8295-ECDEAF74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5948-D1FE-4F4E-993D-C4970492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86B85-9DFA-4FED-927E-E82248DF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5857-4544-4D5A-BBF5-C4644574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D3356-DE08-49D1-9EF9-AFA091B5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AF570-E984-4C13-A22F-D6874893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F00DD-98CF-4DB1-94F1-A38A9D51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2D6-6D9C-4834-A7CA-D9FB3E9F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2137D-2C88-493B-A99D-CB11E82E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B1E19-611C-4D6B-BA68-1C9D252A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0F4E-9790-4098-8DC1-DAFC8B64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962FB-12DF-4682-8BF1-F9B0FEAE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09A4-87C2-463F-88F4-4F93B82D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7D705-8524-40C2-B625-47DBEAA7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173CD-A444-4692-8EA0-B3894270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5175-0C4E-49BF-B4EC-8FB1F836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1178D-E863-4406-880F-B11C2ABD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B13C6-69C2-494E-AB74-57951F25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F22-088B-4587-88A0-F4521B54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8E7F-8632-46F0-8D9A-00004333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DF74F-37E4-47FD-8265-058A4EB8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88B7A-0930-4957-A6B7-6E0BA5AE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EDE66-5C5B-4879-92A1-9DA73642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579AA-5924-413A-86E9-2E567F83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FC662-9283-4A17-A388-98F0A610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33AA9-29CF-4358-BFA7-374A931F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FB58F-F206-4901-90C9-E177A644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C4CA8-8BBE-4B9E-9AF1-62A3360B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30900-682A-4E71-98F2-76000101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C4C-EE0D-45F9-B7D2-99FB7D55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9EA5C-10BB-4476-8A7D-359F9500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57064-0EFC-4F4F-8071-C37DE77D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ED7CD-6D19-4262-8572-F6B34113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04E3D-A8C4-45E4-AEFA-0A0148F0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E16AD-501F-4647-8441-A3DE0836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BC498-05EB-47F8-998E-CB11FB61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B6E42-A575-416A-AF9C-8A73A500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015D0-0DF4-418A-B8CB-040E219F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C0062-3E37-4F5B-8A73-951D6F09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DB84B-CDC1-4185-B9F5-5B24408F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8A8-0945-4636-A4F2-F6B5F688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8C2F8-BB58-4929-95E7-34EDE915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98D7F-A798-4D66-880B-00562100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AE393-3219-4AA6-BC2F-F2BAC4F6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55845-1538-43E5-A234-0B7FD5E5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1DEF9-138D-412F-9A33-B2129031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0DEC9-AB44-4D02-85A0-D2254271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7BA4C-C3D9-449E-9CA4-2F03BB78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E54F3-2B7F-42A0-A8CD-06CED526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8E4BE-5CB1-48BB-B2D6-E6509927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3F96D-60D7-4787-BBCA-F8A55559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EA1-3FFA-420D-824B-23385500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44EAF-9210-42DE-899A-A6807DE2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C5D3C-F310-40C4-A9B6-E4988A50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EE339-DA4A-4B69-8E16-CCE99C8C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7ADAB-37D6-4C98-8264-055DC517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29203-D803-4031-A7ED-91FDA86B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3EC51-BB75-4C3E-94F0-73089DA7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7FE9A-C8D6-4AA4-98A9-47B23173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6EDB9-675E-4EB5-82FF-805F75FD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B81BA-BAEE-487F-AED7-43DFF5C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2AD4D-EF0F-4C96-AF9E-95893477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6AA-AAAD-4D82-9220-CC20643C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8C70D-9A31-4A96-B9F7-7638FDB1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E4D29-E6CA-4D01-B566-0CC59A44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EE8F4-33BE-4025-99B3-76B1E51C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B462-1903-465F-8830-AA47C0BC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1BB52-B431-49BB-97E8-F54B29D3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FD607-341C-451E-8A82-656AF7D9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ECCA3-9B7D-4F6A-BD3C-988ABCB2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D70FF-CD31-447A-9EF8-82C9B1B6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52B51-3D7E-4185-B351-D6AB09D6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46706-F2F9-4368-9AC0-ACCA364D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81.xml"/><Relationship Id="rId13" Type="http://schemas.openxmlformats.org/officeDocument/2006/relationships/slideLayout" Target="../slideLayouts/slideLayout182.xml"/><Relationship Id="rId14" Type="http://schemas.openxmlformats.org/officeDocument/2006/relationships/slideLayout" Target="../slideLayouts/slideLayout183.xml"/><Relationship Id="rId15" Type="http://schemas.openxmlformats.org/officeDocument/2006/relationships/slideLayout" Target="../slideLayouts/slideLayout184.xml"/><Relationship Id="rId16" Type="http://schemas.openxmlformats.org/officeDocument/2006/relationships/slideLayout" Target="../slideLayouts/slideLayout185.xml"/><Relationship Id="rId17" Type="http://schemas.openxmlformats.org/officeDocument/2006/relationships/slideLayout" Target="../slideLayouts/slideLayout186.xml"/><Relationship Id="rId18" Type="http://schemas.openxmlformats.org/officeDocument/2006/relationships/slideLayout" Target="../slideLayouts/slideLayout187.xml"/><Relationship Id="rId19" Type="http://schemas.openxmlformats.org/officeDocument/2006/relationships/slideLayout" Target="../slideLayouts/slideLayout188.xml"/><Relationship Id="rId20" Type="http://schemas.openxmlformats.org/officeDocument/2006/relationships/slideLayout" Target="../slideLayouts/slideLayout189.xml"/><Relationship Id="rId21" Type="http://schemas.openxmlformats.org/officeDocument/2006/relationships/slideLayout" Target="../slideLayouts/slideLayout190.xml"/><Relationship Id="rId22" Type="http://schemas.openxmlformats.org/officeDocument/2006/relationships/slideLayout" Target="../slideLayouts/slideLayout191.xml"/><Relationship Id="rId2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93.xml"/><Relationship Id="rId13" Type="http://schemas.openxmlformats.org/officeDocument/2006/relationships/slideLayout" Target="../slideLayouts/slideLayout194.xml"/><Relationship Id="rId14" Type="http://schemas.openxmlformats.org/officeDocument/2006/relationships/slideLayout" Target="../slideLayouts/slideLayout195.xml"/><Relationship Id="rId15" Type="http://schemas.openxmlformats.org/officeDocument/2006/relationships/slideLayout" Target="../slideLayouts/slideLayout196.xml"/><Relationship Id="rId16" Type="http://schemas.openxmlformats.org/officeDocument/2006/relationships/slideLayout" Target="../slideLayouts/slideLayout197.xml"/><Relationship Id="rId17" Type="http://schemas.openxmlformats.org/officeDocument/2006/relationships/slideLayout" Target="../slideLayouts/slideLayout198.xml"/><Relationship Id="rId18" Type="http://schemas.openxmlformats.org/officeDocument/2006/relationships/slideLayout" Target="../slideLayouts/slideLayout199.xml"/><Relationship Id="rId19" Type="http://schemas.openxmlformats.org/officeDocument/2006/relationships/slideLayout" Target="../slideLayouts/slideLayout200.xml"/><Relationship Id="rId20" Type="http://schemas.openxmlformats.org/officeDocument/2006/relationships/slideLayout" Target="../slideLayouts/slideLayout201.xml"/><Relationship Id="rId21" Type="http://schemas.openxmlformats.org/officeDocument/2006/relationships/slideLayout" Target="../slideLayouts/slideLayout202.xml"/><Relationship Id="rId22" Type="http://schemas.openxmlformats.org/officeDocument/2006/relationships/slideLayout" Target="../slideLayouts/slideLayout203.xml"/><Relationship Id="rId2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15BF-EA91-4F4C-9D78-F1560B3E950B}" type="slidenum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F5ED-B53E-4D7E-B681-5749AC4E6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C373-0FA3-4940-A159-F242A0FC2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1151-3CA8-40A3-942A-1B866A2DD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4968-1486-47FC-87CE-7B5B276F4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AD36-7905-4093-9A52-6DF296712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BC06-726E-426C-9AFD-C44FFCB03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639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7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2" descr="artplus_nature_naturalcity42_i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0" descr="artplus_nature_naturalcity42_c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3" descr="artplus_nature_naturalcity42_f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126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9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8" descr="artplus_nature_naturalcity42_e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1" descr="artplus_nature_naturalcity42_d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28" descr="a1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29" descr="b_1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46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47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48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0B94-4CFE-441A-A785-8BBA92F8BE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2"/>
    <p:sldLayoutId id="2147483845" r:id="rId13"/>
    <p:sldLayoutId id="2147483846" r:id="rId14"/>
    <p:sldLayoutId id="2147483847" r:id="rId15"/>
    <p:sldLayoutId id="2147483848" r:id="rId16"/>
    <p:sldLayoutId id="2147483849" r:id="rId17"/>
    <p:sldLayoutId id="2147483850" r:id="rId18"/>
    <p:sldLayoutId id="2147483851" r:id="rId19"/>
    <p:sldLayoutId id="2147483852" r:id="rId20"/>
    <p:sldLayoutId id="2147483853" r:id="rId21"/>
    <p:sldLayoutId id="2147483854" r:id="rId22"/>
    <p:sldLayoutId id="2147483855" r:id="rId2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9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800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8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12" descr="artplus_nature_naturalcity42_i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10" descr="artplus_nature_naturalcity42_c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13" descr="artplus_nature_naturalcity42_f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912" name="Text Box 126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3" name="Picture 9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8" descr="artplus_nature_naturalcity42_e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1" descr="artplus_nature_naturalcity42_d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128" descr="a1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29" descr="b_1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49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0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51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CD6A-C23D-4498-BF49-39073D93F9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2"/>
    <p:sldLayoutId id="2147483858" r:id="rId13"/>
    <p:sldLayoutId id="2147483859" r:id="rId14"/>
    <p:sldLayoutId id="2147483860" r:id="rId15"/>
    <p:sldLayoutId id="2147483861" r:id="rId16"/>
    <p:sldLayoutId id="2147483862" r:id="rId17"/>
    <p:sldLayoutId id="2147483863" r:id="rId18"/>
    <p:sldLayoutId id="2147483864" r:id="rId19"/>
    <p:sldLayoutId id="2147483865" r:id="rId20"/>
    <p:sldLayoutId id="2147483866" r:id="rId21"/>
    <p:sldLayoutId id="2147483867" r:id="rId22"/>
    <p:sldLayoutId id="2147483868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CA15-E924-47D5-97D8-98B0A2F08D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9" descr="1"/>
          <p:cNvPicPr/>
          <p:nvPr/>
        </p:nvPicPr>
        <p:blipFill>
          <a:blip r:embed="rId2"/>
          <a:srcRect l="0" t="0" r="0" b="-63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DF71-89BC-47A3-95E7-2ADC6FEC4C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6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9" descr="1"/>
          <p:cNvPicPr/>
          <p:nvPr/>
        </p:nvPicPr>
        <p:blipFill>
          <a:blip r:embed="rId2"/>
          <a:srcRect l="0" t="0" r="0" b="-63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3827-F096-44B1-AC04-3E9DD3C975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8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0479-CDD5-4F52-9E65-BE8BF2606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11CF-8AAF-4557-B4DF-BE50031915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59C9-34F7-4DFE-8A37-314FFC16B6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D359-FE84-44CD-8D14-7F05FDD1E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D9E7-7648-43B7-86BD-44C6002CF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2" descr=""/>
          <p:cNvPicPr/>
          <p:nvPr/>
        </p:nvPicPr>
        <p:blipFill>
          <a:blip r:embed="rId1"/>
          <a:stretch/>
        </p:blipFill>
        <p:spPr>
          <a:xfrm>
            <a:off x="4314960" y="907920"/>
            <a:ext cx="4829040" cy="579780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79280" y="938160"/>
            <a:ext cx="5905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300" spc="-1" strike="noStrike">
                <a:solidFill>
                  <a:srgbClr val="ff0000"/>
                </a:solidFill>
                <a:latin typeface="Mistral"/>
                <a:ea typeface="Calibri"/>
              </a:rPr>
              <a:t>Будова </a:t>
            </a:r>
            <a:br>
              <a:rPr sz="5300"/>
            </a:br>
            <a:r>
              <a:rPr b="1" i="1" lang="uk-UA" sz="5300" spc="-1" strike="noStrike">
                <a:solidFill>
                  <a:srgbClr val="ff0000"/>
                </a:solidFill>
                <a:latin typeface="Mistral"/>
                <a:ea typeface="Calibri"/>
              </a:rPr>
              <a:t>й функції серця</a:t>
            </a:r>
            <a:endParaRPr b="1" i="1" lang="en-US" sz="5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250920" y="4076280"/>
            <a:ext cx="4713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Автор:    Галушко Валентина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Arial"/>
              </a:rPr>
              <a:t>                 </a:t>
            </a:r>
            <a:r>
              <a:rPr b="1" lang="uk-UA" sz="2200" spc="-1" strike="noStrike">
                <a:solidFill>
                  <a:srgbClr val="0070c0"/>
                </a:solidFill>
                <a:latin typeface="Arial"/>
              </a:rPr>
              <a:t>Володимирівна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читель   біології, 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ищої   кваліфікаційної   категорії,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арший учитель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2"/>
          <p:cNvSpPr/>
          <p:nvPr/>
        </p:nvSpPr>
        <p:spPr>
          <a:xfrm>
            <a:off x="5003640" y="2421000"/>
            <a:ext cx="36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аса  серця в середньому складає лише 5 % від маси   тіла людини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(коливається в межа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50-360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2" name="Picture 2" descr="D:\ДОКУМЕНТИ   D\1       ПРЕЗЕНТАЦІЇ до уроків\БІОЛОГІЯ\Б  9 клас\Будова і робота Серця\Серце.jpg"/>
          <p:cNvPicPr/>
          <p:nvPr/>
        </p:nvPicPr>
        <p:blipFill>
          <a:blip r:embed="rId1"/>
          <a:stretch/>
        </p:blipFill>
        <p:spPr>
          <a:xfrm>
            <a:off x="255600" y="141300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4" descr=""/>
          <p:cNvPicPr/>
          <p:nvPr/>
        </p:nvPicPr>
        <p:blipFill>
          <a:blip r:embed="rId1"/>
          <a:stretch/>
        </p:blipFill>
        <p:spPr>
          <a:xfrm>
            <a:off x="179280" y="184320"/>
            <a:ext cx="3975120" cy="626256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2"/>
          <p:cNvSpPr/>
          <p:nvPr/>
        </p:nvSpPr>
        <p:spPr>
          <a:xfrm>
            <a:off x="3924360" y="1052640"/>
            <a:ext cx="482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ерце вкрите тонкою  й щільною оболонкою, яка утворює замкнутий мішок – навколосерцеву  сумку (перикар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іж серцем і навколосерцевою сумкою   міститься рідина, яка зволожує серце й зменшує тертя об стінки перикарда при його скороченн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вичайно в нормі в перикардіальній сумці міститься близько 30 мл ексуда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2911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Будова   серц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23480" y="836280"/>
            <a:ext cx="2305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це  складається з двох частин –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ї і лівої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а частина має  камери: </a:t>
            </a:r>
            <a:r>
              <a:rPr b="0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дсерд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</a:t>
            </a:r>
            <a:r>
              <a:rPr b="0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 шлуночок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частина серця направляє </a:t>
            </a:r>
            <a:r>
              <a:rPr b="1" i="1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нозну кров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</a:t>
            </a:r>
            <a:r>
              <a:rPr b="0" i="1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ого шлуночка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</a:t>
            </a:r>
            <a:r>
              <a:rPr b="0" i="1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геневу  артерію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r>
              <a:rPr b="1" lang="uk-UA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гень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 вона збагачується кисне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ім </a:t>
            </a:r>
            <a:r>
              <a:rPr b="1" i="1" lang="uk-UA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еріальна кров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ичена киснем надходить до лівої частини серця – </a:t>
            </a:r>
            <a:r>
              <a:rPr b="0" i="1" lang="uk-UA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івого передсердя та лівого шлуночка,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ідки вирушає до всіх тканин </a:t>
            </a:r>
            <a:r>
              <a:rPr b="1" lang="uk-UA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рганізм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7" name="Камери серця _TS - Фильм 01.mpg" descr=""/>
          <p:cNvPicPr/>
          <p:nvPr/>
        </p:nvPicPr>
        <p:blipFill>
          <a:blip r:embed="rId1"/>
          <a:stretch/>
        </p:blipFill>
        <p:spPr>
          <a:xfrm>
            <a:off x="2500200" y="993600"/>
            <a:ext cx="65725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9007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635280" y="259920"/>
            <a:ext cx="512280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                     </a:t>
            </a:r>
            <a:br>
              <a:rPr sz="3600"/>
            </a:b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Клапани серц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0920" y="231840"/>
            <a:ext cx="30085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сердя й шлуночки поєднуються  між собою отворами, на краях яких розташовані </a:t>
            </a:r>
            <a:r>
              <a:rPr b="1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улчасті клапани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ц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пани відкриваються тільки в один бік  шлуночків і тому пропускають кров в одному напрямку: із передсердь до шлуночків. Відкриватися  в бік передсердя </a:t>
            </a:r>
            <a:r>
              <a:rPr b="0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улкам клапанів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ажають </a:t>
            </a:r>
            <a:r>
              <a:rPr b="0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хожильні нитки,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о відходять від країв клапанів і прикріплюються  до  м'язових виступів  шлуночкі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івій частині серця  міститься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остулковий клапан</a:t>
            </a: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правій – </a:t>
            </a: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стулко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місці виходу зі шлуночків </a:t>
            </a:r>
            <a:r>
              <a:rPr b="0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геневого стовбура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</a:t>
            </a:r>
            <a:r>
              <a:rPr b="0" i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рти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ташовані </a:t>
            </a: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пасті клапани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гляді </a:t>
            </a:r>
            <a:r>
              <a:rPr b="0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ьох кишеньок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перешкоджають рухові крові наза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0" name="Клапани серця_TS - Фильм 01.mpg" descr=""/>
          <p:cNvPicPr/>
          <p:nvPr/>
        </p:nvPicPr>
        <p:blipFill>
          <a:blip r:embed="rId1"/>
          <a:stretch/>
        </p:blipFill>
        <p:spPr>
          <a:xfrm>
            <a:off x="3071880" y="1143000"/>
            <a:ext cx="60721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49712" fill="hold"/>
                                        <p:tgtEl>
                                          <p:spTgt spid="10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010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010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0" dur="1" fill="hold"/>
                                        <p:tgtEl>
                                          <p:spTgt spid="10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2" descr="C:\Documents and Settings\1\Рабочий стол\f_c3-95.jpg"/>
          <p:cNvPicPr/>
          <p:nvPr/>
        </p:nvPicPr>
        <p:blipFill>
          <a:blip r:embed="rId1"/>
          <a:stretch/>
        </p:blipFill>
        <p:spPr>
          <a:xfrm>
            <a:off x="0" y="3357720"/>
            <a:ext cx="4557600" cy="35002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3" descr="C:\Documents and Settings\1\Рабочий стол\f_c3-94.jpg"/>
          <p:cNvPicPr/>
          <p:nvPr/>
        </p:nvPicPr>
        <p:blipFill>
          <a:blip r:embed="rId2"/>
          <a:stretch/>
        </p:blipFill>
        <p:spPr>
          <a:xfrm>
            <a:off x="0" y="0"/>
            <a:ext cx="4529160" cy="33577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4" descr="C:\Documents and Settings\1\Рабочий стол\f_c3-93.jpg"/>
          <p:cNvPicPr/>
          <p:nvPr/>
        </p:nvPicPr>
        <p:blipFill>
          <a:blip r:embed="rId3"/>
          <a:stretch/>
        </p:blipFill>
        <p:spPr>
          <a:xfrm>
            <a:off x="4332240" y="0"/>
            <a:ext cx="4811760" cy="33577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5" descr="C:\Documents and Settings\1\Рабочий стол\f_c3-92.jpg"/>
          <p:cNvPicPr/>
          <p:nvPr/>
        </p:nvPicPr>
        <p:blipFill>
          <a:blip r:embed="rId4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1015" name="TextBox 1"/>
          <p:cNvSpPr/>
          <p:nvPr/>
        </p:nvSpPr>
        <p:spPr>
          <a:xfrm>
            <a:off x="250920" y="3371760"/>
            <a:ext cx="33130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лапан легеневої  артер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TextBox 2"/>
          <p:cNvSpPr/>
          <p:nvPr/>
        </p:nvSpPr>
        <p:spPr>
          <a:xfrm>
            <a:off x="468360" y="19080"/>
            <a:ext cx="23032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Тристулковий клап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TextBox 3"/>
          <p:cNvSpPr/>
          <p:nvPr/>
        </p:nvSpPr>
        <p:spPr>
          <a:xfrm>
            <a:off x="5003640" y="0"/>
            <a:ext cx="22352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востулковий клап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TextBox 4"/>
          <p:cNvSpPr/>
          <p:nvPr/>
        </p:nvSpPr>
        <p:spPr>
          <a:xfrm>
            <a:off x="5079960" y="3500280"/>
            <a:ext cx="20131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лапан аор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9760" y="1890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Анатомія серця людин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Прямоугольник 6"/>
          <p:cNvSpPr/>
          <p:nvPr/>
        </p:nvSpPr>
        <p:spPr>
          <a:xfrm>
            <a:off x="4471920" y="1341360"/>
            <a:ext cx="43023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раве передсерд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Ліве передсерд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ерхня порожниста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Ао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Легеневі артері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Легеневі в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Двостулковий клапа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Аортальний клап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Лівий шлуно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Правий шлуно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Нижня порожниста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Тристулковий клап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Клапан легеневого стовб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і стрілки вказують нормальний потік крові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1" name="Picture 2" descr=""/>
          <p:cNvPicPr/>
          <p:nvPr/>
        </p:nvPicPr>
        <p:blipFill>
          <a:blip r:embed="rId1"/>
          <a:stretch/>
        </p:blipFill>
        <p:spPr>
          <a:xfrm>
            <a:off x="206280" y="1420920"/>
            <a:ext cx="4024440" cy="460836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1"/>
          <p:cNvSpPr/>
          <p:nvPr/>
        </p:nvSpPr>
        <p:spPr>
          <a:xfrm>
            <a:off x="395280" y="620640"/>
            <a:ext cx="83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Завдання групам:  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користуючись підручником і зошитом зробити підписи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1800" spc="-1" strike="noStrike">
                <a:solidFill>
                  <a:srgbClr val="00b050"/>
                </a:solidFill>
                <a:latin typeface="Calibri"/>
              </a:rPr>
              <a:t>Зробити висновки: Яку функцію виконує серце, маючи таку будов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0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0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0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0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0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0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0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0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0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0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0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rcRect l="0" t="0" r="10" b="61"/>
          <a:stretch/>
        </p:blipFill>
        <p:spPr>
          <a:xfrm>
            <a:off x="1494000" y="266760"/>
            <a:ext cx="6337080" cy="5391000"/>
          </a:xfrm>
          <a:prstGeom prst="rect">
            <a:avLst/>
          </a:prstGeom>
          <a:ln w="0">
            <a:noFill/>
          </a:ln>
        </p:spPr>
      </p:pic>
      <p:sp>
        <p:nvSpPr>
          <p:cNvPr id="1024" name="Прямоугольник 2"/>
          <p:cNvSpPr/>
          <p:nvPr/>
        </p:nvSpPr>
        <p:spPr>
          <a:xfrm>
            <a:off x="0" y="5657760"/>
            <a:ext cx="93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Висновок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: рух крові в серці відбувається тільки в одному напрямку, клапани перешкоджають зворотному руху кров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10"/>
          <p:cNvSpPr/>
          <p:nvPr/>
        </p:nvSpPr>
        <p:spPr>
          <a:xfrm>
            <a:off x="395280" y="1341360"/>
            <a:ext cx="3995640" cy="5488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Стінки камер відрізняються за товщино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Товщина </a:t>
            </a:r>
            <a:r>
              <a:rPr b="1" lang="uk-UA" sz="4000" spc="-1" strike="noStrike">
                <a:solidFill>
                  <a:srgbClr val="ff6600"/>
                </a:solidFill>
                <a:latin typeface="Calibri"/>
              </a:rPr>
              <a:t>лівого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шлуночка в </a:t>
            </a:r>
            <a:r>
              <a:rPr b="1" lang="uk-UA" sz="4000" spc="-1" strike="noStrike">
                <a:solidFill>
                  <a:srgbClr val="ff6600"/>
                </a:solidFill>
                <a:latin typeface="Calibri"/>
              </a:rPr>
              <a:t>2,5  - 3 рази товще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стінок </a:t>
            </a:r>
            <a:r>
              <a:rPr b="1" lang="uk-UA" sz="4000" spc="-1" strike="noStrike">
                <a:solidFill>
                  <a:srgbClr val="ff6600"/>
                </a:solidFill>
                <a:latin typeface="Calibri"/>
              </a:rPr>
              <a:t>прав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Rectangle 11"/>
          <p:cNvSpPr/>
          <p:nvPr/>
        </p:nvSpPr>
        <p:spPr>
          <a:xfrm>
            <a:off x="4859280" y="3933720"/>
            <a:ext cx="4105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7" name="Picture 15" descr="C:\Documents and Settings\1\Рабочий стол\muscles5.jpg"/>
          <p:cNvPicPr/>
          <p:nvPr/>
        </p:nvPicPr>
        <p:blipFill>
          <a:blip r:embed="rId1"/>
          <a:srcRect l="0" t="0" r="252" b="0"/>
          <a:stretch/>
        </p:blipFill>
        <p:spPr>
          <a:xfrm>
            <a:off x="4735440" y="476280"/>
            <a:ext cx="4353120" cy="623736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3659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Будова стінок серц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rcRect l="0" t="0" r="134" b="128"/>
          <a:stretch/>
        </p:blipFill>
        <p:spPr>
          <a:xfrm>
            <a:off x="2706840" y="210960"/>
            <a:ext cx="6410160" cy="66708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C:\Documents and Settings\1\Рабочий стол\ms1_cha.jpg"/>
          <p:cNvPicPr/>
          <p:nvPr/>
        </p:nvPicPr>
        <p:blipFill>
          <a:blip r:embed="rId2"/>
          <a:srcRect l="0" t="0" r="287" b="177"/>
          <a:stretch/>
        </p:blipFill>
        <p:spPr>
          <a:xfrm>
            <a:off x="0" y="3068640"/>
            <a:ext cx="2643120" cy="378936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5"/>
          <p:cNvSpPr/>
          <p:nvPr/>
        </p:nvSpPr>
        <p:spPr>
          <a:xfrm>
            <a:off x="0" y="0"/>
            <a:ext cx="3708360" cy="3284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тінки  серця складаються з серцевий м'язових волокон : </a:t>
            </a:r>
            <a:r>
              <a:rPr b="1" lang="uk-UA" sz="2000" spc="-1" strike="noStrike">
                <a:solidFill>
                  <a:srgbClr val="0070c0"/>
                </a:solidFill>
                <a:latin typeface="Calibri"/>
              </a:rPr>
              <a:t>епікарду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– зовнішнього  сполучнотканинного, вкритого одношаровим епітелієм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міокарда -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ереднього, мязовог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ендокарда</a:t>
            </a: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нутрішнього епітеліального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"/>
          <p:cNvSpPr/>
          <p:nvPr/>
        </p:nvSpPr>
        <p:spPr>
          <a:xfrm>
            <a:off x="8101080" y="3645000"/>
            <a:ext cx="101592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іокар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3" name="Picture 2" descr=""/>
          <p:cNvPicPr/>
          <p:nvPr/>
        </p:nvPicPr>
        <p:blipFill>
          <a:blip r:embed="rId3"/>
          <a:stretch/>
        </p:blipFill>
        <p:spPr>
          <a:xfrm>
            <a:off x="2843280" y="5013360"/>
            <a:ext cx="1079280" cy="493560"/>
          </a:xfrm>
          <a:prstGeom prst="rect">
            <a:avLst/>
          </a:prstGeom>
          <a:ln w="0">
            <a:noFill/>
          </a:ln>
        </p:spPr>
      </p:pic>
      <p:sp>
        <p:nvSpPr>
          <p:cNvPr id="1034" name="TextBox 3"/>
          <p:cNvSpPr/>
          <p:nvPr/>
        </p:nvSpPr>
        <p:spPr>
          <a:xfrm>
            <a:off x="7524720" y="5259240"/>
            <a:ext cx="11509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епікар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4"/>
          <p:cNvSpPr/>
          <p:nvPr/>
        </p:nvSpPr>
        <p:spPr>
          <a:xfrm>
            <a:off x="6948360" y="6513480"/>
            <a:ext cx="1584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ендокар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5"/>
          <p:cNvSpPr/>
          <p:nvPr/>
        </p:nvSpPr>
        <p:spPr>
          <a:xfrm>
            <a:off x="69840" y="6400800"/>
            <a:ext cx="29876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оперечнополосатий серцев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м'я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66560" y="26028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70c0"/>
                </a:solidFill>
                <a:latin typeface="Calibri"/>
              </a:rPr>
              <a:t>Ембріологія серц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8" name="Рисунок 3" descr="серце ембріона.jpg"/>
          <p:cNvPicPr/>
          <p:nvPr/>
        </p:nvPicPr>
        <p:blipFill>
          <a:blip r:embed="rId1"/>
          <a:stretch/>
        </p:blipFill>
        <p:spPr>
          <a:xfrm>
            <a:off x="3635280" y="1628640"/>
            <a:ext cx="5337360" cy="3718080"/>
          </a:xfrm>
          <a:prstGeom prst="rect">
            <a:avLst/>
          </a:prstGeom>
          <a:ln w="0">
            <a:noFill/>
          </a:ln>
        </p:spPr>
      </p:pic>
      <p:sp>
        <p:nvSpPr>
          <p:cNvPr id="1039" name="Прямоугольник 4"/>
          <p:cNvSpPr/>
          <p:nvPr/>
        </p:nvSpPr>
        <p:spPr>
          <a:xfrm>
            <a:off x="468360" y="1557360"/>
            <a:ext cx="3382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цево-судинна система ембріона починає розвиватися в середині третього тижня внутрішньоутробного періо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й початок серце бере з об'єднання двох зачатків, які утворюють серцеву трубку, в якій вже наявні характерні для серця ткани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кар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ується з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енхі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окар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ікар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із вісцеральних листків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одер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2007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80808"/>
                </a:solidFill>
                <a:latin typeface="Arial"/>
              </a:rPr>
              <a:t>РОЗМИНКА  </a:t>
            </a:r>
            <a:br>
              <a:rPr sz="4000"/>
            </a:br>
            <a:r>
              <a:rPr b="1" i="1" lang="uk-UA" sz="4000" spc="-1" strike="noStrike">
                <a:solidFill>
                  <a:srgbClr val="080808"/>
                </a:solidFill>
                <a:latin typeface="Arial"/>
              </a:rPr>
              <a:t>                 </a:t>
            </a:r>
            <a:r>
              <a:rPr b="1" i="1" lang="uk-UA" sz="4000" spc="-1" strike="noStrike">
                <a:solidFill>
                  <a:srgbClr val="0070c0"/>
                </a:solidFill>
                <a:latin typeface="Arial"/>
              </a:rPr>
              <a:t>«ВПІЗНАЙ СЕБЕ»</a:t>
            </a:r>
            <a:endParaRPr b="1" i="1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70" name="Текст 4" descr=""/>
          <p:cNvPicPr/>
          <p:nvPr/>
        </p:nvPicPr>
        <p:blipFill>
          <a:blip r:embed="rId1"/>
          <a:stretch/>
        </p:blipFill>
        <p:spPr>
          <a:xfrm>
            <a:off x="682560" y="1706400"/>
            <a:ext cx="763272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3" descr="G:\СЕРЦЕ\1505_vd250bcopy.jpg"/>
          <p:cNvPicPr/>
          <p:nvPr/>
        </p:nvPicPr>
        <p:blipFill>
          <a:blip r:embed="rId1"/>
          <a:stretch/>
        </p:blipFill>
        <p:spPr>
          <a:xfrm>
            <a:off x="4140360" y="1062000"/>
            <a:ext cx="4829040" cy="5796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85920" y="111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монстрація розбірного муляжу серця людини.</a:t>
            </a:r>
            <a:br>
              <a:rPr sz="2700"/>
            </a:br>
            <a:r>
              <a:rPr b="0" i="1" lang="uk-UA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тання до учнів:  </a:t>
            </a:r>
            <a:br>
              <a:rPr sz="2700"/>
            </a:b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Чому стінка лівого шлуночка товща від  стінки    </a:t>
            </a:r>
            <a:br>
              <a:rPr sz="3200"/>
            </a:b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                             право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2" name="Picture 2" descr="G:\СЕРЦЕ\1502_g12bcopy.jpg"/>
          <p:cNvPicPr/>
          <p:nvPr/>
        </p:nvPicPr>
        <p:blipFill>
          <a:blip r:embed="rId2"/>
          <a:stretch/>
        </p:blipFill>
        <p:spPr>
          <a:xfrm>
            <a:off x="250920" y="1447920"/>
            <a:ext cx="4392360" cy="52704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" descr="МИКР"/>
          <p:cNvPicPr/>
          <p:nvPr/>
        </p:nvPicPr>
        <p:blipFill>
          <a:blip r:embed="rId3"/>
          <a:stretch/>
        </p:blipFill>
        <p:spPr>
          <a:xfrm>
            <a:off x="1258920" y="45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200" spc="-1" strike="noStrike">
                <a:solidFill>
                  <a:srgbClr val="0070c0"/>
                </a:solidFill>
                <a:latin typeface="Arial Black"/>
                <a:ea typeface="Calibri"/>
              </a:rPr>
              <a:t>«Критичне мислення»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5" name="Прямоугольник 2"/>
          <p:cNvSpPr/>
          <p:nvPr/>
        </p:nvSpPr>
        <p:spPr>
          <a:xfrm>
            <a:off x="250920" y="1052640"/>
            <a:ext cx="8497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ійна  обробка інформації з підручника § 23 с.73   підпункт «Властивості міокарда» із застосуванням методики  позначо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кі ж фізіологічні особливості має серцевий м’яз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6" name="Рисунок 4" descr="AMIDEA"/>
          <p:cNvPicPr/>
          <p:nvPr/>
        </p:nvPicPr>
        <p:blipFill>
          <a:blip r:embed="rId1"/>
          <a:stretch/>
        </p:blipFill>
        <p:spPr>
          <a:xfrm>
            <a:off x="5595840" y="2279520"/>
            <a:ext cx="2133720" cy="3956040"/>
          </a:xfrm>
          <a:prstGeom prst="rect">
            <a:avLst/>
          </a:prstGeom>
          <a:ln w="0">
            <a:noFill/>
          </a:ln>
        </p:spPr>
      </p:pic>
      <p:sp>
        <p:nvSpPr>
          <p:cNvPr id="1047" name="Прямоугольник 3"/>
          <p:cNvSpPr/>
          <p:nvPr/>
        </p:nvSpPr>
        <p:spPr>
          <a:xfrm>
            <a:off x="1547640" y="2421000"/>
            <a:ext cx="648036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Позначки</a:t>
            </a:r>
            <a:r>
              <a:rPr b="0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V </a:t>
            </a: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     інформація, яку  ви  знає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+  -    нова  інформаці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?!  -   інформація, яка  вас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     </a:t>
            </a: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здивувала і      зацікав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кі ж фізіологічні особливості має серцевий м’яз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Прямоугольник 2"/>
          <p:cNvSpPr/>
          <p:nvPr/>
        </p:nvSpPr>
        <p:spPr>
          <a:xfrm>
            <a:off x="128520" y="1557360"/>
            <a:ext cx="3867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будливість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здатність серцевого м’яза збуджуватися від   різних подразників, що мають фізичну або хімічну природу. У нормальному стані серцевий м’яз збуджується під дією спеціалізованих клітин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Прямоугольник 3"/>
          <p:cNvSpPr/>
          <p:nvPr/>
        </p:nvSpPr>
        <p:spPr>
          <a:xfrm>
            <a:off x="5138640" y="1552680"/>
            <a:ext cx="364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овідніс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будження, яке  виникло, поширюється по всьому серцевому м’я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Прямоугольник 4"/>
          <p:cNvSpPr/>
          <p:nvPr/>
        </p:nvSpPr>
        <p:spPr>
          <a:xfrm>
            <a:off x="4211640" y="3645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Скоротливість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це здатність скорочуватися, що притаманна всім типам м’язової ткани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Прямоугольник 5"/>
          <p:cNvSpPr/>
          <p:nvPr/>
        </p:nvSpPr>
        <p:spPr>
          <a:xfrm>
            <a:off x="468360" y="5661000"/>
            <a:ext cx="810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Calibri"/>
              </a:rPr>
              <a:t>Але серце може мимовільно ритмічно скорочувати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Стрелка вправо 6"/>
          <p:cNvSpPr/>
          <p:nvPr/>
        </p:nvSpPr>
        <p:spPr>
          <a:xfrm rot="6684600">
            <a:off x="2194920" y="836640"/>
            <a:ext cx="576360" cy="715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4" name="Picture 4" descr=""/>
          <p:cNvPicPr/>
          <p:nvPr/>
        </p:nvPicPr>
        <p:blipFill>
          <a:blip r:embed="rId1"/>
          <a:stretch/>
        </p:blipFill>
        <p:spPr>
          <a:xfrm rot="19051200">
            <a:off x="6203520" y="874440"/>
            <a:ext cx="738360" cy="639720"/>
          </a:xfrm>
          <a:prstGeom prst="rect">
            <a:avLst/>
          </a:prstGeom>
          <a:ln w="0">
            <a:noFill/>
          </a:ln>
        </p:spPr>
      </p:pic>
      <p:sp>
        <p:nvSpPr>
          <p:cNvPr id="1055" name="Стрелка вниз 7"/>
          <p:cNvSpPr/>
          <p:nvPr/>
        </p:nvSpPr>
        <p:spPr>
          <a:xfrm>
            <a:off x="4284720" y="1593720"/>
            <a:ext cx="615960" cy="151128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3378240" y="836640"/>
            <a:ext cx="5765760" cy="5905440"/>
          </a:xfrm>
          <a:prstGeom prst="rect">
            <a:avLst/>
          </a:prstGeom>
          <a:ln w="0">
            <a:noFill/>
          </a:ln>
        </p:spPr>
      </p:pic>
      <p:sp>
        <p:nvSpPr>
          <p:cNvPr id="1057" name="Прямоугольник 2"/>
          <p:cNvSpPr/>
          <p:nvPr/>
        </p:nvSpPr>
        <p:spPr>
          <a:xfrm>
            <a:off x="179280" y="260280"/>
            <a:ext cx="35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Автоматія серця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– це здатність  серця ритмічно скорочуватися без зовнішніх подразнень під впливом імпульсів, які виникають у ньому самом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TextBox 3"/>
          <p:cNvSpPr/>
          <p:nvPr/>
        </p:nvSpPr>
        <p:spPr>
          <a:xfrm>
            <a:off x="3492360" y="3213000"/>
            <a:ext cx="122400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Синусний вуз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4"/>
          <p:cNvSpPr/>
          <p:nvPr/>
        </p:nvSpPr>
        <p:spPr>
          <a:xfrm>
            <a:off x="3378240" y="4508640"/>
            <a:ext cx="148104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Атривентрикулярний вузо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TextBox 5"/>
          <p:cNvSpPr/>
          <p:nvPr/>
        </p:nvSpPr>
        <p:spPr>
          <a:xfrm>
            <a:off x="7740720" y="2676600"/>
            <a:ext cx="10792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Пучок Гі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6"/>
          <p:cNvSpPr/>
          <p:nvPr/>
        </p:nvSpPr>
        <p:spPr>
          <a:xfrm>
            <a:off x="8164440" y="3365640"/>
            <a:ext cx="9716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Ніжки пучка Гі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68360" y="255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Автоматія серця люд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Провідна система серцяTS - Фильм 01.mpg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43644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063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1063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1" dur="1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Прямоугольник 4"/>
          <p:cNvSpPr/>
          <p:nvPr/>
        </p:nvSpPr>
        <p:spPr>
          <a:xfrm>
            <a:off x="684360" y="18900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3 році голландський фізіолог Ейнтховен  створив спеціальний пристрій для запису електричних сигналів у серці – електрокардіограф. Якщо зафіксувати автоматичні  слабкі біоелектричні сигнали   від шкіри  рук і ніг,  а також від поверхні грудної клітки, то вийде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ардіограма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5" name="Picture 2" descr="C:\Users\пк\Desktop\УРОК\Кардіограма серця.jpg"/>
          <p:cNvPicPr/>
          <p:nvPr/>
        </p:nvPicPr>
        <p:blipFill>
          <a:blip r:embed="rId1"/>
          <a:stretch/>
        </p:blipFill>
        <p:spPr>
          <a:xfrm>
            <a:off x="1098720" y="2100240"/>
            <a:ext cx="728496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493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Кровопостачання серц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TextBox 2"/>
          <p:cNvSpPr/>
          <p:nvPr/>
        </p:nvSpPr>
        <p:spPr>
          <a:xfrm>
            <a:off x="6286680" y="642960"/>
            <a:ext cx="2734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це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безпечує кров'ю весь організм людини, теж потребує постійного  надходження кисню та поживних речови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ін речовин у </a:t>
            </a:r>
            <a:r>
              <a:rPr b="0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іокарді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бувається в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20 разів інтенсивніше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іж  у будь-якому іншому органі люди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живлення серця витрачається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енергетичних ресурс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ровопостачання серця  здійснюється </a:t>
            </a: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онарним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бо </a:t>
            </a: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інцевими, артеріям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бу по </a:t>
            </a:r>
            <a:r>
              <a:rPr b="0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ронарних артеріях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ікає в середньому </a:t>
            </a:r>
            <a:r>
              <a:rPr b="0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50 л кров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8" name="Ішемічна хвороба серця_TS - Фильм 01.mpg" descr=""/>
          <p:cNvPicPr/>
          <p:nvPr/>
        </p:nvPicPr>
        <p:blipFill>
          <a:blip r:embed="rId1"/>
          <a:stretch/>
        </p:blipFill>
        <p:spPr>
          <a:xfrm>
            <a:off x="0" y="928800"/>
            <a:ext cx="621504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48902" fill="hold"/>
                                        <p:tgtEl>
                                          <p:spTgt spid="10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2" dur="1" fill="hold"/>
                                        <p:tgtEl>
                                          <p:spTgt spid="10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9640" y="64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Calibri"/>
                <a:ea typeface="Calibri"/>
              </a:rPr>
              <a:t>«Доповни реченн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TextBox 2"/>
          <p:cNvSpPr/>
          <p:nvPr/>
        </p:nvSpPr>
        <p:spPr>
          <a:xfrm>
            <a:off x="563400" y="549360"/>
            <a:ext cx="73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'язовий порожнистий орган конусоподібної форми -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TextBox 3"/>
          <p:cNvSpPr/>
          <p:nvPr/>
        </p:nvSpPr>
        <p:spPr>
          <a:xfrm>
            <a:off x="468360" y="914400"/>
            <a:ext cx="84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ерце міститься в …                                                ,  що утворена …                       тканино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 праве …                           по верхній і нижній …                           венах  кров надход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ід усіх частин тіла.  Із правого …                          виходить …                      стовбур, чере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який венозна кров надходить до чотирьох легеневих артерій, а далі – до…            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 ліве передсердя впадають чотири …                           , які  несуть артеріальну  к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ід легень.    З лівого шлуночка виходить …             , по якій...                          кр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ухається до органів і тканин ті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воротному руху крові перешкоджають…                . Між  лівими передсердям 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шлуночком       розташований  …                            клапан, а ….                            клапан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іститься  між  правими передсердям і шлуночк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Прямоугольник 4"/>
          <p:cNvSpPr/>
          <p:nvPr/>
        </p:nvSpPr>
        <p:spPr>
          <a:xfrm>
            <a:off x="2509560" y="9144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навколосерцевій сумц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Прямоугольник 5"/>
          <p:cNvSpPr/>
          <p:nvPr/>
        </p:nvSpPr>
        <p:spPr>
          <a:xfrm>
            <a:off x="6554160" y="917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сполучно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TextBox 6"/>
          <p:cNvSpPr/>
          <p:nvPr/>
        </p:nvSpPr>
        <p:spPr>
          <a:xfrm>
            <a:off x="6321600" y="549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сер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Прямоугольник 7"/>
          <p:cNvSpPr/>
          <p:nvPr/>
        </p:nvSpPr>
        <p:spPr>
          <a:xfrm>
            <a:off x="1478520" y="1413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ередсердя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Прямоугольник 8"/>
          <p:cNvSpPr/>
          <p:nvPr/>
        </p:nvSpPr>
        <p:spPr>
          <a:xfrm>
            <a:off x="4940280" y="148428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орожнист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Прямоугольник 9"/>
          <p:cNvSpPr/>
          <p:nvPr/>
        </p:nvSpPr>
        <p:spPr>
          <a:xfrm>
            <a:off x="3777120" y="198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шлуноч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Прямоугольник 10"/>
          <p:cNvSpPr/>
          <p:nvPr/>
        </p:nvSpPr>
        <p:spPr>
          <a:xfrm>
            <a:off x="6148080" y="198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легене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Прямоугольник 11"/>
          <p:cNvSpPr/>
          <p:nvPr/>
        </p:nvSpPr>
        <p:spPr>
          <a:xfrm>
            <a:off x="7706880" y="2565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лег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Прямоугольник 13"/>
          <p:cNvSpPr/>
          <p:nvPr/>
        </p:nvSpPr>
        <p:spPr>
          <a:xfrm>
            <a:off x="4156200" y="3086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легеневі в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Прямоугольник 15"/>
          <p:cNvSpPr/>
          <p:nvPr/>
        </p:nvSpPr>
        <p:spPr>
          <a:xfrm>
            <a:off x="4773240" y="36338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ао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Прямоугольник 16"/>
          <p:cNvSpPr/>
          <p:nvPr/>
        </p:nvSpPr>
        <p:spPr>
          <a:xfrm>
            <a:off x="6353640" y="36306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артеріаль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Прямоугольник 17"/>
          <p:cNvSpPr/>
          <p:nvPr/>
        </p:nvSpPr>
        <p:spPr>
          <a:xfrm>
            <a:off x="5009400" y="47242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клапа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Прямоугольник 18"/>
          <p:cNvSpPr/>
          <p:nvPr/>
        </p:nvSpPr>
        <p:spPr>
          <a:xfrm>
            <a:off x="3621240" y="53085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двостулко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Прямоугольник 19"/>
          <p:cNvSpPr/>
          <p:nvPr/>
        </p:nvSpPr>
        <p:spPr>
          <a:xfrm>
            <a:off x="6324480" y="530856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тристулко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Прямоугольник 2" descr=""/>
          <p:cNvPicPr/>
          <p:nvPr/>
        </p:nvPicPr>
        <p:blipFill>
          <a:blip r:embed="rId1"/>
          <a:stretch/>
        </p:blipFill>
        <p:spPr>
          <a:xfrm>
            <a:off x="2170080" y="146160"/>
            <a:ext cx="4737240" cy="1560240"/>
          </a:xfrm>
          <a:prstGeom prst="rect">
            <a:avLst/>
          </a:prstGeom>
          <a:ln w="0">
            <a:noFill/>
          </a:ln>
        </p:spPr>
      </p:pic>
      <p:sp>
        <p:nvSpPr>
          <p:cNvPr id="1087" name="Прямоугольник 4"/>
          <p:cNvSpPr/>
          <p:nvPr/>
        </p:nvSpPr>
        <p:spPr>
          <a:xfrm>
            <a:off x="684360" y="1700280"/>
            <a:ext cx="7848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Тема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азвичай іменн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Опис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Два прикметни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"/>
              </a:rPr>
              <a:t>Дія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Три  дієсл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Calibri"/>
              </a:rPr>
              <a:t>Ставлення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фраза – чотири сл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36406"/>
                </a:solidFill>
                <a:latin typeface="Calibri"/>
              </a:rPr>
              <a:t>Перефразування сутності     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одне слов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07640" y="438120"/>
            <a:ext cx="71326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2373ad"/>
                </a:solidFill>
                <a:latin typeface="Arial"/>
                <a:ea typeface="Times New Roman"/>
              </a:rPr>
              <a:t>Відкритий мікрофон </a:t>
            </a:r>
            <a:br>
              <a:rPr sz="700"/>
            </a:br>
            <a:endParaRPr b="1" i="1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4406040" y="-31320"/>
            <a:ext cx="33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0" name="Рисунок 14" descr="Описание: Описание: МИКР"/>
          <p:cNvPicPr/>
          <p:nvPr/>
        </p:nvPicPr>
        <p:blipFill>
          <a:blip r:embed="rId1"/>
          <a:stretch/>
        </p:blipFill>
        <p:spPr>
          <a:xfrm>
            <a:off x="539640" y="1033560"/>
            <a:ext cx="1548000" cy="1547640"/>
          </a:xfrm>
          <a:prstGeom prst="rect">
            <a:avLst/>
          </a:prstGeom>
          <a:ln w="0">
            <a:noFill/>
          </a:ln>
        </p:spPr>
      </p:pic>
      <p:sp>
        <p:nvSpPr>
          <p:cNvPr id="1091" name="TextBox 4"/>
          <p:cNvSpPr/>
          <p:nvPr/>
        </p:nvSpPr>
        <p:spPr>
          <a:xfrm>
            <a:off x="3059280" y="87804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цініть свою роботу на уроці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словіть свої думки даючи відповід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запит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Прямоугольник 5"/>
          <p:cNvSpPr/>
          <p:nvPr/>
        </p:nvSpPr>
        <p:spPr>
          <a:xfrm>
            <a:off x="1763640" y="1801800"/>
            <a:ext cx="52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Ми вивчил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Arial"/>
              </a:rPr>
              <a:t>Ми навчили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Arial"/>
              </a:rPr>
              <a:t>Нас зацікавил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Arial"/>
              </a:rPr>
              <a:t>Отже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TextBox 3"/>
          <p:cNvSpPr/>
          <p:nvPr/>
        </p:nvSpPr>
        <p:spPr>
          <a:xfrm>
            <a:off x="900000" y="3789360"/>
            <a:ext cx="77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50"/>
                </a:solidFill>
                <a:latin typeface="Calibri"/>
              </a:rPr>
              <a:t>Що ви знаєте про серце?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 в </a:t>
            </a:r>
            <a:r>
              <a:rPr b="1" lang="uk-UA" sz="2400" spc="-1" strike="noStrike">
                <a:solidFill>
                  <a:srgbClr val="0070c0"/>
                </a:solidFill>
                <a:latin typeface="Calibri"/>
              </a:rPr>
              <a:t>чому ж полягає незвичайність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ульсу  Наполеон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Чи вистачає у нас здобутих знань  на цьому уроці, щоб відповісти на ці запитанн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2" descr=""/>
          <p:cNvPicPr/>
          <p:nvPr/>
        </p:nvPicPr>
        <p:blipFill>
          <a:blip r:embed="rId1"/>
          <a:stretch/>
        </p:blipFill>
        <p:spPr>
          <a:xfrm>
            <a:off x="1990800" y="189000"/>
            <a:ext cx="5207040" cy="863640"/>
          </a:xfrm>
          <a:prstGeom prst="rect">
            <a:avLst/>
          </a:prstGeom>
          <a:ln w="0">
            <a:noFill/>
          </a:ln>
        </p:spPr>
      </p:pic>
      <p:sp>
        <p:nvSpPr>
          <p:cNvPr id="972" name="TextBox 4"/>
          <p:cNvSpPr/>
          <p:nvPr/>
        </p:nvSpPr>
        <p:spPr>
          <a:xfrm>
            <a:off x="1017720" y="907920"/>
            <a:ext cx="7634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піляр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це найтонші та найкоротші кровоносні судин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іаметр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найбільших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піляр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становить 30 м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е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тонкі, легко розтягуються, оскільки мають слабо розвинений м'язовий ша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уди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, по яких кров тече від серця до тканин  та органів, називається вена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Будова артерій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е відповідає їхнім функція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ойшовши через капіляри й збагатившись  СО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haroni"/>
              </a:rPr>
              <a:t>2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haroni"/>
              </a:rPr>
              <a:t>та іншими продуктами життєдіяльності, кров потрапляє до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Aharoni"/>
              </a:rPr>
              <a:t>венул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haron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Сердце 5"/>
          <p:cNvSpPr/>
          <p:nvPr/>
        </p:nvSpPr>
        <p:spPr>
          <a:xfrm>
            <a:off x="266760" y="966960"/>
            <a:ext cx="647640" cy="433080"/>
          </a:xfrm>
          <a:custGeom>
            <a:avLst/>
            <a:gdLst/>
            <a:ahLst/>
            <a:rect l="l" t="t" r="r" b="b"/>
            <a:pathLst>
              <a:path w="647700" h="433387">
                <a:moveTo>
                  <a:pt x="323850" y="108347"/>
                </a:moveTo>
                <a:cubicBezTo>
                  <a:pt x="458788" y="-144462"/>
                  <a:pt x="985044" y="108347"/>
                  <a:pt x="323850" y="433387"/>
                </a:cubicBezTo>
                <a:cubicBezTo>
                  <a:pt x="-337344" y="108347"/>
                  <a:pt x="188913" y="-144462"/>
                  <a:pt x="323850" y="108347"/>
                </a:cubicBezTo>
                <a:close/>
              </a:path>
            </a:pathLst>
          </a:custGeom>
          <a:solidFill>
            <a:srgbClr val="ff0000"/>
          </a:solidFill>
          <a:ln w="2232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5-конечная звезда 6"/>
          <p:cNvSpPr/>
          <p:nvPr/>
        </p:nvSpPr>
        <p:spPr>
          <a:xfrm>
            <a:off x="401760" y="1787400"/>
            <a:ext cx="504720" cy="457200"/>
          </a:xfrm>
          <a:custGeom>
            <a:avLst/>
            <a:gdLst/>
            <a:ahLst/>
            <a:rect l="l" t="t" r="r" b="b"/>
            <a:pathLst>
              <a:path w="504825" h="457200">
                <a:moveTo>
                  <a:pt x="1" y="174634"/>
                </a:moveTo>
                <a:lnTo>
                  <a:pt x="192827" y="174636"/>
                </a:lnTo>
                <a:lnTo>
                  <a:pt x="252413" y="0"/>
                </a:lnTo>
                <a:lnTo>
                  <a:pt x="311998" y="174636"/>
                </a:lnTo>
                <a:lnTo>
                  <a:pt x="504824" y="174634"/>
                </a:lnTo>
                <a:lnTo>
                  <a:pt x="348824" y="282564"/>
                </a:lnTo>
                <a:lnTo>
                  <a:pt x="408412" y="457199"/>
                </a:lnTo>
                <a:lnTo>
                  <a:pt x="252413" y="349267"/>
                </a:lnTo>
                <a:lnTo>
                  <a:pt x="96413" y="457199"/>
                </a:lnTo>
                <a:lnTo>
                  <a:pt x="156001" y="282564"/>
                </a:lnTo>
                <a:lnTo>
                  <a:pt x="1" y="174634"/>
                </a:lnTo>
                <a:close/>
              </a:path>
            </a:pathLst>
          </a:custGeom>
          <a:solidFill>
            <a:srgbClr val="4f81bd"/>
          </a:solidFill>
          <a:ln w="2232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5" name="Picture 3" descr=""/>
          <p:cNvPicPr/>
          <p:nvPr/>
        </p:nvPicPr>
        <p:blipFill>
          <a:blip r:embed="rId2"/>
          <a:stretch/>
        </p:blipFill>
        <p:spPr>
          <a:xfrm>
            <a:off x="293760" y="5216400"/>
            <a:ext cx="682560" cy="4572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" descr=""/>
          <p:cNvPicPr/>
          <p:nvPr/>
        </p:nvPicPr>
        <p:blipFill>
          <a:blip r:embed="rId3"/>
          <a:stretch/>
        </p:blipFill>
        <p:spPr>
          <a:xfrm>
            <a:off x="266760" y="2565360"/>
            <a:ext cx="682560" cy="457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5" descr=""/>
          <p:cNvPicPr/>
          <p:nvPr/>
        </p:nvPicPr>
        <p:blipFill>
          <a:blip r:embed="rId4"/>
          <a:stretch/>
        </p:blipFill>
        <p:spPr>
          <a:xfrm>
            <a:off x="293760" y="4395960"/>
            <a:ext cx="592200" cy="53640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6" descr=""/>
          <p:cNvPicPr/>
          <p:nvPr/>
        </p:nvPicPr>
        <p:blipFill>
          <a:blip r:embed="rId5"/>
          <a:stretch/>
        </p:blipFill>
        <p:spPr>
          <a:xfrm>
            <a:off x="311040" y="3487680"/>
            <a:ext cx="592200" cy="5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200" spc="-1" strike="noStrike">
                <a:solidFill>
                  <a:srgbClr val="0070c0"/>
                </a:solidFill>
                <a:latin typeface="Arial Black"/>
                <a:ea typeface="Calibri"/>
              </a:rPr>
              <a:t>Диференційоване домашнє завдання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5" name="Прямоугольник 2"/>
          <p:cNvSpPr/>
          <p:nvPr/>
        </p:nvSpPr>
        <p:spPr>
          <a:xfrm>
            <a:off x="755640" y="1374840"/>
            <a:ext cx="79930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Опрацювати параграф «Органи кровообігу. Серце»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 (початковий і середній рівен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ерце працює упродовж усього життя без зупинки. Поясніть, у чому причина такої працездатності серця та його м'язів?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(достатній рівен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класти рекламу «Пропаганда  здорового способу життя».  Групи учнів повинні  прорекламувати заняття фізичними вправами та їх вплив на покращення і зміцнення серцевого м’яза.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(високий рівен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Заголовок 1" descr=""/>
          <p:cNvPicPr/>
          <p:nvPr/>
        </p:nvPicPr>
        <p:blipFill>
          <a:blip r:embed="rId1"/>
          <a:stretch/>
        </p:blipFill>
        <p:spPr>
          <a:xfrm>
            <a:off x="469800" y="1914480"/>
            <a:ext cx="82296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Прямоугольник 2"/>
          <p:cNvSpPr/>
          <p:nvPr/>
        </p:nvSpPr>
        <p:spPr>
          <a:xfrm>
            <a:off x="468360" y="907920"/>
            <a:ext cx="828036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 Black"/>
              </a:rPr>
              <a:t>Серце</a:t>
            </a: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– </a:t>
            </a: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джерело житт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початок всьог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c00000"/>
                </a:solidFill>
                <a:latin typeface="Arial Black"/>
              </a:rPr>
              <a:t>сонце мікрокосмус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1d8ec5"/>
                </a:solidFill>
                <a:latin typeface="Arial Black"/>
              </a:rPr>
              <a:t>від якого зале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d8ec5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1d8ec5"/>
                </a:solidFill>
                <a:latin typeface="Arial Black"/>
              </a:rPr>
              <a:t>вся сила і свіжість організм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Ніщо не може замінити </a:t>
            </a:r>
            <a:r>
              <a:rPr b="0" lang="uk-UA" sz="3200" spc="-1" strike="noStrike">
                <a:solidFill>
                  <a:srgbClr val="ff0000"/>
                </a:solidFill>
                <a:latin typeface="Arial Black"/>
              </a:rPr>
              <a:t>серця</a:t>
            </a: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70c0"/>
                </a:solidFill>
                <a:latin typeface="Arial Black"/>
              </a:rPr>
              <a:t>і взяти на себе його функції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7030a0"/>
                </a:solidFill>
                <a:latin typeface="Arial Black"/>
              </a:rPr>
              <a:t>Вільям Гарве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i="1" lang="uk-UA" sz="1800" spc="-1" strike="noStrike">
                <a:solidFill>
                  <a:srgbClr val="7030a0"/>
                </a:solidFill>
                <a:latin typeface="Arial Black"/>
              </a:rPr>
              <a:t>англійський фізіолог  Х</a:t>
            </a:r>
            <a:r>
              <a:rPr b="0" i="1" lang="en-US" sz="1800" spc="-1" strike="noStrike">
                <a:solidFill>
                  <a:srgbClr val="7030a0"/>
                </a:solidFill>
                <a:latin typeface="Arial Black"/>
              </a:rPr>
              <a:t>V</a:t>
            </a:r>
            <a:r>
              <a:rPr b="0" i="1" lang="uk-UA" sz="1800" spc="-1" strike="noStrike">
                <a:solidFill>
                  <a:srgbClr val="7030a0"/>
                </a:solidFill>
                <a:latin typeface="Arial Black"/>
              </a:rPr>
              <a:t>ІІ ст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127760" cy="1603440"/>
          </a:xfrm>
          <a:prstGeom prst="rect">
            <a:avLst/>
          </a:prstGeom>
          <a:ln w="0">
            <a:noFill/>
          </a:ln>
        </p:spPr>
      </p:pic>
      <p:sp>
        <p:nvSpPr>
          <p:cNvPr id="981" name="TextBox 3"/>
          <p:cNvSpPr/>
          <p:nvPr/>
        </p:nvSpPr>
        <p:spPr>
          <a:xfrm>
            <a:off x="663480" y="1413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haron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haroni"/>
              </a:rPr>
              <a:t>Кажуть, що у Наполеона  був пульс 40 ударів за хвилину. Такий  пульс навіть назвали «наполеонівським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Прямоугольник 5"/>
          <p:cNvSpPr/>
          <p:nvPr/>
        </p:nvSpPr>
        <p:spPr>
          <a:xfrm>
            <a:off x="4513320" y="3933720"/>
            <a:ext cx="4143240" cy="228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а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изначаєть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і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татт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удовою ті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ор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інши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актор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Прямоугольник 4"/>
          <p:cNvSpPr/>
          <p:nvPr/>
        </p:nvSpPr>
        <p:spPr>
          <a:xfrm>
            <a:off x="679320" y="2773440"/>
            <a:ext cx="79772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Серц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лат. соr, греч. cardia)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'язов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рожнист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орган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нусоподібної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форм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TextBox 1"/>
          <p:cNvSpPr/>
          <p:nvPr/>
        </p:nvSpPr>
        <p:spPr>
          <a:xfrm>
            <a:off x="713520" y="472608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0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о ви знаєте про серц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Прямоугольник 2"/>
          <p:cNvSpPr/>
          <p:nvPr/>
        </p:nvSpPr>
        <p:spPr>
          <a:xfrm>
            <a:off x="1476360" y="212724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в чому ж полягає незвичайність  цього пульсу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6" name="Picture 8" descr=""/>
          <p:cNvPicPr/>
          <p:nvPr/>
        </p:nvPicPr>
        <p:blipFill>
          <a:blip r:embed="rId2"/>
          <a:stretch/>
        </p:blipFill>
        <p:spPr>
          <a:xfrm>
            <a:off x="663480" y="22827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9" descr=""/>
          <p:cNvPicPr/>
          <p:nvPr/>
        </p:nvPicPr>
        <p:blipFill>
          <a:blip r:embed="rId3"/>
          <a:stretch/>
        </p:blipFill>
        <p:spPr>
          <a:xfrm>
            <a:off x="668160" y="41162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70c0"/>
                </a:solidFill>
                <a:latin typeface="Calibri"/>
              </a:rPr>
              <a:t>Тема уроку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755280" y="2708280"/>
            <a:ext cx="7993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b050"/>
                </a:solidFill>
                <a:latin typeface="Calibri"/>
              </a:rPr>
              <a:t>Завдання уроку: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1.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ознайомитися з будовою серц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2.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визначити як будова серця пов'язана з його виконуваними  функці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3.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встановити які особливості  будови серцевого м'яз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4.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встановити як регулюється робота серц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Прямоугольник 6"/>
          <p:cNvSpPr/>
          <p:nvPr/>
        </p:nvSpPr>
        <p:spPr>
          <a:xfrm>
            <a:off x="354600" y="1214280"/>
            <a:ext cx="855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Mistral"/>
              </a:rPr>
              <a:t>Будова й функції серц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Box 8"/>
          <p:cNvSpPr/>
          <p:nvPr/>
        </p:nvSpPr>
        <p:spPr>
          <a:xfrm>
            <a:off x="826920" y="26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Calibri"/>
              </a:rPr>
              <a:t>Як працює серце людин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2" name="Як працює серце людини_TS - Фильм 01.mpg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9420" fill="hold"/>
                                        <p:tgtEl>
                                          <p:spTgt spid="9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9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8785440" cy="2592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ідомо, що  серце людини скорочується в середньому  70 раз за 1 хв., при кожному скороченні виштовхується близько 50 мл. крові. Який  обєм крові  перекачує ваше серце за 6 урокі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WordArt 4"/>
          <p:cNvSpPr txBox="1"/>
          <p:nvPr/>
        </p:nvSpPr>
        <p:spPr>
          <a:xfrm>
            <a:off x="324000" y="189000"/>
            <a:ext cx="23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ЗАДАЧ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995" name="Rectangle 5"/>
          <p:cNvSpPr/>
          <p:nvPr/>
        </p:nvSpPr>
        <p:spPr>
          <a:xfrm>
            <a:off x="1571760" y="3429000"/>
            <a:ext cx="24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ІШ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214200" y="4071960"/>
            <a:ext cx="8715600" cy="574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 х 45 = 3150 раз скорочується за 1 у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179280" y="4653000"/>
            <a:ext cx="8785440" cy="1062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50 х 50 = 157500 мл. = 157,5 л. крові перекачується за 1 у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179280" y="5734080"/>
            <a:ext cx="8785440" cy="1123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7,5 л. х 6 уроков = 945,500 л. крові перекачується за 6 урок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Box 2"/>
          <p:cNvSpPr/>
          <p:nvPr/>
        </p:nvSpPr>
        <p:spPr>
          <a:xfrm>
            <a:off x="4788000" y="1052640"/>
            <a:ext cx="3887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ерце – це центральний орган кровообігу, розташований у грудній порожнин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Широка частина серця (основа) спрямована вгору й праворуч, вузька (верхівка) донизу й лівору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/3 серця розташовані в лівій частині грудної порожнини, 1/3 – у праві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0" name="Picture 2" descr="C:\Documents and Settings\1\Рабочий стол\45743849_gdeserdce.jpg"/>
          <p:cNvPicPr/>
          <p:nvPr/>
        </p:nvPicPr>
        <p:blipFill>
          <a:blip r:embed="rId1"/>
          <a:stretch/>
        </p:blipFill>
        <p:spPr>
          <a:xfrm>
            <a:off x="250920" y="1197000"/>
            <a:ext cx="4110120" cy="487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27:10Z</dcterms:created>
  <dc:creator>Галушко В.В.</dc:creator>
  <dc:description/>
  <cp:keywords>серце</cp:keywords>
  <dc:language>en-US</dc:language>
  <cp:lastModifiedBy>пк</cp:lastModifiedBy>
  <dcterms:modified xsi:type="dcterms:W3CDTF">2012-12-13T05:09:02Z</dcterms:modified>
  <cp:revision>101</cp:revision>
  <dc:subject>Кровообіг 9 клас</dc:subject>
  <dc:title>Будова й функції серц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27000000000001024140</vt:lpwstr>
  </property>
</Properties>
</file>