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9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32.png" ContentType="image/png"/>
  <Override PartName="/ppt/media/image45.jpeg" ContentType="image/jpeg"/>
  <Override PartName="/ppt/media/image30.png" ContentType="image/png"/>
  <Override PartName="/ppt/media/image41.jpeg" ContentType="image/jpeg"/>
  <Override PartName="/ppt/media/image5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1.jpeg" ContentType="image/jpeg"/>
  <Override PartName="/ppt/media/image53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DA3-B259-4DBB-ACE0-CF66836A1E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volution.verges.ru/images/pictures/muscles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BF5-E827-4DE7-B925-D2BFE7ABB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tudmed.ru/3/30.files/image00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dicinform.net/human/anatomy/ms1_cha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мышеч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BB4-EE25-4F48-AB06-578C7C019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C57-EEAA-41ED-8F5C-AC648CB9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8BA-32F9-4C9E-B30E-7EF04981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D096E-0C2A-486C-A8FF-8E48E183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19CBF-FF34-4AE3-B565-926CA95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A22E-9725-4183-BA6D-312FAF92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90D1F-C87E-4C52-8F59-8DD868C0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B953C-A9A6-4794-A75D-5DF6D01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6B531-FC8E-4AB7-A4FC-935A44B5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20C8F-0506-47BD-82A4-7470F5C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FBE59-645C-4ED9-AA5A-C3D2A26B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14DB0-36A6-4C5A-BBB5-0B5C94FC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A56D0-E0DA-4EE5-8500-F1F0E219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AEB-2DA0-4FFD-8375-8825365F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B445B-6FD8-4823-9F0D-F5841BD5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2AC98-BD7E-41B6-A7CB-6B64A8F3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F9C1C-139C-4289-81F7-35CF6CB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1769-7994-4B7D-9EEA-FD8C6E5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CEA3-F5E6-4385-B434-853B01E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47043-278B-4063-9529-829ACDB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A810F-A74B-45DD-862B-21C1295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A2362-99E1-46B7-845F-EA7E057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BB78D-D0D7-4CC6-8196-7A4306BB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EBDD8-E61D-4081-81E2-54A36965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7A8-708F-48D7-9594-B2FECF1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EB795-487A-4DA7-9B5E-33C1F94C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42B6-3E1F-4B3A-B0B3-5D27D1F4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F4BDD-0A0F-4870-B5D1-6817628F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590E2-002E-4645-B729-DDA83111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BEFF8-3424-49F7-AA4E-7EA3909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35FB9-E9A5-49C5-B8EA-26981AC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B5B86-5B3F-4142-9118-32EFEEB6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D0F0C-DB09-41DF-A304-012C501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DF38-33D6-4726-893B-9FDAB19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F07C1-936E-4816-B49F-0FAA403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7979-4867-466B-9BE4-7C1986F7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713D9-EAB8-4342-91C3-38DEE978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4ACB8-E564-4F6A-BCC3-35BC389D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A52B-1CF0-4B17-A821-4F49AA93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0BE7-C895-4C31-B82A-31820659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0358A-B626-4813-9F13-197B66B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80DA7-3A77-4A62-B0F0-A892879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675FE-73E0-4D04-ACF1-368519F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26D06-5AC6-4B20-99CA-E41882F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59503-45DF-46F9-8E06-7479837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8B5AF-5756-4E9F-8658-134A22E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992D-C862-4984-979E-87D9D7A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8363B-6087-4851-98B2-51F36BB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CF323-856B-435C-BBA2-E17CC6E3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DCE54-364C-4C52-8E13-4F38BD0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FC9BF-F159-45F8-A83F-0356E290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FEE1-AE43-4448-9683-0C8DD9EC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F0211-3245-4EDF-84B2-2EC2F88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A99F1-D4E2-40FE-B78D-67F82D40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415F4-C68D-48FA-A0A2-094CC49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82ADE-CAF0-478B-BEEC-613DDCF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6D0E3-F265-4DA3-A3D0-4FEDFD5F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9970-C1C8-4351-A177-7A26BF1E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72EAE-C712-4D38-8777-A29FF11B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9AC5E-BA04-41A2-9947-E9A51C6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40773-D835-467B-A6B8-9A4149C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E2120-BDCB-47A7-A6D5-15AB377A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D24B9-EFFB-4066-9DF4-A6472C07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64A24-611F-41A6-B356-D399B47F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F55AC-3514-41BB-90DD-C04D2F6F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F4441-394E-4DD4-9148-02F231B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B15082-B5F9-4B08-AD77-61ACEA1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2A426-68F5-4FD7-86D0-91CEEB8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3105-CF1F-4B27-8C5E-5282730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78AF0-BCB3-4D8D-A88D-81C4015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B17B9-E265-49A9-AC94-570E4D93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85B11-97B0-4A1A-A5DE-4379147D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B62C5-D914-4638-9450-EECCD15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111C1-79B6-44A6-BD2E-CD5D314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FE7E9F-E552-486B-9610-46AAA52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12219-9BB7-4581-B74F-84B4DA62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4CC3F-42C3-4209-B3DB-499EDAA2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E3E10-284E-4D18-B1B8-8507DD17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F56A4-800F-4F76-AAF8-8EEDF46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AAF-9294-4A0F-8A43-D900C9C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496A0-75FF-44EE-90CE-6701832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2F76C-5453-4F34-B06C-3EF157F4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5C7A3-200B-42B8-9E7B-A7C8841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215DD-6BFC-4C9F-B3F0-2CEE033D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D26BE-A358-4C8F-B7BE-E9ADA1B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D73C1-1E33-463A-8F6D-74D9FBF2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AA0B8-09A6-473A-BA1E-7AD75FB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65F42-1DC0-410E-8E90-C952E31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67935-76BB-4CFE-B5CF-0D32FF7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45A53-0D0D-488F-8CC4-DFF88774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5B94-D91B-4296-872E-22F2108D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FF10F-32EB-4F37-A817-E1F5240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1B10D-A4E0-47CC-878B-A562C5D4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E5197C-BEF3-4000-A700-B6E4369E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E79DD-03D1-4F58-989D-421ED31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49DF8-22D4-4799-AE8A-4494BBB0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82998-139A-42AE-AA6D-315606D5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0BD4B-D815-4347-9C9D-2AD1344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F7BC0-6644-4A8B-BC45-F93E71F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46CA9-C90A-482C-A96D-087B9AD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7E4E2-E792-4330-B95B-B130F0F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5066-8B90-4B2A-B460-5038CB5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7F06E-664E-4B44-A293-4E19E31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3FF9C-B711-4E29-9B0E-AD14D9BE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6AEA7-CFF0-4860-8DD4-843A410E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CA6CE-55A0-493D-ADA1-A25C7493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6FAFE-054F-43C4-99A1-E33BAB53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9445D-34D1-4679-BA50-8120A51F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C3D04-C677-408A-80B6-7212F85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0A107-AE28-401E-8E17-4A1722FB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B0C3C-A253-42C0-B41C-F677129E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DB3AA-4A25-48BF-98C2-70C895F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A30-FE44-4F05-9339-85C0144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0EC-6B0D-4ED8-8C90-7F85461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B9847-9D0A-4B64-B284-AD96C2A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0FBE1-B73C-483D-98B7-B13E4AE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7B69D-1FE0-4DC7-B318-5D920A2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9C01D-592F-42F8-B241-FD4C0E7C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14AE0-3276-4006-A85F-34C1DA64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9BD7-9136-487D-AAF3-E14DA45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300-1525-4E82-AD07-EEFEA848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39C-9B56-428D-9AA3-68EAD686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15A0-CE73-4152-8977-BD6A7651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0CC4D-5D26-46E7-9AE5-D7F5B216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7CF7-0C08-4EED-9040-8C06865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FA5D-298B-437A-A400-99B7FC5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325C-2416-4E89-8CA1-E247DF03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F4C5-3CE2-479F-B2EA-1691369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ECE-26BF-4DBF-8A74-AE175F46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AC24-DB4D-430D-807A-5750EAAB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67A2-3D22-4CDF-913D-97A275F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89CC-6972-4980-B2C8-87230967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DB67-CED4-4612-8825-0A885BD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87EA-D5ED-4A82-A1D9-EC36F8C4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962B-B890-499E-9E61-00061AEB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ACC3-0A1B-4A89-8D5C-C139B9C4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B7C5-0BB2-4805-B0BA-2500A526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F5D4-5AB1-4A43-AD89-CF9C4DD3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2D25-60AC-446F-8F6C-8827DCD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68C-AEC9-48FD-ACDE-832F2B58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6B68-ABA5-4ED1-AEE8-6D3493C5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F2BD-BD4A-459E-A4A9-CC4EADC0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0F8B-D49B-43E6-A73C-20F28426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0FA3-D8EF-49B2-83A2-BFFAE49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A5A0-74D0-4EDD-B3AF-94BE6E17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2318-0E3C-41D1-BE87-C900ECE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977E-B715-4B37-BB6A-3123D34C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746F-E2D2-46E9-A986-97C19802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E628-B4A0-4C66-904F-7C3D2C03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8D58-3332-4D95-A099-6E9C73D0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0EB-639C-469E-B0A7-851A5F8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99AA-7600-4C64-86BD-293BF5CF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C023-5896-4FD0-BC06-07184B3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83D7-6D6F-4B1E-A032-9DE9C05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0ADF-2417-4DDC-80E3-3AF43B2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762EB-FD85-44E8-8EAE-12C6FCA7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0ED7-EF7E-45DB-B7EB-F2513B4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4EA0-1AB5-44F1-BFCB-5EDDC0D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AB03-E202-465C-BAD3-EF50901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C634C-47C8-4EED-A4E8-D2097F72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3DF72-FCE2-49AA-AF5B-4492EB67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C7A-2346-4E89-ABEF-56AC4014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D110-6D41-40DE-904B-17E18E1F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70052-4044-4B56-9976-E914D735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BCDE0-BC04-484E-A29B-F771BBA9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B7956-3799-436D-84A5-2A59A78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4A5A-BD4F-476D-A2C5-E53E8B38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568B-24DB-49BC-B821-6AE97C3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740F-F879-471E-8E11-B3C549E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7D97-1C73-4EB0-B94A-13E4141A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4E85-A593-4D44-8C9C-35219EC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DB28-7FC6-4192-8343-E8AB480B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6E1-21B5-4972-9E4E-0C7CC96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91744-6E04-40F0-87BE-73443329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7F18-E423-4184-BEEE-7B17A742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0B33-E67D-40D5-9F93-A050B8AE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86C1A-865E-4853-804C-806EF9EE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CBD0-520D-4CF5-A944-ACD52EF7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D016F-0382-4F47-8ACE-B3DA1C6F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2DCC-A147-4B26-A8F1-0CCA4F0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EE7D-3E83-4994-94AC-08364CE0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6460-725A-4336-B43B-00303DA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6DBC-A575-4FC9-8088-3E3908E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D31-F0EB-4ADE-AAAE-10541D7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28661-F7D9-4266-9A90-46654643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59A8-8F56-4423-B58E-5CBCB8D0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F1347-12B8-42C2-BDB0-28D9B046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53A9-6276-4434-88EA-BC1F4270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948AD-0CAB-4DF0-98F2-EDBA6769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E5A55-A4CC-422C-A6E2-B24E49F0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F0BE-2BBB-4998-9D30-A60CBA1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A984-39C7-466E-A2FD-4F62750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0075B-FE25-4BCE-9FF9-709A11F3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0AFF-B3D5-455E-B691-734748E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3DE-FC85-4304-A5D9-0C7AB11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23465-0915-4E1A-B108-82B4FFEA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C055-3C18-4FEA-80CF-D3D3DAB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3DE6-5C56-4CA6-B208-57715C6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70275-C362-4ED1-A985-28AF22C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79AD-2357-4116-92C3-E2A4E71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F499-7FD1-4298-AD8B-C922F3B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B7A2-F7CE-4FD3-B3AF-E8C9DDFC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C2D74-40AB-4572-93DA-20217F67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D669A-1F14-4D28-8262-55421B38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BB2F2-C053-48EF-AE19-F7442254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81.xml"/><Relationship Id="rId13" Type="http://schemas.openxmlformats.org/officeDocument/2006/relationships/slideLayout" Target="../slideLayouts/slideLayout182.xml"/><Relationship Id="rId14" Type="http://schemas.openxmlformats.org/officeDocument/2006/relationships/slideLayout" Target="../slideLayouts/slideLayout183.xml"/><Relationship Id="rId15" Type="http://schemas.openxmlformats.org/officeDocument/2006/relationships/slideLayout" Target="../slideLayouts/slideLayout184.xml"/><Relationship Id="rId16" Type="http://schemas.openxmlformats.org/officeDocument/2006/relationships/slideLayout" Target="../slideLayouts/slideLayout185.xml"/><Relationship Id="rId17" Type="http://schemas.openxmlformats.org/officeDocument/2006/relationships/slideLayout" Target="../slideLayouts/slideLayout186.xml"/><Relationship Id="rId18" Type="http://schemas.openxmlformats.org/officeDocument/2006/relationships/slideLayout" Target="../slideLayouts/slideLayout187.xml"/><Relationship Id="rId19" Type="http://schemas.openxmlformats.org/officeDocument/2006/relationships/slideLayout" Target="../slideLayouts/slideLayout188.xml"/><Relationship Id="rId20" Type="http://schemas.openxmlformats.org/officeDocument/2006/relationships/slideLayout" Target="../slideLayouts/slideLayout189.xml"/><Relationship Id="rId21" Type="http://schemas.openxmlformats.org/officeDocument/2006/relationships/slideLayout" Target="../slideLayouts/slideLayout190.xml"/><Relationship Id="rId22" Type="http://schemas.openxmlformats.org/officeDocument/2006/relationships/slideLayout" Target="../slideLayouts/slideLayout191.xml"/><Relationship Id="rId2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93.xml"/><Relationship Id="rId13" Type="http://schemas.openxmlformats.org/officeDocument/2006/relationships/slideLayout" Target="../slideLayouts/slideLayout194.xml"/><Relationship Id="rId14" Type="http://schemas.openxmlformats.org/officeDocument/2006/relationships/slideLayout" Target="../slideLayouts/slideLayout195.xml"/><Relationship Id="rId15" Type="http://schemas.openxmlformats.org/officeDocument/2006/relationships/slideLayout" Target="../slideLayouts/slideLayout196.xml"/><Relationship Id="rId16" Type="http://schemas.openxmlformats.org/officeDocument/2006/relationships/slideLayout" Target="../slideLayouts/slideLayout197.xml"/><Relationship Id="rId17" Type="http://schemas.openxmlformats.org/officeDocument/2006/relationships/slideLayout" Target="../slideLayouts/slideLayout198.xml"/><Relationship Id="rId18" Type="http://schemas.openxmlformats.org/officeDocument/2006/relationships/slideLayout" Target="../slideLayouts/slideLayout199.xml"/><Relationship Id="rId19" Type="http://schemas.openxmlformats.org/officeDocument/2006/relationships/slideLayout" Target="../slideLayouts/slideLayout200.xml"/><Relationship Id="rId20" Type="http://schemas.openxmlformats.org/officeDocument/2006/relationships/slideLayout" Target="../slideLayouts/slideLayout201.xml"/><Relationship Id="rId21" Type="http://schemas.openxmlformats.org/officeDocument/2006/relationships/slideLayout" Target="../slideLayouts/slideLayout202.xml"/><Relationship Id="rId22" Type="http://schemas.openxmlformats.org/officeDocument/2006/relationships/slideLayout" Target="../slideLayouts/slideLayout203.xml"/><Relationship Id="rId2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E8C0-C422-45E4-BFCD-26BF149D8B47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C4C-D3E5-420D-BD0E-6C7D701C7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791-E9F7-40D0-AD88-0ADBC082F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760F-ABCA-4B70-8D67-882CDB03B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2C4-24DD-4C39-90EC-A642A7B21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B124-2395-4340-A739-05B2505AC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C4D-F804-419F-B88A-2EF481750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639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6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7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8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BC89-E50B-424B-989E-5060E79899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2"/>
    <p:sldLayoutId id="2147483845" r:id="rId13"/>
    <p:sldLayoutId id="2147483846" r:id="rId14"/>
    <p:sldLayoutId id="2147483847" r:id="rId15"/>
    <p:sldLayoutId id="2147483848" r:id="rId16"/>
    <p:sldLayoutId id="2147483849" r:id="rId17"/>
    <p:sldLayoutId id="2147483850" r:id="rId18"/>
    <p:sldLayoutId id="2147483851" r:id="rId19"/>
    <p:sldLayoutId id="2147483852" r:id="rId20"/>
    <p:sldLayoutId id="2147483853" r:id="rId21"/>
    <p:sldLayoutId id="2147483854" r:id="rId22"/>
    <p:sldLayoutId id="2147483855" r:id="rId2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00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8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912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49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0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51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FC0-ECB6-43A7-97C1-92ADE1E3F0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2"/>
    <p:sldLayoutId id="2147483858" r:id="rId13"/>
    <p:sldLayoutId id="2147483859" r:id="rId14"/>
    <p:sldLayoutId id="2147483860" r:id="rId15"/>
    <p:sldLayoutId id="2147483861" r:id="rId16"/>
    <p:sldLayoutId id="2147483862" r:id="rId17"/>
    <p:sldLayoutId id="2147483863" r:id="rId18"/>
    <p:sldLayoutId id="2147483864" r:id="rId19"/>
    <p:sldLayoutId id="2147483865" r:id="rId20"/>
    <p:sldLayoutId id="2147483866" r:id="rId21"/>
    <p:sldLayoutId id="2147483867" r:id="rId22"/>
    <p:sldLayoutId id="2147483868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3030-737F-46EA-A1E5-029853E48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8A6-D42E-4065-AF19-0233D355E4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EEF-CA20-46D9-AADE-FC033A05D4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0BA3-F0D2-4354-972A-FDA28E9DA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82E7-C50C-4852-8571-74DDBF0D4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BCB-7C48-4DA8-8A30-5EF4797EE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01A-C0D5-4B16-8B02-31B96456F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11B9-842F-41DD-A62D-8C6B6EB52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4314960" y="907920"/>
            <a:ext cx="4829040" cy="57978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79280" y="938160"/>
            <a:ext cx="5905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Будова </a:t>
            </a:r>
            <a:br>
              <a:rPr sz="5300"/>
            </a:b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й функції серця</a:t>
            </a:r>
            <a:endParaRPr b="1" i="1" lang="en-US" sz="5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250920" y="4076280"/>
            <a:ext cx="4713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Автор:    Галушко Валенти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Володимирів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читель   біології, 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щої   кваліфікаційної   категорії,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рший учител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2"/>
          <p:cNvSpPr/>
          <p:nvPr/>
        </p:nvSpPr>
        <p:spPr>
          <a:xfrm>
            <a:off x="5003640" y="242100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са  серця в середньому складає лише 5 % від маси   тіла людин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коливається в меж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50-36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2" name="Picture 2" descr="D:\ДОКУМЕНТИ   D\1       ПРЕЗЕНТАЦІЇ до уроків\БІОЛОГІЯ\Б  9 клас\Будова і робота Серця\Серце.jpg"/>
          <p:cNvPicPr/>
          <p:nvPr/>
        </p:nvPicPr>
        <p:blipFill>
          <a:blip r:embed="rId1"/>
          <a:stretch/>
        </p:blipFill>
        <p:spPr>
          <a:xfrm>
            <a:off x="255600" y="141300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"/>
          <p:cNvPicPr/>
          <p:nvPr/>
        </p:nvPicPr>
        <p:blipFill>
          <a:blip r:embed="rId1"/>
          <a:stretch/>
        </p:blipFill>
        <p:spPr>
          <a:xfrm>
            <a:off x="179280" y="184320"/>
            <a:ext cx="3975120" cy="626256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"/>
          <p:cNvSpPr/>
          <p:nvPr/>
        </p:nvSpPr>
        <p:spPr>
          <a:xfrm>
            <a:off x="3924360" y="1052640"/>
            <a:ext cx="48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вкрите тонкою  й щільною оболонкою, яка утворює замкнутий мішок – навколосерцеву  сумку (перикар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іж серцем і навколосерцевою сумкою   міститься рідина, яка зволожує серце й зменшує тертя об стінки перикарда при його скорочен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вичайно в нормі в перикардіальній сумці міститься близько 30 мл ексуд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291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Будова   серц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3480" y="836280"/>
            <a:ext cx="2305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  складається з двох частин –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ї і ліво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а частина має  камери: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дсерд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шлуночо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астина серця направляє </a:t>
            </a:r>
            <a:r>
              <a:rPr b="1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нозну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ого шлуночка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у  артерію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ень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 вона збагачується кисн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ім </a:t>
            </a:r>
            <a:r>
              <a:rPr b="1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іальна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чена киснем надходить до лівої частини серця – </a:t>
            </a:r>
            <a:r>
              <a:rPr b="0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івого передсердя та лівого шлуночка,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дки вирушає до всіх тканин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ізм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Камери серця _TS - Фильм 01.mpg" descr=""/>
          <p:cNvPicPr/>
          <p:nvPr/>
        </p:nvPicPr>
        <p:blipFill>
          <a:blip r:embed="rId1"/>
          <a:stretch/>
        </p:blipFill>
        <p:spPr>
          <a:xfrm>
            <a:off x="2500200" y="993600"/>
            <a:ext cx="6572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9007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1228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Клапани серц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0920" y="231840"/>
            <a:ext cx="30085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сердя й шлуночки поєднуються  між собою отворами, на краях яких розташовані </a:t>
            </a: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ч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и відкриваються тільки в один бік  шлуночків і тому пропускають кров в одному напрямку: із передсердь до шлуночків. Відкриватися  в бік передсердя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кам клапанів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жають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хожильні нитки,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 відходять від країв клапанів і прикріплюються  до  м'язових виступів  шлуночкі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івій частині серця  міститьс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стулковий клапан</a:t>
            </a: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авій –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стулко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місці виходу зі шлуночків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ого стовбур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овані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п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ьох кишеньок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перешкоджають рухові крові наз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0" name="Клапани серця_TS - Фильм 01.mpg" descr=""/>
          <p:cNvPicPr/>
          <p:nvPr/>
        </p:nvPicPr>
        <p:blipFill>
          <a:blip r:embed="rId1"/>
          <a:stretch/>
        </p:blipFill>
        <p:spPr>
          <a:xfrm>
            <a:off x="3071880" y="1143000"/>
            <a:ext cx="6072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9712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2" descr="C:\Documents and Settings\1\Рабочий стол\f_c3-95.jpg"/>
          <p:cNvPicPr/>
          <p:nvPr/>
        </p:nvPicPr>
        <p:blipFill>
          <a:blip r:embed="rId1"/>
          <a:stretch/>
        </p:blipFill>
        <p:spPr>
          <a:xfrm>
            <a:off x="0" y="3357720"/>
            <a:ext cx="4557600" cy="35002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3" descr="C:\Documents and Settings\1\Рабочий стол\f_c3-94.jpg"/>
          <p:cNvPicPr/>
          <p:nvPr/>
        </p:nvPicPr>
        <p:blipFill>
          <a:blip r:embed="rId2"/>
          <a:stretch/>
        </p:blipFill>
        <p:spPr>
          <a:xfrm>
            <a:off x="0" y="0"/>
            <a:ext cx="4529160" cy="3357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C:\Documents and Settings\1\Рабочий стол\f_c3-93.jpg"/>
          <p:cNvPicPr/>
          <p:nvPr/>
        </p:nvPicPr>
        <p:blipFill>
          <a:blip r:embed="rId3"/>
          <a:stretch/>
        </p:blipFill>
        <p:spPr>
          <a:xfrm>
            <a:off x="4332240" y="0"/>
            <a:ext cx="4811760" cy="3357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5" descr="C:\Documents and Settings\1\Рабочий стол\f_c3-92.jpg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015" name="TextBox 1"/>
          <p:cNvSpPr/>
          <p:nvPr/>
        </p:nvSpPr>
        <p:spPr>
          <a:xfrm>
            <a:off x="250920" y="3371760"/>
            <a:ext cx="3313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легеневої  арте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2"/>
          <p:cNvSpPr/>
          <p:nvPr/>
        </p:nvSpPr>
        <p:spPr>
          <a:xfrm>
            <a:off x="468360" y="19080"/>
            <a:ext cx="23032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ри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5003640" y="0"/>
            <a:ext cx="22352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во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4"/>
          <p:cNvSpPr/>
          <p:nvPr/>
        </p:nvSpPr>
        <p:spPr>
          <a:xfrm>
            <a:off x="5079960" y="3500280"/>
            <a:ext cx="20131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ао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9760" y="189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Анатомія серця людин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Прямоугольник 6"/>
          <p:cNvSpPr/>
          <p:nvPr/>
        </p:nvSpPr>
        <p:spPr>
          <a:xfrm>
            <a:off x="4471920" y="1341360"/>
            <a:ext cx="4302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ра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і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ерх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геневі артер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Легеневі в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Двостулковий клап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Аортальн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Лі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ра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Ниж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Тристулков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Клапан легеневого стовб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 стрілки вказують нормальний потік кров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206280" y="1420920"/>
            <a:ext cx="4024440" cy="460836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"/>
          <p:cNvSpPr/>
          <p:nvPr/>
        </p:nvSpPr>
        <p:spPr>
          <a:xfrm>
            <a:off x="395280" y="62064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Завдання групам: 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користуючись підручником і зошитом зробити підписи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800" spc="-1" strike="noStrike">
                <a:solidFill>
                  <a:srgbClr val="00b050"/>
                </a:solidFill>
                <a:latin typeface="Calibri"/>
              </a:rPr>
              <a:t>Зробити висновки: Яку функцію виконує серце, маючи таку будов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rcRect l="0" t="0" r="10" b="61"/>
          <a:stretch/>
        </p:blipFill>
        <p:spPr>
          <a:xfrm>
            <a:off x="1494000" y="266760"/>
            <a:ext cx="6337080" cy="5391000"/>
          </a:xfrm>
          <a:prstGeom prst="rect">
            <a:avLst/>
          </a:prstGeom>
          <a:ln w="0">
            <a:noFill/>
          </a:ln>
        </p:spPr>
      </p:pic>
      <p:sp>
        <p:nvSpPr>
          <p:cNvPr id="1024" name="Прямоугольник 2"/>
          <p:cNvSpPr/>
          <p:nvPr/>
        </p:nvSpPr>
        <p:spPr>
          <a:xfrm>
            <a:off x="0" y="5657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Висновок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 рух крові в серці відбувається тільки в одному напрямку, клапани перешкоджають зворотному руху кров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0"/>
          <p:cNvSpPr/>
          <p:nvPr/>
        </p:nvSpPr>
        <p:spPr>
          <a:xfrm>
            <a:off x="395280" y="1341360"/>
            <a:ext cx="3995640" cy="5488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тінки камер відрізняються за товщино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овщина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лівого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шлуночка в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2,5  - 3 рази товщ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тінок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прав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4859280" y="3933720"/>
            <a:ext cx="4105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7" name="Picture 15" descr="C:\Documents and Settings\1\Рабочий стол\muscles5.jpg"/>
          <p:cNvPicPr/>
          <p:nvPr/>
        </p:nvPicPr>
        <p:blipFill>
          <a:blip r:embed="rId1"/>
          <a:srcRect l="0" t="0" r="252" b="0"/>
          <a:stretch/>
        </p:blipFill>
        <p:spPr>
          <a:xfrm>
            <a:off x="4735440" y="476280"/>
            <a:ext cx="4353120" cy="62373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65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Будова стінок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rcRect l="0" t="0" r="134" b="128"/>
          <a:stretch/>
        </p:blipFill>
        <p:spPr>
          <a:xfrm>
            <a:off x="2706840" y="210960"/>
            <a:ext cx="6410160" cy="6670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C:\Documents and Settings\1\Рабочий стол\ms1_cha.jpg"/>
          <p:cNvPicPr/>
          <p:nvPr/>
        </p:nvPicPr>
        <p:blipFill>
          <a:blip r:embed="rId2"/>
          <a:srcRect l="0" t="0" r="287" b="177"/>
          <a:stretch/>
        </p:blipFill>
        <p:spPr>
          <a:xfrm>
            <a:off x="0" y="3068640"/>
            <a:ext cx="2643120" cy="37893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5"/>
          <p:cNvSpPr/>
          <p:nvPr/>
        </p:nvSpPr>
        <p:spPr>
          <a:xfrm>
            <a:off x="0" y="0"/>
            <a:ext cx="3708360" cy="3284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інки  серця складаються з серцевий м'язових волокон : </a:t>
            </a:r>
            <a:r>
              <a:rPr b="1" lang="uk-UA" sz="2000" spc="-1" strike="noStrike">
                <a:solidFill>
                  <a:srgbClr val="0070c0"/>
                </a:solidFill>
                <a:latin typeface="Calibri"/>
              </a:rPr>
              <a:t>епікард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зовнішнього  сполучнотканинного, вкритого одношаровим епітелієм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міокарда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еднього, мязовог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ендокарда</a:t>
            </a: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нутрішнього епітеліального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"/>
          <p:cNvSpPr/>
          <p:nvPr/>
        </p:nvSpPr>
        <p:spPr>
          <a:xfrm>
            <a:off x="8101080" y="3645000"/>
            <a:ext cx="10159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1079280" cy="493560"/>
          </a:xfrm>
          <a:prstGeom prst="rect">
            <a:avLst/>
          </a:prstGeom>
          <a:ln w="0">
            <a:noFill/>
          </a:ln>
        </p:spPr>
      </p:pic>
      <p:sp>
        <p:nvSpPr>
          <p:cNvPr id="1034" name="TextBox 3"/>
          <p:cNvSpPr/>
          <p:nvPr/>
        </p:nvSpPr>
        <p:spPr>
          <a:xfrm>
            <a:off x="7524720" y="5259240"/>
            <a:ext cx="1150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пі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4"/>
          <p:cNvSpPr/>
          <p:nvPr/>
        </p:nvSpPr>
        <p:spPr>
          <a:xfrm>
            <a:off x="6948360" y="6513480"/>
            <a:ext cx="1584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нд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69840" y="6400800"/>
            <a:ext cx="2987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перечнополосатий серцев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'я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6560" y="26028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Ембріологія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8" name="Рисунок 3" descr="серце ембріона.jpg"/>
          <p:cNvPicPr/>
          <p:nvPr/>
        </p:nvPicPr>
        <p:blipFill>
          <a:blip r:embed="rId1"/>
          <a:stretch/>
        </p:blipFill>
        <p:spPr>
          <a:xfrm>
            <a:off x="3635280" y="1628640"/>
            <a:ext cx="5337360" cy="3718080"/>
          </a:xfrm>
          <a:prstGeom prst="rect">
            <a:avLst/>
          </a:prstGeom>
          <a:ln w="0">
            <a:noFill/>
          </a:ln>
        </p:spPr>
      </p:pic>
      <p:sp>
        <p:nvSpPr>
          <p:cNvPr id="1039" name="Прямоугольник 4"/>
          <p:cNvSpPr/>
          <p:nvPr/>
        </p:nvSpPr>
        <p:spPr>
          <a:xfrm>
            <a:off x="468360" y="1557360"/>
            <a:ext cx="3382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во-судинна система ембріона починає розвиватися в середині третього тижня внутрішньоутробного пері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й початок серце бере з об'єднання двох зачатків, які утворюють серцеву трубку, в якій вже наявні характерні для серця ткани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ється з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енхі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і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із вісцеральних листк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00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РОЗМИНКА  </a:t>
            </a:r>
            <a:br>
              <a:rPr sz="4000"/>
            </a:b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                 </a:t>
            </a: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«ВПІЗНАЙ СЕБЕ»</a:t>
            </a:r>
            <a:endParaRPr b="1" i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70" name="Текст 4" descr=""/>
          <p:cNvPicPr/>
          <p:nvPr/>
        </p:nvPicPr>
        <p:blipFill>
          <a:blip r:embed="rId1"/>
          <a:stretch/>
        </p:blipFill>
        <p:spPr>
          <a:xfrm>
            <a:off x="682560" y="1706400"/>
            <a:ext cx="76327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G:\СЕРЦЕ\1505_vd250bcopy.jpg"/>
          <p:cNvPicPr/>
          <p:nvPr/>
        </p:nvPicPr>
        <p:blipFill>
          <a:blip r:embed="rId1"/>
          <a:stretch/>
        </p:blipFill>
        <p:spPr>
          <a:xfrm>
            <a:off x="4140360" y="1062000"/>
            <a:ext cx="4829040" cy="5796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85920" y="111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монстрація розбірного муляжу серця людини.</a:t>
            </a:r>
            <a:br>
              <a:rPr sz="2700"/>
            </a:b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тання до учнів:  </a:t>
            </a:r>
            <a:br>
              <a:rPr sz="27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Чому стінка лівого шлуночка товща від  стінки    </a:t>
            </a:r>
            <a:br>
              <a:rPr sz="32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                             прав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Picture 2" descr="G:\СЕРЦЕ\1502_g12bcopy.jpg"/>
          <p:cNvPicPr/>
          <p:nvPr/>
        </p:nvPicPr>
        <p:blipFill>
          <a:blip r:embed="rId2"/>
          <a:stretch/>
        </p:blipFill>
        <p:spPr>
          <a:xfrm>
            <a:off x="250920" y="1447920"/>
            <a:ext cx="4392360" cy="5270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МИКР"/>
          <p:cNvPicPr/>
          <p:nvPr/>
        </p:nvPicPr>
        <p:blipFill>
          <a:blip r:embed="rId3"/>
          <a:stretch/>
        </p:blipFill>
        <p:spPr>
          <a:xfrm>
            <a:off x="1258920" y="45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«Критичне мислення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5" name="Прямоугольник 2"/>
          <p:cNvSpPr/>
          <p:nvPr/>
        </p:nvSpPr>
        <p:spPr>
          <a:xfrm>
            <a:off x="250920" y="105264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 обробка інформації з підручника § 23 с.73   підпункт «Властивості міокарда» із застосуванням методики  познач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Рисунок 4" descr="AMIDEA"/>
          <p:cNvPicPr/>
          <p:nvPr/>
        </p:nvPicPr>
        <p:blipFill>
          <a:blip r:embed="rId1"/>
          <a:stretch/>
        </p:blipFill>
        <p:spPr>
          <a:xfrm>
            <a:off x="5595840" y="2279520"/>
            <a:ext cx="2133720" cy="3956040"/>
          </a:xfrm>
          <a:prstGeom prst="rect">
            <a:avLst/>
          </a:prstGeom>
          <a:ln w="0">
            <a:noFill/>
          </a:ln>
        </p:spPr>
      </p:pic>
      <p:sp>
        <p:nvSpPr>
          <p:cNvPr id="1047" name="Прямоугольник 3"/>
          <p:cNvSpPr/>
          <p:nvPr/>
        </p:nvSpPr>
        <p:spPr>
          <a:xfrm>
            <a:off x="1547640" y="2421000"/>
            <a:ext cx="64803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значки</a:t>
            </a:r>
            <a:r>
              <a:rPr b="0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V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     інформація, яку  ви  знає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+  -    нова  інформаці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?!  -   інформація, яка  вас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здивувала і      зацік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Прямоугольник 2"/>
          <p:cNvSpPr/>
          <p:nvPr/>
        </p:nvSpPr>
        <p:spPr>
          <a:xfrm>
            <a:off x="128520" y="1557360"/>
            <a:ext cx="386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будливіст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датність серцевого м’яза збуджуватися від   різних подразників, що мають фізичну або хімічну природу. У нормальному стані серцевий м’яз збуджується під дією спеціалізованих клітин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Прямоугольник 3"/>
          <p:cNvSpPr/>
          <p:nvPr/>
        </p:nvSpPr>
        <p:spPr>
          <a:xfrm>
            <a:off x="5138640" y="1552680"/>
            <a:ext cx="36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відні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будження, яке  виникло, поширюється по всьому серцевому м’я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Прямоугольник 4"/>
          <p:cNvSpPr/>
          <p:nvPr/>
        </p:nvSpPr>
        <p:spPr>
          <a:xfrm>
            <a:off x="4211640" y="3645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коротливіс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здатність скорочуватися, що притаманна всім типам м’язової ткан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Прямоугольник 5"/>
          <p:cNvSpPr/>
          <p:nvPr/>
        </p:nvSpPr>
        <p:spPr>
          <a:xfrm>
            <a:off x="468360" y="5661000"/>
            <a:ext cx="810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Але серце може мимовільно ритмічно скорочувати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Стрелка вправо 6"/>
          <p:cNvSpPr/>
          <p:nvPr/>
        </p:nvSpPr>
        <p:spPr>
          <a:xfrm rot="6684600">
            <a:off x="2194920" y="836640"/>
            <a:ext cx="576360" cy="715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4" name="Picture 4" descr=""/>
          <p:cNvPicPr/>
          <p:nvPr/>
        </p:nvPicPr>
        <p:blipFill>
          <a:blip r:embed="rId1"/>
          <a:stretch/>
        </p:blipFill>
        <p:spPr>
          <a:xfrm rot="19051200">
            <a:off x="6203520" y="874440"/>
            <a:ext cx="738360" cy="639720"/>
          </a:xfrm>
          <a:prstGeom prst="rect">
            <a:avLst/>
          </a:prstGeom>
          <a:ln w="0">
            <a:noFill/>
          </a:ln>
        </p:spPr>
      </p:pic>
      <p:sp>
        <p:nvSpPr>
          <p:cNvPr id="1055" name="Стрелка вниз 7"/>
          <p:cNvSpPr/>
          <p:nvPr/>
        </p:nvSpPr>
        <p:spPr>
          <a:xfrm>
            <a:off x="4284720" y="1593720"/>
            <a:ext cx="615960" cy="15112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378240" y="836640"/>
            <a:ext cx="5765760" cy="5905440"/>
          </a:xfrm>
          <a:prstGeom prst="rect">
            <a:avLst/>
          </a:prstGeom>
          <a:ln w="0">
            <a:noFill/>
          </a:ln>
        </p:spPr>
      </p:pic>
      <p:sp>
        <p:nvSpPr>
          <p:cNvPr id="1057" name="Прямоугольник 2"/>
          <p:cNvSpPr/>
          <p:nvPr/>
        </p:nvSpPr>
        <p:spPr>
          <a:xfrm>
            <a:off x="179280" y="26028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Автоматія серця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– це здатність  серця ритмічно скорочуватися без зовнішніх подразнень під впливом імпульсів, які виникають у ньому само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"/>
          <p:cNvSpPr/>
          <p:nvPr/>
        </p:nvSpPr>
        <p:spPr>
          <a:xfrm>
            <a:off x="3492360" y="3213000"/>
            <a:ext cx="1224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Синусний вуз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"/>
          <p:cNvSpPr/>
          <p:nvPr/>
        </p:nvSpPr>
        <p:spPr>
          <a:xfrm>
            <a:off x="3378240" y="4508640"/>
            <a:ext cx="148104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Атривентрикулярний вузо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5"/>
          <p:cNvSpPr/>
          <p:nvPr/>
        </p:nvSpPr>
        <p:spPr>
          <a:xfrm>
            <a:off x="7740720" y="2676600"/>
            <a:ext cx="1079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Пучок Гі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6"/>
          <p:cNvSpPr/>
          <p:nvPr/>
        </p:nvSpPr>
        <p:spPr>
          <a:xfrm>
            <a:off x="8164440" y="3365640"/>
            <a:ext cx="971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іжки пучка Гі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Автоматія серця люд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Провідна система серцяTS - Фильм 01.mpg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43644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63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Прямоугольник 4"/>
          <p:cNvSpPr/>
          <p:nvPr/>
        </p:nvSpPr>
        <p:spPr>
          <a:xfrm>
            <a:off x="68436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році голландський фізіолог Ейнтховен  створив спеціальний пристрій для запису електричних сигналів у серці – електрокардіограф. Якщо зафіксувати автоматичні  слабкі біоелектричні сигнали   від шкіри  рук і ніг,  а також від поверхні грудної клітки, то вий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ардіограм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2" descr="C:\Users\пк\Desktop\УРОК\Кардіограма серця.jpg"/>
          <p:cNvPicPr/>
          <p:nvPr/>
        </p:nvPicPr>
        <p:blipFill>
          <a:blip r:embed="rId1"/>
          <a:stretch/>
        </p:blipFill>
        <p:spPr>
          <a:xfrm>
            <a:off x="1098720" y="2100240"/>
            <a:ext cx="72849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49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Кровопостачання серц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2"/>
          <p:cNvSpPr/>
          <p:nvPr/>
        </p:nvSpPr>
        <p:spPr>
          <a:xfrm>
            <a:off x="6286680" y="642960"/>
            <a:ext cx="273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ц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безпечує кров'ю весь організм людини, теж потребує постійного  надходження кисню та поживних речов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 речовин у </a:t>
            </a:r>
            <a:r>
              <a:rPr b="0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іокарді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бувається 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разів інтенсивніш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іж  у будь-якому іншому органі люд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лення серця витрачається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енергетичних ресурс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ровопостачання серця  здійснюється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нарни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бо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нцевими, артерія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бу по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онарних артеріях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ікає в середньому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0 л кров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Ішемічна хвороба серця_TS - Фильм 01.mpg" descr=""/>
          <p:cNvPicPr/>
          <p:nvPr/>
        </p:nvPicPr>
        <p:blipFill>
          <a:blip r:embed="rId1"/>
          <a:stretch/>
        </p:blipFill>
        <p:spPr>
          <a:xfrm>
            <a:off x="0" y="92880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48902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2" dur="1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640" y="64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  <a:ea typeface="Calibri"/>
              </a:rPr>
              <a:t>«Доповни речен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2"/>
          <p:cNvSpPr/>
          <p:nvPr/>
        </p:nvSpPr>
        <p:spPr>
          <a:xfrm>
            <a:off x="563400" y="549360"/>
            <a:ext cx="73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'язовий порожнистий орган конусоподібної форми -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3"/>
          <p:cNvSpPr/>
          <p:nvPr/>
        </p:nvSpPr>
        <p:spPr>
          <a:xfrm>
            <a:off x="468360" y="91440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ерце міститься в …                                                ,  що утворена …                       тканино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праве …                           по верхній і нижній …                           венах  кров над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усіх частин тіла.  Із правого …                          виходить …                      стовбур, чере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ий венозна кров надходить до чотирьох легеневих артерій, а далі – до…           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ліве передсердя впадають чотири …                           , які  несуть артеріальну  к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легень.    З лівого шлуночка виходить …             , по якій...                          к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ається до органів і тканин ті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воротному руху крові перешкоджають…                . Між  лівими передсердям 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шлуночком       розташований  …                            клапан, а ….                            клапан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ститься  між  правими передсердям і шлуноч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Прямоугольник 4"/>
          <p:cNvSpPr/>
          <p:nvPr/>
        </p:nvSpPr>
        <p:spPr>
          <a:xfrm>
            <a:off x="2509560" y="9144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навколосерцевій сум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Прямоугольник 5"/>
          <p:cNvSpPr/>
          <p:nvPr/>
        </p:nvSpPr>
        <p:spPr>
          <a:xfrm>
            <a:off x="6554160" y="917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получн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6"/>
          <p:cNvSpPr/>
          <p:nvPr/>
        </p:nvSpPr>
        <p:spPr>
          <a:xfrm>
            <a:off x="6321600" y="54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Прямоугольник 7"/>
          <p:cNvSpPr/>
          <p:nvPr/>
        </p:nvSpPr>
        <p:spPr>
          <a:xfrm>
            <a:off x="1478520" y="1413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редсерд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Прямоугольник 8"/>
          <p:cNvSpPr/>
          <p:nvPr/>
        </p:nvSpPr>
        <p:spPr>
          <a:xfrm>
            <a:off x="4940280" y="1484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рожн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Прямоугольник 9"/>
          <p:cNvSpPr/>
          <p:nvPr/>
        </p:nvSpPr>
        <p:spPr>
          <a:xfrm>
            <a:off x="377712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шлуноч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Прямоугольник 10"/>
          <p:cNvSpPr/>
          <p:nvPr/>
        </p:nvSpPr>
        <p:spPr>
          <a:xfrm>
            <a:off x="614808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Прямоугольник 11"/>
          <p:cNvSpPr/>
          <p:nvPr/>
        </p:nvSpPr>
        <p:spPr>
          <a:xfrm>
            <a:off x="7706880" y="2565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рямоугольник 13"/>
          <p:cNvSpPr/>
          <p:nvPr/>
        </p:nvSpPr>
        <p:spPr>
          <a:xfrm>
            <a:off x="4156200" y="3086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і в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Прямоугольник 15"/>
          <p:cNvSpPr/>
          <p:nvPr/>
        </p:nvSpPr>
        <p:spPr>
          <a:xfrm>
            <a:off x="4773240" y="36338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о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Прямоугольник 16"/>
          <p:cNvSpPr/>
          <p:nvPr/>
        </p:nvSpPr>
        <p:spPr>
          <a:xfrm>
            <a:off x="6353640" y="3630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ртеріаль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Прямоугольник 17"/>
          <p:cNvSpPr/>
          <p:nvPr/>
        </p:nvSpPr>
        <p:spPr>
          <a:xfrm>
            <a:off x="5009400" y="472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лап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Прямоугольник 18"/>
          <p:cNvSpPr/>
          <p:nvPr/>
        </p:nvSpPr>
        <p:spPr>
          <a:xfrm>
            <a:off x="3621240" y="5308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дво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Прямоугольник 19"/>
          <p:cNvSpPr/>
          <p:nvPr/>
        </p:nvSpPr>
        <p:spPr>
          <a:xfrm>
            <a:off x="6324480" y="53085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три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Прямоугольник 2" descr=""/>
          <p:cNvPicPr/>
          <p:nvPr/>
        </p:nvPicPr>
        <p:blipFill>
          <a:blip r:embed="rId1"/>
          <a:stretch/>
        </p:blipFill>
        <p:spPr>
          <a:xfrm>
            <a:off x="2170080" y="146160"/>
            <a:ext cx="4737240" cy="1560240"/>
          </a:xfrm>
          <a:prstGeom prst="rect">
            <a:avLst/>
          </a:prstGeom>
          <a:ln w="0">
            <a:noFill/>
          </a:ln>
        </p:spPr>
      </p:pic>
      <p:sp>
        <p:nvSpPr>
          <p:cNvPr id="1087" name="Прямоугольник 4"/>
          <p:cNvSpPr/>
          <p:nvPr/>
        </p:nvSpPr>
        <p:spPr>
          <a:xfrm>
            <a:off x="684360" y="1700280"/>
            <a:ext cx="784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Тем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звичай імен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Опис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Два прикметн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Ді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Три  діє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alibri"/>
              </a:rPr>
              <a:t>Ставленн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фраза – чотири 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36406"/>
                </a:solidFill>
                <a:latin typeface="Calibri"/>
              </a:rPr>
              <a:t>Перефразування сутності  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одне сл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07640" y="438120"/>
            <a:ext cx="71326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2373ad"/>
                </a:solidFill>
                <a:latin typeface="Arial"/>
                <a:ea typeface="Times New Roman"/>
              </a:rPr>
              <a:t>Відкритий мікрофон </a:t>
            </a:r>
            <a:br>
              <a:rPr sz="700"/>
            </a:b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4406040" y="-31320"/>
            <a:ext cx="33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0" name="Рисунок 14" descr="Описание: Описание: МИКР"/>
          <p:cNvPicPr/>
          <p:nvPr/>
        </p:nvPicPr>
        <p:blipFill>
          <a:blip r:embed="rId1"/>
          <a:stretch/>
        </p:blipFill>
        <p:spPr>
          <a:xfrm>
            <a:off x="539640" y="1033560"/>
            <a:ext cx="1548000" cy="154764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4"/>
          <p:cNvSpPr/>
          <p:nvPr/>
        </p:nvSpPr>
        <p:spPr>
          <a:xfrm>
            <a:off x="3059280" y="8780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ініть свою роботу на уроці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ловіть свої думки даючи відповід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Прямоугольник 5"/>
          <p:cNvSpPr/>
          <p:nvPr/>
        </p:nvSpPr>
        <p:spPr>
          <a:xfrm>
            <a:off x="1763640" y="180180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и вивчи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Ми навчили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Arial"/>
              </a:rPr>
              <a:t>Нас заціка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Отже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3"/>
          <p:cNvSpPr/>
          <p:nvPr/>
        </p:nvSpPr>
        <p:spPr>
          <a:xfrm>
            <a:off x="900000" y="378936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alibri"/>
              </a:rPr>
              <a:t>Що ви знаєте про серце?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 в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чому ж полягає незвичайніс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льсу  Наполеон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Чи вистачає у нас здобутих знань  на цьому уроці, щоб відповісти на ці запитанн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1990800" y="189000"/>
            <a:ext cx="5207040" cy="863640"/>
          </a:xfrm>
          <a:prstGeom prst="rect">
            <a:avLst/>
          </a:prstGeom>
          <a:ln w="0">
            <a:noFill/>
          </a:ln>
        </p:spPr>
      </p:pic>
      <p:sp>
        <p:nvSpPr>
          <p:cNvPr id="972" name="TextBox 4"/>
          <p:cNvSpPr/>
          <p:nvPr/>
        </p:nvSpPr>
        <p:spPr>
          <a:xfrm>
            <a:off x="1017720" y="907920"/>
            <a:ext cx="76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найтонші та найкоротші кровоносні су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іамет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найбільших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становить 30 м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онкі, легко розтягуються, оскільки мають слабо розвинений м'язовий ша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уди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по яких кров тече від серця до тканин  та органів, називається вен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удова артерій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е відповідає їхнім функція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йшовши через капіляри й збагатившись  СО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2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та іншими продуктами життєдіяльності, кров потрапляє до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венул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Сердце 5"/>
          <p:cNvSpPr/>
          <p:nvPr/>
        </p:nvSpPr>
        <p:spPr>
          <a:xfrm>
            <a:off x="266760" y="966960"/>
            <a:ext cx="647640" cy="433080"/>
          </a:xfrm>
          <a:custGeom>
            <a:avLst/>
            <a:gdLst/>
            <a:ahLst/>
            <a:rect l="l" t="t" r="r" b="b"/>
            <a:pathLst>
              <a:path w="647700" h="433387">
                <a:moveTo>
                  <a:pt x="323850" y="108347"/>
                </a:moveTo>
                <a:cubicBezTo>
                  <a:pt x="458788" y="-144462"/>
                  <a:pt x="985044" y="108347"/>
                  <a:pt x="323850" y="433387"/>
                </a:cubicBezTo>
                <a:cubicBezTo>
                  <a:pt x="-337344" y="108347"/>
                  <a:pt x="188913" y="-144462"/>
                  <a:pt x="323850" y="108347"/>
                </a:cubicBezTo>
                <a:close/>
              </a:path>
            </a:pathLst>
          </a:custGeom>
          <a:solidFill>
            <a:srgbClr val="ff0000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5-конечная звезда 6"/>
          <p:cNvSpPr/>
          <p:nvPr/>
        </p:nvSpPr>
        <p:spPr>
          <a:xfrm>
            <a:off x="401760" y="1787400"/>
            <a:ext cx="504720" cy="457200"/>
          </a:xfrm>
          <a:custGeom>
            <a:avLst/>
            <a:gdLst/>
            <a:ahLst/>
            <a:rect l="l" t="t" r="r" b="b"/>
            <a:pathLst>
              <a:path w="504825" h="457200">
                <a:moveTo>
                  <a:pt x="1" y="174634"/>
                </a:moveTo>
                <a:lnTo>
                  <a:pt x="192827" y="174636"/>
                </a:lnTo>
                <a:lnTo>
                  <a:pt x="252413" y="0"/>
                </a:lnTo>
                <a:lnTo>
                  <a:pt x="311998" y="174636"/>
                </a:lnTo>
                <a:lnTo>
                  <a:pt x="504824" y="174634"/>
                </a:lnTo>
                <a:lnTo>
                  <a:pt x="348824" y="282564"/>
                </a:lnTo>
                <a:lnTo>
                  <a:pt x="408412" y="457199"/>
                </a:lnTo>
                <a:lnTo>
                  <a:pt x="252413" y="349267"/>
                </a:lnTo>
                <a:lnTo>
                  <a:pt x="96413" y="457199"/>
                </a:lnTo>
                <a:lnTo>
                  <a:pt x="156001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4f81bd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2"/>
          <a:stretch/>
        </p:blipFill>
        <p:spPr>
          <a:xfrm>
            <a:off x="293760" y="521640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3"/>
          <a:stretch/>
        </p:blipFill>
        <p:spPr>
          <a:xfrm>
            <a:off x="266760" y="256536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5" descr=""/>
          <p:cNvPicPr/>
          <p:nvPr/>
        </p:nvPicPr>
        <p:blipFill>
          <a:blip r:embed="rId4"/>
          <a:stretch/>
        </p:blipFill>
        <p:spPr>
          <a:xfrm>
            <a:off x="293760" y="4395960"/>
            <a:ext cx="592200" cy="5364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6" descr=""/>
          <p:cNvPicPr/>
          <p:nvPr/>
        </p:nvPicPr>
        <p:blipFill>
          <a:blip r:embed="rId5"/>
          <a:stretch/>
        </p:blipFill>
        <p:spPr>
          <a:xfrm>
            <a:off x="311040" y="3487680"/>
            <a:ext cx="592200" cy="5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Диференційоване домашнє завдання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Прямоугольник 2"/>
          <p:cNvSpPr/>
          <p:nvPr/>
        </p:nvSpPr>
        <p:spPr>
          <a:xfrm>
            <a:off x="755640" y="1374840"/>
            <a:ext cx="7993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Опрацювати параграф «Органи кровообігу. Серце»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(початковий і серед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ерце працює упродовж усього життя без зупинки. Поясніть, у чому причина такої працездатності серця та його м'язів?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остат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ласти рекламу «Пропаганда  здорового способу життя».  Групи учнів повинні  прорекламувати заняття фізичними вправами та їх вплив на покращення і зміцнення серцевого м’яза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високи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Заголовок 1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8229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рямоугольник 2"/>
          <p:cNvSpPr/>
          <p:nvPr/>
        </p:nvSpPr>
        <p:spPr>
          <a:xfrm>
            <a:off x="468360" y="907920"/>
            <a:ext cx="8280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е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джерело житт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початок всьо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c00000"/>
                </a:solidFill>
                <a:latin typeface="Arial Black"/>
              </a:rPr>
              <a:t>сонце мікрокосмус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ід якого зале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ся сила і свіжість організ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Ніщо не може замінити </a:t>
            </a: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я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70c0"/>
                </a:solidFill>
                <a:latin typeface="Arial Black"/>
              </a:rPr>
              <a:t>і взяти на себе його функції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Вільям Гарв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англійський фізіолог  Х</a:t>
            </a:r>
            <a:r>
              <a:rPr b="0" i="1" lang="en-US" sz="1800" spc="-1" strike="noStrike">
                <a:solidFill>
                  <a:srgbClr val="7030a0"/>
                </a:solidFill>
                <a:latin typeface="Arial Black"/>
              </a:rPr>
              <a:t>V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ІІ с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27760" cy="1603440"/>
          </a:xfrm>
          <a:prstGeom prst="rect">
            <a:avLst/>
          </a:prstGeom>
          <a:ln w="0">
            <a:noFill/>
          </a:ln>
        </p:spPr>
      </p:pic>
      <p:sp>
        <p:nvSpPr>
          <p:cNvPr id="981" name="TextBox 3"/>
          <p:cNvSpPr/>
          <p:nvPr/>
        </p:nvSpPr>
        <p:spPr>
          <a:xfrm>
            <a:off x="663480" y="1413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Кажуть, що у Наполеона  був пульс 40 ударів за хвилину. Такий  пульс навіть назвали «наполеонівським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Прямоугольник 5"/>
          <p:cNvSpPr/>
          <p:nvPr/>
        </p:nvSpPr>
        <p:spPr>
          <a:xfrm>
            <a:off x="4513320" y="3933720"/>
            <a:ext cx="414324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а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значає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атт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овою ті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ши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акто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Прямоугольник 4"/>
          <p:cNvSpPr/>
          <p:nvPr/>
        </p:nvSpPr>
        <p:spPr>
          <a:xfrm>
            <a:off x="679320" y="2773440"/>
            <a:ext cx="79772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ерц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ат. соr, греч. cardia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'язов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рожнист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орган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нусоподібної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713520" y="472608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о ви знаєте про серц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Прямоугольник 2"/>
          <p:cNvSpPr/>
          <p:nvPr/>
        </p:nvSpPr>
        <p:spPr>
          <a:xfrm>
            <a:off x="1476360" y="21272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в чому ж полягає незвичайність  цього пульсу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2"/>
          <a:stretch/>
        </p:blipFill>
        <p:spPr>
          <a:xfrm>
            <a:off x="663480" y="2282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9" descr=""/>
          <p:cNvPicPr/>
          <p:nvPr/>
        </p:nvPicPr>
        <p:blipFill>
          <a:blip r:embed="rId3"/>
          <a:stretch/>
        </p:blipFill>
        <p:spPr>
          <a:xfrm>
            <a:off x="668160" y="41162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70c0"/>
                </a:solidFill>
                <a:latin typeface="Calibri"/>
              </a:rPr>
              <a:t>Тема уроку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755280" y="2708280"/>
            <a:ext cx="799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b050"/>
                </a:solidFill>
                <a:latin typeface="Calibri"/>
              </a:rPr>
              <a:t>Завдання уроку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1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ознайомитися з будовою серц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изначити як будова серця пов'язана з його виконуваними  функці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і особливості  будови серцевого м'яз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4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 регулюється робота серц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Прямоугольник 6"/>
          <p:cNvSpPr/>
          <p:nvPr/>
        </p:nvSpPr>
        <p:spPr>
          <a:xfrm>
            <a:off x="354600" y="1214280"/>
            <a:ext cx="855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Mistral"/>
              </a:rPr>
              <a:t>Будова й функції серц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8"/>
          <p:cNvSpPr/>
          <p:nvPr/>
        </p:nvSpPr>
        <p:spPr>
          <a:xfrm>
            <a:off x="826920" y="26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Як працює серце лю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Як працює серце людини_TS - Фильм 01.mpg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9420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785440" cy="2592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ідомо, що  серце людини скорочується в середньому  70 раз за 1 хв., при кожному скороченні виштовхується близько 50 мл. крові. Який  обєм крові  перекачує ваше серце за 6 урок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WordArt 4"/>
          <p:cNvSpPr txBox="1"/>
          <p:nvPr/>
        </p:nvSpPr>
        <p:spPr>
          <a:xfrm>
            <a:off x="324000" y="18900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ЗАДА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995" name="Rectangle 5"/>
          <p:cNvSpPr/>
          <p:nvPr/>
        </p:nvSpPr>
        <p:spPr>
          <a:xfrm>
            <a:off x="1571760" y="3429000"/>
            <a:ext cx="24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ІШ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14200" y="4071960"/>
            <a:ext cx="8715600" cy="574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х 45 = 3150 раз скоро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179280" y="4653000"/>
            <a:ext cx="8785440" cy="1062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50 х 50 = 157500 мл. = 157,5 л. крові перека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179280" y="5734080"/>
            <a:ext cx="8785440" cy="112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7,5 л. х 6 уроков = 945,500 л. крові перекачується за 6 уро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2"/>
          <p:cNvSpPr/>
          <p:nvPr/>
        </p:nvSpPr>
        <p:spPr>
          <a:xfrm>
            <a:off x="4788000" y="1052640"/>
            <a:ext cx="388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– це центральний орган кровообігу, розташований у грудній порожни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Широка частина серця (основа) спрямована вгору й праворуч, вузька (верхівка) донизу й лівору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3 серця розташовані в лівій частині грудної порожнини, 1/3 – у прав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Picture 2" descr="C:\Documents and Settings\1\Рабочий стол\45743849_gdeserdce.jpg"/>
          <p:cNvPicPr/>
          <p:nvPr/>
        </p:nvPicPr>
        <p:blipFill>
          <a:blip r:embed="rId1"/>
          <a:stretch/>
        </p:blipFill>
        <p:spPr>
          <a:xfrm>
            <a:off x="250920" y="1197000"/>
            <a:ext cx="41101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27:10Z</dcterms:created>
  <dc:creator>Галушко В.В.</dc:creator>
  <dc:description/>
  <cp:keywords>серце</cp:keywords>
  <dc:language>en-US</dc:language>
  <cp:lastModifiedBy>пк</cp:lastModifiedBy>
  <dcterms:modified xsi:type="dcterms:W3CDTF">2012-12-13T05:09:02Z</dcterms:modified>
  <cp:revision>101</cp:revision>
  <dc:subject>Кровообіг 9 клас</dc:subject>
  <dc:title>Будова й функції серц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27000000000001024140</vt:lpwstr>
  </property>
</Properties>
</file>