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5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9.jpeg" ContentType="image/jpeg"/>
  <Override PartName="/ppt/media/image52.jpeg" ContentType="image/jpeg"/>
  <Override PartName="/ppt/media/image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9.png" ContentType="image/png"/>
  <Override PartName="/ppt/media/image38.jpeg" ContentType="image/jpeg"/>
  <Override PartName="/ppt/media/image44.jpeg" ContentType="image/jpeg"/>
  <Override PartName="/ppt/media/image40.jpeg" ContentType="image/jpeg"/>
  <Override PartName="/ppt/media/image32.png" ContentType="image/png"/>
  <Override PartName="/ppt/media/image45.jpeg" ContentType="image/jpeg"/>
  <Override PartName="/ppt/media/image30.png" ContentType="image/png"/>
  <Override PartName="/ppt/media/image41.jpeg" ContentType="image/jpeg"/>
  <Override PartName="/ppt/media/image54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31.jpeg" ContentType="image/jpeg"/>
  <Override PartName="/ppt/media/image53.png" ContentType="image/png"/>
  <Override PartName="/ppt/media/image39.jpeg" ContentType="image/jpeg"/>
  <Override PartName="/ppt/media/image8.png" ContentType="image/png"/>
  <Override PartName="/ppt/media/image7.png" ContentType="image/png"/>
  <Override PartName="/ppt/media/image37.png" ContentType="image/png"/>
  <Override PartName="/ppt/media/image34.jpeg" ContentType="image/jpeg"/>
  <Override PartName="/ppt/media/image6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  <p:sldId id="282" r:id="rId46"/>
    <p:sldId id="283" r:id="rId47"/>
    <p:sldId id="284" r:id="rId48"/>
    <p:sldId id="285" r:id="rId49"/>
    <p:sldId id="286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slide" Target="slides/slide27.xml"/><Relationship Id="rId47" Type="http://schemas.openxmlformats.org/officeDocument/2006/relationships/slide" Target="slides/slide28.xml"/><Relationship Id="rId48" Type="http://schemas.openxmlformats.org/officeDocument/2006/relationships/slide" Target="slides/slide29.xml"/><Relationship Id="rId49" Type="http://schemas.openxmlformats.org/officeDocument/2006/relationships/slide" Target="slides/slide30.xml"/><Relationship Id="rId50" Type="http://schemas.openxmlformats.org/officeDocument/2006/relationships/slide" Target="slides/slide31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move the slide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B975-AB7B-4571-BA80-3F62714592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volution.verges.ru/images/pictures/muscles5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AFFB-2603-46E3-8EE9-01AE0C2955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tudmed.ru/3/30.files/image00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edicinform.net/human/anatomy/ms1_cha.jpg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мышечная тка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F25DB-871A-4AB6-8C53-423DB844D5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1787-649D-4304-BE5D-A3B277FFF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8E2D-F1DB-44B0-9268-170EAD99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85370-02E4-4643-8B94-9888C90B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33D7D-381D-4F72-98DA-8063F1FD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DC9D0-E489-45C5-8246-80D23D83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7B8D7-7EC6-49A3-852D-B6A7346B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43042-F2F6-4DE0-AF08-5127EA10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EBFDB-44C6-485F-8C16-66B32718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87418-5124-47B4-BB1B-C8BA1BA67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819A3-3A7B-4F8D-BAAE-369CBF22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21C1B-793E-4C5D-8724-D8B769A7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61AA9-233A-4B26-AB9A-2C1D7931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C61C-F008-4869-A7BF-8AC26F52E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F1243-3F5F-460B-95C8-C70F011B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D9D99-4331-4ABD-916B-DB907E0E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CC505-C622-4952-89E3-CF108F8B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D2F93-4A7A-48E1-9149-36BEE572F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CFDE2-A252-4796-9C8E-B3ADD29E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A8AD0-F0E0-4660-B5E5-1B5446DE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7DF2D-D914-4D9C-8A1C-A9582867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0FD63-6B87-42CA-B505-B039CBA3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94EF9-069E-4ECD-8720-B335545F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60DA0-1248-4172-B8BD-6DADC542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5C9C-70F8-4FAF-9D3A-4604B17E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B1105-1CE2-4596-A9D4-53F41BD0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99D1C-21EE-409B-86DA-EE5AAEDD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ACE69-7544-4548-B8FF-CF615F0B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DBBA8-4F21-4C7C-97AF-A78C25D9B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58746-3F7C-4F58-9656-C052ACF5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4379EA-E82D-442E-9C3A-C91045C9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8F5DF-CDC0-4571-BCF8-629133AC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38AE5-974C-4694-87FB-71A15BBC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E6E6A-0D75-461C-95FF-D8E507A0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72058-6968-483D-85FF-E8B7AD09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66BD-7984-4ADD-A945-DE215158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994B4-CDA5-4E06-B403-68BEF8F5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5DA60-52C3-455D-905F-0D6422BB0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491D8-0661-47F1-B480-EF5672E6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F5F620-5068-43DF-A4F8-4BC84A63E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215E2-0CD1-4178-BA77-8AFF74D3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5DB8C-E36B-459A-92A3-C4F60FE0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B1A83-8A88-483E-9FE7-CBD217AA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93A1E-EB17-429C-88CB-F2DD3F74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91018-D270-4F7E-9B19-FFD66677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BE356-9E55-4E9E-B37E-63F0196C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B684-E278-43F7-B8E1-1EF72D7D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BF767-78A9-453B-B38D-8A843197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DEC80D-22A5-45A1-82A8-BD9A3FB1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12DA36-1B45-48E7-85FA-A3E3D222E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B970C-DB64-476A-A9CB-C36AB38B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123E5-D78B-4982-8FE4-8D06F550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4418C5-A191-4B44-9713-12EDD462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B6C9F4-500C-4C09-8FC9-14F402C4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65ACF-5AC6-4C4E-AF2F-164898E18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5BEC8B-67D4-453D-9078-A88BECBF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210FFB-7993-4563-B601-506B50F3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9335-7C69-465A-BF21-1224F9A6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2EFF7-A533-4943-ACE0-76B9DDE1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08C80-C772-4BB8-9A0A-DA0713C8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AE1112-9BD1-4370-A0BD-8DBFEBFA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AA0C29-29DA-49F0-BA7F-DE7BDB85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C1926-EF79-4C63-BC87-F17869AC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9FC3B3-793F-4C95-BED9-90BC8AF37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D82BAE-44C3-43B5-8EA7-CDA94575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791A0F-9399-43ED-B4DF-A4A204B1D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506200-E689-4C8C-ACA3-F1AF4ABB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B2A9EF-4ED6-4053-A30D-8BEA5C1A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3B64-7D75-484B-9476-1A7CD342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844D86-5D9C-4ECB-A0A0-38DD4DE0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461B3E-8F1B-4B8C-82BD-03E08A72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3FD60D-05A3-4EE8-90CE-B188699A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BEA01E-BF21-46EF-9418-6B2E85F1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EF54D0-8048-4B79-BFA3-DA679766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774B29-0AC0-4ABE-AFC3-A22DF64E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A4D333-3432-4B30-983B-97316284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A6781-98E4-465F-A7E2-3B46396D7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26BF49-C81E-4263-AC5F-72A1B1A4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877283-492B-4FA5-867F-AF4F062D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3E1E4-5CCF-4A0C-9624-2D65CB00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E5F8C2-756A-4B96-BBA7-1E964A46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BB08F5-FF0C-4A24-B53D-BC911EE8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4039A7-E948-4555-A841-249D6B9DA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6EB1C3-4329-41FD-AA32-2C62C75B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A5CAAE-8F4B-449B-B3EA-DCE234AF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9E4D0D-2297-4FC1-9610-DBCD5741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4983A8-41CF-491E-8E1B-FCF12766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943E51-1E7B-41FC-B90B-82ED7A1C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2B0680-1AC1-4CAB-8C58-93F13953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605BFC-902A-4398-B84A-4873E4657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9DB6F-4548-4AED-B168-090BA7D0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B94A25-9D9A-4572-AE00-A2EAB57C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221D80-1134-4944-9637-4E8FDCB0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0228F4-B9EE-4EA4-8FC6-F4EF53B1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5D83CC-FD68-4FC6-972B-C8AA43E6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11E56C-36C2-45DA-9AE5-2FC0430E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69279B-F4BF-44C2-9399-B0DF9F45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9EA14C-1174-4F96-B586-7FD00515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152F3C-423B-4220-BE32-7156F9D3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2BE76E-1FB1-404C-AE2A-A695B490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F66E8E-2B7A-46BD-B2E3-0CEDC2A1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759E-0435-4294-AA0B-EDF1545B7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D2225A-199D-4F6B-84FE-75281645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B6736B-F9AA-4ED5-B7CF-1E7712B4E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DC768D-F08B-4AE6-9F9B-EDAF7897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32363F-1B1F-4F25-B6C8-29028B26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D9DCFC-B6E8-4E38-9BC0-7F95FFE7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0FD2B1-4310-44E7-B9DD-664BAF98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DF2521-293C-4AD2-85BB-9240F713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D9E528-2D95-440C-85E8-C584D355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F54CFF-D209-49CB-ADB5-D80B5A9E5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46F4D9-1E04-4159-8EC7-FFA8CB28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DA0C-3136-4CB9-8292-9188C5FE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69A5-6783-4D6A-AB67-9A753059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4F755E-4A2D-4E05-9AAD-F2230C7B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AE71B7-423B-4209-9257-9AC0B3CE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12AAB9-8AE6-48BF-B1A9-88F83442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A4D3EE-A3D1-4E7E-A060-58B58585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0B6922-8523-482F-91A5-C116C826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CAF7-36C7-4447-84E6-DE800B44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DF14-27AA-453A-AD76-195EE4FB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E5A8-C952-47B8-B06E-5750EF23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47EB-6151-49E3-945C-9255E5AB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7E32A-2ED7-4657-ACDB-1027BC259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9ACD2-7D4E-49AF-AD75-1725AAF7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F9767-86AD-4FC8-929B-91F370CE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37C55-98E5-4E34-AE4E-6D2AAF5E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02C93-D373-4606-ABAA-67C13ECA1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E38-B45A-4BCC-B188-4AA1C314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52CE8-EB36-4B95-82C9-56A838C2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2FF0B-1C95-463B-A948-C879497F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AD7F2-D1F3-417B-B077-426EAB3F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319A7-FCA0-4EF1-8088-8C6597E2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D9992-B522-4C3F-9E1F-EFCECEC5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3CAE5-6408-4443-849E-14A176289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7126B-823C-4EDD-8209-3E58B642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11269-3725-46E2-B0F7-2F4BFB0F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FFAFF-36D6-4E56-B1CD-854C3588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2DA12-C5E5-4B8A-B212-F1C5D6140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6DB-A3B0-4A60-A4EE-502D28CF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87A50-6878-48A6-89DD-28AE2BC3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E19A3-1B0D-4CE3-AD04-79759E79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E89F1-C41A-49D3-9A03-6E21B073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2A3BC-2678-422F-8000-C881AAB0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29BC1-4845-4C7A-912C-4DE7829A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10E49-D477-47C1-B5B9-C76F5183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045A1-6D54-4D18-94D4-1B49AD17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076E1-B861-4430-8774-97F99996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40B80-11BD-4B8B-856F-578890B79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3CD4C-7635-46F1-8122-28254799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262E-3B07-4C90-AC74-E867BCA6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FDD9D-0D26-4FCB-A41F-AC2511AB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C2D6C-A1D0-424E-BF67-07903E32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8ADE3-CFC6-476E-BBC1-5B103679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25A1D-503E-4436-B655-43077DDF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2D6F7-81A7-4CFB-9E98-E166186B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2162E-FFAE-46B1-85C1-C15F48BE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57578-3CEE-4966-8305-486B16AC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D5D5E-96EF-4515-AE68-AD75F679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03A62-4E90-426F-B9A8-65E289E9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50948-97BC-44AB-84DE-B139182F2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2260-8554-4C35-8BC4-09261BA9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9E365-F346-4A5E-82E3-E712E6F4B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68246-74A5-41FD-9487-76C7174D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F4D7C-1D48-4F4A-BF49-1EC790E7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64EED-FD6C-48F8-800B-CEE78C57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DD1A3-D748-4A93-9A23-C50495D7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D0D05-04C0-4A6F-8938-7945AE93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EEFD1-3EA2-4696-A6D7-FB03C68B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E2BA4-7751-420A-A036-DEDCEA96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D2AD6-E448-481F-BB75-09E44C20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AEAAF-E661-48E6-8D44-7F835BBB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A85C-B974-484C-A071-AEBA17F2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57107-3922-49EB-88D0-83C0705C6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08B5B-A887-4966-93FB-F04BF7433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44FC9-4696-4601-848C-0667B1BD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82A04-1F0E-4C8D-9FAD-46C17C6C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76581-73BE-4E9B-B698-ED19AC59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9149B-5566-4FB0-B935-8B2896FA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64F9C-8DDC-47EF-9A73-CF9174A5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9E75C1-F6DD-42B0-AB1B-E8CB8E95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C1717-DEF6-4CB1-A3CF-AC1464DC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19296-587C-41EC-B959-2E0D2269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7EB1-F493-49D6-927F-21C5095D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32E93-7781-44C6-84DC-A476DC82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724A25-33A0-4015-AAAD-880FAB53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9329C-CE83-4088-8F31-7F294ADE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0EB66-D084-47F4-A593-FF1470238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D83CB-8F27-4D20-A162-EB7EA75FE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13D98-9630-4C1E-81D2-EB8837A0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08274-9922-4333-82F5-14CAF109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F30D2-4794-4A9A-87D6-59B45F6F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68871-CB10-4BCE-93E9-FDD9E2EB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9823F-5CD0-41F4-AD58-A6BB9F74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9295-F19B-4DE7-B712-41D7AF2C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6D0B3-685B-4C90-92E9-7D03D2F8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76255D-8EFE-47E9-8308-795E87B8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3144D-3662-4599-BED0-62212004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8A096-02DF-49BF-9A42-6635859B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0A2FB0-4DAC-4748-8C7B-D5202F98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F9895-0A09-4748-8F99-4388FBC1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F862E-2891-4BC7-BA88-8C5D4A3D7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2FDBF-691E-41CF-9491-9EA4F599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C8E4E-AA02-4D53-82D2-4799A984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806F0-AE7A-4CED-B8B2-2916B2D8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81.xml"/><Relationship Id="rId13" Type="http://schemas.openxmlformats.org/officeDocument/2006/relationships/slideLayout" Target="../slideLayouts/slideLayout182.xml"/><Relationship Id="rId14" Type="http://schemas.openxmlformats.org/officeDocument/2006/relationships/slideLayout" Target="../slideLayouts/slideLayout183.xml"/><Relationship Id="rId15" Type="http://schemas.openxmlformats.org/officeDocument/2006/relationships/slideLayout" Target="../slideLayouts/slideLayout184.xml"/><Relationship Id="rId16" Type="http://schemas.openxmlformats.org/officeDocument/2006/relationships/slideLayout" Target="../slideLayouts/slideLayout185.xml"/><Relationship Id="rId17" Type="http://schemas.openxmlformats.org/officeDocument/2006/relationships/slideLayout" Target="../slideLayouts/slideLayout186.xml"/><Relationship Id="rId18" Type="http://schemas.openxmlformats.org/officeDocument/2006/relationships/slideLayout" Target="../slideLayouts/slideLayout187.xml"/><Relationship Id="rId19" Type="http://schemas.openxmlformats.org/officeDocument/2006/relationships/slideLayout" Target="../slideLayouts/slideLayout188.xml"/><Relationship Id="rId20" Type="http://schemas.openxmlformats.org/officeDocument/2006/relationships/slideLayout" Target="../slideLayouts/slideLayout189.xml"/><Relationship Id="rId21" Type="http://schemas.openxmlformats.org/officeDocument/2006/relationships/slideLayout" Target="../slideLayouts/slideLayout190.xml"/><Relationship Id="rId22" Type="http://schemas.openxmlformats.org/officeDocument/2006/relationships/slideLayout" Target="../slideLayouts/slideLayout191.xml"/><Relationship Id="rId2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93.xml"/><Relationship Id="rId13" Type="http://schemas.openxmlformats.org/officeDocument/2006/relationships/slideLayout" Target="../slideLayouts/slideLayout194.xml"/><Relationship Id="rId14" Type="http://schemas.openxmlformats.org/officeDocument/2006/relationships/slideLayout" Target="../slideLayouts/slideLayout195.xml"/><Relationship Id="rId15" Type="http://schemas.openxmlformats.org/officeDocument/2006/relationships/slideLayout" Target="../slideLayouts/slideLayout196.xml"/><Relationship Id="rId16" Type="http://schemas.openxmlformats.org/officeDocument/2006/relationships/slideLayout" Target="../slideLayouts/slideLayout197.xml"/><Relationship Id="rId17" Type="http://schemas.openxmlformats.org/officeDocument/2006/relationships/slideLayout" Target="../slideLayouts/slideLayout198.xml"/><Relationship Id="rId18" Type="http://schemas.openxmlformats.org/officeDocument/2006/relationships/slideLayout" Target="../slideLayouts/slideLayout199.xml"/><Relationship Id="rId19" Type="http://schemas.openxmlformats.org/officeDocument/2006/relationships/slideLayout" Target="../slideLayouts/slideLayout200.xml"/><Relationship Id="rId20" Type="http://schemas.openxmlformats.org/officeDocument/2006/relationships/slideLayout" Target="../slideLayouts/slideLayout201.xml"/><Relationship Id="rId21" Type="http://schemas.openxmlformats.org/officeDocument/2006/relationships/slideLayout" Target="../slideLayouts/slideLayout202.xml"/><Relationship Id="rId22" Type="http://schemas.openxmlformats.org/officeDocument/2006/relationships/slideLayout" Target="../slideLayouts/slideLayout203.xml"/><Relationship Id="rId2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6F90-447D-41B4-B91C-4EAE03D59C07}" type="slidenum"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80FE-B775-470D-B6D8-A78506656F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5703-F335-459E-ABF4-5D24341519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3810-1733-4ECA-95E8-3B8E15EA29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47D1-68C7-4999-AA23-B2CDB34186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30ED-E2C2-410A-8343-0C54C9DC48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6A12-F4D0-4D34-B6DC-EC2DD97DC2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8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639" name="Freeform 16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17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18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19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20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21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Freeform 23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Freeform 24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25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26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27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28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29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30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Freeform 31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Freeform 32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Freeform 33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34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35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36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37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38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39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40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Freeform 41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Freeform 42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43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44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45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46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47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48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49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50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51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52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53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54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Freeform 55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56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57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Freeform 58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59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Freeform 60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61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Freeform 62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63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64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Freeform 65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Freeform 66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Freeform 67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68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69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70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71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72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73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74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75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76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77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78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79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80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81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82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83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84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85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86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87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88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89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90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91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92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93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94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Freeform 95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Freeform 96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97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98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99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100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101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102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103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104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105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106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107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Freeform 108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Freeform 109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110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111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112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113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114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Freeform 115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Freeform 116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Freeform 117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Freeform 118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Freeform 119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Freeform 120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Freeform 121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Freeform 122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reeform 123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47" name="Picture 7" descr="artplus_nature_naturalcity42_a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12" descr="artplus_nature_naturalcity42_i"/>
          <p:cNvPicPr/>
          <p:nvPr/>
        </p:nvPicPr>
        <p:blipFill>
          <a:blip r:embed="rId4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0" descr="artplus_nature_naturalcity42_c"/>
          <p:cNvPicPr/>
          <p:nvPr/>
        </p:nvPicPr>
        <p:blipFill>
          <a:blip r:embed="rId5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3" descr="artplus_nature_naturalcity42_f"/>
          <p:cNvPicPr/>
          <p:nvPr/>
        </p:nvPicPr>
        <p:blipFill>
          <a:blip r:embed="rId6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sp>
        <p:nvSpPr>
          <p:cNvPr id="751" name="Text Box 126"/>
          <p:cNvSpPr/>
          <p:nvPr/>
        </p:nvSpPr>
        <p:spPr>
          <a:xfrm>
            <a:off x="8042760" y="152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2" name="Picture 9" descr="artplus_nature_naturalcity42_b"/>
          <p:cNvPicPr/>
          <p:nvPr/>
        </p:nvPicPr>
        <p:blipFill>
          <a:blip r:embed="rId7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8" descr="artplus_nature_naturalcity42_e"/>
          <p:cNvPicPr/>
          <p:nvPr/>
        </p:nvPicPr>
        <p:blipFill>
          <a:blip r:embed="rId8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11" descr="artplus_nature_naturalcity42_d"/>
          <p:cNvPicPr/>
          <p:nvPr/>
        </p:nvPicPr>
        <p:blipFill>
          <a:blip r:embed="rId9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28" descr="a1"/>
          <p:cNvPicPr/>
          <p:nvPr/>
        </p:nvPicPr>
        <p:blipFill>
          <a:blip r:embed="rId10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129" descr="b_1"/>
          <p:cNvPicPr/>
          <p:nvPr/>
        </p:nvPicPr>
        <p:blipFill>
          <a:blip r:embed="rId11"/>
          <a:stretch/>
        </p:blipFill>
        <p:spPr>
          <a:xfrm>
            <a:off x="10204560" y="196848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dt" idx="46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 type="ftr" idx="47"/>
          </p:nvPr>
        </p:nvSpPr>
        <p:spPr>
          <a:xfrm>
            <a:off x="6705720" y="6476760"/>
            <a:ext cx="228600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 type="sldNum" idx="48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02A8-A093-4B94-B029-BB927A4145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2"/>
    <p:sldLayoutId id="2147483845" r:id="rId13"/>
    <p:sldLayoutId id="2147483846" r:id="rId14"/>
    <p:sldLayoutId id="2147483847" r:id="rId15"/>
    <p:sldLayoutId id="2147483848" r:id="rId16"/>
    <p:sldLayoutId id="2147483849" r:id="rId17"/>
    <p:sldLayoutId id="2147483850" r:id="rId18"/>
    <p:sldLayoutId id="2147483851" r:id="rId19"/>
    <p:sldLayoutId id="2147483852" r:id="rId20"/>
    <p:sldLayoutId id="2147483853" r:id="rId21"/>
    <p:sldLayoutId id="2147483854" r:id="rId22"/>
    <p:sldLayoutId id="2147483855" r:id="rId2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12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9" name="Group 15"/>
          <p:cNvGrpSpPr/>
          <p:nvPr/>
        </p:nvGrpSpPr>
        <p:grpSpPr>
          <a:xfrm>
            <a:off x="152280" y="380880"/>
            <a:ext cx="6838920" cy="3365640"/>
            <a:chOff x="152280" y="380880"/>
            <a:chExt cx="6838920" cy="3365640"/>
          </a:xfrm>
        </p:grpSpPr>
        <p:sp>
          <p:nvSpPr>
            <p:cNvPr id="800" name="Freeform 16"/>
            <p:cNvSpPr/>
            <p:nvPr/>
          </p:nvSpPr>
          <p:spPr>
            <a:xfrm>
              <a:off x="277560" y="5302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Freeform 17"/>
            <p:cNvSpPr/>
            <p:nvPr/>
          </p:nvSpPr>
          <p:spPr>
            <a:xfrm>
              <a:off x="214200" y="8240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Freeform 18"/>
            <p:cNvSpPr/>
            <p:nvPr/>
          </p:nvSpPr>
          <p:spPr>
            <a:xfrm>
              <a:off x="701640" y="10191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Freeform 19"/>
            <p:cNvSpPr/>
            <p:nvPr/>
          </p:nvSpPr>
          <p:spPr>
            <a:xfrm>
              <a:off x="1942920" y="11080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Freeform 20"/>
            <p:cNvSpPr/>
            <p:nvPr/>
          </p:nvSpPr>
          <p:spPr>
            <a:xfrm>
              <a:off x="1190520" y="17175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Freeform 21"/>
            <p:cNvSpPr/>
            <p:nvPr/>
          </p:nvSpPr>
          <p:spPr>
            <a:xfrm>
              <a:off x="1396800" y="18194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Freeform 22"/>
            <p:cNvSpPr/>
            <p:nvPr/>
          </p:nvSpPr>
          <p:spPr>
            <a:xfrm>
              <a:off x="1563480" y="18604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Freeform 23"/>
            <p:cNvSpPr/>
            <p:nvPr/>
          </p:nvSpPr>
          <p:spPr>
            <a:xfrm>
              <a:off x="1652400" y="18651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Freeform 24"/>
            <p:cNvSpPr/>
            <p:nvPr/>
          </p:nvSpPr>
          <p:spPr>
            <a:xfrm>
              <a:off x="1361880" y="5223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Freeform 25"/>
            <p:cNvSpPr/>
            <p:nvPr/>
          </p:nvSpPr>
          <p:spPr>
            <a:xfrm>
              <a:off x="1488960" y="4572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Freeform 26"/>
            <p:cNvSpPr/>
            <p:nvPr/>
          </p:nvSpPr>
          <p:spPr>
            <a:xfrm>
              <a:off x="1814400" y="5684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Freeform 27"/>
            <p:cNvSpPr/>
            <p:nvPr/>
          </p:nvSpPr>
          <p:spPr>
            <a:xfrm>
              <a:off x="1811160" y="4381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Freeform 28"/>
            <p:cNvSpPr/>
            <p:nvPr/>
          </p:nvSpPr>
          <p:spPr>
            <a:xfrm>
              <a:off x="1677960" y="5493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Freeform 29"/>
            <p:cNvSpPr/>
            <p:nvPr/>
          </p:nvSpPr>
          <p:spPr>
            <a:xfrm>
              <a:off x="1785960" y="5619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Freeform 30"/>
            <p:cNvSpPr/>
            <p:nvPr/>
          </p:nvSpPr>
          <p:spPr>
            <a:xfrm>
              <a:off x="1739880" y="5047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Freeform 31"/>
            <p:cNvSpPr/>
            <p:nvPr/>
          </p:nvSpPr>
          <p:spPr>
            <a:xfrm>
              <a:off x="1697040" y="4539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Freeform 32"/>
            <p:cNvSpPr/>
            <p:nvPr/>
          </p:nvSpPr>
          <p:spPr>
            <a:xfrm>
              <a:off x="1877760" y="4586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Freeform 33"/>
            <p:cNvSpPr/>
            <p:nvPr/>
          </p:nvSpPr>
          <p:spPr>
            <a:xfrm>
              <a:off x="152280" y="8478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Freeform 34"/>
            <p:cNvSpPr/>
            <p:nvPr/>
          </p:nvSpPr>
          <p:spPr>
            <a:xfrm>
              <a:off x="1353960" y="1658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Freeform 35"/>
            <p:cNvSpPr/>
            <p:nvPr/>
          </p:nvSpPr>
          <p:spPr>
            <a:xfrm>
              <a:off x="1358640" y="16984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Freeform 36"/>
            <p:cNvSpPr/>
            <p:nvPr/>
          </p:nvSpPr>
          <p:spPr>
            <a:xfrm>
              <a:off x="1682640" y="19083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Freeform 37"/>
            <p:cNvSpPr/>
            <p:nvPr/>
          </p:nvSpPr>
          <p:spPr>
            <a:xfrm>
              <a:off x="1879560" y="11397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Freeform 38"/>
            <p:cNvSpPr/>
            <p:nvPr/>
          </p:nvSpPr>
          <p:spPr>
            <a:xfrm>
              <a:off x="1720800" y="8143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Freeform 39"/>
            <p:cNvSpPr/>
            <p:nvPr/>
          </p:nvSpPr>
          <p:spPr>
            <a:xfrm>
              <a:off x="1823760" y="5302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Freeform 40"/>
            <p:cNvSpPr/>
            <p:nvPr/>
          </p:nvSpPr>
          <p:spPr>
            <a:xfrm>
              <a:off x="1923840" y="7016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Freeform 41"/>
            <p:cNvSpPr/>
            <p:nvPr/>
          </p:nvSpPr>
          <p:spPr>
            <a:xfrm>
              <a:off x="1949400" y="3808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Freeform 42"/>
            <p:cNvSpPr/>
            <p:nvPr/>
          </p:nvSpPr>
          <p:spPr>
            <a:xfrm>
              <a:off x="2287440" y="6732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Freeform 43"/>
            <p:cNvSpPr/>
            <p:nvPr/>
          </p:nvSpPr>
          <p:spPr>
            <a:xfrm>
              <a:off x="2736720" y="7779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Freeform 44"/>
            <p:cNvSpPr/>
            <p:nvPr/>
          </p:nvSpPr>
          <p:spPr>
            <a:xfrm>
              <a:off x="2896920" y="5191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Freeform 45"/>
            <p:cNvSpPr/>
            <p:nvPr/>
          </p:nvSpPr>
          <p:spPr>
            <a:xfrm>
              <a:off x="3324240" y="4683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Freeform 46"/>
            <p:cNvSpPr/>
            <p:nvPr/>
          </p:nvSpPr>
          <p:spPr>
            <a:xfrm>
              <a:off x="3477960" y="5205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47"/>
            <p:cNvSpPr/>
            <p:nvPr/>
          </p:nvSpPr>
          <p:spPr>
            <a:xfrm>
              <a:off x="3014640" y="9525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48"/>
            <p:cNvSpPr/>
            <p:nvPr/>
          </p:nvSpPr>
          <p:spPr>
            <a:xfrm>
              <a:off x="2928960" y="10288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49"/>
            <p:cNvSpPr/>
            <p:nvPr/>
          </p:nvSpPr>
          <p:spPr>
            <a:xfrm>
              <a:off x="5605200" y="28432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50"/>
            <p:cNvSpPr/>
            <p:nvPr/>
          </p:nvSpPr>
          <p:spPr>
            <a:xfrm>
              <a:off x="5838840" y="24289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51"/>
            <p:cNvSpPr/>
            <p:nvPr/>
          </p:nvSpPr>
          <p:spPr>
            <a:xfrm>
              <a:off x="5852880" y="24321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52"/>
            <p:cNvSpPr/>
            <p:nvPr/>
          </p:nvSpPr>
          <p:spPr>
            <a:xfrm>
              <a:off x="6218280" y="36543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53"/>
            <p:cNvSpPr/>
            <p:nvPr/>
          </p:nvSpPr>
          <p:spPr>
            <a:xfrm>
              <a:off x="6433920" y="35114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54"/>
            <p:cNvSpPr/>
            <p:nvPr/>
          </p:nvSpPr>
          <p:spPr>
            <a:xfrm>
              <a:off x="6703920" y="34322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55"/>
            <p:cNvSpPr/>
            <p:nvPr/>
          </p:nvSpPr>
          <p:spPr>
            <a:xfrm>
              <a:off x="6791400" y="33670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56"/>
            <p:cNvSpPr/>
            <p:nvPr/>
          </p:nvSpPr>
          <p:spPr>
            <a:xfrm>
              <a:off x="4056120" y="25956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57"/>
            <p:cNvSpPr/>
            <p:nvPr/>
          </p:nvSpPr>
          <p:spPr>
            <a:xfrm>
              <a:off x="4900680" y="21002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Freeform 58"/>
            <p:cNvSpPr/>
            <p:nvPr/>
          </p:nvSpPr>
          <p:spPr>
            <a:xfrm>
              <a:off x="5429160" y="22050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Freeform 59"/>
            <p:cNvSpPr/>
            <p:nvPr/>
          </p:nvSpPr>
          <p:spPr>
            <a:xfrm>
              <a:off x="5279760" y="21146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60"/>
            <p:cNvSpPr/>
            <p:nvPr/>
          </p:nvSpPr>
          <p:spPr>
            <a:xfrm>
              <a:off x="5357880" y="22892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61"/>
            <p:cNvSpPr/>
            <p:nvPr/>
          </p:nvSpPr>
          <p:spPr>
            <a:xfrm>
              <a:off x="5429160" y="25066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62"/>
            <p:cNvSpPr/>
            <p:nvPr/>
          </p:nvSpPr>
          <p:spPr>
            <a:xfrm>
              <a:off x="5594400" y="23558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63"/>
            <p:cNvSpPr/>
            <p:nvPr/>
          </p:nvSpPr>
          <p:spPr>
            <a:xfrm>
              <a:off x="5549760" y="16923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64"/>
            <p:cNvSpPr/>
            <p:nvPr/>
          </p:nvSpPr>
          <p:spPr>
            <a:xfrm>
              <a:off x="5572080" y="18813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65"/>
            <p:cNvSpPr/>
            <p:nvPr/>
          </p:nvSpPr>
          <p:spPr>
            <a:xfrm>
              <a:off x="5640120" y="21286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66"/>
            <p:cNvSpPr/>
            <p:nvPr/>
          </p:nvSpPr>
          <p:spPr>
            <a:xfrm>
              <a:off x="5761080" y="23526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67"/>
            <p:cNvSpPr/>
            <p:nvPr/>
          </p:nvSpPr>
          <p:spPr>
            <a:xfrm>
              <a:off x="5735520" y="24829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68"/>
            <p:cNvSpPr/>
            <p:nvPr/>
          </p:nvSpPr>
          <p:spPr>
            <a:xfrm>
              <a:off x="5778360" y="24670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69"/>
            <p:cNvSpPr/>
            <p:nvPr/>
          </p:nvSpPr>
          <p:spPr>
            <a:xfrm>
              <a:off x="5887800" y="25779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70"/>
            <p:cNvSpPr/>
            <p:nvPr/>
          </p:nvSpPr>
          <p:spPr>
            <a:xfrm>
              <a:off x="6311880" y="25113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Freeform 71"/>
            <p:cNvSpPr/>
            <p:nvPr/>
          </p:nvSpPr>
          <p:spPr>
            <a:xfrm>
              <a:off x="5681520" y="26049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Freeform 72"/>
            <p:cNvSpPr/>
            <p:nvPr/>
          </p:nvSpPr>
          <p:spPr>
            <a:xfrm>
              <a:off x="5603760" y="26352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Freeform 73"/>
            <p:cNvSpPr/>
            <p:nvPr/>
          </p:nvSpPr>
          <p:spPr>
            <a:xfrm>
              <a:off x="5570280" y="25891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8" name="Freeform 74"/>
            <p:cNvSpPr/>
            <p:nvPr/>
          </p:nvSpPr>
          <p:spPr>
            <a:xfrm>
              <a:off x="5624280" y="26067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9" name="Freeform 75"/>
            <p:cNvSpPr/>
            <p:nvPr/>
          </p:nvSpPr>
          <p:spPr>
            <a:xfrm>
              <a:off x="5546520" y="20797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0" name="Freeform 76"/>
            <p:cNvSpPr/>
            <p:nvPr/>
          </p:nvSpPr>
          <p:spPr>
            <a:xfrm>
              <a:off x="5627520" y="20653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1" name="Freeform 77"/>
            <p:cNvSpPr/>
            <p:nvPr/>
          </p:nvSpPr>
          <p:spPr>
            <a:xfrm>
              <a:off x="5662440" y="20383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2" name="Freeform 78"/>
            <p:cNvSpPr/>
            <p:nvPr/>
          </p:nvSpPr>
          <p:spPr>
            <a:xfrm>
              <a:off x="5678280" y="20574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3" name="Freeform 79"/>
            <p:cNvSpPr/>
            <p:nvPr/>
          </p:nvSpPr>
          <p:spPr>
            <a:xfrm>
              <a:off x="5251320" y="21668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4" name="Freeform 80"/>
            <p:cNvSpPr/>
            <p:nvPr/>
          </p:nvSpPr>
          <p:spPr>
            <a:xfrm>
              <a:off x="5235480" y="21304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5" name="Freeform 81"/>
            <p:cNvSpPr/>
            <p:nvPr/>
          </p:nvSpPr>
          <p:spPr>
            <a:xfrm>
              <a:off x="5229000" y="21020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6" name="Freeform 82"/>
            <p:cNvSpPr/>
            <p:nvPr/>
          </p:nvSpPr>
          <p:spPr>
            <a:xfrm>
              <a:off x="5209920" y="20383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7" name="Freeform 83"/>
            <p:cNvSpPr/>
            <p:nvPr/>
          </p:nvSpPr>
          <p:spPr>
            <a:xfrm>
              <a:off x="5213160" y="20779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8" name="Freeform 84"/>
            <p:cNvSpPr/>
            <p:nvPr/>
          </p:nvSpPr>
          <p:spPr>
            <a:xfrm>
              <a:off x="6540480" y="30672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9" name="Freeform 85"/>
            <p:cNvSpPr/>
            <p:nvPr/>
          </p:nvSpPr>
          <p:spPr>
            <a:xfrm>
              <a:off x="6906960" y="29894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0" name="Freeform 86"/>
            <p:cNvSpPr/>
            <p:nvPr/>
          </p:nvSpPr>
          <p:spPr>
            <a:xfrm>
              <a:off x="6653160" y="29494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1" name="Freeform 87"/>
            <p:cNvSpPr/>
            <p:nvPr/>
          </p:nvSpPr>
          <p:spPr>
            <a:xfrm>
              <a:off x="6640560" y="29145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2" name="Freeform 88"/>
            <p:cNvSpPr/>
            <p:nvPr/>
          </p:nvSpPr>
          <p:spPr>
            <a:xfrm>
              <a:off x="6397560" y="26067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Freeform 89"/>
            <p:cNvSpPr/>
            <p:nvPr/>
          </p:nvSpPr>
          <p:spPr>
            <a:xfrm>
              <a:off x="6451560" y="26748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Freeform 90"/>
            <p:cNvSpPr/>
            <p:nvPr/>
          </p:nvSpPr>
          <p:spPr>
            <a:xfrm>
              <a:off x="6494400" y="27748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91"/>
            <p:cNvSpPr/>
            <p:nvPr/>
          </p:nvSpPr>
          <p:spPr>
            <a:xfrm>
              <a:off x="6548400" y="27590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92"/>
            <p:cNvSpPr/>
            <p:nvPr/>
          </p:nvSpPr>
          <p:spPr>
            <a:xfrm>
              <a:off x="6532560" y="27018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93"/>
            <p:cNvSpPr/>
            <p:nvPr/>
          </p:nvSpPr>
          <p:spPr>
            <a:xfrm>
              <a:off x="6491160" y="26622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Freeform 94"/>
            <p:cNvSpPr/>
            <p:nvPr/>
          </p:nvSpPr>
          <p:spPr>
            <a:xfrm>
              <a:off x="6440400" y="26370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95"/>
            <p:cNvSpPr/>
            <p:nvPr/>
          </p:nvSpPr>
          <p:spPr>
            <a:xfrm>
              <a:off x="6503760" y="2720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Freeform 96"/>
            <p:cNvSpPr/>
            <p:nvPr/>
          </p:nvSpPr>
          <p:spPr>
            <a:xfrm>
              <a:off x="3948120" y="5396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Freeform 97"/>
            <p:cNvSpPr/>
            <p:nvPr/>
          </p:nvSpPr>
          <p:spPr>
            <a:xfrm>
              <a:off x="4081320" y="7048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Freeform 98"/>
            <p:cNvSpPr/>
            <p:nvPr/>
          </p:nvSpPr>
          <p:spPr>
            <a:xfrm>
              <a:off x="4406760" y="4572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Freeform 99"/>
            <p:cNvSpPr/>
            <p:nvPr/>
          </p:nvSpPr>
          <p:spPr>
            <a:xfrm>
              <a:off x="4454280" y="4777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Freeform 100"/>
            <p:cNvSpPr/>
            <p:nvPr/>
          </p:nvSpPr>
          <p:spPr>
            <a:xfrm>
              <a:off x="4540320" y="4827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101"/>
            <p:cNvSpPr/>
            <p:nvPr/>
          </p:nvSpPr>
          <p:spPr>
            <a:xfrm>
              <a:off x="5094360" y="5256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102"/>
            <p:cNvSpPr/>
            <p:nvPr/>
          </p:nvSpPr>
          <p:spPr>
            <a:xfrm>
              <a:off x="5236920" y="5238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7" name="Freeform 103"/>
            <p:cNvSpPr/>
            <p:nvPr/>
          </p:nvSpPr>
          <p:spPr>
            <a:xfrm>
              <a:off x="5203800" y="5698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8" name="Freeform 104"/>
            <p:cNvSpPr/>
            <p:nvPr/>
          </p:nvSpPr>
          <p:spPr>
            <a:xfrm>
              <a:off x="5603760" y="9255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Freeform 105"/>
            <p:cNvSpPr/>
            <p:nvPr/>
          </p:nvSpPr>
          <p:spPr>
            <a:xfrm>
              <a:off x="5700600" y="11127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Freeform 106"/>
            <p:cNvSpPr/>
            <p:nvPr/>
          </p:nvSpPr>
          <p:spPr>
            <a:xfrm>
              <a:off x="5643360" y="12398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Freeform 107"/>
            <p:cNvSpPr/>
            <p:nvPr/>
          </p:nvSpPr>
          <p:spPr>
            <a:xfrm>
              <a:off x="3959280" y="4399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Freeform 108"/>
            <p:cNvSpPr/>
            <p:nvPr/>
          </p:nvSpPr>
          <p:spPr>
            <a:xfrm>
              <a:off x="3789360" y="4539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109"/>
            <p:cNvSpPr/>
            <p:nvPr/>
          </p:nvSpPr>
          <p:spPr>
            <a:xfrm>
              <a:off x="3827520" y="4525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110"/>
            <p:cNvSpPr/>
            <p:nvPr/>
          </p:nvSpPr>
          <p:spPr>
            <a:xfrm>
              <a:off x="3924360" y="4381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111"/>
            <p:cNvSpPr/>
            <p:nvPr/>
          </p:nvSpPr>
          <p:spPr>
            <a:xfrm>
              <a:off x="3895560" y="4665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Freeform 112"/>
            <p:cNvSpPr/>
            <p:nvPr/>
          </p:nvSpPr>
          <p:spPr>
            <a:xfrm>
              <a:off x="5705280" y="4921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113"/>
            <p:cNvSpPr/>
            <p:nvPr/>
          </p:nvSpPr>
          <p:spPr>
            <a:xfrm>
              <a:off x="4302000" y="27972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114"/>
            <p:cNvSpPr/>
            <p:nvPr/>
          </p:nvSpPr>
          <p:spPr>
            <a:xfrm>
              <a:off x="4365360" y="27860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115"/>
            <p:cNvSpPr/>
            <p:nvPr/>
          </p:nvSpPr>
          <p:spPr>
            <a:xfrm>
              <a:off x="4259160" y="25416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116"/>
            <p:cNvSpPr/>
            <p:nvPr/>
          </p:nvSpPr>
          <p:spPr>
            <a:xfrm>
              <a:off x="4354560" y="24256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117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118"/>
            <p:cNvSpPr/>
            <p:nvPr/>
          </p:nvSpPr>
          <p:spPr>
            <a:xfrm>
              <a:off x="4298760" y="24591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119"/>
            <p:cNvSpPr/>
            <p:nvPr/>
          </p:nvSpPr>
          <p:spPr>
            <a:xfrm>
              <a:off x="4259160" y="25131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20"/>
            <p:cNvSpPr/>
            <p:nvPr/>
          </p:nvSpPr>
          <p:spPr>
            <a:xfrm>
              <a:off x="4289400" y="24922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121"/>
            <p:cNvSpPr/>
            <p:nvPr/>
          </p:nvSpPr>
          <p:spPr>
            <a:xfrm>
              <a:off x="3125520" y="9237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122"/>
            <p:cNvSpPr/>
            <p:nvPr/>
          </p:nvSpPr>
          <p:spPr>
            <a:xfrm>
              <a:off x="3028680" y="8701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123"/>
            <p:cNvSpPr/>
            <p:nvPr/>
          </p:nvSpPr>
          <p:spPr>
            <a:xfrm>
              <a:off x="2651040" y="5256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08" name="Picture 7" descr="artplus_nature_naturalcity42_a"/>
          <p:cNvPicPr/>
          <p:nvPr/>
        </p:nvPicPr>
        <p:blipFill>
          <a:blip r:embed="rId3"/>
          <a:stretch/>
        </p:blipFill>
        <p:spPr>
          <a:xfrm>
            <a:off x="4870440" y="3166920"/>
            <a:ext cx="4425840" cy="298944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12" descr="artplus_nature_naturalcity42_i"/>
          <p:cNvPicPr/>
          <p:nvPr/>
        </p:nvPicPr>
        <p:blipFill>
          <a:blip r:embed="rId4"/>
          <a:stretch/>
        </p:blipFill>
        <p:spPr>
          <a:xfrm>
            <a:off x="6956280" y="3352680"/>
            <a:ext cx="1654200" cy="878040"/>
          </a:xfrm>
          <a:prstGeom prst="rect">
            <a:avLst/>
          </a:prstGeom>
          <a:ln w="0">
            <a:noFill/>
          </a:ln>
        </p:spPr>
      </p:pic>
      <p:pic>
        <p:nvPicPr>
          <p:cNvPr id="910" name="Picture 10" descr="artplus_nature_naturalcity42_c"/>
          <p:cNvPicPr/>
          <p:nvPr/>
        </p:nvPicPr>
        <p:blipFill>
          <a:blip r:embed="rId5"/>
          <a:stretch/>
        </p:blipFill>
        <p:spPr>
          <a:xfrm>
            <a:off x="9296280" y="2895480"/>
            <a:ext cx="1113120" cy="866880"/>
          </a:xfrm>
          <a:prstGeom prst="rect">
            <a:avLst/>
          </a:prstGeom>
          <a:ln w="0">
            <a:noFill/>
          </a:ln>
        </p:spPr>
      </p:pic>
      <p:pic>
        <p:nvPicPr>
          <p:cNvPr id="911" name="Picture 13" descr="artplus_nature_naturalcity42_f"/>
          <p:cNvPicPr/>
          <p:nvPr/>
        </p:nvPicPr>
        <p:blipFill>
          <a:blip r:embed="rId6"/>
          <a:stretch/>
        </p:blipFill>
        <p:spPr>
          <a:xfrm>
            <a:off x="4994280" y="4594320"/>
            <a:ext cx="4911840" cy="1882800"/>
          </a:xfrm>
          <a:prstGeom prst="rect">
            <a:avLst/>
          </a:prstGeom>
          <a:ln w="0">
            <a:noFill/>
          </a:ln>
        </p:spPr>
      </p:pic>
      <p:sp>
        <p:nvSpPr>
          <p:cNvPr id="912" name="Text Box 126"/>
          <p:cNvSpPr/>
          <p:nvPr/>
        </p:nvSpPr>
        <p:spPr>
          <a:xfrm>
            <a:off x="8042760" y="152280"/>
            <a:ext cx="9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3" name="Picture 9" descr="artplus_nature_naturalcity42_b"/>
          <p:cNvPicPr/>
          <p:nvPr/>
        </p:nvPicPr>
        <p:blipFill>
          <a:blip r:embed="rId7"/>
          <a:stretch/>
        </p:blipFill>
        <p:spPr>
          <a:xfrm>
            <a:off x="5195880" y="3097080"/>
            <a:ext cx="2971800" cy="57168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8" descr="artplus_nature_naturalcity42_e"/>
          <p:cNvPicPr/>
          <p:nvPr/>
        </p:nvPicPr>
        <p:blipFill>
          <a:blip r:embed="rId8"/>
          <a:stretch/>
        </p:blipFill>
        <p:spPr>
          <a:xfrm>
            <a:off x="5943600" y="1994040"/>
            <a:ext cx="1546200" cy="166356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11" descr="artplus_nature_naturalcity42_d"/>
          <p:cNvPicPr/>
          <p:nvPr/>
        </p:nvPicPr>
        <p:blipFill>
          <a:blip r:embed="rId9"/>
          <a:stretch/>
        </p:blipFill>
        <p:spPr>
          <a:xfrm>
            <a:off x="5626080" y="2862360"/>
            <a:ext cx="623880" cy="57924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128" descr="a1"/>
          <p:cNvPicPr/>
          <p:nvPr/>
        </p:nvPicPr>
        <p:blipFill>
          <a:blip r:embed="rId10"/>
          <a:stretch/>
        </p:blipFill>
        <p:spPr>
          <a:xfrm>
            <a:off x="9360000" y="95400"/>
            <a:ext cx="1803240" cy="207000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129" descr="b_1"/>
          <p:cNvPicPr/>
          <p:nvPr/>
        </p:nvPicPr>
        <p:blipFill>
          <a:blip r:embed="rId11"/>
          <a:stretch/>
        </p:blipFill>
        <p:spPr>
          <a:xfrm>
            <a:off x="10204560" y="1968480"/>
            <a:ext cx="1079280" cy="46980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49"/>
          </p:nvPr>
        </p:nvSpPr>
        <p:spPr>
          <a:xfrm>
            <a:off x="304920" y="6476760"/>
            <a:ext cx="213336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0"/>
          </p:nvPr>
        </p:nvSpPr>
        <p:spPr>
          <a:xfrm>
            <a:off x="6705720" y="6476760"/>
            <a:ext cx="228600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51"/>
          </p:nvPr>
        </p:nvSpPr>
        <p:spPr>
          <a:xfrm>
            <a:off x="3657240" y="647676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3D81-8837-450F-97D4-C265E4DA74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12"/>
    <p:sldLayoutId id="2147483858" r:id="rId13"/>
    <p:sldLayoutId id="2147483859" r:id="rId14"/>
    <p:sldLayoutId id="2147483860" r:id="rId15"/>
    <p:sldLayoutId id="2147483861" r:id="rId16"/>
    <p:sldLayoutId id="2147483862" r:id="rId17"/>
    <p:sldLayoutId id="2147483863" r:id="rId18"/>
    <p:sldLayoutId id="2147483864" r:id="rId19"/>
    <p:sldLayoutId id="2147483865" r:id="rId20"/>
    <p:sldLayoutId id="2147483866" r:id="rId21"/>
    <p:sldLayoutId id="2147483867" r:id="rId22"/>
    <p:sldLayoutId id="2147483868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331F7-1D61-487A-96EE-F6C8B7D061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9" descr="1"/>
          <p:cNvPicPr/>
          <p:nvPr/>
        </p:nvPicPr>
        <p:blipFill>
          <a:blip r:embed="rId2"/>
          <a:srcRect l="0" t="0" r="0" b="-63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3B63-3C89-49B4-B51E-74887DF0DC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7981920" y="5916600"/>
            <a:ext cx="828720" cy="158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161200" y="5608800"/>
            <a:ext cx="430200" cy="463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102520" y="5850000"/>
            <a:ext cx="173160" cy="162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469360" y="596916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562960" y="5943600"/>
            <a:ext cx="309600" cy="241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6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9" descr="1"/>
          <p:cNvPicPr/>
          <p:nvPr/>
        </p:nvPicPr>
        <p:blipFill>
          <a:blip r:embed="rId2"/>
          <a:srcRect l="0" t="0" r="0" b="-63"/>
          <a:stretch/>
        </p:blipFill>
        <p:spPr>
          <a:xfrm>
            <a:off x="0" y="6324480"/>
            <a:ext cx="9144000" cy="5428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17"/>
          <p:cNvSpPr/>
          <p:nvPr/>
        </p:nvSpPr>
        <p:spPr>
          <a:xfrm>
            <a:off x="0" y="0"/>
            <a:ext cx="9144000" cy="121932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bbe4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59a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808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4568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ftr" idx="11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sldNum" idx="12"/>
          </p:nvPr>
        </p:nvSpPr>
        <p:spPr>
          <a:xfrm>
            <a:off x="65527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6A89-70FE-4213-8EA3-36BC6C6828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4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7981920" y="5916600"/>
            <a:ext cx="828720" cy="158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161200" y="5608800"/>
            <a:ext cx="430200" cy="4633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102520" y="5850000"/>
            <a:ext cx="173160" cy="162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469360" y="5969160"/>
            <a:ext cx="461880" cy="244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562960" y="5943600"/>
            <a:ext cx="309600" cy="241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8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5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</a:rPr>
              <a:t>Click to edit the title text format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8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3200" cy="1082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48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8BED-53DA-495A-8DA3-045D4BA6FD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FF51-B1EC-4575-BCAF-C35A4E0187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E68D-3762-4AE1-B1FC-0A59852FDE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A016-1198-49E0-ACCD-E44A1B8198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2CFB0-A475-4C2F-942F-222C9F0B32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Picture 2" descr=""/>
          <p:cNvPicPr/>
          <p:nvPr/>
        </p:nvPicPr>
        <p:blipFill>
          <a:blip r:embed="rId1"/>
          <a:stretch/>
        </p:blipFill>
        <p:spPr>
          <a:xfrm>
            <a:off x="4314960" y="907920"/>
            <a:ext cx="4829040" cy="5797800"/>
          </a:xfrm>
          <a:prstGeom prst="rect">
            <a:avLst/>
          </a:prstGeom>
          <a:ln w="0">
            <a:noFill/>
          </a:ln>
        </p:spPr>
      </p:pic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79280" y="938160"/>
            <a:ext cx="5905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300" spc="-1" strike="noStrike">
                <a:solidFill>
                  <a:srgbClr val="ff0000"/>
                </a:solidFill>
                <a:latin typeface="Mistral"/>
                <a:ea typeface="Calibri"/>
              </a:rPr>
              <a:t>Будова </a:t>
            </a:r>
            <a:br>
              <a:rPr sz="5300"/>
            </a:br>
            <a:r>
              <a:rPr b="1" i="1" lang="uk-UA" sz="5300" spc="-1" strike="noStrike">
                <a:solidFill>
                  <a:srgbClr val="ff0000"/>
                </a:solidFill>
                <a:latin typeface="Mistral"/>
                <a:ea typeface="Calibri"/>
              </a:rPr>
              <a:t>й функції серця</a:t>
            </a:r>
            <a:endParaRPr b="1" i="1" lang="en-US" sz="5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250920" y="4076280"/>
            <a:ext cx="47131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Автор:    Галушко Валентина 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Arial"/>
              </a:rPr>
              <a:t>                 </a:t>
            </a:r>
            <a:r>
              <a:rPr b="1" lang="uk-UA" sz="2200" spc="-1" strike="noStrike">
                <a:solidFill>
                  <a:srgbClr val="0070c0"/>
                </a:solidFill>
                <a:latin typeface="Arial"/>
              </a:rPr>
              <a:t>Володимирівна 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читель   біології,  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ищої   кваліфікаційної   категорії, 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арший учитель</a:t>
            </a:r>
            <a:endParaRPr b="0" lang="en-US" sz="2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Box 2"/>
          <p:cNvSpPr/>
          <p:nvPr/>
        </p:nvSpPr>
        <p:spPr>
          <a:xfrm>
            <a:off x="5003640" y="2421000"/>
            <a:ext cx="367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Маса  серця в середньому складає лише 5 % від маси   тіла людини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(коливається в межа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50-360г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2" name="Picture 2" descr="D:\ДОКУМЕНТИ   D\1       ПРЕЗЕНТАЦІЇ до уроків\БІОЛОГІЯ\Б  9 клас\Будова і робота Серця\Серце.jpg"/>
          <p:cNvPicPr/>
          <p:nvPr/>
        </p:nvPicPr>
        <p:blipFill>
          <a:blip r:embed="rId1"/>
          <a:stretch/>
        </p:blipFill>
        <p:spPr>
          <a:xfrm>
            <a:off x="255600" y="1413000"/>
            <a:ext cx="4608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4" descr=""/>
          <p:cNvPicPr/>
          <p:nvPr/>
        </p:nvPicPr>
        <p:blipFill>
          <a:blip r:embed="rId1"/>
          <a:stretch/>
        </p:blipFill>
        <p:spPr>
          <a:xfrm>
            <a:off x="179280" y="184320"/>
            <a:ext cx="3975120" cy="6262560"/>
          </a:xfrm>
          <a:prstGeom prst="rect">
            <a:avLst/>
          </a:prstGeom>
          <a:ln w="0">
            <a:noFill/>
          </a:ln>
        </p:spPr>
      </p:pic>
      <p:sp>
        <p:nvSpPr>
          <p:cNvPr id="1004" name="TextBox 2"/>
          <p:cNvSpPr/>
          <p:nvPr/>
        </p:nvSpPr>
        <p:spPr>
          <a:xfrm>
            <a:off x="3924360" y="1052640"/>
            <a:ext cx="4824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ерце вкрите тонкою  й щільною оболонкою, яка утворює замкнутий мішок – навколосерцеву  сумку (перикар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іж серцем і навколосерцевою сумкою   міститься рідина, яка зволожує серце й зменшує тертя об стінки перикарда при його скороченн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вичайно в нормі в перикардіальній сумці міститься близько 30 мл ексуда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2911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Будова   серц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23480" y="836280"/>
            <a:ext cx="2305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це  складається з двох частин –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ї і лівої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жна частина має  камери: </a:t>
            </a:r>
            <a:r>
              <a:rPr b="0" lang="uk-U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едсерд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</a:t>
            </a:r>
            <a:r>
              <a:rPr b="0" lang="uk-U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і шлуночок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а частина серця направляє </a:t>
            </a:r>
            <a:r>
              <a:rPr b="1" i="1" lang="uk-U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енозну кров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</a:t>
            </a:r>
            <a:r>
              <a:rPr b="0" i="1" lang="uk-U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авого шлуночка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</a:t>
            </a:r>
            <a:r>
              <a:rPr b="0" i="1" lang="uk-UA" sz="1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геневу  артерію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</a:t>
            </a:r>
            <a:r>
              <a:rPr b="1" lang="uk-UA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егень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е вона збагачується киснем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ім </a:t>
            </a:r>
            <a:r>
              <a:rPr b="1" i="1" lang="uk-UA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теріальна кров 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ичена киснем надходить до лівої частини серця – </a:t>
            </a:r>
            <a:r>
              <a:rPr b="0" i="1" lang="uk-UA" sz="1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івого передсердя та лівого шлуночка,</a:t>
            </a:r>
            <a:r>
              <a:rPr b="0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ідки вирушає до всіх тканин </a:t>
            </a:r>
            <a:r>
              <a:rPr b="1" lang="uk-UA" sz="17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рганізму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7" name="Камери серця _TS - Фильм 01.mpg" descr=""/>
          <p:cNvPicPr/>
          <p:nvPr/>
        </p:nvPicPr>
        <p:blipFill>
          <a:blip r:embed="rId1"/>
          <a:stretch/>
        </p:blipFill>
        <p:spPr>
          <a:xfrm>
            <a:off x="2500200" y="993600"/>
            <a:ext cx="65725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9007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007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1007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9" dur="1" fill="hold"/>
                                        <p:tgtEl>
                                          <p:spTgt spid="10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635280" y="259920"/>
            <a:ext cx="5122800" cy="5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                     </a:t>
            </a:r>
            <a:br>
              <a:rPr sz="3600"/>
            </a:b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Клапани серц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70920" y="231840"/>
            <a:ext cx="300852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сердя й шлуночки поєднуються  між собою отворами, на краях яких розташовані </a:t>
            </a:r>
            <a:r>
              <a:rPr b="1" i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улчасті клапани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ц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пани відкриваються тільки в один бік  шлуночків і тому пропускають кров в одному напрямку: із передсердь до шлуночків. Відкриватися  в бік передсердя </a:t>
            </a:r>
            <a:r>
              <a:rPr b="0" i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улкам клапанів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ажають </a:t>
            </a:r>
            <a:r>
              <a:rPr b="0" i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ухожильні нитки,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що відходять від країв клапанів і прикріплюються  до  м'язових виступів  шлуночкі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лівій частині серця  міститься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остулковий клапан</a:t>
            </a:r>
            <a:r>
              <a:rPr b="0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</a:t>
            </a:r>
            <a:br>
              <a:rPr sz="1600"/>
            </a:b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правій – </a:t>
            </a: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стулков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місці виходу зі шлуночків </a:t>
            </a:r>
            <a:r>
              <a:rPr b="0" i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егеневого стовбура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</a:t>
            </a:r>
            <a:r>
              <a:rPr b="0" i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орти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ташовані </a:t>
            </a: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рпасті клапани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игляді </a:t>
            </a:r>
            <a:r>
              <a:rPr b="0" i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рьох кишеньок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що перешкоджають рухові крові назад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0" name="Клапани серця_TS - Фильм 01.mpg" descr=""/>
          <p:cNvPicPr/>
          <p:nvPr/>
        </p:nvPicPr>
        <p:blipFill>
          <a:blip r:embed="rId1"/>
          <a:stretch/>
        </p:blipFill>
        <p:spPr>
          <a:xfrm>
            <a:off x="3071880" y="1143000"/>
            <a:ext cx="607212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49712" fill="hold"/>
                                        <p:tgtEl>
                                          <p:spTgt spid="10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1010"/>
                    </p:tgtEl>
                  </p:cond>
                </p:stCondLst>
                <p:childTnLst>
                  <p:par>
                    <p:cTn id="167" nodeType="clickEffect" fill="hold">
                      <p:stCondLst>
                        <p:cond evt="onClick">
                          <p:tgtEl>
                            <p:spTgt spid="1010"/>
                          </p:tgtEl>
                        </p:cond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0" dur="1" fill="hold"/>
                                        <p:tgtEl>
                                          <p:spTgt spid="10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Picture 2" descr="C:\Documents and Settings\1\Рабочий стол\f_c3-95.jpg"/>
          <p:cNvPicPr/>
          <p:nvPr/>
        </p:nvPicPr>
        <p:blipFill>
          <a:blip r:embed="rId1"/>
          <a:stretch/>
        </p:blipFill>
        <p:spPr>
          <a:xfrm>
            <a:off x="0" y="3357720"/>
            <a:ext cx="4557600" cy="35002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3" descr="C:\Documents and Settings\1\Рабочий стол\f_c3-94.jpg"/>
          <p:cNvPicPr/>
          <p:nvPr/>
        </p:nvPicPr>
        <p:blipFill>
          <a:blip r:embed="rId2"/>
          <a:stretch/>
        </p:blipFill>
        <p:spPr>
          <a:xfrm>
            <a:off x="0" y="0"/>
            <a:ext cx="4529160" cy="33577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4" descr="C:\Documents and Settings\1\Рабочий стол\f_c3-93.jpg"/>
          <p:cNvPicPr/>
          <p:nvPr/>
        </p:nvPicPr>
        <p:blipFill>
          <a:blip r:embed="rId3"/>
          <a:stretch/>
        </p:blipFill>
        <p:spPr>
          <a:xfrm>
            <a:off x="4332240" y="0"/>
            <a:ext cx="4811760" cy="335772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5" descr="C:\Documents and Settings\1\Рабочий стол\f_c3-92.jpg"/>
          <p:cNvPicPr/>
          <p:nvPr/>
        </p:nvPicPr>
        <p:blipFill>
          <a:blip r:embed="rId4"/>
          <a:stretch/>
        </p:blipFill>
        <p:spPr>
          <a:xfrm>
            <a:off x="4500720" y="3357720"/>
            <a:ext cx="4643280" cy="3500280"/>
          </a:xfrm>
          <a:prstGeom prst="rect">
            <a:avLst/>
          </a:prstGeom>
          <a:ln w="0">
            <a:noFill/>
          </a:ln>
        </p:spPr>
      </p:pic>
      <p:sp>
        <p:nvSpPr>
          <p:cNvPr id="1015" name="TextBox 1"/>
          <p:cNvSpPr/>
          <p:nvPr/>
        </p:nvSpPr>
        <p:spPr>
          <a:xfrm>
            <a:off x="250920" y="3371760"/>
            <a:ext cx="33130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лапан легеневої  артері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TextBox 2"/>
          <p:cNvSpPr/>
          <p:nvPr/>
        </p:nvSpPr>
        <p:spPr>
          <a:xfrm>
            <a:off x="468360" y="19080"/>
            <a:ext cx="230328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Тристулковий клап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TextBox 3"/>
          <p:cNvSpPr/>
          <p:nvPr/>
        </p:nvSpPr>
        <p:spPr>
          <a:xfrm>
            <a:off x="5003640" y="0"/>
            <a:ext cx="223524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Двостулковий клап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TextBox 4"/>
          <p:cNvSpPr/>
          <p:nvPr/>
        </p:nvSpPr>
        <p:spPr>
          <a:xfrm>
            <a:off x="5079960" y="3500280"/>
            <a:ext cx="201312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Клапан аор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509760" y="18900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Анатомія серця людин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Прямоугольник 6"/>
          <p:cNvSpPr/>
          <p:nvPr/>
        </p:nvSpPr>
        <p:spPr>
          <a:xfrm>
            <a:off x="4471920" y="1341360"/>
            <a:ext cx="430236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раве передсерд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Ліве передсерд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ерхня порожниста в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Аор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Легеневі артері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Легеневі в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Двостулковий клапа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Аортальний клап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Лівий шлуноч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Правий шлуночо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Нижня порожниста ве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Тристулковий клапа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Клапан легеневого стовбу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ілі стрілки вказують нормальний потік крові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1" name="Picture 2" descr=""/>
          <p:cNvPicPr/>
          <p:nvPr/>
        </p:nvPicPr>
        <p:blipFill>
          <a:blip r:embed="rId1"/>
          <a:stretch/>
        </p:blipFill>
        <p:spPr>
          <a:xfrm>
            <a:off x="206280" y="1420920"/>
            <a:ext cx="4024440" cy="4608360"/>
          </a:xfrm>
          <a:prstGeom prst="rect">
            <a:avLst/>
          </a:prstGeom>
          <a:ln w="0">
            <a:noFill/>
          </a:ln>
        </p:spPr>
      </p:pic>
      <p:sp>
        <p:nvSpPr>
          <p:cNvPr id="1022" name="TextBox 1"/>
          <p:cNvSpPr/>
          <p:nvPr/>
        </p:nvSpPr>
        <p:spPr>
          <a:xfrm>
            <a:off x="395280" y="620640"/>
            <a:ext cx="83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Завдання групам:  </a:t>
            </a:r>
            <a:r>
              <a:rPr b="0" i="1" lang="uk-UA" sz="1800" spc="-1" strike="noStrike">
                <a:solidFill>
                  <a:srgbClr val="000000"/>
                </a:solidFill>
                <a:latin typeface="Calibri"/>
              </a:rPr>
              <a:t>користуючись підручником і зошитом зробити підписи.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uk-UA" sz="1800" spc="-1" strike="noStrike">
                <a:solidFill>
                  <a:srgbClr val="00b050"/>
                </a:solidFill>
                <a:latin typeface="Calibri"/>
              </a:rPr>
              <a:t>Зробити висновки: Яку функцію виконує серце, маючи таку будов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0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0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0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0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0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0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10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0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0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0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10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10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0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10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0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10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rcRect l="0" t="0" r="10" b="61"/>
          <a:stretch/>
        </p:blipFill>
        <p:spPr>
          <a:xfrm>
            <a:off x="1494000" y="266760"/>
            <a:ext cx="6337080" cy="5391000"/>
          </a:xfrm>
          <a:prstGeom prst="rect">
            <a:avLst/>
          </a:prstGeom>
          <a:ln w="0">
            <a:noFill/>
          </a:ln>
        </p:spPr>
      </p:pic>
      <p:sp>
        <p:nvSpPr>
          <p:cNvPr id="1024" name="Прямоугольник 2"/>
          <p:cNvSpPr/>
          <p:nvPr/>
        </p:nvSpPr>
        <p:spPr>
          <a:xfrm>
            <a:off x="0" y="5657760"/>
            <a:ext cx="93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Висновок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: рух крові в серці відбувається тільки в одному напрямку, клапани перешкоджають зворотному руху кров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10"/>
          <p:cNvSpPr/>
          <p:nvPr/>
        </p:nvSpPr>
        <p:spPr>
          <a:xfrm>
            <a:off x="395280" y="1341360"/>
            <a:ext cx="3995640" cy="5488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Стінки камер відрізняються за товщиною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Товщина </a:t>
            </a:r>
            <a:r>
              <a:rPr b="1" lang="uk-UA" sz="4000" spc="-1" strike="noStrike">
                <a:solidFill>
                  <a:srgbClr val="ff6600"/>
                </a:solidFill>
                <a:latin typeface="Calibri"/>
              </a:rPr>
              <a:t>лівого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шлуночка в </a:t>
            </a:r>
            <a:r>
              <a:rPr b="1" lang="uk-UA" sz="4000" spc="-1" strike="noStrike">
                <a:solidFill>
                  <a:srgbClr val="ff6600"/>
                </a:solidFill>
                <a:latin typeface="Calibri"/>
              </a:rPr>
              <a:t>2,5  - 3 рази товще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 стінок </a:t>
            </a:r>
            <a:r>
              <a:rPr b="1" lang="uk-UA" sz="4000" spc="-1" strike="noStrike">
                <a:solidFill>
                  <a:srgbClr val="ff6600"/>
                </a:solidFill>
                <a:latin typeface="Calibri"/>
              </a:rPr>
              <a:t>правог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Rectangle 11"/>
          <p:cNvSpPr/>
          <p:nvPr/>
        </p:nvSpPr>
        <p:spPr>
          <a:xfrm>
            <a:off x="4859280" y="3933720"/>
            <a:ext cx="41054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7" name="Picture 15" descr="C:\Documents and Settings\1\Рабочий стол\muscles5.jpg"/>
          <p:cNvPicPr/>
          <p:nvPr/>
        </p:nvPicPr>
        <p:blipFill>
          <a:blip r:embed="rId1"/>
          <a:srcRect l="0" t="0" r="252" b="0"/>
          <a:stretch/>
        </p:blipFill>
        <p:spPr>
          <a:xfrm>
            <a:off x="4735440" y="476280"/>
            <a:ext cx="4353120" cy="623736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36596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</a:rPr>
              <a:t>Будова стінок серц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"/>
          <p:cNvPicPr/>
          <p:nvPr/>
        </p:nvPicPr>
        <p:blipFill>
          <a:blip r:embed="rId1"/>
          <a:srcRect l="0" t="0" r="134" b="128"/>
          <a:stretch/>
        </p:blipFill>
        <p:spPr>
          <a:xfrm>
            <a:off x="2706840" y="210960"/>
            <a:ext cx="6410160" cy="66708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C:\Documents and Settings\1\Рабочий стол\ms1_cha.jpg"/>
          <p:cNvPicPr/>
          <p:nvPr/>
        </p:nvPicPr>
        <p:blipFill>
          <a:blip r:embed="rId2"/>
          <a:srcRect l="0" t="0" r="287" b="177"/>
          <a:stretch/>
        </p:blipFill>
        <p:spPr>
          <a:xfrm>
            <a:off x="0" y="3068640"/>
            <a:ext cx="2643120" cy="3789360"/>
          </a:xfrm>
          <a:prstGeom prst="rect">
            <a:avLst/>
          </a:prstGeom>
          <a:ln w="0">
            <a:noFill/>
          </a:ln>
        </p:spPr>
      </p:pic>
      <p:sp>
        <p:nvSpPr>
          <p:cNvPr id="1031" name="Rectangle 5"/>
          <p:cNvSpPr/>
          <p:nvPr/>
        </p:nvSpPr>
        <p:spPr>
          <a:xfrm>
            <a:off x="0" y="0"/>
            <a:ext cx="3708360" cy="3284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тінки  серця складаються з серцевий м'язових волокон : </a:t>
            </a:r>
            <a:r>
              <a:rPr b="1" lang="uk-UA" sz="2000" spc="-1" strike="noStrike">
                <a:solidFill>
                  <a:srgbClr val="0070c0"/>
                </a:solidFill>
                <a:latin typeface="Calibri"/>
              </a:rPr>
              <a:t>епікарду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– зовнішнього  сполучнотканинного, вкритого одношаровим епітелієм;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Calibri"/>
              </a:rPr>
              <a:t>міокарда -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середнього, мязового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0000"/>
                </a:solidFill>
                <a:latin typeface="Calibri"/>
              </a:rPr>
              <a:t>ендокарда</a:t>
            </a:r>
            <a:r>
              <a:rPr b="1" lang="uk-UA" sz="2000" spc="-1" strike="noStrike">
                <a:solidFill>
                  <a:srgbClr val="c00000"/>
                </a:solidFill>
                <a:latin typeface="Calibri"/>
              </a:rPr>
              <a:t> – </a:t>
            </a: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внутрішнього епітеліального</a:t>
            </a: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TextBox 1"/>
          <p:cNvSpPr/>
          <p:nvPr/>
        </p:nvSpPr>
        <p:spPr>
          <a:xfrm>
            <a:off x="8101080" y="3645000"/>
            <a:ext cx="1015920" cy="3682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іокар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3" name="Picture 2" descr=""/>
          <p:cNvPicPr/>
          <p:nvPr/>
        </p:nvPicPr>
        <p:blipFill>
          <a:blip r:embed="rId3"/>
          <a:stretch/>
        </p:blipFill>
        <p:spPr>
          <a:xfrm>
            <a:off x="2843280" y="5013360"/>
            <a:ext cx="1079280" cy="493560"/>
          </a:xfrm>
          <a:prstGeom prst="rect">
            <a:avLst/>
          </a:prstGeom>
          <a:ln w="0">
            <a:noFill/>
          </a:ln>
        </p:spPr>
      </p:pic>
      <p:sp>
        <p:nvSpPr>
          <p:cNvPr id="1034" name="TextBox 3"/>
          <p:cNvSpPr/>
          <p:nvPr/>
        </p:nvSpPr>
        <p:spPr>
          <a:xfrm>
            <a:off x="7524720" y="5259240"/>
            <a:ext cx="115092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епікар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TextBox 4"/>
          <p:cNvSpPr/>
          <p:nvPr/>
        </p:nvSpPr>
        <p:spPr>
          <a:xfrm>
            <a:off x="6948360" y="6513480"/>
            <a:ext cx="15843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ендокар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TextBox 5"/>
          <p:cNvSpPr/>
          <p:nvPr/>
        </p:nvSpPr>
        <p:spPr>
          <a:xfrm>
            <a:off x="69840" y="6400800"/>
            <a:ext cx="298764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Поперечнополосатий серцеви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м'я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66560" y="26028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70c0"/>
                </a:solidFill>
                <a:latin typeface="Calibri"/>
              </a:rPr>
              <a:t>Ембріологія серц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8" name="Рисунок 3" descr="серце ембріона.jpg"/>
          <p:cNvPicPr/>
          <p:nvPr/>
        </p:nvPicPr>
        <p:blipFill>
          <a:blip r:embed="rId1"/>
          <a:stretch/>
        </p:blipFill>
        <p:spPr>
          <a:xfrm>
            <a:off x="3635280" y="1628640"/>
            <a:ext cx="5337360" cy="3718080"/>
          </a:xfrm>
          <a:prstGeom prst="rect">
            <a:avLst/>
          </a:prstGeom>
          <a:ln w="0">
            <a:noFill/>
          </a:ln>
        </p:spPr>
      </p:pic>
      <p:sp>
        <p:nvSpPr>
          <p:cNvPr id="1039" name="Прямоугольник 4"/>
          <p:cNvSpPr/>
          <p:nvPr/>
        </p:nvSpPr>
        <p:spPr>
          <a:xfrm>
            <a:off x="468360" y="1557360"/>
            <a:ext cx="3382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цево-судинна система ембріона починає розвиватися в середині третього тижня внутрішньоутробного період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ій початок серце бере з об'єднання двох зачатків, які утворюють серцеву трубку, в якій вже наявні характерні для серця ткани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кард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ується з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зенхім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окард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пікард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із вісцеральних листків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зодерм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20072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80808"/>
                </a:solidFill>
                <a:latin typeface="Arial"/>
              </a:rPr>
              <a:t>РОЗМИНКА  </a:t>
            </a:r>
            <a:br>
              <a:rPr sz="4000"/>
            </a:br>
            <a:r>
              <a:rPr b="1" i="1" lang="uk-UA" sz="4000" spc="-1" strike="noStrike">
                <a:solidFill>
                  <a:srgbClr val="080808"/>
                </a:solidFill>
                <a:latin typeface="Arial"/>
              </a:rPr>
              <a:t>                 </a:t>
            </a:r>
            <a:r>
              <a:rPr b="1" i="1" lang="uk-UA" sz="4000" spc="-1" strike="noStrike">
                <a:solidFill>
                  <a:srgbClr val="0070c0"/>
                </a:solidFill>
                <a:latin typeface="Arial"/>
              </a:rPr>
              <a:t>«ВПІЗНАЙ СЕБЕ»</a:t>
            </a:r>
            <a:endParaRPr b="1" i="1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70" name="Текст 4" descr=""/>
          <p:cNvPicPr/>
          <p:nvPr/>
        </p:nvPicPr>
        <p:blipFill>
          <a:blip r:embed="rId1"/>
          <a:stretch/>
        </p:blipFill>
        <p:spPr>
          <a:xfrm>
            <a:off x="682560" y="1706400"/>
            <a:ext cx="7632720" cy="458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3" descr="G:\СЕРЦЕ\1505_vd250bcopy.jpg"/>
          <p:cNvPicPr/>
          <p:nvPr/>
        </p:nvPicPr>
        <p:blipFill>
          <a:blip r:embed="rId1"/>
          <a:stretch/>
        </p:blipFill>
        <p:spPr>
          <a:xfrm>
            <a:off x="4140360" y="1062000"/>
            <a:ext cx="4829040" cy="57960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85920" y="1116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монстрація розбірного муляжу серця людини.</a:t>
            </a:r>
            <a:br>
              <a:rPr sz="2700"/>
            </a:br>
            <a:r>
              <a:rPr b="0" i="1" lang="uk-UA" sz="27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итання до учнів:  </a:t>
            </a:r>
            <a:br>
              <a:rPr sz="2700"/>
            </a:b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Чому стінка лівого шлуночка товща від  стінки    </a:t>
            </a:r>
            <a:br>
              <a:rPr sz="3200"/>
            </a:br>
            <a:r>
              <a:rPr b="0" lang="uk-UA" sz="3200" spc="-1" strike="noStrike">
                <a:solidFill>
                  <a:srgbClr val="ff0000"/>
                </a:solidFill>
                <a:latin typeface="Calibri"/>
              </a:rPr>
              <a:t>                             правог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2" name="Picture 2" descr="G:\СЕРЦЕ\1502_g12bcopy.jpg"/>
          <p:cNvPicPr/>
          <p:nvPr/>
        </p:nvPicPr>
        <p:blipFill>
          <a:blip r:embed="rId2"/>
          <a:stretch/>
        </p:blipFill>
        <p:spPr>
          <a:xfrm>
            <a:off x="250920" y="1447920"/>
            <a:ext cx="4392360" cy="527040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2" descr="МИКР"/>
          <p:cNvPicPr/>
          <p:nvPr/>
        </p:nvPicPr>
        <p:blipFill>
          <a:blip r:embed="rId3"/>
          <a:stretch/>
        </p:blipFill>
        <p:spPr>
          <a:xfrm>
            <a:off x="1258920" y="45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200" spc="-1" strike="noStrike">
                <a:solidFill>
                  <a:srgbClr val="0070c0"/>
                </a:solidFill>
                <a:latin typeface="Arial Black"/>
                <a:ea typeface="Calibri"/>
              </a:rPr>
              <a:t>«Критичне мислення»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5" name="Прямоугольник 2"/>
          <p:cNvSpPr/>
          <p:nvPr/>
        </p:nvSpPr>
        <p:spPr>
          <a:xfrm>
            <a:off x="250920" y="1052640"/>
            <a:ext cx="8497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ійна  обробка інформації з підручника § 23 с.73   підпункт «Властивості міокарда» із застосуванням методики  позначо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кі ж фізіологічні особливості має серцевий м’яз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6" name="Рисунок 4" descr="AMIDEA"/>
          <p:cNvPicPr/>
          <p:nvPr/>
        </p:nvPicPr>
        <p:blipFill>
          <a:blip r:embed="rId1"/>
          <a:stretch/>
        </p:blipFill>
        <p:spPr>
          <a:xfrm>
            <a:off x="5595840" y="2279520"/>
            <a:ext cx="2133720" cy="3956040"/>
          </a:xfrm>
          <a:prstGeom prst="rect">
            <a:avLst/>
          </a:prstGeom>
          <a:ln w="0">
            <a:noFill/>
          </a:ln>
        </p:spPr>
      </p:pic>
      <p:sp>
        <p:nvSpPr>
          <p:cNvPr id="1047" name="Прямоугольник 3"/>
          <p:cNvSpPr/>
          <p:nvPr/>
        </p:nvSpPr>
        <p:spPr>
          <a:xfrm>
            <a:off x="1547640" y="2421000"/>
            <a:ext cx="648036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Позначки</a:t>
            </a:r>
            <a:r>
              <a:rPr b="0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V </a:t>
            </a: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–      інформація, яку  ви  знаєте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+  -    нова  інформаці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 </a:t>
            </a: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?!  -   інформація, яка  вас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           </a:t>
            </a: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Calibri"/>
              </a:rPr>
              <a:t>здивувала і      зацікави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кі ж фізіологічні особливості має серцевий м’яз?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Прямоугольник 2"/>
          <p:cNvSpPr/>
          <p:nvPr/>
        </p:nvSpPr>
        <p:spPr>
          <a:xfrm>
            <a:off x="128520" y="1557360"/>
            <a:ext cx="3867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Збудливість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– здатність серцевого м’яза збуджуватися від   різних подразників, що мають фізичну або хімічну природу. У нормальному стані серцевий м’яз збуджується під дією спеціалізованих клітин.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Прямоугольник 3"/>
          <p:cNvSpPr/>
          <p:nvPr/>
        </p:nvSpPr>
        <p:spPr>
          <a:xfrm>
            <a:off x="5138640" y="1552680"/>
            <a:ext cx="364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овідніс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збудження, яке  виникло, поширюється по всьому серцевому м’яз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Прямоугольник 4"/>
          <p:cNvSpPr/>
          <p:nvPr/>
        </p:nvSpPr>
        <p:spPr>
          <a:xfrm>
            <a:off x="4211640" y="3645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alibri"/>
              </a:rPr>
              <a:t>Скоротливість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– це здатність скорочуватися, що притаманна всім типам м’язової ткани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Прямоугольник 5"/>
          <p:cNvSpPr/>
          <p:nvPr/>
        </p:nvSpPr>
        <p:spPr>
          <a:xfrm>
            <a:off x="468360" y="5661000"/>
            <a:ext cx="810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Calibri"/>
              </a:rPr>
              <a:t>Але серце може мимовільно ритмічно скорочувати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Стрелка вправо 6"/>
          <p:cNvSpPr/>
          <p:nvPr/>
        </p:nvSpPr>
        <p:spPr>
          <a:xfrm rot="6684600">
            <a:off x="2194920" y="836640"/>
            <a:ext cx="576360" cy="7156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2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4" name="Picture 4" descr=""/>
          <p:cNvPicPr/>
          <p:nvPr/>
        </p:nvPicPr>
        <p:blipFill>
          <a:blip r:embed="rId1"/>
          <a:stretch/>
        </p:blipFill>
        <p:spPr>
          <a:xfrm rot="19051200">
            <a:off x="6203520" y="874440"/>
            <a:ext cx="738360" cy="639720"/>
          </a:xfrm>
          <a:prstGeom prst="rect">
            <a:avLst/>
          </a:prstGeom>
          <a:ln w="0">
            <a:noFill/>
          </a:ln>
        </p:spPr>
      </p:pic>
      <p:sp>
        <p:nvSpPr>
          <p:cNvPr id="1055" name="Стрелка вниз 7"/>
          <p:cNvSpPr/>
          <p:nvPr/>
        </p:nvSpPr>
        <p:spPr>
          <a:xfrm>
            <a:off x="4284720" y="1593720"/>
            <a:ext cx="615960" cy="151128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4f81bd"/>
          </a:solidFill>
          <a:ln w="22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2" descr=""/>
          <p:cNvPicPr/>
          <p:nvPr/>
        </p:nvPicPr>
        <p:blipFill>
          <a:blip r:embed="rId1"/>
          <a:stretch/>
        </p:blipFill>
        <p:spPr>
          <a:xfrm>
            <a:off x="3378240" y="836640"/>
            <a:ext cx="5765760" cy="5905440"/>
          </a:xfrm>
          <a:prstGeom prst="rect">
            <a:avLst/>
          </a:prstGeom>
          <a:ln w="0">
            <a:noFill/>
          </a:ln>
        </p:spPr>
      </p:pic>
      <p:sp>
        <p:nvSpPr>
          <p:cNvPr id="1057" name="Прямоугольник 2"/>
          <p:cNvSpPr/>
          <p:nvPr/>
        </p:nvSpPr>
        <p:spPr>
          <a:xfrm>
            <a:off x="179280" y="260280"/>
            <a:ext cx="35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0000"/>
                </a:solidFill>
                <a:latin typeface="Calibri"/>
              </a:rPr>
              <a:t>Автоматія серця </a:t>
            </a:r>
            <a:r>
              <a:rPr b="0" lang="uk-UA" sz="3600" spc="-1" strike="noStrike">
                <a:solidFill>
                  <a:srgbClr val="000000"/>
                </a:solidFill>
                <a:latin typeface="Calibri"/>
              </a:rPr>
              <a:t>– це здатність  серця ритмічно скорочуватися без зовнішніх подразнень під впливом імпульсів, які виникають у ньому самом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TextBox 3"/>
          <p:cNvSpPr/>
          <p:nvPr/>
        </p:nvSpPr>
        <p:spPr>
          <a:xfrm>
            <a:off x="3492360" y="3213000"/>
            <a:ext cx="122400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Calibri"/>
              </a:rPr>
              <a:t>Синусний вуз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TextBox 4"/>
          <p:cNvSpPr/>
          <p:nvPr/>
        </p:nvSpPr>
        <p:spPr>
          <a:xfrm>
            <a:off x="3378240" y="4508640"/>
            <a:ext cx="148104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Атривентрикулярний вузо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TextBox 5"/>
          <p:cNvSpPr/>
          <p:nvPr/>
        </p:nvSpPr>
        <p:spPr>
          <a:xfrm>
            <a:off x="7740720" y="2676600"/>
            <a:ext cx="107928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Calibri"/>
              </a:rPr>
              <a:t>Пучок Гіс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TextBox 6"/>
          <p:cNvSpPr/>
          <p:nvPr/>
        </p:nvSpPr>
        <p:spPr>
          <a:xfrm>
            <a:off x="8164440" y="3365640"/>
            <a:ext cx="971640" cy="52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Calibri"/>
              </a:rPr>
              <a:t>Ніжки пучка Гі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68360" y="25560"/>
            <a:ext cx="82296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Calibri"/>
              </a:rPr>
              <a:t>Автоматія серця люди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3" name="Провідна система серцяTS - Фильм 01.mpg" descr=""/>
          <p:cNvPicPr/>
          <p:nvPr/>
        </p:nvPicPr>
        <p:blipFill>
          <a:blip r:embed="rId1"/>
          <a:stretch/>
        </p:blipFill>
        <p:spPr>
          <a:xfrm>
            <a:off x="285840" y="85716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43644" fill="hold"/>
                                        <p:tgtEl>
                                          <p:spTgt spid="10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063"/>
                    </p:tgtEl>
                  </p:cond>
                </p:stCondLst>
                <p:childTnLst>
                  <p:par>
                    <p:cTn id="288" nodeType="clickEffect" fill="hold">
                      <p:stCondLst>
                        <p:cond evt="onClick">
                          <p:tgtEl>
                            <p:spTgt spid="1063"/>
                          </p:tgtEl>
                        </p:cond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1" dur="1" fill="hold"/>
                                        <p:tgtEl>
                                          <p:spTgt spid="10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Прямоугольник 4"/>
          <p:cNvSpPr/>
          <p:nvPr/>
        </p:nvSpPr>
        <p:spPr>
          <a:xfrm>
            <a:off x="684360" y="189000"/>
            <a:ext cx="820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3 році голландський фізіолог Ейнтховен  створив спеціальний пристрій для запису електричних сигналів у серці – електрокардіограф. Якщо зафіксувати автоматичні  слабкі біоелектричні сигнали   від шкіри  рук і ніг,  а також від поверхні грудної клітки, то вийде </a:t>
            </a:r>
            <a:r>
              <a:rPr b="0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кардіограма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5" name="Picture 2" descr="C:\Users\пк\Desktop\УРОК\Кардіограма серця.jpg"/>
          <p:cNvPicPr/>
          <p:nvPr/>
        </p:nvPicPr>
        <p:blipFill>
          <a:blip r:embed="rId1"/>
          <a:stretch/>
        </p:blipFill>
        <p:spPr>
          <a:xfrm>
            <a:off x="1098720" y="2100240"/>
            <a:ext cx="728496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493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Кровопостачання серц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TextBox 2"/>
          <p:cNvSpPr/>
          <p:nvPr/>
        </p:nvSpPr>
        <p:spPr>
          <a:xfrm>
            <a:off x="6286680" y="642960"/>
            <a:ext cx="2734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рце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забезпечує кров'ю весь організм людини, теж потребує постійного  надходження кисню та поживних речовин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ін речовин у </a:t>
            </a:r>
            <a:r>
              <a:rPr b="0" i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іокарді  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бувається в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20 разів інтенсивніше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іж  у будь-якому іншому органі людин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живлення серця витрачається </a:t>
            </a:r>
            <a:r>
              <a:rPr b="0" i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% енергетичних ресурсів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ровопостачання серця  здійснюється </a:t>
            </a:r>
            <a:r>
              <a:rPr b="1" i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ронарним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бо </a:t>
            </a:r>
            <a:r>
              <a:rPr b="1" i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інцевими, артеріями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добу по </a:t>
            </a:r>
            <a:r>
              <a:rPr b="0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ронарних артеріях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тікає в середньому </a:t>
            </a:r>
            <a:r>
              <a:rPr b="0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50 л крові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8" name="Ішемічна хвороба серця_TS - Фильм 01.mpg" descr=""/>
          <p:cNvPicPr/>
          <p:nvPr/>
        </p:nvPicPr>
        <p:blipFill>
          <a:blip r:embed="rId1"/>
          <a:stretch/>
        </p:blipFill>
        <p:spPr>
          <a:xfrm>
            <a:off x="0" y="928800"/>
            <a:ext cx="621504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7" dur="48902" fill="hold"/>
                                        <p:tgtEl>
                                          <p:spTgt spid="10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068"/>
                    </p:tgtEl>
                  </p:cond>
                </p:stCondLst>
                <p:childTnLst>
                  <p:par>
                    <p:cTn id="299" nodeType="clickEffect" fill="hold">
                      <p:stCondLst>
                        <p:cond evt="onClick">
                          <p:tgtEl>
                            <p:spTgt spid="1068"/>
                          </p:tgtEl>
                        </p:cond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2" dur="1" fill="hold"/>
                                        <p:tgtEl>
                                          <p:spTgt spid="10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539640" y="64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Calibri"/>
                <a:ea typeface="Calibri"/>
              </a:rPr>
              <a:t>«Доповни реченн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TextBox 2"/>
          <p:cNvSpPr/>
          <p:nvPr/>
        </p:nvSpPr>
        <p:spPr>
          <a:xfrm>
            <a:off x="563400" y="549360"/>
            <a:ext cx="73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'язовий порожнистий орган конусоподібної форми - …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TextBox 3"/>
          <p:cNvSpPr/>
          <p:nvPr/>
        </p:nvSpPr>
        <p:spPr>
          <a:xfrm>
            <a:off x="468360" y="914400"/>
            <a:ext cx="8496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Серце міститься в …                                                ,  що утворена …                       тканиною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 праве …                           по верхній і нижній …                           венах  кров надходи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ід усіх частин тіла.  Із правого …                          виходить …                      стовбур, через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який венозна кров надходить до чотирьох легеневих артерій, а далі – до…               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У ліве передсердя впадають чотири …                           , які  несуть артеріальну  к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від легень.    З лівого шлуночка виходить …             , по якій...                          кр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рухається до органів і тканин ті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Зворотному руху крові перешкоджають…                . Між  лівими передсердям і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шлуночком       розташований  …                            клапан, а ….                            клапан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міститься  між  правими передсердям і шлуночко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Прямоугольник 4"/>
          <p:cNvSpPr/>
          <p:nvPr/>
        </p:nvSpPr>
        <p:spPr>
          <a:xfrm>
            <a:off x="2509560" y="91440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навколосерцевій сумц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Прямоугольник 5"/>
          <p:cNvSpPr/>
          <p:nvPr/>
        </p:nvSpPr>
        <p:spPr>
          <a:xfrm>
            <a:off x="6554160" y="9176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сполучно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TextBox 6"/>
          <p:cNvSpPr/>
          <p:nvPr/>
        </p:nvSpPr>
        <p:spPr>
          <a:xfrm>
            <a:off x="6321600" y="549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серц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Прямоугольник 7"/>
          <p:cNvSpPr/>
          <p:nvPr/>
        </p:nvSpPr>
        <p:spPr>
          <a:xfrm>
            <a:off x="1478520" y="141300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ередсердя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Прямоугольник 8"/>
          <p:cNvSpPr/>
          <p:nvPr/>
        </p:nvSpPr>
        <p:spPr>
          <a:xfrm>
            <a:off x="4940280" y="148428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порожнисти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Прямоугольник 9"/>
          <p:cNvSpPr/>
          <p:nvPr/>
        </p:nvSpPr>
        <p:spPr>
          <a:xfrm>
            <a:off x="3777120" y="1989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шлуноч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Прямоугольник 10"/>
          <p:cNvSpPr/>
          <p:nvPr/>
        </p:nvSpPr>
        <p:spPr>
          <a:xfrm>
            <a:off x="6148080" y="19890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легене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Прямоугольник 11"/>
          <p:cNvSpPr/>
          <p:nvPr/>
        </p:nvSpPr>
        <p:spPr>
          <a:xfrm>
            <a:off x="7706880" y="2565360"/>
            <a:ext cx="8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леге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Прямоугольник 13"/>
          <p:cNvSpPr/>
          <p:nvPr/>
        </p:nvSpPr>
        <p:spPr>
          <a:xfrm>
            <a:off x="4156200" y="30862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легеневі в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Прямоугольник 15"/>
          <p:cNvSpPr/>
          <p:nvPr/>
        </p:nvSpPr>
        <p:spPr>
          <a:xfrm>
            <a:off x="4773240" y="363384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аор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Прямоугольник 16"/>
          <p:cNvSpPr/>
          <p:nvPr/>
        </p:nvSpPr>
        <p:spPr>
          <a:xfrm>
            <a:off x="6353640" y="3630600"/>
            <a:ext cx="13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артеріаль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Прямоугольник 17"/>
          <p:cNvSpPr/>
          <p:nvPr/>
        </p:nvSpPr>
        <p:spPr>
          <a:xfrm>
            <a:off x="5009400" y="472428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клапа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Прямоугольник 18"/>
          <p:cNvSpPr/>
          <p:nvPr/>
        </p:nvSpPr>
        <p:spPr>
          <a:xfrm>
            <a:off x="3621240" y="530856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двостулко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Прямоугольник 19"/>
          <p:cNvSpPr/>
          <p:nvPr/>
        </p:nvSpPr>
        <p:spPr>
          <a:xfrm>
            <a:off x="6324480" y="530856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Calibri"/>
              </a:rPr>
              <a:t>тристулков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9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4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9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4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9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4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9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4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Прямоугольник 2" descr=""/>
          <p:cNvPicPr/>
          <p:nvPr/>
        </p:nvPicPr>
        <p:blipFill>
          <a:blip r:embed="rId1"/>
          <a:stretch/>
        </p:blipFill>
        <p:spPr>
          <a:xfrm>
            <a:off x="2170080" y="146160"/>
            <a:ext cx="4737240" cy="1560240"/>
          </a:xfrm>
          <a:prstGeom prst="rect">
            <a:avLst/>
          </a:prstGeom>
          <a:ln w="0">
            <a:noFill/>
          </a:ln>
        </p:spPr>
      </p:pic>
      <p:sp>
        <p:nvSpPr>
          <p:cNvPr id="1087" name="Прямоугольник 4"/>
          <p:cNvSpPr/>
          <p:nvPr/>
        </p:nvSpPr>
        <p:spPr>
          <a:xfrm>
            <a:off x="684360" y="1700280"/>
            <a:ext cx="78483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00000"/>
                </a:solidFill>
                <a:latin typeface="Calibri"/>
              </a:rPr>
              <a:t>Тема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Зазвичай іменни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Опис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Два прикметник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Calibri"/>
              </a:rPr>
              <a:t>Дія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Три  дієсло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7030a0"/>
                </a:solidFill>
                <a:latin typeface="Calibri"/>
              </a:rPr>
              <a:t>Ставлення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фраза – чотири слов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e36406"/>
                </a:solidFill>
                <a:latin typeface="Calibri"/>
              </a:rPr>
              <a:t>Перефразування сутності       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(одне слов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07640" y="438120"/>
            <a:ext cx="71326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800" spc="-1" strike="noStrike">
                <a:solidFill>
                  <a:srgbClr val="2373ad"/>
                </a:solidFill>
                <a:latin typeface="Arial"/>
                <a:ea typeface="Times New Roman"/>
              </a:rPr>
              <a:t>Відкритий мікрофон </a:t>
            </a:r>
            <a:br>
              <a:rPr sz="700"/>
            </a:br>
            <a:endParaRPr b="1" i="1" lang="en-US" sz="3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89" name="Rectangle 4"/>
          <p:cNvSpPr/>
          <p:nvPr/>
        </p:nvSpPr>
        <p:spPr>
          <a:xfrm>
            <a:off x="4406040" y="-31320"/>
            <a:ext cx="33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8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0" name="Рисунок 14" descr="Описание: Описание: МИКР"/>
          <p:cNvPicPr/>
          <p:nvPr/>
        </p:nvPicPr>
        <p:blipFill>
          <a:blip r:embed="rId1"/>
          <a:stretch/>
        </p:blipFill>
        <p:spPr>
          <a:xfrm>
            <a:off x="539640" y="1033560"/>
            <a:ext cx="1548000" cy="1547640"/>
          </a:xfrm>
          <a:prstGeom prst="rect">
            <a:avLst/>
          </a:prstGeom>
          <a:ln w="0">
            <a:noFill/>
          </a:ln>
        </p:spPr>
      </p:pic>
      <p:sp>
        <p:nvSpPr>
          <p:cNvPr id="1091" name="TextBox 4"/>
          <p:cNvSpPr/>
          <p:nvPr/>
        </p:nvSpPr>
        <p:spPr>
          <a:xfrm>
            <a:off x="3059280" y="878040"/>
            <a:ext cx="54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Оцініть свою роботу на уроці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висловіть свої думки даючи відповід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запитан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Прямоугольник 5"/>
          <p:cNvSpPr/>
          <p:nvPr/>
        </p:nvSpPr>
        <p:spPr>
          <a:xfrm>
            <a:off x="1763640" y="1801800"/>
            <a:ext cx="525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Ми вивчил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Arial"/>
              </a:rPr>
              <a:t>Ми навчилис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Arial"/>
              </a:rPr>
              <a:t>Нас зацікавил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7030a0"/>
                </a:solidFill>
                <a:latin typeface="Arial"/>
              </a:rPr>
              <a:t>Отже,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TextBox 3"/>
          <p:cNvSpPr/>
          <p:nvPr/>
        </p:nvSpPr>
        <p:spPr>
          <a:xfrm>
            <a:off x="900000" y="3789360"/>
            <a:ext cx="770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b05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50"/>
                </a:solidFill>
                <a:latin typeface="Calibri"/>
              </a:rPr>
              <a:t>Що ви знаєте про серце?</a:t>
            </a: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А в </a:t>
            </a:r>
            <a:r>
              <a:rPr b="1" lang="uk-UA" sz="2400" spc="-1" strike="noStrike">
                <a:solidFill>
                  <a:srgbClr val="0070c0"/>
                </a:solidFill>
                <a:latin typeface="Calibri"/>
              </a:rPr>
              <a:t>чому ж полягає незвичайність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пульсу  Наполеона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Чи вистачає у нас здобутих знань  на цьому уроці, щоб відповісти на ці запитання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Picture 2" descr=""/>
          <p:cNvPicPr/>
          <p:nvPr/>
        </p:nvPicPr>
        <p:blipFill>
          <a:blip r:embed="rId1"/>
          <a:stretch/>
        </p:blipFill>
        <p:spPr>
          <a:xfrm>
            <a:off x="1990800" y="189000"/>
            <a:ext cx="5207040" cy="863640"/>
          </a:xfrm>
          <a:prstGeom prst="rect">
            <a:avLst/>
          </a:prstGeom>
          <a:ln w="0">
            <a:noFill/>
          </a:ln>
        </p:spPr>
      </p:pic>
      <p:sp>
        <p:nvSpPr>
          <p:cNvPr id="972" name="TextBox 4"/>
          <p:cNvSpPr/>
          <p:nvPr/>
        </p:nvSpPr>
        <p:spPr>
          <a:xfrm>
            <a:off x="1017720" y="907920"/>
            <a:ext cx="7634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just">
              <a:buClr>
                <a:srgbClr val="ff0000"/>
              </a:buClr>
              <a:buSzPct val="10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піляр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– це найтонші та найкоротші кровоносні судин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buClr>
                <a:srgbClr val="ff0000"/>
              </a:buClr>
              <a:buSzPct val="10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іаметр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найбільших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капіляр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становить 30 м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buClr>
                <a:srgbClr val="ff0000"/>
              </a:buClr>
              <a:buSzPct val="10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ен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тонкі, легко розтягуються, оскільки мають слабо розвинений м'язовий шар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buClr>
                <a:srgbClr val="ff0000"/>
              </a:buClr>
              <a:buSzPct val="10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Судини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, по яких кров тече від серця до тканин  та органів, називається венам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buClr>
                <a:srgbClr val="ff0000"/>
              </a:buClr>
              <a:buSzPct val="10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Будова артерій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не відповідає їхнім функція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 algn="just">
              <a:buClr>
                <a:srgbClr val="ff0000"/>
              </a:buClr>
              <a:buSzPct val="101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ройшовши через капіляри й збагатившись  СО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Aharoni"/>
              </a:rPr>
              <a:t>2   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Aharoni"/>
              </a:rPr>
              <a:t>та іншими продуктами життєдіяльності, кров потрапляє до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  <a:ea typeface="Aharoni"/>
              </a:rPr>
              <a:t>венул</a:t>
            </a:r>
            <a:r>
              <a:rPr b="0" lang="uk-UA" sz="2800" spc="-1" strike="noStrike">
                <a:solidFill>
                  <a:srgbClr val="000000"/>
                </a:solidFill>
                <a:latin typeface="Calibri"/>
                <a:ea typeface="Aharon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Сердце 5"/>
          <p:cNvSpPr/>
          <p:nvPr/>
        </p:nvSpPr>
        <p:spPr>
          <a:xfrm>
            <a:off x="266760" y="966960"/>
            <a:ext cx="647640" cy="433080"/>
          </a:xfrm>
          <a:custGeom>
            <a:avLst/>
            <a:gdLst/>
            <a:ahLst/>
            <a:rect l="l" t="t" r="r" b="b"/>
            <a:pathLst>
              <a:path w="647700" h="433387">
                <a:moveTo>
                  <a:pt x="323850" y="108347"/>
                </a:moveTo>
                <a:cubicBezTo>
                  <a:pt x="458788" y="-144462"/>
                  <a:pt x="985044" y="108347"/>
                  <a:pt x="323850" y="433387"/>
                </a:cubicBezTo>
                <a:cubicBezTo>
                  <a:pt x="-337344" y="108347"/>
                  <a:pt x="188913" y="-144462"/>
                  <a:pt x="323850" y="108347"/>
                </a:cubicBezTo>
                <a:close/>
              </a:path>
            </a:pathLst>
          </a:custGeom>
          <a:solidFill>
            <a:srgbClr val="ff0000"/>
          </a:solidFill>
          <a:ln w="2232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5-конечная звезда 6"/>
          <p:cNvSpPr/>
          <p:nvPr/>
        </p:nvSpPr>
        <p:spPr>
          <a:xfrm>
            <a:off x="401760" y="1787400"/>
            <a:ext cx="504720" cy="457200"/>
          </a:xfrm>
          <a:custGeom>
            <a:avLst/>
            <a:gdLst/>
            <a:ahLst/>
            <a:rect l="l" t="t" r="r" b="b"/>
            <a:pathLst>
              <a:path w="504825" h="457200">
                <a:moveTo>
                  <a:pt x="1" y="174634"/>
                </a:moveTo>
                <a:lnTo>
                  <a:pt x="192827" y="174636"/>
                </a:lnTo>
                <a:lnTo>
                  <a:pt x="252413" y="0"/>
                </a:lnTo>
                <a:lnTo>
                  <a:pt x="311998" y="174636"/>
                </a:lnTo>
                <a:lnTo>
                  <a:pt x="504824" y="174634"/>
                </a:lnTo>
                <a:lnTo>
                  <a:pt x="348824" y="282564"/>
                </a:lnTo>
                <a:lnTo>
                  <a:pt x="408412" y="457199"/>
                </a:lnTo>
                <a:lnTo>
                  <a:pt x="252413" y="349267"/>
                </a:lnTo>
                <a:lnTo>
                  <a:pt x="96413" y="457199"/>
                </a:lnTo>
                <a:lnTo>
                  <a:pt x="156001" y="282564"/>
                </a:lnTo>
                <a:lnTo>
                  <a:pt x="1" y="174634"/>
                </a:lnTo>
                <a:close/>
              </a:path>
            </a:pathLst>
          </a:custGeom>
          <a:solidFill>
            <a:srgbClr val="4f81bd"/>
          </a:solidFill>
          <a:ln w="2232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5" name="Picture 3" descr=""/>
          <p:cNvPicPr/>
          <p:nvPr/>
        </p:nvPicPr>
        <p:blipFill>
          <a:blip r:embed="rId2"/>
          <a:stretch/>
        </p:blipFill>
        <p:spPr>
          <a:xfrm>
            <a:off x="293760" y="5216400"/>
            <a:ext cx="682560" cy="45720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4" descr=""/>
          <p:cNvPicPr/>
          <p:nvPr/>
        </p:nvPicPr>
        <p:blipFill>
          <a:blip r:embed="rId3"/>
          <a:stretch/>
        </p:blipFill>
        <p:spPr>
          <a:xfrm>
            <a:off x="266760" y="2565360"/>
            <a:ext cx="682560" cy="457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5" descr=""/>
          <p:cNvPicPr/>
          <p:nvPr/>
        </p:nvPicPr>
        <p:blipFill>
          <a:blip r:embed="rId4"/>
          <a:stretch/>
        </p:blipFill>
        <p:spPr>
          <a:xfrm>
            <a:off x="293760" y="4395960"/>
            <a:ext cx="592200" cy="53640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6" descr=""/>
          <p:cNvPicPr/>
          <p:nvPr/>
        </p:nvPicPr>
        <p:blipFill>
          <a:blip r:embed="rId5"/>
          <a:stretch/>
        </p:blipFill>
        <p:spPr>
          <a:xfrm>
            <a:off x="311040" y="3487680"/>
            <a:ext cx="592200" cy="53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"/>
                                        <p:tgtEl>
                                          <p:spTgt spid="9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"/>
                                        <p:tgtEl>
                                          <p:spTgt spid="9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"/>
                                        <p:tgtEl>
                                          <p:spTgt spid="9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"/>
                                        <p:tgtEl>
                                          <p:spTgt spid="9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"/>
                                        <p:tgtEl>
                                          <p:spTgt spid="9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"/>
                                        <p:tgtEl>
                                          <p:spTgt spid="9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200" spc="-1" strike="noStrike">
                <a:solidFill>
                  <a:srgbClr val="0070c0"/>
                </a:solidFill>
                <a:latin typeface="Arial Black"/>
                <a:ea typeface="Calibri"/>
              </a:rPr>
              <a:t>Диференційоване домашнє завдання</a:t>
            </a:r>
            <a:endParaRPr b="1" i="1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95" name="Прямоугольник 2"/>
          <p:cNvSpPr/>
          <p:nvPr/>
        </p:nvSpPr>
        <p:spPr>
          <a:xfrm>
            <a:off x="755640" y="1374840"/>
            <a:ext cx="79930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1.Опрацювати параграф «Органи кровообігу. Серце»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 (початковий і середній рівень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2. Серце працює упродовж усього життя без зупинки. Поясніть, у чому причина такої працездатності серця та його м'язів?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(достатній рівень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3. Скласти рекламу «Пропаганда  здорового способу життя».  Групи учнів повинні  прорекламувати заняття фізичними вправами та їх вплив на покращення і зміцнення серцевого м’яза.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Calibri"/>
              </a:rPr>
              <a:t>(високий рівень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6" name="Заголовок 1" descr=""/>
          <p:cNvPicPr/>
          <p:nvPr/>
        </p:nvPicPr>
        <p:blipFill>
          <a:blip r:embed="rId1"/>
          <a:stretch/>
        </p:blipFill>
        <p:spPr>
          <a:xfrm>
            <a:off x="469800" y="1914480"/>
            <a:ext cx="822960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Прямоугольник 2"/>
          <p:cNvSpPr/>
          <p:nvPr/>
        </p:nvSpPr>
        <p:spPr>
          <a:xfrm>
            <a:off x="468360" y="907920"/>
            <a:ext cx="828036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0000"/>
                </a:solidFill>
                <a:latin typeface="Arial Black"/>
              </a:rPr>
              <a:t>Серце</a:t>
            </a:r>
            <a:r>
              <a:rPr b="0" lang="uk-UA" sz="3200" spc="-1" strike="noStrike">
                <a:solidFill>
                  <a:srgbClr val="080808"/>
                </a:solidFill>
                <a:latin typeface="Arial Black"/>
              </a:rPr>
              <a:t> – </a:t>
            </a:r>
            <a:r>
              <a:rPr b="0" lang="uk-UA" sz="3200" spc="-1" strike="noStrike">
                <a:solidFill>
                  <a:srgbClr val="00b050"/>
                </a:solidFill>
                <a:latin typeface="Arial Black"/>
              </a:rPr>
              <a:t>джерело житт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b050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00b050"/>
                </a:solidFill>
                <a:latin typeface="Arial Black"/>
              </a:rPr>
              <a:t>початок всьог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0808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c00000"/>
                </a:solidFill>
                <a:latin typeface="Arial Black"/>
              </a:rPr>
              <a:t>сонце мікрокосмусу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0808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1d8ec5"/>
                </a:solidFill>
                <a:latin typeface="Arial Black"/>
              </a:rPr>
              <a:t>від якого залежи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d8ec5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1d8ec5"/>
                </a:solidFill>
                <a:latin typeface="Arial Black"/>
              </a:rPr>
              <a:t>вся сила і свіжість організм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0808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00b050"/>
                </a:solidFill>
                <a:latin typeface="Arial Black"/>
              </a:rPr>
              <a:t>Ніщо не може замінити </a:t>
            </a:r>
            <a:r>
              <a:rPr b="0" lang="uk-UA" sz="3200" spc="-1" strike="noStrike">
                <a:solidFill>
                  <a:srgbClr val="ff0000"/>
                </a:solidFill>
                <a:latin typeface="Arial Black"/>
              </a:rPr>
              <a:t>серця</a:t>
            </a:r>
            <a:r>
              <a:rPr b="0" lang="uk-UA" sz="3200" spc="-1" strike="noStrike">
                <a:solidFill>
                  <a:srgbClr val="080808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0808"/>
                </a:solidFill>
                <a:latin typeface="Arial Black"/>
              </a:rPr>
              <a:t> </a:t>
            </a:r>
            <a:r>
              <a:rPr b="0" lang="uk-UA" sz="3200" spc="-1" strike="noStrike">
                <a:solidFill>
                  <a:srgbClr val="0070c0"/>
                </a:solidFill>
                <a:latin typeface="Arial Black"/>
              </a:rPr>
              <a:t>і взяти на себе його функції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0808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80808"/>
                </a:solidFill>
                <a:latin typeface="Arial Black"/>
              </a:rPr>
              <a:t> </a:t>
            </a:r>
            <a:r>
              <a:rPr b="0" lang="uk-UA" sz="1800" spc="-1" strike="noStrike">
                <a:solidFill>
                  <a:srgbClr val="7030a0"/>
                </a:solidFill>
                <a:latin typeface="Arial Black"/>
              </a:rPr>
              <a:t>Вільям Гарве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0" i="1" lang="uk-UA" sz="1800" spc="-1" strike="noStrike">
                <a:solidFill>
                  <a:srgbClr val="7030a0"/>
                </a:solidFill>
                <a:latin typeface="Arial Black"/>
              </a:rPr>
              <a:t>англійський фізіолог  Х</a:t>
            </a:r>
            <a:r>
              <a:rPr b="0" i="1" lang="en-US" sz="1800" spc="-1" strike="noStrike">
                <a:solidFill>
                  <a:srgbClr val="7030a0"/>
                </a:solidFill>
                <a:latin typeface="Arial Black"/>
              </a:rPr>
              <a:t>V</a:t>
            </a:r>
            <a:r>
              <a:rPr b="0" i="1" lang="uk-UA" sz="1800" spc="-1" strike="noStrike">
                <a:solidFill>
                  <a:srgbClr val="7030a0"/>
                </a:solidFill>
                <a:latin typeface="Arial Black"/>
              </a:rPr>
              <a:t>ІІ ст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127760" cy="1603440"/>
          </a:xfrm>
          <a:prstGeom prst="rect">
            <a:avLst/>
          </a:prstGeom>
          <a:ln w="0">
            <a:noFill/>
          </a:ln>
        </p:spPr>
      </p:pic>
      <p:sp>
        <p:nvSpPr>
          <p:cNvPr id="981" name="TextBox 3"/>
          <p:cNvSpPr/>
          <p:nvPr/>
        </p:nvSpPr>
        <p:spPr>
          <a:xfrm>
            <a:off x="663480" y="1413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haroni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  <a:ea typeface="Aharoni"/>
              </a:rPr>
              <a:t>Кажуть, що у Наполеона  був пульс 40 ударів за хвилину. Такий  пульс навіть назвали «наполеонівським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Прямоугольник 5"/>
          <p:cNvSpPr/>
          <p:nvPr/>
        </p:nvSpPr>
        <p:spPr>
          <a:xfrm>
            <a:off x="4513320" y="3933720"/>
            <a:ext cx="4143240" cy="22885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а </a:t>
            </a: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визначаєть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вік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таттю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будовою тіл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оро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інши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фактор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Прямоугольник 4"/>
          <p:cNvSpPr/>
          <p:nvPr/>
        </p:nvSpPr>
        <p:spPr>
          <a:xfrm>
            <a:off x="679320" y="2773440"/>
            <a:ext cx="7977240" cy="1191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alibri"/>
              </a:rPr>
              <a:t>Серце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лат. соr, греч. cardia)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м'язов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орожнисти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орган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конусоподібної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форм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TextBox 1"/>
          <p:cNvSpPr/>
          <p:nvPr/>
        </p:nvSpPr>
        <p:spPr>
          <a:xfrm>
            <a:off x="713520" y="472608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• </a:t>
            </a:r>
            <a:r>
              <a:rPr b="0" i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Що ви знаєте про серце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Прямоугольник 2"/>
          <p:cNvSpPr/>
          <p:nvPr/>
        </p:nvSpPr>
        <p:spPr>
          <a:xfrm>
            <a:off x="1476360" y="2127240"/>
            <a:ext cx="69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в чому ж полягає незвичайність  цього пульсу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6" name="Picture 8" descr=""/>
          <p:cNvPicPr/>
          <p:nvPr/>
        </p:nvPicPr>
        <p:blipFill>
          <a:blip r:embed="rId2"/>
          <a:stretch/>
        </p:blipFill>
        <p:spPr>
          <a:xfrm>
            <a:off x="663480" y="228276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9" descr=""/>
          <p:cNvPicPr/>
          <p:nvPr/>
        </p:nvPicPr>
        <p:blipFill>
          <a:blip r:embed="rId3"/>
          <a:stretch/>
        </p:blipFill>
        <p:spPr>
          <a:xfrm>
            <a:off x="668160" y="411624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0070c0"/>
                </a:solidFill>
                <a:latin typeface="Calibri"/>
              </a:rPr>
              <a:t>Тема уроку: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755280" y="2708280"/>
            <a:ext cx="79930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500" spc="-1" strike="noStrike">
                <a:solidFill>
                  <a:srgbClr val="00b050"/>
                </a:solidFill>
                <a:latin typeface="Calibri"/>
              </a:rPr>
              <a:t>Завдання уроку: 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1.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ознайомитися з будовою серця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2.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визначити як будова серця пов'язана з його виконуваними  функція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3.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встановити які особливості  будови серцевого м'яз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70c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4.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i="1" lang="uk-UA" sz="3000" spc="-1" strike="noStrike">
                <a:solidFill>
                  <a:srgbClr val="0070c0"/>
                </a:solidFill>
                <a:latin typeface="Calibri"/>
              </a:rPr>
              <a:t>встановити як регулюється робота серц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Прямоугольник 6"/>
          <p:cNvSpPr/>
          <p:nvPr/>
        </p:nvSpPr>
        <p:spPr>
          <a:xfrm>
            <a:off x="354600" y="1214280"/>
            <a:ext cx="855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0000"/>
                </a:solidFill>
                <a:latin typeface="Mistral"/>
              </a:rPr>
              <a:t>Будова й функції серц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9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9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9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TextBox 8"/>
          <p:cNvSpPr/>
          <p:nvPr/>
        </p:nvSpPr>
        <p:spPr>
          <a:xfrm>
            <a:off x="826920" y="26028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70c0"/>
                </a:solidFill>
                <a:latin typeface="Calibri"/>
              </a:rPr>
              <a:t>Як працює серце людин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2" name="Як працює серце людини_TS - Фильм 01.mpg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9420" fill="hold"/>
                                        <p:tgtEl>
                                          <p:spTgt spid="9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992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992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9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179280" y="765000"/>
            <a:ext cx="8785440" cy="25927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Відомо, що  серце людини скорочується в середньому  70 раз за 1 хв., при кожному скороченні виштовхується близько 50 мл. крові. Який  обєм крові  перекачує ваше серце за 6 урокі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WordArt 4"/>
          <p:cNvSpPr txBox="1"/>
          <p:nvPr/>
        </p:nvSpPr>
        <p:spPr>
          <a:xfrm>
            <a:off x="324000" y="189000"/>
            <a:ext cx="2376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ЗАДАЧ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995" name="Rectangle 5"/>
          <p:cNvSpPr/>
          <p:nvPr/>
        </p:nvSpPr>
        <p:spPr>
          <a:xfrm>
            <a:off x="1571760" y="3429000"/>
            <a:ext cx="24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РІШЕ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Rectangle 6"/>
          <p:cNvSpPr/>
          <p:nvPr/>
        </p:nvSpPr>
        <p:spPr>
          <a:xfrm>
            <a:off x="214200" y="4071960"/>
            <a:ext cx="8715600" cy="5745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0 х 45 = 3150 раз скорочується за 1 ур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Rectangle 7"/>
          <p:cNvSpPr/>
          <p:nvPr/>
        </p:nvSpPr>
        <p:spPr>
          <a:xfrm>
            <a:off x="179280" y="4653000"/>
            <a:ext cx="8785440" cy="10620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150 х 50 = 157500 мл. = 157,5 л. крові перекачується за 1 ур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Rectangle 8"/>
          <p:cNvSpPr/>
          <p:nvPr/>
        </p:nvSpPr>
        <p:spPr>
          <a:xfrm>
            <a:off x="179280" y="5734080"/>
            <a:ext cx="8785440" cy="1123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57,5 л. х 6 уроков = 945,500 л. крові перекачується за 6 урокі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6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TextBox 2"/>
          <p:cNvSpPr/>
          <p:nvPr/>
        </p:nvSpPr>
        <p:spPr>
          <a:xfrm>
            <a:off x="4788000" y="1052640"/>
            <a:ext cx="3887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ерце – це центральний орган кровообігу, розташований у грудній порожнин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Широка частина серця (основа) спрямована вгору й праворуч, вузька (верхівка) донизу й ліворуч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/3 серця розташовані в лівій частині грудної порожнини, 1/3 – у праві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0" name="Picture 2" descr="C:\Documents and Settings\1\Рабочий стол\45743849_gdeserdce.jpg"/>
          <p:cNvPicPr/>
          <p:nvPr/>
        </p:nvPicPr>
        <p:blipFill>
          <a:blip r:embed="rId1"/>
          <a:stretch/>
        </p:blipFill>
        <p:spPr>
          <a:xfrm>
            <a:off x="250920" y="1197000"/>
            <a:ext cx="4110120" cy="4870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19:27:10Z</dcterms:created>
  <dc:creator>Галушко В.В.</dc:creator>
  <dc:description/>
  <cp:keywords>серце</cp:keywords>
  <dc:language>en-US</dc:language>
  <cp:lastModifiedBy>пк</cp:lastModifiedBy>
  <dcterms:modified xsi:type="dcterms:W3CDTF">2012-12-13T05:09:02Z</dcterms:modified>
  <cp:revision>101</cp:revision>
  <dc:subject>Кровообіг 9 клас</dc:subject>
  <dc:title>Будова й функції серц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27000000000001024140</vt:lpwstr>
  </property>
</Properties>
</file>