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1.png" ContentType="image/png"/>
  <Override PartName="/ppt/media/image47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17B-B872-4551-8477-38BB6A4ADB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643-C1CA-4DFA-9DEC-BE9E5A99F2C1}" type="slidenum">
              <a:rPr b="0" lang="ru-RU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0B2-DEBF-49AB-A5B3-C8A3C697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18B-36F5-4BE8-A3A5-0920616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A72-BB21-455B-9428-858B3EB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9A7-0DAF-482F-9B1E-F9DE4BD2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E11-3B1C-4245-8EAE-735D2252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12BF-371B-42F7-B7F8-BF5A9114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DC51-E733-4E0B-90EA-3F474FB0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F56E-571C-4EDC-A86A-48305C0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0A9D-595D-4AA3-8AC6-77E7DD0B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5DF1-044A-4721-9CD9-5FF81356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428B-CA14-4E02-A51A-C80A1E55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B5A-4E68-4A5B-A586-9D81564E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9CF2-C335-4E30-A150-7788495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BBE-5882-45ED-BBC4-B89D5AF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B4D7-EDEC-4268-8F91-4CFB2651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67A6-BE95-4F72-A64D-856F99F6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07CC-E248-4BFD-A6F5-8B0E5FA9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0298-8789-47BB-A372-C2DE1C6D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C01F-0C1D-47B0-B046-EDD32E46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A078-9407-4A4B-8EEC-0907B6F3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19D4-C139-40CE-BE46-BA24445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397F-3756-4175-8410-090BE28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0F1-CC7F-4823-9784-658B65DC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B94F-20B1-4749-9393-2EF25251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470F-4F83-418C-8916-03364189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3822-94A4-4E46-B375-B5B1ADD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EF21-AE41-4254-ADB9-5AF1AF83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BC31-A7F2-4D57-AD17-5065D59D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B9C5-6D16-4966-89BA-A5A3FBD8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0FCB-11B1-4B7A-B813-1CA370F9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72D3-FF22-4A0E-A00C-FB737F8E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EA5C-50BB-46DD-BB08-4DA0682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0BA7-4A09-41C1-8E95-44735547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CDF-D0FD-4AA3-9C95-9E997D83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901C-20AF-4C2B-88B0-11FAAD0C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E545-05DA-4C82-9135-B836AF1E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2624-366D-47FF-A276-0335A0D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4C57-EB0C-4106-A1D5-7E29668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7BCF2-DB6A-45BC-99CE-8D8E1DD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3555-A941-4A53-A1D9-0428F6B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2B8B-0253-46E7-B400-39677BF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00E1-09CE-4391-BF85-46642A93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199B2-7751-4827-A38C-21AB2BA0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E76-0756-4ED6-A54F-2FB270F7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155-3CCD-4C4D-B7D4-22D938BA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DD4-8880-4968-A13C-F41F16D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4E9-E570-4999-8713-EB482CF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6C5-9973-4C2B-8812-211950C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9E5-5596-4126-B08F-81CB72317E6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5177-D921-4CE2-ABA3-92CA12151A6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8455-EA60-4EEE-96CB-F45DA3647F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4768-1640-4BF9-B8BA-481D11C5029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-324000" y="1125360"/>
            <a:ext cx="5472360" cy="518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D:\Документи\Risunok2.png"/>
          <p:cNvPicPr/>
          <p:nvPr/>
        </p:nvPicPr>
        <p:blipFill>
          <a:blip r:embed="rId2"/>
          <a:stretch/>
        </p:blipFill>
        <p:spPr>
          <a:xfrm>
            <a:off x="5435640" y="1268280"/>
            <a:ext cx="3406680" cy="465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7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191880" y="5157720"/>
            <a:ext cx="91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Головний мозок поділяється на праву півкулю, яка контролює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ліву частину тіла, і ліву півкулю, яка контролює праву частину тіла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3037680" y="2630520"/>
            <a:ext cx="56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 – півкулі головного мозку – центр збор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 обробки інформації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 – мозочок, що відповідає за координацію рухі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 – довгастий мозок, що контролює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язи внутрішніх органі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064040" y="115920"/>
            <a:ext cx="3311640" cy="2316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Admin\Рабочий стол\Telo cheloveka.png"/>
          <p:cNvPicPr/>
          <p:nvPr/>
        </p:nvPicPr>
        <p:blipFill>
          <a:blip r:embed="rId2"/>
          <a:stretch/>
        </p:blipFill>
        <p:spPr>
          <a:xfrm>
            <a:off x="34920" y="1125360"/>
            <a:ext cx="3282840" cy="3208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2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2195640" cy="6064200"/>
          </a:xfrm>
          <a:prstGeom prst="rect">
            <a:avLst/>
          </a:prstGeom>
          <a:ln w="0">
            <a:noFill/>
          </a:ln>
        </p:spPr>
      </p:pic>
      <p:pic>
        <p:nvPicPr>
          <p:cNvPr id="263" name="Двойная волна 1" descr=""/>
          <p:cNvPicPr/>
          <p:nvPr/>
        </p:nvPicPr>
        <p:blipFill>
          <a:blip r:embed="rId2"/>
          <a:stretch/>
        </p:blipFill>
        <p:spPr>
          <a:xfrm>
            <a:off x="3017880" y="115920"/>
            <a:ext cx="5638680" cy="14637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"/>
          <p:cNvSpPr/>
          <p:nvPr/>
        </p:nvSpPr>
        <p:spPr>
          <a:xfrm>
            <a:off x="2124000" y="1913040"/>
            <a:ext cx="55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1 –  спинний мозо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2 –  від спинного мозку відходи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1 пара нервів, по яких передаютьс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игнали до всіх частин тіла і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иймаються від них мозко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3 – сідничний нерв – найдовши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ерв тіл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3059280" y="4653000"/>
            <a:ext cx="58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пинний мозок має вигляд білого шнура завдовжки 40-45см і товщиною в палець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3"/>
          <a:stretch/>
        </p:blipFill>
        <p:spPr>
          <a:xfrm>
            <a:off x="6046920" y="1689120"/>
            <a:ext cx="3097080" cy="279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8" descr="Копия Рисунок2"/>
          <p:cNvPicPr/>
          <p:nvPr/>
        </p:nvPicPr>
        <p:blipFill>
          <a:blip r:embed="rId1"/>
          <a:stretch/>
        </p:blipFill>
        <p:spPr>
          <a:xfrm>
            <a:off x="179280" y="2349360"/>
            <a:ext cx="2089080" cy="3861000"/>
          </a:xfrm>
          <a:prstGeom prst="rect">
            <a:avLst/>
          </a:prstGeom>
          <a:ln w="0">
            <a:noFill/>
          </a:ln>
        </p:spPr>
      </p:pic>
      <p:grpSp>
        <p:nvGrpSpPr>
          <p:cNvPr id="268" name="Двойная волна 1"/>
          <p:cNvGrpSpPr/>
          <p:nvPr/>
        </p:nvGrpSpPr>
        <p:grpSpPr>
          <a:xfrm>
            <a:off x="1359000" y="237960"/>
            <a:ext cx="7078680" cy="1322640"/>
            <a:chOff x="1359000" y="237960"/>
            <a:chExt cx="7078680" cy="1322640"/>
          </a:xfrm>
        </p:grpSpPr>
        <p:pic>
          <p:nvPicPr>
            <p:cNvPr id="269" name="Двойная волна 1" descr=""/>
            <p:cNvPicPr/>
            <p:nvPr/>
          </p:nvPicPr>
          <p:blipFill>
            <a:blip r:embed="rId2"/>
            <a:stretch/>
          </p:blipFill>
          <p:spPr>
            <a:xfrm>
              <a:off x="1359000" y="237960"/>
              <a:ext cx="7078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1547640" y="522360"/>
              <a:ext cx="6696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Нерви схожі на білі блискучі нитки. Вони розгалужуються і пронизують майже всі органи тіла людин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71" name="Picture 2" descr=""/>
          <p:cNvPicPr/>
          <p:nvPr/>
        </p:nvPicPr>
        <p:blipFill>
          <a:blip r:embed="rId3"/>
          <a:stretch/>
        </p:blipFill>
        <p:spPr>
          <a:xfrm>
            <a:off x="2895480" y="2322360"/>
            <a:ext cx="5840640" cy="380376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1196280" y="6248520"/>
            <a:ext cx="67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нформація по нервах передається зі швидкістю 300км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1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2" descr=""/>
          <p:cNvPicPr/>
          <p:nvPr/>
        </p:nvPicPr>
        <p:blipFill>
          <a:blip r:embed="rId1"/>
          <a:stretch/>
        </p:blipFill>
        <p:spPr>
          <a:xfrm>
            <a:off x="1587600" y="4724280"/>
            <a:ext cx="5657760" cy="1152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0" y="6480"/>
            <a:ext cx="4218120" cy="4930560"/>
          </a:xfrm>
          <a:prstGeom prst="rect">
            <a:avLst/>
          </a:prstGeom>
          <a:ln w="0">
            <a:noFill/>
          </a:ln>
        </p:spPr>
      </p:pic>
      <p:grpSp>
        <p:nvGrpSpPr>
          <p:cNvPr id="275" name="Вертикальный свиток 4"/>
          <p:cNvGrpSpPr/>
          <p:nvPr/>
        </p:nvGrpSpPr>
        <p:grpSpPr>
          <a:xfrm>
            <a:off x="4863960" y="646200"/>
            <a:ext cx="2805120" cy="3243240"/>
            <a:chOff x="4863960" y="646200"/>
            <a:chExt cx="2805120" cy="3243240"/>
          </a:xfrm>
        </p:grpSpPr>
        <p:pic>
          <p:nvPicPr>
            <p:cNvPr id="276" name="Вертик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4863960" y="646200"/>
              <a:ext cx="280512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5319720" y="1079640"/>
              <a:ext cx="1889280" cy="24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Нервова тканина складається з нейронів – клітин з довгими і короткими відросткам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Calibri"/>
              </a:rPr>
              <a:t>Будова нейрон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Ядр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259200" indent="-259200">
              <a:lnSpc>
                <a:spcPct val="80000"/>
              </a:lnSpc>
              <a:spcBef>
                <a:spcPts val="476"/>
              </a:spcBef>
              <a:buClr>
                <a:srgbClr val="acc2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Тіло нейрона </a:t>
            </a:r>
            <a:r>
              <a:rPr b="0" lang="uk-UA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ендрит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Аксо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За функціями нейрони поділяються на  вставні ,чутливі, рухові. Нейроглія –жила, нерв, яка заповнює проміжки між нейрон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C:\Users\Наташа\Desktop\мамині фото\1268084463_223_1704770582.jpg"/>
          <p:cNvPicPr/>
          <p:nvPr/>
        </p:nvPicPr>
        <p:blipFill>
          <a:blip r:embed="rId1"/>
          <a:stretch/>
        </p:blipFill>
        <p:spPr>
          <a:xfrm>
            <a:off x="3635280" y="1628640"/>
            <a:ext cx="504036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4617b"/>
                </a:solidFill>
                <a:latin typeface="Calibri"/>
              </a:rPr>
              <a:t>Нейрони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Constantia"/>
              </a:rPr>
              <a:t>Аксони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4617b"/>
                </a:solidFill>
                <a:latin typeface="Constantia"/>
              </a:rPr>
              <a:t>Дендри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2491920"/>
            <a:ext cx="449748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вгі відростки з коротким розгалуженням. Довжина 1-1,5м. Аксони нейронів утворюють білу речовину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Короткі відростки з довгим   розгалуженням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Довжина 0,01-0,5мм. Дендрити утворюють сіру речовину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МЕХАНІЗМ ПЕРЕДАЧІ НЕРВОВИХ ІМПУЛЬСІ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АПСИ - місце, через яке здійснюється зв’язок і передача імпульсів між нейронами і клітиною робочого орг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Рефлекс і рефлекторна дуг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Механізмом  діяльності нервової системи є рефлекс. За біологічним значенням розрізняють такі види рефлексів: харчові, оборонні, орієнтувальні,  статеві. За характером реакції бувають: рухові, секреторні,судинні,дихальні. За походженням: безумовні, умовні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Шлях, яким проходять нервові імпульси, називають рефлекторною дуго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25360" y="1341360"/>
            <a:ext cx="8643960" cy="22734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68000" y="3357720"/>
            <a:ext cx="8496360" cy="280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onstantia"/>
              </a:rPr>
              <a:t>Визначіть за ілюстрацією скільки є нейронів і які вони?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672120" y="4797360"/>
            <a:ext cx="78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Для роботи мозку і нервам потрібні поживні речовини і кисен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Їх приносить кров. Без кисню головний мозок гине за кілька хвилин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3" name="Прямоугольник 5" descr=""/>
          <p:cNvPicPr/>
          <p:nvPr/>
        </p:nvPicPr>
        <p:blipFill>
          <a:blip r:embed="rId1"/>
          <a:stretch/>
        </p:blipFill>
        <p:spPr>
          <a:xfrm>
            <a:off x="165240" y="0"/>
            <a:ext cx="8978760" cy="1560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2"/>
          <a:stretch/>
        </p:blipFill>
        <p:spPr>
          <a:xfrm>
            <a:off x="42840" y="1195560"/>
            <a:ext cx="3522600" cy="5479920"/>
          </a:xfrm>
          <a:prstGeom prst="rect">
            <a:avLst/>
          </a:prstGeom>
          <a:ln w="0">
            <a:noFill/>
          </a:ln>
        </p:spPr>
      </p:pic>
      <p:grpSp>
        <p:nvGrpSpPr>
          <p:cNvPr id="295" name="Двойная волна 6"/>
          <p:cNvGrpSpPr/>
          <p:nvPr/>
        </p:nvGrpSpPr>
        <p:grpSpPr>
          <a:xfrm>
            <a:off x="3554280" y="1292400"/>
            <a:ext cx="5668920" cy="1742760"/>
            <a:chOff x="3554280" y="1292400"/>
            <a:chExt cx="5668920" cy="1742760"/>
          </a:xfrm>
        </p:grpSpPr>
        <p:pic>
          <p:nvPicPr>
            <p:cNvPr id="296" name="Двойная волна 6" descr=""/>
            <p:cNvPicPr/>
            <p:nvPr/>
          </p:nvPicPr>
          <p:blipFill>
            <a:blip r:embed="rId3"/>
            <a:stretch/>
          </p:blipFill>
          <p:spPr>
            <a:xfrm>
              <a:off x="3554280" y="1292400"/>
              <a:ext cx="5668920" cy="17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6"/>
            <p:cNvSpPr/>
            <p:nvPr/>
          </p:nvSpPr>
          <p:spPr>
            <a:xfrm>
              <a:off x="3708360" y="1592280"/>
              <a:ext cx="5356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У сні людина перебуває 1</a:t>
              </a: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/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 частину 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свого життя. Без сну людина може померти. Дитина повинна спати не менше 10 годин на добу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12944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ема. 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удова нервової системи. Центральна і периферична нервова система.</a:t>
            </a:r>
            <a:br>
              <a:rPr sz="3200"/>
            </a:b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ета:</a:t>
            </a:r>
            <a:r>
              <a:rPr b="0" lang="uk-U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знайомитись із загальною структурою нервової системи, розглянути особливості будови нервової клітини, сформувати уяву про механізм передачі нервових імпульсів та збереження нервової системи.</a:t>
            </a:r>
            <a:br>
              <a:rPr sz="3200"/>
            </a:b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5" descr="Рисунок1.png"/>
          <p:cNvPicPr/>
          <p:nvPr/>
        </p:nvPicPr>
        <p:blipFill>
          <a:blip r:embed="rId1"/>
          <a:stretch/>
        </p:blipFill>
        <p:spPr>
          <a:xfrm>
            <a:off x="7448400" y="765000"/>
            <a:ext cx="1695600" cy="452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2600" y="-100080"/>
            <a:ext cx="9255240" cy="1560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"/>
          <p:cNvPicPr/>
          <p:nvPr/>
        </p:nvPicPr>
        <p:blipFill>
          <a:blip r:embed="rId2"/>
          <a:stretch/>
        </p:blipFill>
        <p:spPr>
          <a:xfrm>
            <a:off x="250920" y="1460520"/>
            <a:ext cx="2719440" cy="2354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6012000" y="1467000"/>
            <a:ext cx="2879640" cy="2347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"/>
          <p:cNvPicPr/>
          <p:nvPr/>
        </p:nvPicPr>
        <p:blipFill>
          <a:blip r:embed="rId4"/>
          <a:stretch/>
        </p:blipFill>
        <p:spPr>
          <a:xfrm>
            <a:off x="3132000" y="1467000"/>
            <a:ext cx="2664000" cy="2358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D:\Документи\Казка\клипарты на прозрачном фоне\879.gif"/>
          <p:cNvPicPr/>
          <p:nvPr/>
        </p:nvPicPr>
        <p:blipFill>
          <a:blip r:embed="rId5"/>
          <a:stretch/>
        </p:blipFill>
        <p:spPr>
          <a:xfrm>
            <a:off x="-181080" y="449568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"/>
          <p:cNvPicPr/>
          <p:nvPr/>
        </p:nvPicPr>
        <p:blipFill>
          <a:blip r:embed="rId6"/>
          <a:stretch/>
        </p:blipFill>
        <p:spPr>
          <a:xfrm>
            <a:off x="4356000" y="4746600"/>
            <a:ext cx="1295640" cy="12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4" name="Picture 10" descr="270915985f52t"/>
          <p:cNvPicPr/>
          <p:nvPr/>
        </p:nvPicPr>
        <p:blipFill>
          <a:blip r:embed="rId7"/>
          <a:stretch/>
        </p:blipFill>
        <p:spPr>
          <a:xfrm>
            <a:off x="1258920" y="4726080"/>
            <a:ext cx="1297080" cy="129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5" name="Picture 33" descr="91307b4f8fa3t"/>
          <p:cNvPicPr/>
          <p:nvPr/>
        </p:nvPicPr>
        <p:blipFill>
          <a:blip r:embed="rId8"/>
          <a:stretch/>
        </p:blipFill>
        <p:spPr>
          <a:xfrm>
            <a:off x="2771640" y="4726080"/>
            <a:ext cx="1332000" cy="13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6" name="Picture 31" descr="0c6106eabbf5"/>
          <p:cNvPicPr/>
          <p:nvPr/>
        </p:nvPicPr>
        <p:blipFill>
          <a:blip r:embed="rId9"/>
          <a:stretch/>
        </p:blipFill>
        <p:spPr>
          <a:xfrm>
            <a:off x="5867280" y="4726080"/>
            <a:ext cx="1332000" cy="13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7" name="Picture 4" descr="852cb4bd7594t"/>
          <p:cNvPicPr/>
          <p:nvPr/>
        </p:nvPicPr>
        <p:blipFill>
          <a:blip r:embed="rId10"/>
          <a:stretch/>
        </p:blipFill>
        <p:spPr>
          <a:xfrm>
            <a:off x="7472520" y="4705200"/>
            <a:ext cx="1331640" cy="134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213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4617b"/>
                </a:solidFill>
                <a:latin typeface="Calibri"/>
              </a:rPr>
              <a:t>Тести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)До периферичної нервової системи входя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 головний і спинний мозок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головний мозок і нервові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черепно – мозкові нерви їх сплетіння та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2) До центральної нервової системи входять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головний і спинний мозок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головний мозок і нервові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черепно – мозкові нерви їх сплетіння та вузл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3) Укажіть основну структурну одиницю нервової систем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нейро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нерв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дендри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4)Назвіть скільки черепно - мозкових нервів відходить від головного мозку людин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10 пар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12пар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31 пар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5)Рефлекторна дуга – ц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а) шлях який проходить імпульс при здійснені рефлекс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б)шлях від спинного до головног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nstantia"/>
              </a:rPr>
              <a:t>в)проходження нервових імпульсів від органа до орган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-244440" y="0"/>
            <a:ext cx="7254720" cy="71136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1268087699_perif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-201600" y="0"/>
            <a:ext cx="5668920" cy="2189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57909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Рисунок 4" descr="1268084463_223_1704770582.jpg"/>
          <p:cNvPicPr/>
          <p:nvPr/>
        </p:nvPicPr>
        <p:blipFill>
          <a:blip r:embed="rId2"/>
          <a:stretch/>
        </p:blipFill>
        <p:spPr>
          <a:xfrm>
            <a:off x="0" y="1916280"/>
            <a:ext cx="4932360" cy="49417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287403_html_m6426eafe.png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ктуалізація опорних знань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евіз уро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сить оволодіти премудрістю. Потрібно також користуватися н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церо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ригада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Нервова система дифузного типу, вузлова, розкидано-вузлова, трубчаста у яких  твари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2"/>
          <p:cNvSpPr/>
          <p:nvPr/>
        </p:nvSpPr>
        <p:spPr>
          <a:xfrm>
            <a:off x="3128760" y="995400"/>
            <a:ext cx="166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0000"/>
                </a:solidFill>
                <a:uFillTx/>
                <a:latin typeface="Arial Black"/>
              </a:rPr>
              <a:t>Мозок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214" name="Скругленный прямоугольник 14"/>
          <p:cNvGrpSpPr/>
          <p:nvPr/>
        </p:nvGrpSpPr>
        <p:grpSpPr>
          <a:xfrm>
            <a:off x="4443480" y="4400640"/>
            <a:ext cx="4292640" cy="1787400"/>
            <a:chOff x="4443480" y="4400640"/>
            <a:chExt cx="4292640" cy="1787400"/>
          </a:xfrm>
        </p:grpSpPr>
        <p:pic>
          <p:nvPicPr>
            <p:cNvPr id="215" name="Скругленный 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4443480" y="4400640"/>
              <a:ext cx="429264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4"/>
            <p:cNvSpPr/>
            <p:nvPr/>
          </p:nvSpPr>
          <p:spPr>
            <a:xfrm>
              <a:off x="4711680" y="4648320"/>
              <a:ext cx="3753000" cy="12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Вірніше, навіть два.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Спинний мозок знаходиться у хребті, а головний мозок 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надійно захований в черепі.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0" y="1878120"/>
            <a:ext cx="4456080" cy="310176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3" descr="originnal_2fccae61a7219756fd091b4816ba727a.jpg"/>
          <p:cNvPicPr/>
          <p:nvPr/>
        </p:nvPicPr>
        <p:blipFill>
          <a:blip r:embed="rId3"/>
          <a:stretch/>
        </p:blipFill>
        <p:spPr>
          <a:xfrm>
            <a:off x="6084720" y="1341360"/>
            <a:ext cx="2536920" cy="43102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5"/>
          <p:cNvSpPr/>
          <p:nvPr/>
        </p:nvSpPr>
        <p:spPr>
          <a:xfrm>
            <a:off x="1536120" y="2205000"/>
            <a:ext cx="102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головний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1536120" y="2906640"/>
            <a:ext cx="94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спинний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79280" y="3333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Georgia"/>
              </a:rPr>
              <a:t>ХТО КОНТРОЛЮЄ РОБОТУ ТВОГО ТІЛА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87200" y="1455840"/>
            <a:ext cx="3183120" cy="457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3" name="TextBox 1"/>
          <p:cNvSpPr/>
          <p:nvPr/>
        </p:nvSpPr>
        <p:spPr>
          <a:xfrm>
            <a:off x="2100960" y="170028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голов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236880" y="2421000"/>
            <a:ext cx="8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спинний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мозок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2268000" y="4363920"/>
            <a:ext cx="6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нерви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1036800" y="0"/>
            <a:ext cx="7003800" cy="1579680"/>
          </a:xfrm>
          <a:prstGeom prst="rect">
            <a:avLst/>
          </a:prstGeom>
          <a:ln w="0">
            <a:noFill/>
          </a:ln>
        </p:spPr>
      </p:pic>
      <p:grpSp>
        <p:nvGrpSpPr>
          <p:cNvPr id="227" name="Скругленный прямоугольник 5"/>
          <p:cNvGrpSpPr/>
          <p:nvPr/>
        </p:nvGrpSpPr>
        <p:grpSpPr>
          <a:xfrm>
            <a:off x="3621240" y="1884240"/>
            <a:ext cx="4383000" cy="1670040"/>
            <a:chOff x="3621240" y="1884240"/>
            <a:chExt cx="4383000" cy="1670040"/>
          </a:xfrm>
        </p:grpSpPr>
        <p:pic>
          <p:nvPicPr>
            <p:cNvPr id="228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621240" y="1884240"/>
              <a:ext cx="4383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8"/>
            <p:cNvSpPr/>
            <p:nvPr/>
          </p:nvSpPr>
          <p:spPr>
            <a:xfrm>
              <a:off x="3905280" y="2141640"/>
              <a:ext cx="3809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 Black"/>
                </a:rPr>
                <a:t>Головний і спинний мозок 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 Black"/>
                </a:rPr>
                <a:t>та нерви утворюють нервову систему  організму людини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grpSp>
        <p:nvGrpSpPr>
          <p:cNvPr id="230" name="Двойная волна 3"/>
          <p:cNvGrpSpPr/>
          <p:nvPr/>
        </p:nvGrpSpPr>
        <p:grpSpPr>
          <a:xfrm>
            <a:off x="3346560" y="4273560"/>
            <a:ext cx="5925960" cy="2114640"/>
            <a:chOff x="3346560" y="4273560"/>
            <a:chExt cx="5925960" cy="2114640"/>
          </a:xfrm>
        </p:grpSpPr>
        <p:pic>
          <p:nvPicPr>
            <p:cNvPr id="231" name="Двойная волна 3" descr=""/>
            <p:cNvPicPr/>
            <p:nvPr/>
          </p:nvPicPr>
          <p:blipFill>
            <a:blip r:embed="rId4"/>
            <a:stretch/>
          </p:blipFill>
          <p:spPr>
            <a:xfrm>
              <a:off x="3346560" y="4273560"/>
              <a:ext cx="59259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1"/>
            <p:cNvSpPr/>
            <p:nvPr/>
          </p:nvSpPr>
          <p:spPr>
            <a:xfrm>
              <a:off x="3571920" y="4881600"/>
              <a:ext cx="54720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ndara"/>
                </a:rPr>
                <a:t>Нервова система забезпечує злагоджену роботу всіх органів. Вона дозволяє людині керувати всім тілом, отримувати інформацію ззовні і зсередини.</a:t>
              </a: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33" name="Прямоугольник 6"/>
          <p:cNvSpPr/>
          <p:nvPr/>
        </p:nvSpPr>
        <p:spPr>
          <a:xfrm>
            <a:off x="3857760" y="46404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5" name="Picture 8" descr="Копия Рисунок2"/>
          <p:cNvPicPr/>
          <p:nvPr/>
        </p:nvPicPr>
        <p:blipFill>
          <a:blip r:embed="rId5"/>
          <a:stretch/>
        </p:blipFill>
        <p:spPr>
          <a:xfrm>
            <a:off x="7308720" y="569880"/>
            <a:ext cx="1960560" cy="35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1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рвова систем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ий мозок              Спинний мозо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ична                 Черепно- мозкові           Спинномозкові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пар                                     31-па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трелка вниз 3"/>
          <p:cNvSpPr/>
          <p:nvPr/>
        </p:nvSpPr>
        <p:spPr>
          <a:xfrm>
            <a:off x="4067280" y="1557360"/>
            <a:ext cx="7207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Стрелка вниз 9"/>
          <p:cNvSpPr/>
          <p:nvPr/>
        </p:nvSpPr>
        <p:spPr>
          <a:xfrm>
            <a:off x="1619280" y="3573360"/>
            <a:ext cx="1152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Стрелка вниз 10"/>
          <p:cNvSpPr/>
          <p:nvPr/>
        </p:nvSpPr>
        <p:spPr>
          <a:xfrm>
            <a:off x="6732720" y="3573360"/>
            <a:ext cx="1224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241" name="Прямая со стрелкой 14"/>
          <p:cNvCxnSpPr/>
          <p:nvPr/>
        </p:nvCxnSpPr>
        <p:spPr>
          <a:xfrm flipH="1">
            <a:off x="1692000" y="2707920"/>
            <a:ext cx="172800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2" name="Прямая со стрелкой 18"/>
          <p:cNvCxnSpPr/>
          <p:nvPr/>
        </p:nvCxnSpPr>
        <p:spPr>
          <a:xfrm>
            <a:off x="5651280" y="2708280"/>
            <a:ext cx="1657800" cy="434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3" name="Стрелка вниз 19"/>
          <p:cNvSpPr/>
          <p:nvPr/>
        </p:nvSpPr>
        <p:spPr>
          <a:xfrm>
            <a:off x="3780000" y="2997360"/>
            <a:ext cx="936360" cy="12236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-73080" y="2019240"/>
            <a:ext cx="3503520" cy="3816360"/>
          </a:xfrm>
          <a:prstGeom prst="rect">
            <a:avLst/>
          </a:prstGeom>
          <a:ln w="0">
            <a:noFill/>
          </a:ln>
        </p:spPr>
      </p:pic>
      <p:grpSp>
        <p:nvGrpSpPr>
          <p:cNvPr id="245" name="Скругленный прямоугольник 1"/>
          <p:cNvGrpSpPr/>
          <p:nvPr/>
        </p:nvGrpSpPr>
        <p:grpSpPr>
          <a:xfrm>
            <a:off x="2266920" y="85680"/>
            <a:ext cx="7029360" cy="1766880"/>
            <a:chOff x="2266920" y="85680"/>
            <a:chExt cx="7029360" cy="1766880"/>
          </a:xfrm>
        </p:grpSpPr>
        <p:pic>
          <p:nvPicPr>
            <p:cNvPr id="24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266920" y="85680"/>
              <a:ext cx="70293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"/>
            <p:cNvSpPr/>
            <p:nvPr/>
          </p:nvSpPr>
          <p:spPr>
            <a:xfrm>
              <a:off x="2525760" y="318960"/>
              <a:ext cx="651024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Candara"/>
                </a:rPr>
                <a:t>Головний мозок – це командний пункт всього організму. Він несе відповідальність за думки і почуття. Мозок ніколи не відпочиває, навіть коли ми спимо.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248" name="TextBox 2"/>
          <p:cNvSpPr/>
          <p:nvPr/>
        </p:nvSpPr>
        <p:spPr>
          <a:xfrm>
            <a:off x="2356200" y="4572000"/>
            <a:ext cx="73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Мозок схожий на Комп</a:t>
            </a:r>
            <a:r>
              <a:rPr b="1" lang="en-US" sz="1800" spc="-1" strike="noStrike">
                <a:solidFill>
                  <a:srgbClr val="002060"/>
                </a:solidFill>
                <a:latin typeface="Candara"/>
              </a:rPr>
              <a:t>’</a:t>
            </a: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ютер – приймає інформацію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про звуки, запахи, зображення, розпізнає і запам</a:t>
            </a:r>
            <a:r>
              <a:rPr b="1" lang="en-US" sz="1800" spc="-1" strike="noStrike">
                <a:solidFill>
                  <a:srgbClr val="002060"/>
                </a:solidFill>
                <a:latin typeface="Candara"/>
              </a:rPr>
              <a:t>’</a:t>
            </a:r>
            <a:r>
              <a:rPr b="1" lang="uk-UA" sz="1800" spc="-1" strike="noStrike">
                <a:solidFill>
                  <a:srgbClr val="002060"/>
                </a:solidFill>
                <a:latin typeface="Candara"/>
              </a:rPr>
              <a:t>ятовує її.</a:t>
            </a: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Людина використовує тільки малу частину своєї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пам’яті (5-10</a:t>
            </a:r>
            <a:r>
              <a:rPr b="1" lang="ru-RU" sz="1800" spc="-1" strike="noStrike">
                <a:solidFill>
                  <a:srgbClr val="002060"/>
                </a:solidFill>
                <a:latin typeface="Symbol"/>
                <a:ea typeface="Symbol"/>
              </a:rPr>
              <a:t></a:t>
            </a: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), до того ж багато і часто забуває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227960" y="268272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95</a:t>
            </a:r>
            <a:r>
              <a:rPr b="1" lang="uk-UA" sz="2400" spc="-1" strike="noStrike">
                <a:solidFill>
                  <a:srgbClr val="ffff00"/>
                </a:solidFill>
                <a:latin typeface="Symbol"/>
                <a:ea typeface="Symbol"/>
              </a:rPr>
              <a:t></a:t>
            </a:r>
            <a:r>
              <a:rPr b="1" lang="uk-UA" sz="2400" spc="-1" strike="noStrike">
                <a:solidFill>
                  <a:srgbClr val="ffff00"/>
                </a:solidFill>
                <a:latin typeface="Calibri"/>
              </a:rPr>
              <a:t> вод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906840" y="227664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маса 1,5кг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3"/>
          <a:stretch/>
        </p:blipFill>
        <p:spPr>
          <a:xfrm>
            <a:off x="60480" y="146160"/>
            <a:ext cx="2274840" cy="1646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4"/>
          <a:stretch/>
        </p:blipFill>
        <p:spPr>
          <a:xfrm>
            <a:off x="5292720" y="1893960"/>
            <a:ext cx="21700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Групова ро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855800"/>
            <a:ext cx="4173480" cy="10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Із скількох відділів складається головний моз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4720" y="1699920"/>
            <a:ext cx="449892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З яких півкуль складається головний  мозо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Содержимое 7" descr="1268087114_1970-1.jpg"/>
          <p:cNvPicPr/>
          <p:nvPr/>
        </p:nvPicPr>
        <p:blipFill>
          <a:blip r:embed="rId1"/>
          <a:stretch/>
        </p:blipFill>
        <p:spPr>
          <a:xfrm>
            <a:off x="250920" y="3429000"/>
            <a:ext cx="2952720" cy="266220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6" descr="1268087595_veliky-pyvk.jpg"/>
          <p:cNvPicPr/>
          <p:nvPr/>
        </p:nvPicPr>
        <p:blipFill>
          <a:blip r:embed="rId2"/>
          <a:stretch/>
        </p:blipFill>
        <p:spPr>
          <a:xfrm>
            <a:off x="5508720" y="3068640"/>
            <a:ext cx="2663640" cy="3351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3:44Z</dcterms:created>
  <dc:creator>Мигаль Татьяна</dc:creator>
  <dc:description/>
  <dc:language>en-US</dc:language>
  <cp:lastModifiedBy>Пользователь</cp:lastModifiedBy>
  <dcterms:modified xsi:type="dcterms:W3CDTF">2014-02-10T07:47:51Z</dcterms:modified>
  <cp:revision>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3e000000000001024140</vt:lpwstr>
  </property>
</Properties>
</file>