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1.png" ContentType="image/png"/>
  <Override PartName="/ppt/media/image47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5568-B832-4B39-9368-F6D4E7B3C8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5E9-D1D7-4D9F-9538-AF15D66172F4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B2F-AB09-4B9F-9850-E708198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B62-9F5F-46CF-A971-7C417E6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0E0-720A-485C-B757-EBFAC778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019-5CDA-431A-AB7E-3E2C3A55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DD6-4643-45C0-8920-52E55EB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D00-C29F-4BBC-8C2F-0F6F1CE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6BF-C7F7-4DD4-B81D-E1539466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710F-F753-43A9-BB74-04335BE1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5B7-7269-4F82-9704-57A2008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5ECA-21F5-41CE-8C83-79623AD5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BCC1-5896-4E3A-A793-02CA906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49B-E810-4E32-B752-14885AC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CC9-5642-4654-8D9C-8CCF5DA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9CC7-B0F0-46F6-99E7-2B4A1F9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8AEF-2D9F-4FC3-A266-E87C0124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7F3-3CB7-4A88-9378-10986AFA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9BDB-BEAB-43C7-98F8-A262DCAA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9B1E-8EDE-4ADE-9715-4834406D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4D13-42E1-40A2-BBFA-AD82DC8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8DD3-F77C-4857-B35E-3C389556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5DC5-C222-4510-9DB1-BB564574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8309-4123-4AE0-9107-D39CCA3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35-9FFE-4779-98D6-AD923D6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F42E-D7DD-4148-B4FB-E5A5E0E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CEB6-6CA6-4834-BEB4-18AD47D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0D92-D34D-49D3-8053-9085418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4F14-026B-4999-A5E9-5FE0775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671B-1B1D-410A-A42D-72538D1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3124-6AEF-4ED3-88C7-E865B120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28F1-7899-486B-AE71-E6DC98E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1EDD-9280-4E55-8452-F7CCD97D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E8CE-8D05-43F5-AD1E-DFE6431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BC86-6E62-492D-BFE6-8A6F4E2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B92-85C5-4C57-9E0D-2AA57FB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571D-417C-44ED-8ABE-B3BE9B8B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1FDD-198F-4B52-88A7-4B088884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2CA1-D998-4F3F-8A76-D1699FB0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73A6-BFBB-42A7-A7FF-B398495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484E-5711-444A-9580-E825F3F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6754-9D42-40E0-AF25-199523B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AE43-1E61-42B0-AA11-3657E985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0329-1243-47CF-BCDF-30AF0E3D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4C02-83AF-47A1-9CD6-D0DBC806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05E-C424-48D7-AAFE-BBFDF600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CCE-241C-483E-8CF5-1C98154F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F8D-A0BA-46DE-9282-2B73EF5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BAD-F5FD-49DE-A03F-97E679B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45A-2A14-4DFA-B3E2-E50A179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B67-5843-44DB-BC86-F6E763CB7B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34CB-606B-40CF-B77F-3000F4EFAFE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F3F-CDF2-4668-9A6F-F80E38A5AA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A64-1682-4E09-BC01-A83CBFBC87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1125360"/>
            <a:ext cx="5472360" cy="518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D:\Документи\Risunok2.png"/>
          <p:cNvPicPr/>
          <p:nvPr/>
        </p:nvPicPr>
        <p:blipFill>
          <a:blip r:embed="rId2"/>
          <a:stretch/>
        </p:blipFill>
        <p:spPr>
          <a:xfrm>
            <a:off x="5435640" y="1268280"/>
            <a:ext cx="3406680" cy="465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191880" y="5157720"/>
            <a:ext cx="91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оловний мозок поділяється на праву півкулю, яка контролює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ліву частину тіла, і ліву півкулю, яка контролює праву частину тіл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3037680" y="2630520"/>
            <a:ext cx="56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півкулі головного мозку – центр збор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 обробки інформації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мозочок, що відповідає за координацію рух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довгастий мозок, що контролює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язи внутрішніх орган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064040" y="115920"/>
            <a:ext cx="3311640" cy="231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Admin\Рабочий стол\Telo cheloveka.png"/>
          <p:cNvPicPr/>
          <p:nvPr/>
        </p:nvPicPr>
        <p:blipFill>
          <a:blip r:embed="rId2"/>
          <a:stretch/>
        </p:blipFill>
        <p:spPr>
          <a:xfrm>
            <a:off x="34920" y="1125360"/>
            <a:ext cx="3282840" cy="320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2195640" cy="6064200"/>
          </a:xfrm>
          <a:prstGeom prst="rect">
            <a:avLst/>
          </a:prstGeom>
          <a:ln w="0">
            <a:noFill/>
          </a:ln>
        </p:spPr>
      </p:pic>
      <p:pic>
        <p:nvPicPr>
          <p:cNvPr id="263" name="Двойная волна 1" descr=""/>
          <p:cNvPicPr/>
          <p:nvPr/>
        </p:nvPicPr>
        <p:blipFill>
          <a:blip r:embed="rId2"/>
          <a:stretch/>
        </p:blipFill>
        <p:spPr>
          <a:xfrm>
            <a:off x="3017880" y="115920"/>
            <a:ext cx="5638680" cy="14637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"/>
          <p:cNvSpPr/>
          <p:nvPr/>
        </p:nvSpPr>
        <p:spPr>
          <a:xfrm>
            <a:off x="2124000" y="1913040"/>
            <a:ext cx="55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 спинний мозо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 від спинного мозку відходи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1 пара нервів, по яких передаютьс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игнали до всіх частин тіла і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иймаються від них мозко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сідничний нерв – найдовши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рв тіл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059280" y="465300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пинний мозок має вигляд білого шнура завдовжки 40-45см і товщиною в палець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6046920" y="1689120"/>
            <a:ext cx="309708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Копия Рисунок2"/>
          <p:cNvPicPr/>
          <p:nvPr/>
        </p:nvPicPr>
        <p:blipFill>
          <a:blip r:embed="rId1"/>
          <a:stretch/>
        </p:blipFill>
        <p:spPr>
          <a:xfrm>
            <a:off x="179280" y="2349360"/>
            <a:ext cx="2089080" cy="3861000"/>
          </a:xfrm>
          <a:prstGeom prst="rect">
            <a:avLst/>
          </a:prstGeom>
          <a:ln w="0">
            <a:noFill/>
          </a:ln>
        </p:spPr>
      </p:pic>
      <p:grpSp>
        <p:nvGrpSpPr>
          <p:cNvPr id="268" name="Двойная волна 1"/>
          <p:cNvGrpSpPr/>
          <p:nvPr/>
        </p:nvGrpSpPr>
        <p:grpSpPr>
          <a:xfrm>
            <a:off x="1359000" y="237960"/>
            <a:ext cx="7078680" cy="1322640"/>
            <a:chOff x="1359000" y="237960"/>
            <a:chExt cx="7078680" cy="1322640"/>
          </a:xfrm>
        </p:grpSpPr>
        <p:pic>
          <p:nvPicPr>
            <p:cNvPr id="269" name="Двойная волна 1" descr=""/>
            <p:cNvPicPr/>
            <p:nvPr/>
          </p:nvPicPr>
          <p:blipFill>
            <a:blip r:embed="rId2"/>
            <a:stretch/>
          </p:blipFill>
          <p:spPr>
            <a:xfrm>
              <a:off x="1359000" y="237960"/>
              <a:ext cx="7078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1547640" y="522360"/>
              <a:ext cx="669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Нерви схожі на білі блискучі нитки. Вони розгалужуються і пронизують майже всі органи тіла лю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2895480" y="2322360"/>
            <a:ext cx="5840640" cy="38037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1196280" y="6248520"/>
            <a:ext cx="67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нформація по нервах передається зі швидкістю 300к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1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2" descr=""/>
          <p:cNvPicPr/>
          <p:nvPr/>
        </p:nvPicPr>
        <p:blipFill>
          <a:blip r:embed="rId1"/>
          <a:stretch/>
        </p:blipFill>
        <p:spPr>
          <a:xfrm>
            <a:off x="1587600" y="4724280"/>
            <a:ext cx="5657760" cy="115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0" y="6480"/>
            <a:ext cx="4218120" cy="4930560"/>
          </a:xfrm>
          <a:prstGeom prst="rect">
            <a:avLst/>
          </a:prstGeom>
          <a:ln w="0">
            <a:noFill/>
          </a:ln>
        </p:spPr>
      </p:pic>
      <p:grpSp>
        <p:nvGrpSpPr>
          <p:cNvPr id="275" name="Вертикальный свиток 4"/>
          <p:cNvGrpSpPr/>
          <p:nvPr/>
        </p:nvGrpSpPr>
        <p:grpSpPr>
          <a:xfrm>
            <a:off x="4863960" y="646200"/>
            <a:ext cx="2805120" cy="3243240"/>
            <a:chOff x="4863960" y="646200"/>
            <a:chExt cx="2805120" cy="3243240"/>
          </a:xfrm>
        </p:grpSpPr>
        <p:pic>
          <p:nvPicPr>
            <p:cNvPr id="276" name="Вертик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863960" y="646200"/>
              <a:ext cx="280512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5319720" y="1079640"/>
              <a:ext cx="1889280" cy="24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ервова тканина складається з нейронів – клітин з довгими і короткими відросткам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Будова нейрон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др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259200" indent="-259200">
              <a:lnSpc>
                <a:spcPct val="80000"/>
              </a:lnSpc>
              <a:spcBef>
                <a:spcPts val="476"/>
              </a:spcBef>
              <a:buClr>
                <a:srgbClr val="acc2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Тіло нейрона </a:t>
            </a:r>
            <a:r>
              <a:rPr b="0" lang="uk-UA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ендрит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кс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 функціями нейрони поділяються на  вставні ,чутливі, рухові. Нейроглія –жила, нерв, яка заповнює проміжки між нейрон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C:\Users\Наташа\Desktop\мамині фото\1268084463_223_1704770582.jpg"/>
          <p:cNvPicPr/>
          <p:nvPr/>
        </p:nvPicPr>
        <p:blipFill>
          <a:blip r:embed="rId1"/>
          <a:stretch/>
        </p:blipFill>
        <p:spPr>
          <a:xfrm>
            <a:off x="3635280" y="1628640"/>
            <a:ext cx="504036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Нейрони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Аксон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Дендри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2491920"/>
            <a:ext cx="449748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вгі відростки з коротким розгалуженням. Довжина 1-1,5м. Аксони нейронів утворюють білу речовин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Короткі відростки з довгим   розгалуженням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Довжина 0,01-0,5мм. Дендрити утворюють сіру речовину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МЕХАНІЗМ ПЕРЕДАЧІ НЕРВОВИХ ІМПУЛЬСІ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АПСИ - місце, через яке здійснюється зв’язок і передача імпульсів між нейронами і клітиною робочого орг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Рефлекс і рефлекторна дуг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Механізмом  діяльності нервової системи є рефлекс. За біологічним значенням розрізняють такі види рефлексів: харчові, оборонні, орієнтувальні,  статеві. За характером реакції бувають: рухові, секреторні,судинні,дихальні. За походженням: безумовні, умовні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Шлях, яким проходять нервові імпульси, називають рефлекторною дуг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8643960" cy="22734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496360" cy="280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Визначіть за ілюстрацією скільки є нейронів і які вони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672120" y="4797360"/>
            <a:ext cx="78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Для роботи мозку і нервам потрібні поживні речовини і кисен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Їх приносить кров. Без кисню головний мозок гине за кілька хвилин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3" name="Прямоугольник 5" descr=""/>
          <p:cNvPicPr/>
          <p:nvPr/>
        </p:nvPicPr>
        <p:blipFill>
          <a:blip r:embed="rId1"/>
          <a:stretch/>
        </p:blipFill>
        <p:spPr>
          <a:xfrm>
            <a:off x="165240" y="0"/>
            <a:ext cx="8978760" cy="1560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42840" y="1195560"/>
            <a:ext cx="3522600" cy="5479920"/>
          </a:xfrm>
          <a:prstGeom prst="rect">
            <a:avLst/>
          </a:prstGeom>
          <a:ln w="0">
            <a:noFill/>
          </a:ln>
        </p:spPr>
      </p:pic>
      <p:grpSp>
        <p:nvGrpSpPr>
          <p:cNvPr id="295" name="Двойная волна 6"/>
          <p:cNvGrpSpPr/>
          <p:nvPr/>
        </p:nvGrpSpPr>
        <p:grpSpPr>
          <a:xfrm>
            <a:off x="3554280" y="1292400"/>
            <a:ext cx="5668920" cy="1742760"/>
            <a:chOff x="3554280" y="1292400"/>
            <a:chExt cx="5668920" cy="1742760"/>
          </a:xfrm>
        </p:grpSpPr>
        <p:pic>
          <p:nvPicPr>
            <p:cNvPr id="296" name="Двойная волна 6" descr=""/>
            <p:cNvPicPr/>
            <p:nvPr/>
          </p:nvPicPr>
          <p:blipFill>
            <a:blip r:embed="rId3"/>
            <a:stretch/>
          </p:blipFill>
          <p:spPr>
            <a:xfrm>
              <a:off x="3554280" y="1292400"/>
              <a:ext cx="566892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6"/>
            <p:cNvSpPr/>
            <p:nvPr/>
          </p:nvSpPr>
          <p:spPr>
            <a:xfrm>
              <a:off x="3708360" y="1592280"/>
              <a:ext cx="5356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У сні людина перебуває 1</a:t>
              </a: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/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 частину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свого життя. Без сну людина може померти. Дитина повинна спати не менше 10 годин на добу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12944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. 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удова нервової системи. Центральна і периферична нервова система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а: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знайомитись із загальною структурою нервової системи, розглянути особливості будови нервової клітини, сформувати уяву про механізм передачі нервових імпульсів та збереження нервової системи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5" descr="Рисунок1.png"/>
          <p:cNvPicPr/>
          <p:nvPr/>
        </p:nvPicPr>
        <p:blipFill>
          <a:blip r:embed="rId1"/>
          <a:stretch/>
        </p:blipFill>
        <p:spPr>
          <a:xfrm>
            <a:off x="7448400" y="765000"/>
            <a:ext cx="1695600" cy="452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2600" y="-100080"/>
            <a:ext cx="9255240" cy="156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2"/>
          <a:stretch/>
        </p:blipFill>
        <p:spPr>
          <a:xfrm>
            <a:off x="250920" y="1460520"/>
            <a:ext cx="2719440" cy="235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6012000" y="1467000"/>
            <a:ext cx="2879640" cy="2347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4"/>
          <a:stretch/>
        </p:blipFill>
        <p:spPr>
          <a:xfrm>
            <a:off x="3132000" y="1467000"/>
            <a:ext cx="2664000" cy="235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D:\Документи\Казка\клипарты на прозрачном фоне\879.gif"/>
          <p:cNvPicPr/>
          <p:nvPr/>
        </p:nvPicPr>
        <p:blipFill>
          <a:blip r:embed="rId5"/>
          <a:stretch/>
        </p:blipFill>
        <p:spPr>
          <a:xfrm>
            <a:off x="-181080" y="449568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6"/>
          <a:stretch/>
        </p:blipFill>
        <p:spPr>
          <a:xfrm>
            <a:off x="4356000" y="4746600"/>
            <a:ext cx="1295640" cy="12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4" name="Picture 10" descr="270915985f52t"/>
          <p:cNvPicPr/>
          <p:nvPr/>
        </p:nvPicPr>
        <p:blipFill>
          <a:blip r:embed="rId7"/>
          <a:stretch/>
        </p:blipFill>
        <p:spPr>
          <a:xfrm>
            <a:off x="1258920" y="4726080"/>
            <a:ext cx="1297080" cy="129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5" name="Picture 33" descr="91307b4f8fa3t"/>
          <p:cNvPicPr/>
          <p:nvPr/>
        </p:nvPicPr>
        <p:blipFill>
          <a:blip r:embed="rId8"/>
          <a:stretch/>
        </p:blipFill>
        <p:spPr>
          <a:xfrm>
            <a:off x="277164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6" name="Picture 31" descr="0c6106eabbf5"/>
          <p:cNvPicPr/>
          <p:nvPr/>
        </p:nvPicPr>
        <p:blipFill>
          <a:blip r:embed="rId9"/>
          <a:stretch/>
        </p:blipFill>
        <p:spPr>
          <a:xfrm>
            <a:off x="586728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7" name="Picture 4" descr="852cb4bd7594t"/>
          <p:cNvPicPr/>
          <p:nvPr/>
        </p:nvPicPr>
        <p:blipFill>
          <a:blip r:embed="rId10"/>
          <a:stretch/>
        </p:blipFill>
        <p:spPr>
          <a:xfrm>
            <a:off x="7472520" y="4705200"/>
            <a:ext cx="1331640" cy="134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213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Тести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)До периферич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2) До централь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3) Укажіть основну структурну одиницю нервової систем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нейро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нер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дендри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4)Назвіть скільки черепно - мозкових нервів відходить від головного мозку людин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10 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12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31 пар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5)Рефлекторна дуга – ц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шлях який проходить імпульс при здійснені рефлекс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шлях від спинного до головн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проходження нервових імпульсів від органа до орган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-244440" y="0"/>
            <a:ext cx="7254720" cy="71136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1268087699_perif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-201600" y="0"/>
            <a:ext cx="5668920" cy="218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4" descr="1268084463_223_1704770582.jpg"/>
          <p:cNvPicPr/>
          <p:nvPr/>
        </p:nvPicPr>
        <p:blipFill>
          <a:blip r:embed="rId2"/>
          <a:stretch/>
        </p:blipFill>
        <p:spPr>
          <a:xfrm>
            <a:off x="0" y="1916280"/>
            <a:ext cx="4932360" cy="4941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287403_html_m6426eafe.png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ізація опорних знан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евіз уро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ить оволодіти премудрістю. Потрібно також користуватися н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цер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гада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ервова система дифузного типу, вузлова, розкидано-вузлова, трубчаста у яких  твари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2"/>
          <p:cNvSpPr/>
          <p:nvPr/>
        </p:nvSpPr>
        <p:spPr>
          <a:xfrm>
            <a:off x="3128760" y="995400"/>
            <a:ext cx="16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 Black"/>
              </a:rPr>
              <a:t>Мозок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14" name="Скругленный прямоугольник 14"/>
          <p:cNvGrpSpPr/>
          <p:nvPr/>
        </p:nvGrpSpPr>
        <p:grpSpPr>
          <a:xfrm>
            <a:off x="4443480" y="4400640"/>
            <a:ext cx="4292640" cy="1787400"/>
            <a:chOff x="4443480" y="4400640"/>
            <a:chExt cx="4292640" cy="1787400"/>
          </a:xfrm>
        </p:grpSpPr>
        <p:pic>
          <p:nvPicPr>
            <p:cNvPr id="215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4443480" y="4400640"/>
              <a:ext cx="429264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4711680" y="4648320"/>
              <a:ext cx="375300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Вірніше, навіть два.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Спинний мозок знаходиться у хребті, а головний мозок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надійно захований в черепі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1878120"/>
            <a:ext cx="4456080" cy="310176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originnal_2fccae61a7219756fd091b4816ba727a.jpg"/>
          <p:cNvPicPr/>
          <p:nvPr/>
        </p:nvPicPr>
        <p:blipFill>
          <a:blip r:embed="rId3"/>
          <a:stretch/>
        </p:blipFill>
        <p:spPr>
          <a:xfrm>
            <a:off x="6084720" y="1341360"/>
            <a:ext cx="2536920" cy="43102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5"/>
          <p:cNvSpPr/>
          <p:nvPr/>
        </p:nvSpPr>
        <p:spPr>
          <a:xfrm>
            <a:off x="1536120" y="22050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1536120" y="2906640"/>
            <a:ext cx="94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79280" y="3333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Georgia"/>
              </a:rPr>
              <a:t>ХТО КОНТРОЛЮЄ РОБОТУ ТВОГО ТІЛА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87200" y="1455840"/>
            <a:ext cx="3183120" cy="45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3" name="TextBox 1"/>
          <p:cNvSpPr/>
          <p:nvPr/>
        </p:nvSpPr>
        <p:spPr>
          <a:xfrm>
            <a:off x="2100960" y="170028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36880" y="242100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2268000" y="4363920"/>
            <a:ext cx="6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нерви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1036800" y="0"/>
            <a:ext cx="7003800" cy="1579680"/>
          </a:xfrm>
          <a:prstGeom prst="rect">
            <a:avLst/>
          </a:prstGeom>
          <a:ln w="0">
            <a:noFill/>
          </a:ln>
        </p:spPr>
      </p:pic>
      <p:grpSp>
        <p:nvGrpSpPr>
          <p:cNvPr id="227" name="Скругленный прямоугольник 5"/>
          <p:cNvGrpSpPr/>
          <p:nvPr/>
        </p:nvGrpSpPr>
        <p:grpSpPr>
          <a:xfrm>
            <a:off x="3621240" y="1884240"/>
            <a:ext cx="4383000" cy="1670040"/>
            <a:chOff x="3621240" y="1884240"/>
            <a:chExt cx="4383000" cy="1670040"/>
          </a:xfrm>
        </p:grpSpPr>
        <p:pic>
          <p:nvPicPr>
            <p:cNvPr id="228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21240" y="1884240"/>
              <a:ext cx="4383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8"/>
            <p:cNvSpPr/>
            <p:nvPr/>
          </p:nvSpPr>
          <p:spPr>
            <a:xfrm>
              <a:off x="3905280" y="2141640"/>
              <a:ext cx="3809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Головний і спинний мозок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та нерви утворюють нервову систему  організму людини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30" name="Двойная волна 3"/>
          <p:cNvGrpSpPr/>
          <p:nvPr/>
        </p:nvGrpSpPr>
        <p:grpSpPr>
          <a:xfrm>
            <a:off x="3346560" y="4273560"/>
            <a:ext cx="5925960" cy="2114640"/>
            <a:chOff x="3346560" y="4273560"/>
            <a:chExt cx="5925960" cy="2114640"/>
          </a:xfrm>
        </p:grpSpPr>
        <p:pic>
          <p:nvPicPr>
            <p:cNvPr id="231" name="Двойная волна 3" descr=""/>
            <p:cNvPicPr/>
            <p:nvPr/>
          </p:nvPicPr>
          <p:blipFill>
            <a:blip r:embed="rId4"/>
            <a:stretch/>
          </p:blipFill>
          <p:spPr>
            <a:xfrm>
              <a:off x="3346560" y="4273560"/>
              <a:ext cx="59259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1"/>
            <p:cNvSpPr/>
            <p:nvPr/>
          </p:nvSpPr>
          <p:spPr>
            <a:xfrm>
              <a:off x="3571920" y="4881600"/>
              <a:ext cx="54720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ndara"/>
                </a:rPr>
                <a:t>Нервова система забезпечує злагоджену роботу всіх органів. Вона дозволяє людині керувати всім тілом, отримувати інформацію ззовні і зсере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3" name="Прямоугольник 6"/>
          <p:cNvSpPr/>
          <p:nvPr/>
        </p:nvSpPr>
        <p:spPr>
          <a:xfrm>
            <a:off x="3857760" y="4640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5" name="Picture 8" descr="Копия Рисунок2"/>
          <p:cNvPicPr/>
          <p:nvPr/>
        </p:nvPicPr>
        <p:blipFill>
          <a:blip r:embed="rId5"/>
          <a:stretch/>
        </p:blipFill>
        <p:spPr>
          <a:xfrm>
            <a:off x="7308720" y="569880"/>
            <a:ext cx="196056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рвова систем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ий мозок              Спинний моз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на                 Черепно- мозкові           Спинномозкові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ар                                     31-па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трелка вниз 3"/>
          <p:cNvSpPr/>
          <p:nvPr/>
        </p:nvSpPr>
        <p:spPr>
          <a:xfrm>
            <a:off x="4067280" y="1557360"/>
            <a:ext cx="7207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Стрелка вниз 9"/>
          <p:cNvSpPr/>
          <p:nvPr/>
        </p:nvSpPr>
        <p:spPr>
          <a:xfrm>
            <a:off x="1619280" y="3573360"/>
            <a:ext cx="1152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Стрелка вниз 10"/>
          <p:cNvSpPr/>
          <p:nvPr/>
        </p:nvSpPr>
        <p:spPr>
          <a:xfrm>
            <a:off x="6732720" y="3573360"/>
            <a:ext cx="1224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41" name="Прямая со стрелкой 14"/>
          <p:cNvCxnSpPr/>
          <p:nvPr/>
        </p:nvCxnSpPr>
        <p:spPr>
          <a:xfrm flipH="1">
            <a:off x="1692000" y="2707920"/>
            <a:ext cx="172800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18"/>
          <p:cNvCxnSpPr/>
          <p:nvPr/>
        </p:nvCxnSpPr>
        <p:spPr>
          <a:xfrm>
            <a:off x="5651280" y="2708280"/>
            <a:ext cx="1657800" cy="434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Стрелка вниз 19"/>
          <p:cNvSpPr/>
          <p:nvPr/>
        </p:nvSpPr>
        <p:spPr>
          <a:xfrm>
            <a:off x="3780000" y="2997360"/>
            <a:ext cx="936360" cy="1223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-73080" y="2019240"/>
            <a:ext cx="3503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245" name="Скругленный прямоугольник 1"/>
          <p:cNvGrpSpPr/>
          <p:nvPr/>
        </p:nvGrpSpPr>
        <p:grpSpPr>
          <a:xfrm>
            <a:off x="2266920" y="85680"/>
            <a:ext cx="7029360" cy="1766880"/>
            <a:chOff x="2266920" y="85680"/>
            <a:chExt cx="7029360" cy="1766880"/>
          </a:xfrm>
        </p:grpSpPr>
        <p:pic>
          <p:nvPicPr>
            <p:cNvPr id="24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266920" y="85680"/>
              <a:ext cx="70293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"/>
            <p:cNvSpPr/>
            <p:nvPr/>
          </p:nvSpPr>
          <p:spPr>
            <a:xfrm>
              <a:off x="2525760" y="318960"/>
              <a:ext cx="65102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Головний мозок – це командний пункт всього організму. Він несе відповідальність за думки і почуття. Мозок ніколи не відпочиває, навіть коли ми спимо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48" name="TextBox 2"/>
          <p:cNvSpPr/>
          <p:nvPr/>
        </p:nvSpPr>
        <p:spPr>
          <a:xfrm>
            <a:off x="2356200" y="4572000"/>
            <a:ext cx="73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Мозок схожий на Комп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ютер – приймає інформацію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про звуки, запахи, зображення, розпізнає і запам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ятовує її.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Людина використовує тільки малу частину своєї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пам’яті (5-10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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), до того ж багато і часто забуває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227960" y="26827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95</a:t>
            </a:r>
            <a:r>
              <a:rPr b="1" lang="uk-UA" sz="2400" spc="-1" strike="noStrike">
                <a:solidFill>
                  <a:srgbClr val="ffff00"/>
                </a:solidFill>
                <a:latin typeface="Symbol"/>
                <a:ea typeface="Symbol"/>
              </a:rPr>
              <a:t></a:t>
            </a: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 вод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906840" y="22766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аса 1,5кг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3"/>
          <a:stretch/>
        </p:blipFill>
        <p:spPr>
          <a:xfrm>
            <a:off x="60480" y="146160"/>
            <a:ext cx="2274840" cy="1646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4"/>
          <a:stretch/>
        </p:blipFill>
        <p:spPr>
          <a:xfrm>
            <a:off x="5292720" y="1893960"/>
            <a:ext cx="2170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Групова ро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855800"/>
            <a:ext cx="417348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Із скількох відділів складається головний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49892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З яких півкуль складається головний 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Содержимое 7" descr="1268087114_1970-1.jpg"/>
          <p:cNvPicPr/>
          <p:nvPr/>
        </p:nvPicPr>
        <p:blipFill>
          <a:blip r:embed="rId1"/>
          <a:stretch/>
        </p:blipFill>
        <p:spPr>
          <a:xfrm>
            <a:off x="250920" y="3429000"/>
            <a:ext cx="2952720" cy="266220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6" descr="1268087595_veliky-pyvk.jpg"/>
          <p:cNvPicPr/>
          <p:nvPr/>
        </p:nvPicPr>
        <p:blipFill>
          <a:blip r:embed="rId2"/>
          <a:stretch/>
        </p:blipFill>
        <p:spPr>
          <a:xfrm>
            <a:off x="5508720" y="3068640"/>
            <a:ext cx="2663640" cy="335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3:44Z</dcterms:created>
  <dc:creator>Мигаль Татьяна</dc:creator>
  <dc:description/>
  <dc:language>en-US</dc:language>
  <cp:lastModifiedBy>Пользователь</cp:lastModifiedBy>
  <dcterms:modified xsi:type="dcterms:W3CDTF">2014-02-10T07:47:51Z</dcterms:modified>
  <cp:revision>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e000000000001024140</vt:lpwstr>
  </property>
</Properties>
</file>