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7E7-8361-4705-A99E-08AEC071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808-4A6F-410F-8082-0E2EDAA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985-5C05-4CC9-B5D0-5BB30CB3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7DF-B199-4E52-AA74-E939E1C9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689-7BA9-4A8C-8B83-5057FC4E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1C9-88E9-4D62-ADA5-330F9919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684-1765-4477-AA77-3C96A3EE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E18-C3B9-448E-B232-2FE9EF75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303-1BCD-4C90-AF76-033A67BC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C49-D15C-4E5D-94C3-BCE203D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7E5-1631-49EE-86A8-5BD0DDA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E87-DE6C-4FE0-A3DF-DF76DDB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504A-B713-4BAA-BCA8-75A719F9F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землі, все треба берег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таха й звіра, і оту рослин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чванься тим, що цар природи 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врешті, ти його частин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 мій, люби житт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людей, природ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ривду кинь у забуття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камінь в тиху вод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Леп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071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a.vlasenko.net/askaniia-nova/c4010093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Безымянный.bmp"/>
          <p:cNvPicPr/>
          <p:nvPr/>
        </p:nvPicPr>
        <p:blipFill>
          <a:blip r:embed="rId2"/>
          <a:stretch/>
        </p:blipFill>
        <p:spPr>
          <a:xfrm>
            <a:off x="142920" y="1000080"/>
            <a:ext cx="447840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42920" y="4357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заповідників і національних парків на територ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78620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віднику Асканія-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16216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14200" y="3429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219996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857680" y="34290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4 (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572080" y="1143000"/>
            <a:ext cx="22446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564372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6 (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1643040" y="4143240"/>
            <a:ext cx="20001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4429080" y="4143240"/>
            <a:ext cx="203688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642960" y="61437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357800" y="6000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4357800" y="60721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10800" y="2081520"/>
            <a:ext cx="39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ільчастих червів          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енисоногих                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юсків         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шковопорожнинних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дових                         -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глих червів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37640" y="576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арини  Черкаської області занес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Червоної книги Украї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:\урок 8\a-300.png"/>
          <p:cNvPicPr/>
          <p:nvPr/>
        </p:nvPicPr>
        <p:blipFill>
          <a:blip r:embed="rId1"/>
          <a:stretch/>
        </p:blipFill>
        <p:spPr>
          <a:xfrm>
            <a:off x="142920" y="1714680"/>
            <a:ext cx="1071360" cy="86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:\урок 8\a-302.png"/>
          <p:cNvPicPr/>
          <p:nvPr/>
        </p:nvPicPr>
        <p:blipFill>
          <a:blip r:embed="rId2"/>
          <a:stretch/>
        </p:blipFill>
        <p:spPr>
          <a:xfrm>
            <a:off x="857160" y="2714760"/>
            <a:ext cx="1071720" cy="861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урок 8\a-419.png"/>
          <p:cNvPicPr/>
          <p:nvPr/>
        </p:nvPicPr>
        <p:blipFill>
          <a:blip r:embed="rId3"/>
          <a:stretch/>
        </p:blipFill>
        <p:spPr>
          <a:xfrm>
            <a:off x="7643880" y="4572000"/>
            <a:ext cx="117144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:\урок 8\a-482.png"/>
          <p:cNvPicPr/>
          <p:nvPr/>
        </p:nvPicPr>
        <p:blipFill>
          <a:blip r:embed="rId4"/>
          <a:stretch/>
        </p:blipFill>
        <p:spPr>
          <a:xfrm>
            <a:off x="5429160" y="4714920"/>
            <a:ext cx="1131840" cy="91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урок 8\258px-Cerf-volant_MHNT_male_et_femelle.jpg"/>
          <p:cNvPicPr/>
          <p:nvPr/>
        </p:nvPicPr>
        <p:blipFill>
          <a:blip r:embed="rId5"/>
          <a:stretch/>
        </p:blipFill>
        <p:spPr>
          <a:xfrm>
            <a:off x="2714760" y="5143680"/>
            <a:ext cx="982440" cy="103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:\урок 8\258px-Acherontia_lachesis.jpg"/>
          <p:cNvPicPr/>
          <p:nvPr/>
        </p:nvPicPr>
        <p:blipFill>
          <a:blip r:embed="rId6"/>
          <a:stretch/>
        </p:blipFill>
        <p:spPr>
          <a:xfrm>
            <a:off x="2428920" y="1928880"/>
            <a:ext cx="982440" cy="63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G:\урок 8\270px-Lacerta_viridis_Deutschland_005.jpg"/>
          <p:cNvPicPr/>
          <p:nvPr/>
        </p:nvPicPr>
        <p:blipFill>
          <a:blip r:embed="rId7"/>
          <a:stretch/>
        </p:blipFill>
        <p:spPr>
          <a:xfrm>
            <a:off x="4286160" y="4929120"/>
            <a:ext cx="785880" cy="101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:\урок 8\a-316.png"/>
          <p:cNvPicPr/>
          <p:nvPr/>
        </p:nvPicPr>
        <p:blipFill>
          <a:blip r:embed="rId8"/>
          <a:stretch/>
        </p:blipFill>
        <p:spPr>
          <a:xfrm>
            <a:off x="285840" y="3714840"/>
            <a:ext cx="115416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:\урок 8\Bombus_muscorum.jpg"/>
          <p:cNvPicPr/>
          <p:nvPr/>
        </p:nvPicPr>
        <p:blipFill>
          <a:blip r:embed="rId9"/>
          <a:stretch/>
        </p:blipFill>
        <p:spPr>
          <a:xfrm>
            <a:off x="3143160" y="392904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G:\урок 8\img9.jpg"/>
          <p:cNvPicPr/>
          <p:nvPr/>
        </p:nvPicPr>
        <p:blipFill>
          <a:blip r:embed="rId10"/>
          <a:stretch/>
        </p:blipFill>
        <p:spPr>
          <a:xfrm>
            <a:off x="6786720" y="5643720"/>
            <a:ext cx="1049040" cy="84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:\урок 8\Zygaena_laeta.jpg"/>
          <p:cNvPicPr/>
          <p:nvPr/>
        </p:nvPicPr>
        <p:blipFill>
          <a:blip r:embed="rId11"/>
          <a:stretch/>
        </p:blipFill>
        <p:spPr>
          <a:xfrm>
            <a:off x="1571760" y="4500720"/>
            <a:ext cx="78552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G:\урок 8\Багатозв'яз_гірський_український.gif"/>
          <p:cNvPicPr/>
          <p:nvPr/>
        </p:nvPicPr>
        <p:blipFill>
          <a:blip r:embed="rId12"/>
          <a:stretch/>
        </p:blipFill>
        <p:spPr>
          <a:xfrm>
            <a:off x="714240" y="5143680"/>
            <a:ext cx="109224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використаних джер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 ресурс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tellect-ua.info/publ/doslidzhennja_proektu/vid_quot_chornogo_quot_zolota_do_chornogo_likha/1-1-0-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xtbooks.net.ua/content/view/4922/4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27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00200" y="55720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довкілля промислов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00280" y="55008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рі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cs9682.vk.me/u167873651/154301047/x_6c5ab5f3.jpg"/>
          <p:cNvPicPr/>
          <p:nvPr/>
        </p:nvPicPr>
        <p:blipFill>
          <a:blip r:embed="rId1"/>
          <a:stretch/>
        </p:blipFill>
        <p:spPr>
          <a:xfrm>
            <a:off x="4714920" y="15717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futurus.lutsk.ua/uploads/SimpleGallery/129_original.jpg"/>
          <p:cNvPicPr/>
          <p:nvPr/>
        </p:nvPicPr>
        <p:blipFill>
          <a:blip r:embed="rId2"/>
          <a:stretch/>
        </p:blipFill>
        <p:spPr>
          <a:xfrm>
            <a:off x="142920" y="1571760"/>
            <a:ext cx="44496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742788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43120" y="600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природних еко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QkP3rZp6QqkmPMosbcw0fFbzh-z5eTYVM9k1IgfZkrf2nRH4AtmA"/>
          <p:cNvPicPr/>
          <p:nvPr/>
        </p:nvPicPr>
        <p:blipFill>
          <a:blip r:embed="rId1"/>
          <a:stretch/>
        </p:blipFill>
        <p:spPr>
          <a:xfrm>
            <a:off x="1357200" y="428760"/>
            <a:ext cx="4714920" cy="353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vkurse.ua/i/2010-02/chinovniki-derzhat-oboronu.jpg"/>
          <p:cNvPicPr/>
          <p:nvPr/>
        </p:nvPicPr>
        <p:blipFill>
          <a:blip r:embed="rId2"/>
          <a:stretch/>
        </p:blipFill>
        <p:spPr>
          <a:xfrm>
            <a:off x="4857840" y="421488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28920" y="41432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42920" y="1785960"/>
            <a:ext cx="435780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14240" y="507204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ький видобуток наф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ntellect-ua.info/2012/Pix/53_INT_07_07/Nafto_piatno.jpg"/>
          <p:cNvPicPr/>
          <p:nvPr/>
        </p:nvPicPr>
        <p:blipFill>
          <a:blip r:embed="rId2"/>
          <a:stretch/>
        </p:blipFill>
        <p:spPr>
          <a:xfrm>
            <a:off x="4714920" y="1785960"/>
            <a:ext cx="4222800" cy="2357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429160" y="4286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в нафт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nimalpicture.ru/wp-content/uploads/2010/11/1110.jpg"/>
          <p:cNvPicPr/>
          <p:nvPr/>
        </p:nvPicPr>
        <p:blipFill>
          <a:blip r:embed="rId1"/>
          <a:stretch/>
        </p:blipFill>
        <p:spPr>
          <a:xfrm>
            <a:off x="0" y="364320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sled.net.ua/sites/default/files/%D0%B1%D1%80%D0%B0%D0%BA%D0%BE%D0%BD%D1%8C%D0%B5%D1%80%D1%81%D1%82%D0%B2%D0%BE.jpg"/>
          <p:cNvPicPr/>
          <p:nvPr/>
        </p:nvPicPr>
        <p:blipFill>
          <a:blip r:embed="rId2"/>
          <a:stretch/>
        </p:blipFill>
        <p:spPr>
          <a:xfrm>
            <a:off x="928800" y="142920"/>
            <a:ext cx="671508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telegraf.in.ua/uploads/posts/2010-12/1_13446_20604.jpg"/>
          <p:cNvPicPr/>
          <p:nvPr/>
        </p:nvPicPr>
        <p:blipFill>
          <a:blip r:embed="rId3"/>
          <a:stretch/>
        </p:blipFill>
        <p:spPr>
          <a:xfrm>
            <a:off x="4602240" y="3613320"/>
            <a:ext cx="4286160" cy="32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928960" y="3000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оньє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546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6432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е х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1143000" y="5572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кремих частин тварин (бивні слонів) для виготовлення прикрас та інших ре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.ruvr.ru/data/2014/02/06/1311843377/4slon.jpg"/>
          <p:cNvPicPr/>
          <p:nvPr/>
        </p:nvPicPr>
        <p:blipFill>
          <a:blip r:embed="rId1"/>
          <a:stretch/>
        </p:blipFill>
        <p:spPr>
          <a:xfrm>
            <a:off x="285840" y="2786040"/>
            <a:ext cx="407196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radera.org.ua/ua/gallery/chess_invory_001.jpg"/>
          <p:cNvPicPr/>
          <p:nvPr/>
        </p:nvPicPr>
        <p:blipFill>
          <a:blip r:embed="rId2"/>
          <a:stretch/>
        </p:blipFill>
        <p:spPr>
          <a:xfrm>
            <a:off x="5000760" y="428760"/>
            <a:ext cx="41432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1:31:08Z</dcterms:created>
  <dc:creator>Loner-XP</dc:creator>
  <dc:description/>
  <dc:language>en-US</dc:language>
  <cp:lastModifiedBy>Loner-XP</cp:lastModifiedBy>
  <dcterms:modified xsi:type="dcterms:W3CDTF">2014-02-21T11:29:26Z</dcterms:modified>
  <cp:revision>22</cp:revision>
  <dc:subject/>
  <dc:title>Все на землі, все треба берегти –  І птаха й звіра, і оту рослину, Не  чванься тим, що цар природи ти –  Бо врешті, ти його частина. Друже мій, люби життя,  Люби людей, природу, А кривду кинь у забуття, Як камінь в тиху воду   Б.Леп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