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359-B2FB-48D1-BAE4-35E17868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9DF-C165-432E-A972-FB6DA5FA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29E-492F-4871-990E-F73B6F34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34E-93DF-45E9-9D4F-34C26B85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7A1-0DF2-4643-A5BF-8D0F8456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5312-AE51-4C6A-902F-BEB53BBB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531-7896-4B3A-84F3-E476FE27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72C-7CDA-455B-A23D-966E0DBB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1624-DB35-4A67-8B6A-CAF42D60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366-73E9-480D-A0E9-D0DC2E4E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8C9-2C16-4D27-A580-15A82FA8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0C1-89A3-4C7D-9B53-0A4C2B6C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ACE1-5067-4A51-81F2-50E3914F4C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450072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на землі, все треба берегти –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птаха й звіра, і оту рослину,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чванься тим, що цар природи ти –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 врешті, ти його частина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е мій, люби життя,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 людей, природу,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ривду кинь у забуття,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камінь в тиху воду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Леп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572000" y="2143080"/>
            <a:ext cx="407196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ttp://ua.vlasenko.net/askaniia-nova/c4010093.jpg"/>
          <p:cNvPicPr/>
          <p:nvPr/>
        </p:nvPicPr>
        <p:blipFill>
          <a:blip r:embed="rId1"/>
          <a:stretch/>
        </p:blipFill>
        <p:spPr>
          <a:xfrm>
            <a:off x="4786200" y="3071880"/>
            <a:ext cx="4071960" cy="30542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Безымянный.bmp"/>
          <p:cNvPicPr/>
          <p:nvPr/>
        </p:nvPicPr>
        <p:blipFill>
          <a:blip r:embed="rId2"/>
          <a:stretch/>
        </p:blipFill>
        <p:spPr>
          <a:xfrm>
            <a:off x="142920" y="1000080"/>
            <a:ext cx="4478400" cy="314316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142920" y="435780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ташування заповідників і національних парків на території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4786200" y="6215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повіднику Асканія-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Червона книга Украї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2162160" cy="2143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214200" y="34290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ік видання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2857680" y="1143000"/>
            <a:ext cx="2199960" cy="214308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2857680" y="342900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ік видання 1994 (тваринний сві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5572080" y="1143000"/>
            <a:ext cx="2244600" cy="2143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9"/>
          <p:cNvSpPr/>
          <p:nvPr/>
        </p:nvSpPr>
        <p:spPr>
          <a:xfrm>
            <a:off x="5643720" y="34290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ік видання 1996 (рослинний сві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4"/>
          <a:stretch/>
        </p:blipFill>
        <p:spPr>
          <a:xfrm>
            <a:off x="1643040" y="4143240"/>
            <a:ext cx="2000160" cy="1901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5"/>
          <a:stretch/>
        </p:blipFill>
        <p:spPr>
          <a:xfrm>
            <a:off x="4429080" y="4143240"/>
            <a:ext cx="2036880" cy="19288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4"/>
          <p:cNvSpPr/>
          <p:nvPr/>
        </p:nvSpPr>
        <p:spPr>
          <a:xfrm>
            <a:off x="642960" y="6143760"/>
            <a:ext cx="392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ервона книга України (Видання 2009 р. Тваринний сві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4357800" y="6000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4357800" y="6072120"/>
            <a:ext cx="37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ервона книга України (Видання 2009 р. Рослинний сві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4510800" y="2081520"/>
            <a:ext cx="396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ільчастих червів           -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ленисоногих                 -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люсків                       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ишковопорожнинних -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рдових                         -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углих червів              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737640" y="576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арини  Черкаської області занесен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Червоної книги Україн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G:\урок 8\a-300.png"/>
          <p:cNvPicPr/>
          <p:nvPr/>
        </p:nvPicPr>
        <p:blipFill>
          <a:blip r:embed="rId1"/>
          <a:stretch/>
        </p:blipFill>
        <p:spPr>
          <a:xfrm>
            <a:off x="142920" y="1714680"/>
            <a:ext cx="1071360" cy="861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G:\урок 8\a-302.png"/>
          <p:cNvPicPr/>
          <p:nvPr/>
        </p:nvPicPr>
        <p:blipFill>
          <a:blip r:embed="rId2"/>
          <a:stretch/>
        </p:blipFill>
        <p:spPr>
          <a:xfrm>
            <a:off x="857160" y="2714760"/>
            <a:ext cx="1071720" cy="861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G:\урок 8\a-419.png"/>
          <p:cNvPicPr/>
          <p:nvPr/>
        </p:nvPicPr>
        <p:blipFill>
          <a:blip r:embed="rId3"/>
          <a:stretch/>
        </p:blipFill>
        <p:spPr>
          <a:xfrm>
            <a:off x="7643880" y="4572000"/>
            <a:ext cx="1171440" cy="928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G:\урок 8\a-482.png"/>
          <p:cNvPicPr/>
          <p:nvPr/>
        </p:nvPicPr>
        <p:blipFill>
          <a:blip r:embed="rId4"/>
          <a:stretch/>
        </p:blipFill>
        <p:spPr>
          <a:xfrm>
            <a:off x="5429160" y="4714920"/>
            <a:ext cx="1131840" cy="911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G:\урок 8\258px-Cerf-volant_MHNT_male_et_femelle.jpg"/>
          <p:cNvPicPr/>
          <p:nvPr/>
        </p:nvPicPr>
        <p:blipFill>
          <a:blip r:embed="rId5"/>
          <a:stretch/>
        </p:blipFill>
        <p:spPr>
          <a:xfrm>
            <a:off x="2714760" y="5143680"/>
            <a:ext cx="982440" cy="1031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G:\урок 8\258px-Acherontia_lachesis.jpg"/>
          <p:cNvPicPr/>
          <p:nvPr/>
        </p:nvPicPr>
        <p:blipFill>
          <a:blip r:embed="rId6"/>
          <a:stretch/>
        </p:blipFill>
        <p:spPr>
          <a:xfrm>
            <a:off x="2428920" y="1928880"/>
            <a:ext cx="982440" cy="636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G:\урок 8\270px-Lacerta_viridis_Deutschland_005.jpg"/>
          <p:cNvPicPr/>
          <p:nvPr/>
        </p:nvPicPr>
        <p:blipFill>
          <a:blip r:embed="rId7"/>
          <a:stretch/>
        </p:blipFill>
        <p:spPr>
          <a:xfrm>
            <a:off x="4286160" y="4929120"/>
            <a:ext cx="785880" cy="101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G:\урок 8\a-316.png"/>
          <p:cNvPicPr/>
          <p:nvPr/>
        </p:nvPicPr>
        <p:blipFill>
          <a:blip r:embed="rId8"/>
          <a:stretch/>
        </p:blipFill>
        <p:spPr>
          <a:xfrm>
            <a:off x="285840" y="3714840"/>
            <a:ext cx="1154160" cy="928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G:\урок 8\Bombus_muscorum.jpg"/>
          <p:cNvPicPr/>
          <p:nvPr/>
        </p:nvPicPr>
        <p:blipFill>
          <a:blip r:embed="rId9"/>
          <a:stretch/>
        </p:blipFill>
        <p:spPr>
          <a:xfrm>
            <a:off x="3143160" y="3929040"/>
            <a:ext cx="785880" cy="817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G:\урок 8\img9.jpg"/>
          <p:cNvPicPr/>
          <p:nvPr/>
        </p:nvPicPr>
        <p:blipFill>
          <a:blip r:embed="rId10"/>
          <a:stretch/>
        </p:blipFill>
        <p:spPr>
          <a:xfrm>
            <a:off x="6786720" y="5643720"/>
            <a:ext cx="1049040" cy="847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G:\урок 8\Zygaena_laeta.jpg"/>
          <p:cNvPicPr/>
          <p:nvPr/>
        </p:nvPicPr>
        <p:blipFill>
          <a:blip r:embed="rId11"/>
          <a:stretch/>
        </p:blipFill>
        <p:spPr>
          <a:xfrm>
            <a:off x="1571760" y="4500720"/>
            <a:ext cx="785520" cy="54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G:\урок 8\Багатозв'яз_гірський_український.gif"/>
          <p:cNvPicPr/>
          <p:nvPr/>
        </p:nvPicPr>
        <p:blipFill>
          <a:blip r:embed="rId12"/>
          <a:stretch/>
        </p:blipFill>
        <p:spPr>
          <a:xfrm>
            <a:off x="714240" y="5143680"/>
            <a:ext cx="1092240" cy="10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використаних джере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нет ресурс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ntellect-ua.info/publ/doslidzhennja_proektu/vid_quot_chornogo_quot_zolota_do_chornogo_likha/1-1-0-4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textbooks.net.ua/content/view/4922/43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7715520" cy="52275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500200" y="557208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руднення довкілля промисловіст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500280" y="55008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руднення рі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cs9682.vk.me/u167873651/154301047/x_6c5ab5f3.jpg"/>
          <p:cNvPicPr/>
          <p:nvPr/>
        </p:nvPicPr>
        <p:blipFill>
          <a:blip r:embed="rId1"/>
          <a:stretch/>
        </p:blipFill>
        <p:spPr>
          <a:xfrm>
            <a:off x="4714920" y="157176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://futurus.lutsk.ua/uploads/SimpleGallery/129_original.jpg"/>
          <p:cNvPicPr/>
          <p:nvPr/>
        </p:nvPicPr>
        <p:blipFill>
          <a:blip r:embed="rId2"/>
          <a:stretch/>
        </p:blipFill>
        <p:spPr>
          <a:xfrm>
            <a:off x="142920" y="1571760"/>
            <a:ext cx="44496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857160" y="357120"/>
            <a:ext cx="7427880" cy="55720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43120" y="600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щення природних еко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s://encrypted-tbn3.gstatic.com/images?q=tbn:ANd9GcQkP3rZp6QqkmPMosbcw0fFbzh-z5eTYVM9k1IgfZkrf2nRH4AtmA"/>
          <p:cNvPicPr/>
          <p:nvPr/>
        </p:nvPicPr>
        <p:blipFill>
          <a:blip r:embed="rId1"/>
          <a:stretch/>
        </p:blipFill>
        <p:spPr>
          <a:xfrm>
            <a:off x="1357200" y="428760"/>
            <a:ext cx="4714920" cy="353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vkurse.ua/i/2010-02/chinovniki-derzhat-oboronu.jpg"/>
          <p:cNvPicPr/>
          <p:nvPr/>
        </p:nvPicPr>
        <p:blipFill>
          <a:blip r:embed="rId2"/>
          <a:stretch/>
        </p:blipFill>
        <p:spPr>
          <a:xfrm>
            <a:off x="4857840" y="4214880"/>
            <a:ext cx="3809880" cy="238104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2428920" y="414324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бування лі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Безымянный.bmp"/>
          <p:cNvPicPr/>
          <p:nvPr/>
        </p:nvPicPr>
        <p:blipFill>
          <a:blip r:embed="rId1"/>
          <a:stretch/>
        </p:blipFill>
        <p:spPr>
          <a:xfrm>
            <a:off x="142920" y="1785960"/>
            <a:ext cx="4357800" cy="3213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714240" y="5072040"/>
            <a:ext cx="32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ський видобуток наф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intellect-ua.info/2012/Pix/53_INT_07_07/Nafto_piatno.jpg"/>
          <p:cNvPicPr/>
          <p:nvPr/>
        </p:nvPicPr>
        <p:blipFill>
          <a:blip r:embed="rId2"/>
          <a:stretch/>
        </p:blipFill>
        <p:spPr>
          <a:xfrm>
            <a:off x="4714920" y="1785960"/>
            <a:ext cx="4222800" cy="2357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5429160" y="42861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ив нафти в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animalpicture.ru/wp-content/uploads/2010/11/1110.jpg"/>
          <p:cNvPicPr/>
          <p:nvPr/>
        </p:nvPicPr>
        <p:blipFill>
          <a:blip r:embed="rId1"/>
          <a:stretch/>
        </p:blipFill>
        <p:spPr>
          <a:xfrm>
            <a:off x="0" y="3643200"/>
            <a:ext cx="4284720" cy="285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sled.net.ua/sites/default/files/%D0%B1%D1%80%D0%B0%D0%BA%D0%BE%D0%BD%D1%8C%D0%B5%D1%80%D1%81%D1%82%D0%B2%D0%BE.jpg"/>
          <p:cNvPicPr/>
          <p:nvPr/>
        </p:nvPicPr>
        <p:blipFill>
          <a:blip r:embed="rId2"/>
          <a:stretch/>
        </p:blipFill>
        <p:spPr>
          <a:xfrm>
            <a:off x="928800" y="142920"/>
            <a:ext cx="6715080" cy="260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telegraf.in.ua/uploads/posts/2010-12/1_13446_20604.jpg"/>
          <p:cNvPicPr/>
          <p:nvPr/>
        </p:nvPicPr>
        <p:blipFill>
          <a:blip r:embed="rId3"/>
          <a:stretch/>
        </p:blipFill>
        <p:spPr>
          <a:xfrm>
            <a:off x="4602240" y="3613320"/>
            <a:ext cx="4286160" cy="3219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2928960" y="30002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коньє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00080" y="428760"/>
            <a:ext cx="7286760" cy="5465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3643200" y="59292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нне ху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1143000" y="557208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окремих частин тварин (бивні слонів) для виготовлення прикрас та інших реч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m.ruvr.ru/data/2014/02/06/1311843377/4slon.jpg"/>
          <p:cNvPicPr/>
          <p:nvPr/>
        </p:nvPicPr>
        <p:blipFill>
          <a:blip r:embed="rId1"/>
          <a:stretch/>
        </p:blipFill>
        <p:spPr>
          <a:xfrm>
            <a:off x="285840" y="2786040"/>
            <a:ext cx="4071960" cy="23716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http://radera.org.ua/ua/gallery/chess_invory_001.jpg"/>
          <p:cNvPicPr/>
          <p:nvPr/>
        </p:nvPicPr>
        <p:blipFill>
          <a:blip r:embed="rId2"/>
          <a:stretch/>
        </p:blipFill>
        <p:spPr>
          <a:xfrm>
            <a:off x="5000760" y="428760"/>
            <a:ext cx="41432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11:31:08Z</dcterms:created>
  <dc:creator>Loner-XP</dc:creator>
  <dc:description/>
  <dc:language>en-US</dc:language>
  <cp:lastModifiedBy>Loner-XP</cp:lastModifiedBy>
  <dcterms:modified xsi:type="dcterms:W3CDTF">2014-02-21T11:29:26Z</dcterms:modified>
  <cp:revision>22</cp:revision>
  <dc:subject/>
  <dc:title>Все на землі, все треба берегти –  І птаха й звіра, і оту рослину, Не  чванься тим, що цар природи ти –  Бо врешті, ти його частина. Друже мій, люби життя,  Люби людей, природу, А кривду кинь у забуття, Як камінь в тиху воду   Б.Лепк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d000000000001024140</vt:lpwstr>
  </property>
</Properties>
</file>