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B2A-C0B4-4A2C-AA94-59662419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3A2-3EA0-4764-9183-E3D22A81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F96-FA55-4AB7-9D43-1539890F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217-CCC8-44E4-9EDD-88224B7D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3FEE-E008-4F91-849D-A7F17584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EA9A-6FA7-4297-9F46-0CA8F5A6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C3B5-80AF-4955-965B-D6EBBB81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DE11-4B94-40E3-81A7-8837347C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CF09-9651-4787-A3A4-530AA0DA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C8B4-BABF-4364-A65B-68B6A2CF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8A4A-4CD6-426B-ADB4-75CA847D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4B2-A38D-4FE5-9124-1A3407FE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BAEB-0911-402F-8531-A939FF19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7F9D-2F0B-40D0-B02F-2B771EBE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9122-2E89-434A-AFC8-11825373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53F1-C56B-45F1-A6DE-32926340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2E55-C4D0-4F96-9C72-95A876AA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501-544F-49A2-AD1F-6DD46383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4DA-0ACD-4A1C-921E-FDFC995D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D6C-5C60-47F3-BFC0-A33BEBA3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316-426E-434B-B92A-BA15BF51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BDE-B194-471A-89E2-C76AB9A2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8A9-0581-4A96-BF21-4C4CE4BF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04C9-4EBE-42AE-9441-464F698F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EB5E-8FE4-4D19-8EC0-3F1C6ED6B4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D6AE-0679-44E4-965E-852EAE788E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2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66"/>
                </a:solidFill>
                <a:latin typeface="Arial"/>
              </a:rPr>
              <a:t>Розробка уроку для 7 класу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Arial"/>
              </a:rPr>
              <a:t>Підготувала вчитель БЗШ І-ІІІ ступенів №11 Ямбуренко М. І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астосовують у медицин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49000"/>
            <a:ext cx="37706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апуста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Вітаміни (особливо С), мінеральні елементи К, Р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787640" y="234900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Редьк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Вітаміни та мікроелемен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4292280"/>
            <a:ext cx="37706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гірчиц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787640" y="429228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Хрін          Покращує апетит, використовують при сечокам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яній хворобі.                                             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47640" y="4797360"/>
            <a:ext cx="1297080" cy="182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корень хрена фото"/>
          <p:cNvPicPr/>
          <p:nvPr/>
        </p:nvPicPr>
        <p:blipFill>
          <a:blip r:embed="rId2"/>
          <a:stretch/>
        </p:blipFill>
        <p:spPr>
          <a:xfrm>
            <a:off x="6804000" y="5229360"/>
            <a:ext cx="182880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Бур</a:t>
            </a: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яни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Грицики                               Талаба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35640" y="3213000"/>
            <a:ext cx="2665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Сорти капуст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71640" y="4221000"/>
            <a:ext cx="2016000" cy="188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2471760" cy="2136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376360" cy="190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26920" y="2349360"/>
            <a:ext cx="2808360" cy="175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564000" y="2421000"/>
            <a:ext cx="2192400" cy="1584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012000" y="4514760"/>
            <a:ext cx="23050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Родина </a:t>
            </a: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Розоцвіті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(Розові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000  видів, 100 роді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оширені скрізь , а особливо в помірній та субтропічній областях Пн півкулі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14828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собливості будови квіт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у будову має квітк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Ч? П? М? Т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35280" y="2936880"/>
            <a:ext cx="54007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Суцвіття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і типи суцвіть у розоцвітих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51280" y="3141720"/>
            <a:ext cx="1911240" cy="3095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300720" y="3068640"/>
            <a:ext cx="2071800" cy="3181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116000" y="2924280"/>
            <a:ext cx="209880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Плод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блук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кістя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сунич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збірна кістя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коробоч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56360" y="2492280"/>
            <a:ext cx="2089080" cy="1346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308720" y="5157720"/>
            <a:ext cx="1513080" cy="1384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835280" y="5300640"/>
            <a:ext cx="1676160" cy="1557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55640" y="24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940360" y="3789360"/>
            <a:ext cx="1600200" cy="1419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4140360" y="50846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Листки розоцвітих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і типи листків у Розоцвітих прості чи складні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64000" y="3284640"/>
            <a:ext cx="2295720" cy="306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835280" y="3357720"/>
            <a:ext cx="2274840" cy="3141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137760" y="2852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Життєві форми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12000" y="3213000"/>
            <a:ext cx="2419200" cy="2737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492360" y="3284640"/>
            <a:ext cx="2433600" cy="2663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Дерева                  кущі             трав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55640" y="3213000"/>
            <a:ext cx="24321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Тести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1.Насіння формую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квіткові рослини б) хвощі в) мохи г) хвойні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2.Запліднення незалежне від води маю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мохи б) папороті в) покритонасінні г) голонасінні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3.Покритонасінні рослини відрізняються від папоротеподібних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серед них є дерева, кущі, трави  б) мають подвійне заплідненн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в) утворюють насіння                г) утворюють спор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4.Покритонасінні відрізняються від голонасінних наявністю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насіння    б) подвійного запліднення    в) квітки     г) спор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5.Дводольні рослини маю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камбій   б) стрижневу кореневу систему в) кореневище г) мичкувату к.с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6.Для однодольних рослин характерні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камбій  б) стрижнева коренева система   в) мичкувата коренева систем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г) лише прості листк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Цінні плодово-ягідні культу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3024360" cy="2214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2471760" cy="2471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867280" y="4724280"/>
            <a:ext cx="2471760" cy="1854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276720" y="24210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2976480" cy="2235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826920" y="4869000"/>
            <a:ext cx="19051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Лікарські культу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Плоди шипшини багаті вітамін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У малини жарознижувальні властивості 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Суниці підвищують тиск, покращують  травлення.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92360" y="4365720"/>
            <a:ext cx="1743120" cy="1428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708360" y="4869000"/>
            <a:ext cx="1871640" cy="1547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012000" y="5157720"/>
            <a:ext cx="18158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екоративні культу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00000" y="2276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3408120" cy="3241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3372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Троянда - королева квіті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241440" cy="2433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3313440" cy="2465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826920" y="2349360"/>
            <a:ext cx="2976840" cy="2233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419640" y="242100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300720" y="4738680"/>
            <a:ext cx="2160720" cy="2119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3924360" y="448308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омашнє завда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Опрацювати параграф 48, 49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ідготувати повідомлення про представників родин Бобові та Пасльонові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Дякую за увагу.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6000" spc="-1" strike="noStrike">
                <a:solidFill>
                  <a:srgbClr val="003366"/>
                </a:solidFill>
                <a:latin typeface="Arial"/>
              </a:rPr>
              <a:t>Бажаю    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uk-UA" sz="6000" spc="-1" strike="noStrike">
                <a:solidFill>
                  <a:srgbClr val="003366"/>
                </a:solidFill>
                <a:latin typeface="Arial"/>
              </a:rPr>
              <a:t>успіхів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Відповіді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1.а , 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2.в , 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.а , б , 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4.б , 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5.а , 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6.в , 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Тема: Характеристика рослин класу Дводольні. Вивчення рослин родин Капустяні та Розоцвіті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Мета уроку: Дати характеристику родин класу Дводольні. Ознайомити учнів з найпоширенішими представниками родин Капустяні та Розоцвіті, їх значенням у природі та житті людини. Розвивати мислення(уміння аналізувати, узагальнювати), пам’ять;формувати бережливе ставлення до рослин, як об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єктів живої природ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Родина Хрестоцвіті(Капустяні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000 видів, 350 роді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оширені переважно в районах з помірним та холодним кліма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ереважно трави, зрідка напівкущ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2000" y="4724280"/>
            <a:ext cx="1647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66"/>
                </a:solidFill>
                <a:latin typeface="Arial"/>
              </a:rPr>
              <a:t>Загальні ознаки родини Хрестоцвіт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у будову має квітк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ий тип суцвіть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 називається плід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ий тип листків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888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Різноманітність рослин родини Капустяні та їх значенн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Цінні овочеві культур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3168720" cy="2978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04000" y="2492280"/>
            <a:ext cx="2016000" cy="193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995640" y="3357720"/>
            <a:ext cx="2481480" cy="2004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769080" y="5157720"/>
            <a:ext cx="237492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екоративні Хрестоцвіт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Arial"/>
              </a:rPr>
              <a:t>Левко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2738520" cy="3933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348000" y="3357720"/>
            <a:ext cx="2770200" cy="3195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1640" y="4076640"/>
            <a:ext cx="2520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лійні Хрестоцвіт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Ріпа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Гірчиц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64000" y="278136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564000" y="4572000"/>
            <a:ext cx="2589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6:57:04Z</dcterms:created>
  <dc:creator>User</dc:creator>
  <dc:description/>
  <dc:language>en-US</dc:language>
  <cp:lastModifiedBy>User</cp:lastModifiedBy>
  <dcterms:modified xsi:type="dcterms:W3CDTF">2014-03-02T14:15:2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d000000000001024140</vt:lpwstr>
  </property>
</Properties>
</file>