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2E6-D3BD-482A-BDB7-ED7429F6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068-EF84-4DA3-AB6B-D214BFA6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45B-3846-4C2A-B6F5-6A1C811B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D8E-2D33-45E2-8366-0C7F9337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4CDA-AD70-4313-814D-06A45497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BBE-3F99-4C7E-A1A2-E93F9B35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662A-91B6-4585-A1A3-86B837B0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5659-21DB-4833-888A-19DCDE7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EC77-044F-4BB7-AD82-961DB668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9C33-B813-44E6-B4ED-2C76A67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7C08-3D73-4F73-9636-6D3A6D7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007-1A2D-4084-8E75-4109C19A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67E1-3DB7-4C8C-B538-057EA5B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6247-A89D-4A32-AF3D-06376461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5359-7DDB-4BA7-AEA2-D06A77FA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581-61CA-44A0-A3D3-21FD2448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9E38-3DF5-42C7-8250-BCF14E9B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AD0-70A7-48A3-A0D5-AEDA2CBA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F5C-103A-4288-89A6-45BF1DC4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F11-AE74-4019-B8AD-B64D709B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13E-0BA5-4397-ADCF-E7E8FCA3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2F1-FE77-407E-B901-D6001B9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E78-E4D4-451B-994B-00B9B0E2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BA7-5D24-49A8-AFF1-3A582FE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ADDF-8D3B-4903-8E98-3A921180CD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E368-5E70-43CD-92DD-C7709A06C0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2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Розробка уроку для 7 класу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Підготувала вчитель БЗШ І-ІІІ ступенів №11 Ямбуренко М. І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стосовують у медицин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4900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пуста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(особливо С), мінеральні елементи К, Р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87640" y="23490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Редь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та мікроелемен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429228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87640" y="429228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Хрін          Покращує апетит, використовують при сечока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яній хворобі.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4797360"/>
            <a:ext cx="1297080" cy="182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орень хрена фото"/>
          <p:cNvPicPr/>
          <p:nvPr/>
        </p:nvPicPr>
        <p:blipFill>
          <a:blip r:embed="rId2"/>
          <a:stretch/>
        </p:blipFill>
        <p:spPr>
          <a:xfrm>
            <a:off x="6804000" y="5229360"/>
            <a:ext cx="18288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Бур</a:t>
            </a: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ян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рицики                               Талаб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66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орти капуст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016000" cy="18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2471760" cy="2136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376360" cy="190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2808360" cy="175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564000" y="2421000"/>
            <a:ext cx="219240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012000" y="4514760"/>
            <a:ext cx="23050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Розоцвіті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(Розов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 видів, 10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скрізь , а особливо в помірній та субтропічній областях Пн півкул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14828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собливості будови кві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Ч? П? М? 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936880"/>
            <a:ext cx="5400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уцвітт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суцвіть у розоцвіти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91124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071800" cy="3181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16000" y="2924280"/>
            <a:ext cx="20988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Плод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блук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унич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бірна 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оробоч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2492280"/>
            <a:ext cx="2089080" cy="134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513080" cy="1384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35280" y="5300640"/>
            <a:ext cx="1676160" cy="155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5564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940360" y="3789360"/>
            <a:ext cx="1600200" cy="1419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14036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Листки розоцвіти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листків у Розоцвітих прості чи складні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2295720" cy="30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2274840" cy="314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37760" y="285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Життєві форми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2419200" cy="273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2433600" cy="2663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ерева                  кущі             тра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24321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Тест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1.Насіння форму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віткові рослини б) хвощі в) мохи г) хвой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2.Запліднення незалежне від вод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мохи б) папороті в) покритонасінні г) голонасін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3.Покритонасінні рослини відрізняються від папоротеподібних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серед них є дерева, кущі, трави  б) мають подвійне заплідненн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в) утворюють насіння                г) утворюють спор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4.Покритонасінні відрізняються від голонасінних наявністю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насіння    б) подвійного запліднення    в) квітки     г) спор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5.Дводольні рослин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 б) стрижневу кореневу систему в) кореневище г) мичкувату к.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6.Для однодольних рослин характерні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б) стрижнева коренева система   в) мичкувата коренева систе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г) лише прості лис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Цінні плодово-ягід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02436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471760" cy="247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471760" cy="1854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976480" cy="2235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826920" y="4869000"/>
            <a:ext cx="1905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Лікарськ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Плоди шипшини багаті вітамін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У малини жарознижувальні властивості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Суниці підвищують тиск, покращують  травлення.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4365720"/>
            <a:ext cx="174312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708360" y="4869000"/>
            <a:ext cx="1871640" cy="154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12000" y="5157720"/>
            <a:ext cx="1815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408120" cy="324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337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Троянда - королева кві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241440" cy="2433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313440" cy="246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976840" cy="2233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300720" y="4738680"/>
            <a:ext cx="2160720" cy="2119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924360" y="448308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Опрацювати параграф 48, 4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едставників родин Бобові та Пасльонов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Дякую за увагу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Бажаю    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успіхів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Відповіді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1.а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2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.а , 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4.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5.а , 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6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Тема: Характеристика рослин класу Дводольні. Вивчення рослин родин Капустяні та Розоцвіті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Мета уроку: Дати характеристику родин класу Дводольні. Ознайомити учнів з найпоширенішими представниками родин Капустяні та Розоцвіті, їх значенням у природі та житті людини. Розвивати мислення(уміння аналізувати, узагальнювати), пам’ять;формувати бережливе ставлення до рослин, як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ктів живої природ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Хрестоцвіті(Капустян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видів, 35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переважно в районах з помірним та холодним кліма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ереважно трави, зрідка напівкущ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Загальні ознаки родини Хрестоцвіт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суцві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 називається плід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листкі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88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ізноманітність рослин родини Капустяні та їх знач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інні овочеві культур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16872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201600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2481480" cy="2004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69080" y="5157720"/>
            <a:ext cx="23749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Левк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7385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2770200" cy="31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52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лій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іп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4000" y="4572000"/>
            <a:ext cx="2589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6:57:04Z</dcterms:created>
  <dc:creator>User</dc:creator>
  <dc:description/>
  <dc:language>en-US</dc:language>
  <cp:lastModifiedBy>User</cp:lastModifiedBy>
  <dcterms:modified xsi:type="dcterms:W3CDTF">2014-03-02T14:15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4140</vt:lpwstr>
  </property>
</Properties>
</file>