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B86-431A-4AB9-A65D-C3435496E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0DB2-A7C8-4372-930E-4FF5F9E2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D25-1B8F-4EFD-92CF-B83E213D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C3A-0BF6-4E51-99CC-D219971C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8889-B42E-40AB-832F-0C3800C7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2FA6-B3EA-4074-9717-B82C1B03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24B3-F387-4C50-B1BB-6A17B9F8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1A3B6-24A5-47BD-9830-2697149B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40F8-CF46-4613-943E-88C32463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5FC1-BD46-4420-ADFD-B6B7AAC4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AC7E-E11E-4972-9B60-B893E42A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62C0-CFB5-4D3E-A42B-00A333F1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6DC7-EB9D-4695-96BC-C10823F9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BB3B-909F-422B-82E4-273D8784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927D-4F8F-4988-9521-CF94ADF3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83CF-75BE-4A94-87C8-2E03BCB7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0A0A-4397-41D3-A2BE-9238335B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EDF-E2B6-4EA9-B635-3E355659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063B-F190-4B7D-9BA5-16E343CE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A5F-6106-4E68-B692-4776A5F9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BF77-822C-4CCA-9CAB-AD7287B7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F548-94D8-4F0B-AFF3-B5F4A51B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15DC-1DE5-4112-BE6C-74BC5244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A24-7A43-44EC-AD23-979D42FE3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1086-34BA-4C91-8D42-AA642F0BC6E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9920-29C4-4948-8DB9-F25B518F752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2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66"/>
                </a:solidFill>
                <a:latin typeface="Arial"/>
              </a:rPr>
              <a:t>Розробка уроку для 7 класу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6666"/>
                </a:solidFill>
                <a:latin typeface="Arial"/>
              </a:rPr>
              <a:t>Підготувала вчитель БЗШ І-ІІІ ступенів №11 Ямбуренко М. І.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Застосовують у медицині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49000"/>
            <a:ext cx="37706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Капуста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Вітаміни (особливо С), мінеральні елементи К, Р,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787640" y="234900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Редьк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Вітаміни та мікроелемен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4292280"/>
            <a:ext cx="37706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гірчиц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787640" y="429228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Хрін          Покращує апетит, використовують при сечокам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яній хворобі.                                                                                          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47640" y="4797360"/>
            <a:ext cx="1297080" cy="182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корень хрена фото"/>
          <p:cNvPicPr/>
          <p:nvPr/>
        </p:nvPicPr>
        <p:blipFill>
          <a:blip r:embed="rId2"/>
          <a:stretch/>
        </p:blipFill>
        <p:spPr>
          <a:xfrm>
            <a:off x="6804000" y="5229360"/>
            <a:ext cx="182880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Бур</a:t>
            </a:r>
            <a:r>
              <a:rPr b="1" lang="en-US" sz="6000" spc="-1" strike="noStrike">
                <a:solidFill>
                  <a:srgbClr val="006666"/>
                </a:solidFill>
                <a:latin typeface="Arial"/>
              </a:rPr>
              <a:t>’</a:t>
            </a: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яни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Грицики                               Талаба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71640" y="3213000"/>
            <a:ext cx="2376360" cy="2592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35640" y="3213000"/>
            <a:ext cx="26654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Сорти капуст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71640" y="4221000"/>
            <a:ext cx="2016000" cy="1889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940360" y="2349360"/>
            <a:ext cx="2471760" cy="2136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419640" y="4221000"/>
            <a:ext cx="2376360" cy="1908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26920" y="2349360"/>
            <a:ext cx="2808360" cy="1754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564000" y="2421000"/>
            <a:ext cx="2192400" cy="1584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6012000" y="4514760"/>
            <a:ext cx="230508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Родина </a:t>
            </a: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Розоцвіті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 (Розові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3000  видів, 100 роді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оширені скрізь , а особливо в помірній та субтропічній областях Пн півкулі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04000" y="4437000"/>
            <a:ext cx="148284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Особливості будови квіт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у будову має квітк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Ч? П? М? Т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635280" y="2936880"/>
            <a:ext cx="540072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Суцвіття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і типи суцвіть у розоцвітих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51280" y="3141720"/>
            <a:ext cx="1911240" cy="3095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300720" y="3068640"/>
            <a:ext cx="2071800" cy="3181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116000" y="2924280"/>
            <a:ext cx="209880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Плоди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блук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кістян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суничи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збірна кістян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коробоч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56360" y="2492280"/>
            <a:ext cx="2089080" cy="1346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308720" y="5157720"/>
            <a:ext cx="1513080" cy="1384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1835280" y="5300640"/>
            <a:ext cx="1676160" cy="1557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755640" y="2421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5940360" y="3789360"/>
            <a:ext cx="1600200" cy="1419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4140360" y="508464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27640" y="837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Листки розоцвітих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і типи листків у Розоцвітих прості чи складні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64000" y="3284640"/>
            <a:ext cx="2295720" cy="30607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835280" y="3357720"/>
            <a:ext cx="2274840" cy="3141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137760" y="28526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Життєві форми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012000" y="3213000"/>
            <a:ext cx="2419200" cy="27370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492360" y="3284640"/>
            <a:ext cx="2433600" cy="2663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Дерева                  кущі             трав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55640" y="3213000"/>
            <a:ext cx="24321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Тести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693200" cy="40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1.Насіння формують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квіткові рослини б) хвощі в) мохи г) хвойні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2.Запліднення незалежне від води мають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мохи б) папороті в) покритонасінні г) голонасінні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3.Покритонасінні рослини відрізняються від папоротеподібних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серед них є дерева, кущі, трави  б) мають подвійне запліднення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в) утворюють насіння                г) утворюють спор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4.Покритонасінні відрізняються від голонасінних наявністю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насіння    б) подвійного запліднення    в) квітки     г) спор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5.Дводольні рослини мають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камбій   б) стрижневу кореневу систему в) кореневище г) мичкувату к.с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3366"/>
                </a:solidFill>
                <a:latin typeface="Arial"/>
              </a:rPr>
              <a:t>6.Для однодольних рослин характерні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а) камбій  б) стрижнева коренева система   в) мичкувата коренева система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uk-UA" sz="1600" spc="-1" strike="noStrike">
                <a:solidFill>
                  <a:srgbClr val="003366"/>
                </a:solidFill>
                <a:latin typeface="Arial"/>
              </a:rPr>
              <a:t>г) лише прості листк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Цінні плодово-ягідні культу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292720" y="2492280"/>
            <a:ext cx="3024360" cy="2214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826920" y="2349360"/>
            <a:ext cx="2471760" cy="24717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5867280" y="4724280"/>
            <a:ext cx="2471760" cy="1854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276720" y="2421000"/>
            <a:ext cx="1895400" cy="18954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2700360" y="4437000"/>
            <a:ext cx="2976480" cy="22352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826920" y="4869000"/>
            <a:ext cx="19051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Лікарські культу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Плоди шипшини багаті вітамінам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У малини жарознижувальні властивості 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Суниці підвищують тиск, покращують  травлення.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692360" y="4365720"/>
            <a:ext cx="1743120" cy="1428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708360" y="4869000"/>
            <a:ext cx="1871640" cy="15476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6012000" y="5157720"/>
            <a:ext cx="181584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Декоративні культур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900000" y="227628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3408120" cy="3241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3372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Троянда - королева квіті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3241440" cy="24336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3313440" cy="2465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826920" y="2349360"/>
            <a:ext cx="2976840" cy="2233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3419640" y="242100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>
            <a:off x="6300720" y="4738680"/>
            <a:ext cx="2160720" cy="21193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6"/>
          <a:stretch/>
        </p:blipFill>
        <p:spPr>
          <a:xfrm>
            <a:off x="3924360" y="448308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Домашнє завданн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Опрацювати параграф 48, 49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ідготувати повідомлення про представників родин Бобові та Пасльонові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6666"/>
                </a:solidFill>
                <a:latin typeface="Arial"/>
              </a:rPr>
              <a:t>Дякую за увагу.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uk-UA" sz="6000" spc="-1" strike="noStrike">
                <a:solidFill>
                  <a:srgbClr val="003366"/>
                </a:solidFill>
                <a:latin typeface="Arial"/>
              </a:rPr>
              <a:t>Бажаю     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3366"/>
                </a:solidFill>
                <a:latin typeface="Arial"/>
              </a:rPr>
              <a:t>               </a:t>
            </a:r>
            <a:r>
              <a:rPr b="0" lang="uk-UA" sz="6000" spc="-1" strike="noStrike">
                <a:solidFill>
                  <a:srgbClr val="003366"/>
                </a:solidFill>
                <a:latin typeface="Arial"/>
              </a:rPr>
              <a:t>успіхів!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Відповіді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1.а , 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2.в , 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3.а , б , 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4.б , 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5.а , б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6.в , 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Тема: Характеристика рослин класу Дводольні. Вивчення рослин родин Капустяні та Розоцвіті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Мета уроку: Дати характеристику родин класу Дводольні. Ознайомити учнів з найпоширенішими представниками родин Капустяні та Розоцвіті, їх значенням у природі та житті людини. Розвивати мислення(уміння аналізувати, узагальнювати), пам’ять;формувати бережливе ставлення до рослин, як об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єктів живої природ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Родина Хрестоцвіті(Капустяні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3000 видів, 350 роді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оширені переважно в районах з помірним та холодним клімато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Переважно трави, зрідка напівкущі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12000" y="4724280"/>
            <a:ext cx="16477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66"/>
                </a:solidFill>
                <a:latin typeface="Arial"/>
              </a:rPr>
              <a:t>Загальні ознаки родини Хрестоцвіті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у будову має квітка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ий тип суцвіть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 називається плід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Який тип листків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76720" y="2421000"/>
            <a:ext cx="3888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Різноманітність рослин родини Капустяні та їх значенн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Цінні овочеві культури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3168720" cy="2978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804000" y="2492280"/>
            <a:ext cx="2016000" cy="193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995640" y="3357720"/>
            <a:ext cx="2481480" cy="2004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6769080" y="5157720"/>
            <a:ext cx="237492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Декоративні Хрестоцвіті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Arial"/>
              </a:rPr>
              <a:t>Левкой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24360" y="2276640"/>
            <a:ext cx="2738520" cy="39337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348000" y="3357720"/>
            <a:ext cx="2770200" cy="3195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971640" y="4076640"/>
            <a:ext cx="2520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Олійні Хрестоцвіті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           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Ріпа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lang="uk-UA" sz="2800" spc="-1" strike="noStrike">
                <a:solidFill>
                  <a:srgbClr val="003366"/>
                </a:solidFill>
                <a:latin typeface="Arial"/>
              </a:rPr>
              <a:t>Гірчиц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64000" y="2781360"/>
            <a:ext cx="3097440" cy="23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564000" y="4572000"/>
            <a:ext cx="2589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06:57:04Z</dcterms:created>
  <dc:creator>User</dc:creator>
  <dc:description/>
  <dc:language>en-US</dc:language>
  <cp:lastModifiedBy>User</cp:lastModifiedBy>
  <dcterms:modified xsi:type="dcterms:W3CDTF">2014-03-02T14:15:25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d000000000001024140</vt:lpwstr>
  </property>
</Properties>
</file>