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F84-E0D5-43F1-95ED-64C1B250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56E-E369-4D78-AFE2-65AF27D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351-B1CD-4112-B291-B85E62A0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8DC-D797-4A70-BB0D-6D4C921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C71-C434-4ECB-8ED6-467A1237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CBB-FBEE-4D7B-8105-A0F2775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6B2-E889-46AC-8087-FA16BB2B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F880-AA59-4D57-A425-15082E8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F102-72D8-4D26-9F34-5284083F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317-B24B-4986-81BE-9721E83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219-111C-4405-9DCE-CA2DA00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084-4489-43D1-9CB9-56C1DB05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615-40BB-488D-ACD8-A4E52C8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7B3-2B78-42C2-B382-5BB214B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6E00-8DD3-4459-A7C8-C8DBD8A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C87C-A7FD-46AB-A9B7-31244C3D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27B-B86B-48B5-8B21-01026643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8BA-3EF8-423C-BF95-B0B15009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3CE-0FA9-4620-9AB6-5E24528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190-097A-406C-BF8F-510AE566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04B-1A9E-40D1-AAF5-0E7FB435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AC6-824B-4488-B10F-FF523DD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C54-FC6F-4540-80B3-8F17108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80A-4726-463F-9253-6637D2D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709-6DC2-4C29-9013-1BBEE162D9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432-F0E6-4CA8-8F75-2C0B2F5A55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2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Розробка уроку для 7 класу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ідготувала вчитель БЗШ І-ІІІ ступенів №11 Ямбуренко М. І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стосовують у медици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4900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пуста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(особливо С), мінеральні елементи К, 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87640" y="2349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Редь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та мікроелемен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29228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87640" y="429228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рін          Покращує апетит, використовують при сечока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яній хворобі.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4797360"/>
            <a:ext cx="129708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орень хрена фото"/>
          <p:cNvPicPr/>
          <p:nvPr/>
        </p:nvPicPr>
        <p:blipFill>
          <a:blip r:embed="rId2"/>
          <a:stretch/>
        </p:blipFill>
        <p:spPr>
          <a:xfrm>
            <a:off x="6804000" y="5229360"/>
            <a:ext cx="1828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Бур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ян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рицики                               Талаб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орти капуст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16000" cy="18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471760" cy="21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37636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0836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564000" y="2421000"/>
            <a:ext cx="21924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12000" y="4514760"/>
            <a:ext cx="2305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Розоцвіті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(Розов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 видів, 10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скрізь , а особливо в помірній та субтропічній областях Пн півкул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1482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ливості будови кві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Ч? П? М? 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936880"/>
            <a:ext cx="540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уцвітт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суцвіть у розоцвіти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91124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071800" cy="318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988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Плод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блук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унич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бірна 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оробоч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2492280"/>
            <a:ext cx="2089080" cy="134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513080" cy="138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35280" y="530064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940360" y="3789360"/>
            <a:ext cx="160020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14036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Листки розоцвіти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листків у Розоцвітих прості чи складн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27484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7760" y="285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Життєві форми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4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433600" cy="2663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рева                  кущі             тра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432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Тест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1.Насіння форму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віткові рослини б) хвощі в) мохи г) хвой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2.Запліднення незалежне від вод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мохи б) папороті в) покритонасінні г) голонасін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3.Покритонасінні рослини відрізняються від папоротеподібни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серед них є дерева, кущі, трави  б) мають подвійне заплідненн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) утворюють насіння                г) утворюють спор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4.Покритонасінні відрізняються від голонасінних наявністю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насіння    б) подвійного запліднення    в) квітки     г) спор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5.Дводольні рослин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 б) стрижневу кореневу систему в) кореневище г) мичкувату к.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6.Для однодольних рослин характерні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б) стрижнева коренева система   в) мичкувата коренева систе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г) лише прості лис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Цінні плодово-ягід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02436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471760" cy="185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976480" cy="22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1905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Лікарськ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Плоди шипшини багаті вітамін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У малини жарознижувальні властивості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Суниці підвищують тиск, покращують  травлення.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08360" y="486900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2000" y="5157720"/>
            <a:ext cx="1815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408120" cy="324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37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роянда - королева кві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1440" cy="243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976840" cy="22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300720" y="4738680"/>
            <a:ext cx="2160720" cy="21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483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працювати параграф 48, 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едставників родин Бобові та Пасльонов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Дякую за увагу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Бажаю    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успіхів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Відповіді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а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а , 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4.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5.а , 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6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Тема: Характеристика рослин класу Дводольні. Вивчення рослин родин Капустяні та Розоцвіті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Мета уроку: Дати характеристику родин класу Дводольні. Ознайомити учнів з найпоширенішими представниками родин Капустяні та Розоцвіті, їх значенням у природі та житті людини. Розвивати мислення(уміння аналізувати, узагальнювати), пам’ять;формувати бережливе ставлення до рослин, як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ктів живої приро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Хрестоцвіті(Капустян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видів, 35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переважно в районах з помірним та холодним кліма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ереважно трави, зрідка напівкущ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Загальні ознаки родини Хрестоцвіт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суцві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 називається плід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листкі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8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ізноманітність рослин родини Капустяні та їх знач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інні овочеві культур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16872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201600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481480" cy="2004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69080" y="5157720"/>
            <a:ext cx="2374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Лев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7385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770200" cy="31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2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лій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іп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4572000"/>
            <a:ext cx="258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6:57:04Z</dcterms:created>
  <dc:creator>User</dc:creator>
  <dc:description/>
  <dc:language>en-US</dc:language>
  <cp:lastModifiedBy>User</cp:lastModifiedBy>
  <dcterms:modified xsi:type="dcterms:W3CDTF">2014-03-02T14:15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4140</vt:lpwstr>
  </property>
</Properties>
</file>