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32.jpeg" ContentType="image/jpeg"/>
  <Override PartName="/ppt/media/image49.jpeg" ContentType="image/jpeg"/>
  <Override PartName="/ppt/media/image54.jpeg" ContentType="image/jpeg"/>
  <Override PartName="/ppt/media/image33.jpeg" ContentType="image/jpeg"/>
  <Override PartName="/ppt/media/image55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E349-22F5-4EC9-9AA5-ECF0F96DF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F447-9192-4025-AAD5-ABA106780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61FE-89C7-4A06-91DF-06A3CF7A8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3C30-7880-4ECD-8449-089AA2764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1C763-5085-4AA3-BA48-FCF88D98B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AB646-530E-4B6C-8200-DADB7A436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5389C-CD94-4AE0-B353-2FED8D3B8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1D6EA-A610-4FB2-AF4B-E3AEDE9CE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39FB0-A973-483D-8636-7B72194F4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0C0D1-DD55-49A4-A960-34F9DB95C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59DFD-208E-4D9F-884C-DFEDAF66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C88B-2325-496E-B291-A754AE6F1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F1179-F9BA-42CF-91FC-5D1CA7990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202F0-716B-4358-914F-A7D037832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2B879-7801-4D60-B43B-A39FAA70B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6CAF2-350A-40EF-BCEF-33F0D2D4A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EC24C-2234-4343-AD37-5FBD6E0F6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7756-B830-4CA0-A9FB-2D257EE31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6466-1CFB-4E71-AC5D-6F1F61BEA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537E-154A-4C36-9626-0C615C3AB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1A76-C990-4D23-A246-26E429636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8EAF-7048-4004-8C73-9C6965756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4E96-B11E-4A16-AEFA-11102BA5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F5EF-DED8-4986-992B-FB53AF5F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54F0B-CD5C-47FE-95B4-C7E1D7EA135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5A318-88BE-4621-AF9E-C2618327DF9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image" Target="../media/image45.jpeg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2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3366"/>
                </a:solidFill>
                <a:latin typeface="Arial"/>
              </a:rPr>
              <a:t>Розробка уроку для 7 класу.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6666"/>
                </a:solidFill>
                <a:latin typeface="Arial"/>
              </a:rPr>
              <a:t>Підготувала вчитель БЗШ І-ІІІ ступенів №11 Ямбуренко М. І.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Застосовують у медицині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49000"/>
            <a:ext cx="377064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Капуста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Вітаміни (особливо С), мінеральні елементи К, Р,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e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787640" y="234900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Редька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Вітаміни та мікроелемент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4292280"/>
            <a:ext cx="377064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гірчиц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787640" y="429228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Хрін          Покращує апетит, використовують при сечокам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’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яній хворобі.                                                                                          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547640" y="4797360"/>
            <a:ext cx="1297080" cy="1827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корень хрена фото"/>
          <p:cNvPicPr/>
          <p:nvPr/>
        </p:nvPicPr>
        <p:blipFill>
          <a:blip r:embed="rId2"/>
          <a:stretch/>
        </p:blipFill>
        <p:spPr>
          <a:xfrm>
            <a:off x="6804000" y="5229360"/>
            <a:ext cx="1828800" cy="14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6666"/>
                </a:solidFill>
                <a:latin typeface="Arial"/>
              </a:rPr>
              <a:t>Бур</a:t>
            </a:r>
            <a:r>
              <a:rPr b="1" lang="en-US" sz="60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uk-UA" sz="6000" spc="-1" strike="noStrike">
                <a:solidFill>
                  <a:srgbClr val="006666"/>
                </a:solidFill>
                <a:latin typeface="Arial"/>
              </a:rPr>
              <a:t>яни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Грицики                               Талабан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71640" y="3213000"/>
            <a:ext cx="2376360" cy="25923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435640" y="3213000"/>
            <a:ext cx="26654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6666"/>
                </a:solidFill>
                <a:latin typeface="Arial"/>
              </a:rPr>
              <a:t>Сорти капусти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71640" y="4221000"/>
            <a:ext cx="2016000" cy="18892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940360" y="2349360"/>
            <a:ext cx="2471760" cy="21369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3419640" y="4221000"/>
            <a:ext cx="2376360" cy="19083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826920" y="2349360"/>
            <a:ext cx="2808360" cy="1754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3564000" y="2421000"/>
            <a:ext cx="2192400" cy="1584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6012000" y="4514760"/>
            <a:ext cx="2305080" cy="15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08000" y="0"/>
            <a:ext cx="9036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Родина </a:t>
            </a:r>
            <a:r>
              <a:rPr b="1" lang="uk-UA" sz="4000" spc="-1" strike="noStrike">
                <a:solidFill>
                  <a:srgbClr val="006666"/>
                </a:solidFill>
                <a:latin typeface="Arial"/>
              </a:rPr>
              <a:t>Розоцвіті</a:t>
            </a: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 (Розові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3000  видів, 100 роді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Поширені скрізь , а особливо в помірній та субтропічній областях Пн півкулі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804000" y="4437000"/>
            <a:ext cx="148284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Особливості будови квітк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Яку будову має квітка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Ч? П? М? Т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635280" y="2936880"/>
            <a:ext cx="540072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6666"/>
                </a:solidFill>
                <a:latin typeface="Arial"/>
              </a:rPr>
              <a:t>Суцвіття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Які типи суцвіть у розоцвітих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851280" y="3141720"/>
            <a:ext cx="1911240" cy="30956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6300720" y="3068640"/>
            <a:ext cx="2071800" cy="31813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1116000" y="2924280"/>
            <a:ext cx="2098800" cy="31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6666"/>
                </a:solidFill>
                <a:latin typeface="Arial"/>
              </a:rPr>
              <a:t>Плоди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                 </a:t>
            </a: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яблуко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                 </a:t>
            </a: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кістянк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                 </a:t>
            </a: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суничин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                 </a:t>
            </a: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збірна кістянк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                 </a:t>
            </a: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коробочк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156360" y="2492280"/>
            <a:ext cx="2089080" cy="13464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826920" y="3860640"/>
            <a:ext cx="1285920" cy="14288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7308720" y="5157720"/>
            <a:ext cx="1513080" cy="13842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1835280" y="5300640"/>
            <a:ext cx="1676160" cy="15573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755640" y="242100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6"/>
          <a:stretch/>
        </p:blipFill>
        <p:spPr>
          <a:xfrm>
            <a:off x="5940360" y="3789360"/>
            <a:ext cx="1600200" cy="14191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7"/>
          <a:stretch/>
        </p:blipFill>
        <p:spPr>
          <a:xfrm>
            <a:off x="4140360" y="5084640"/>
            <a:ext cx="19047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6666"/>
                </a:solidFill>
                <a:latin typeface="Arial"/>
              </a:rPr>
              <a:t>Листки розоцвітих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Які типи листків у Розоцвітих прості чи складні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364000" y="3284640"/>
            <a:ext cx="2295720" cy="30607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1835280" y="3357720"/>
            <a:ext cx="2274840" cy="31413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137760" y="285264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          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6666"/>
                </a:solidFill>
                <a:latin typeface="Arial"/>
              </a:rPr>
              <a:t>Життєві форми</a:t>
            </a: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6012000" y="3213000"/>
            <a:ext cx="2419200" cy="27370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3492360" y="3284640"/>
            <a:ext cx="2433600" cy="266364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75564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Дерева                  кущі             трав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755640" y="3213000"/>
            <a:ext cx="243216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6666"/>
                </a:solidFill>
                <a:latin typeface="Arial"/>
              </a:rPr>
              <a:t>Тести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755640" y="2349360"/>
            <a:ext cx="7693200" cy="40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3366"/>
                </a:solidFill>
                <a:latin typeface="Arial"/>
              </a:rPr>
              <a:t>1.Насіння формують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а) квіткові рослини б) хвощі в) мохи г) хвойні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3366"/>
                </a:solidFill>
                <a:latin typeface="Arial"/>
              </a:rPr>
              <a:t>2.Запліднення незалежне від води мають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а) мохи б) папороті в) покритонасінні г) голонасінні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3366"/>
                </a:solidFill>
                <a:latin typeface="Arial"/>
              </a:rPr>
              <a:t>3.Покритонасінні рослини відрізняються від папоротеподібних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а) серед них є дерева, кущі, трави  б) мають подвійне запліднення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в) утворюють насіння                г) утворюють спори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3366"/>
                </a:solidFill>
                <a:latin typeface="Arial"/>
              </a:rPr>
              <a:t>4.Покритонасінні відрізняються від голонасінних наявністю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а) насіння    б) подвійного запліднення    в) квітки     г) спор 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3366"/>
                </a:solidFill>
                <a:latin typeface="Arial"/>
              </a:rPr>
              <a:t>5.Дводольні рослини мають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а) камбій   б) стрижневу кореневу систему в) кореневище г) мичкувату к.с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3366"/>
                </a:solidFill>
                <a:latin typeface="Arial"/>
              </a:rPr>
              <a:t>6.Для однодольних рослин характерні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а) камбій  б) стрижнева коренева система   в) мичкувата коренева система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г) лише прості листки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Цінні плодово-ягідні культур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292720" y="2492280"/>
            <a:ext cx="3024360" cy="22147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826920" y="2349360"/>
            <a:ext cx="2471760" cy="24717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5867280" y="4724280"/>
            <a:ext cx="2471760" cy="18543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3276720" y="2421000"/>
            <a:ext cx="1895400" cy="18954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5"/>
          <a:stretch/>
        </p:blipFill>
        <p:spPr>
          <a:xfrm>
            <a:off x="2700360" y="4437000"/>
            <a:ext cx="2976480" cy="22352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6"/>
          <a:stretch/>
        </p:blipFill>
        <p:spPr>
          <a:xfrm>
            <a:off x="826920" y="4869000"/>
            <a:ext cx="190512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Лікарські культур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  Плоди шипшини багаті вітамінам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     У малини жарознижувальні властивості 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    Суниці підвищують тиск, покращують  травлення.           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692360" y="4365720"/>
            <a:ext cx="1743120" cy="14284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3708360" y="4869000"/>
            <a:ext cx="1871640" cy="15476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6012000" y="5157720"/>
            <a:ext cx="181584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Декоративні культур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900000" y="227628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788000" y="2492280"/>
            <a:ext cx="3408120" cy="32418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900000" y="2421000"/>
            <a:ext cx="333720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Троянда - королева квітів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5148360" y="2421000"/>
            <a:ext cx="3241440" cy="24336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826920" y="4292640"/>
            <a:ext cx="3313440" cy="24652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826920" y="2349360"/>
            <a:ext cx="2976840" cy="22338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3419640" y="2421000"/>
            <a:ext cx="2232000" cy="2016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5"/>
          <a:stretch/>
        </p:blipFill>
        <p:spPr>
          <a:xfrm>
            <a:off x="6300720" y="4738680"/>
            <a:ext cx="2160720" cy="21193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6"/>
          <a:stretch/>
        </p:blipFill>
        <p:spPr>
          <a:xfrm>
            <a:off x="3924360" y="4483080"/>
            <a:ext cx="23749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Домашнє завданн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Опрацювати параграф 48, 49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Підготувати повідомлення про представників родин Бобові та Пасльонові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6666"/>
                </a:solidFill>
                <a:latin typeface="Arial"/>
              </a:rPr>
              <a:t>Дякую за увагу.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uk-UA" sz="6000" spc="-1" strike="noStrike">
                <a:solidFill>
                  <a:srgbClr val="003366"/>
                </a:solidFill>
                <a:latin typeface="Arial"/>
              </a:rPr>
              <a:t>Бажаю     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3366"/>
                </a:solidFill>
                <a:latin typeface="Arial"/>
              </a:rPr>
              <a:t>               </a:t>
            </a:r>
            <a:r>
              <a:rPr b="0" lang="uk-UA" sz="6000" spc="-1" strike="noStrike">
                <a:solidFill>
                  <a:srgbClr val="003366"/>
                </a:solidFill>
                <a:latin typeface="Arial"/>
              </a:rPr>
              <a:t>успіхів!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6666"/>
                </a:solidFill>
                <a:latin typeface="Arial"/>
              </a:rPr>
              <a:t>Відповіді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1.а , г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2.в , г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3.а , б , 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4.б , 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5.а , б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6.в , г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66"/>
                </a:solidFill>
                <a:latin typeface="Arial"/>
              </a:rPr>
              <a:t>Тема: Характеристика рослин класу Дводольні. Вивчення рослин родин Капустяні та Розоцвіті.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Мета уроку: Дати характеристику родин класу Дводольні. Ознайомити учнів з найпоширенішими представниками родин Капустяні та Розоцвіті, їх значенням у природі та житті людини. Розвивати мислення(уміння аналізувати, узагальнювати), пам’ять;формувати бережливе ставлення до рослин, як об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’</a:t>
            </a: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єктів живої природ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Родина Хрестоцвіті(Капустяні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3000 видів, 350 роді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Поширені переважно в районах з помірним та холодним кліматом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Переважно трави, зрідка напівкущі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012000" y="4724280"/>
            <a:ext cx="16477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6666"/>
                </a:solidFill>
                <a:latin typeface="Arial"/>
              </a:rPr>
              <a:t>Загальні ознаки родини Хрестоцвіті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Яку будову має квітка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Який тип суцвіть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Як називається плід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Який тип листків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076720" y="2421000"/>
            <a:ext cx="38880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Різноманітність рослин родини Капустяні та їх значенн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Цінні овочеві культури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3168720" cy="29782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804000" y="2492280"/>
            <a:ext cx="2016000" cy="1933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995640" y="3357720"/>
            <a:ext cx="2481480" cy="20048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6769080" y="5157720"/>
            <a:ext cx="2374920" cy="15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Декоративні Хрестоцвіті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3366"/>
                </a:solidFill>
                <a:latin typeface="Arial"/>
              </a:rPr>
              <a:t>Левкой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724360" y="2276640"/>
            <a:ext cx="2738520" cy="3933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348000" y="3357720"/>
            <a:ext cx="2770200" cy="3195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971640" y="4076640"/>
            <a:ext cx="252072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Олійні Хрестоцвіті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                         </a:t>
            </a: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Ріпак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Гірчиц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364000" y="2781360"/>
            <a:ext cx="3097440" cy="2322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564000" y="4572000"/>
            <a:ext cx="2589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9T06:57:04Z</dcterms:created>
  <dc:creator>User</dc:creator>
  <dc:description/>
  <dc:language>en-US</dc:language>
  <cp:lastModifiedBy>User</cp:lastModifiedBy>
  <dcterms:modified xsi:type="dcterms:W3CDTF">2014-03-02T14:15:25Z</dcterms:modified>
  <cp:revision>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00d000000000001024140</vt:lpwstr>
  </property>
</Properties>
</file>