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8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1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1E1-E96D-4C9B-AFCD-C0DA55CF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F21-CCAA-4B1B-A577-8D03B28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CE6-9627-48B8-9E07-B090E88B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4B7-0332-46B0-AE1F-FB6C3ABC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3BC71-A5F3-4216-A765-BC31027D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5EF0B-4E1B-41BC-9F65-AEA3E584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BD77D-0374-4506-BD2C-F44AC61A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E2C89-FB7D-431E-9ACE-BB1784CD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7A3E3-AA3D-4B3B-BD7C-F418B9BF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A0BA0-EB4C-4F11-9632-BF50ECA0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D9B7C-8B7D-45DE-AF63-E01A9395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913-E6A1-4BA4-9E45-0187BE82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1A115-8982-47CF-B88F-12B6FC43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8C329-73F8-49C9-89E7-34BBCAB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8D426-B0E8-4ACB-A5B4-BBA5CBE1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7CA36-4ABB-4AF3-8F4A-7EA332C6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781D2-CB73-42A9-84A0-EF5592EC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DDC-DC3A-4B1D-BBA9-2526F013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2D7-5725-42FE-B6C9-75AE87F4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2D5-F839-427B-9865-6393069A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643-FF5C-4DFE-BF48-B494C059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737-2093-4846-8757-C77CE910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CA3-2B2A-44F4-8280-74547E43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6FB-D340-4D82-BF5B-876C175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CF3B-FBC3-40D8-8701-E9CD87E6C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05CB-EEC6-4F85-91AF-EB95269FE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Зна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чення водоросте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291960"/>
            <a:ext cx="8991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Гідропоніка. Водорості. Хлорела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1708200"/>
            <a:ext cx="61722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Спіруліна і хлоре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6400800" cy="480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0" t="0" r="42" b="0"/>
          <a:stretch/>
        </p:blipFill>
        <p:spPr>
          <a:xfrm>
            <a:off x="6934320" y="533520"/>
            <a:ext cx="1714320" cy="2857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57800" y="3790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Цех для виробництва хлоре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1643040"/>
            <a:ext cx="6858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Ламінарі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5105160" cy="334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10240" y="1676520"/>
            <a:ext cx="32288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Морська капуста як косметичний засі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097080"/>
            <a:ext cx="5029200" cy="335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09880" y="1600200"/>
            <a:ext cx="5077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льгінат у косметології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1809720"/>
            <a:ext cx="75247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гар-ага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506600"/>
            <a:ext cx="761040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ефір і пастила з використанням агар-ага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5343480" cy="4010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33920" y="1447920"/>
            <a:ext cx="5105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Мармелад та інші желеподібні солодощ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4538520" cy="5257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04920" y="431496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Агар-агар – поживне середовище для вирощування грибів та бактерій у мікробіологі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62600" y="4724280"/>
            <a:ext cx="238140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09480" y="4314960"/>
            <a:ext cx="3810240" cy="254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4190760" cy="27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04920" y="1676520"/>
            <a:ext cx="4190760" cy="27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4343400" y="4572000"/>
            <a:ext cx="24004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Тест-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280" y="576360"/>
          <a:ext cx="8839440" cy="614196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  <a:gridCol w="1067040"/>
                <a:gridCol w="914400"/>
                <a:gridCol w="682560"/>
                <a:gridCol w="11462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ит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ле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іато-мов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р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во-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гаток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У прісних водойм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Багатоклітинні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анцир із двох половин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Розмножуються вегетативн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ереважає пігмент хлороф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Запасають ламінарин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 Є ризоїд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 Жодна клітина (навіть статева) не має джгути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 Хламідомонада, хлорела, вольвок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 Клітини зібрані у групи, що нагадують тканин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 Можуть жити на сніг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 Можуть жити на глибині до 250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 Улотрикс, спірогіра, хар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 Тільки багатоклітинн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 Нестатеве розмноження поділом навп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апір, лікувальні гряз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http://www.hobbistica.ru/published/publicdata/HOBBISTICA2/attachments/SC/products_pictures/LX-0019_enl.jpg"/>
          <p:cNvPicPr/>
          <p:nvPr/>
        </p:nvPicPr>
        <p:blipFill>
          <a:blip r:embed="rId2"/>
          <a:stretch/>
        </p:blipFill>
        <p:spPr>
          <a:xfrm>
            <a:off x="0" y="16765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http://www.multitour.ru/files/imgs/667x500c/hotel_5349_5_gryazelechenie.jpg"/>
          <p:cNvPicPr/>
          <p:nvPr/>
        </p:nvPicPr>
        <p:blipFill>
          <a:blip r:embed="rId3"/>
          <a:srcRect l="0" t="0" r="0" b="125"/>
          <a:stretch/>
        </p:blipFill>
        <p:spPr>
          <a:xfrm>
            <a:off x="3371760" y="3886200"/>
            <a:ext cx="5772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рганічне землеробство (морські водорості – відновники рослин після стресу: посух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http://hydrohobby.ru/assets/images/products/123/424b577cea65dce23388233fb6509068.jpeg"/>
          <p:cNvPicPr/>
          <p:nvPr/>
        </p:nvPicPr>
        <p:blipFill>
          <a:blip r:embed="rId2"/>
          <a:srcRect l="0" t="0" r="115" b="40"/>
          <a:stretch/>
        </p:blipFill>
        <p:spPr>
          <a:xfrm>
            <a:off x="6781680" y="1523880"/>
            <a:ext cx="2067120" cy="5019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&amp;Kcy;&amp;ucy;&amp;pcy;&amp;icy;&amp;tcy;&amp;softcy; &amp;Bcy;&amp;icy;&amp;ocy;&amp;scy;&amp;tcy;&amp;icy;&amp;mcy;&amp;ucy;&amp;lcy;&amp;yacy;&amp;tcy;&amp;ocy;&amp;rcy; &amp;rcy;&amp;ocy;&amp;scy;&amp;tcy;&amp;acy; &amp;Acy;&amp;lcy;&amp;softcy;&amp;gcy;&amp;acy;+&amp;Kcy;, 100&amp;gcy;"/>
          <p:cNvPicPr/>
          <p:nvPr/>
        </p:nvPicPr>
        <p:blipFill>
          <a:blip r:embed="rId3"/>
          <a:stretch/>
        </p:blipFill>
        <p:spPr>
          <a:xfrm>
            <a:off x="685800" y="2057400"/>
            <a:ext cx="29145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іологічне палив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&amp;Pcy;&amp;ocy;&amp;kcy;&amp;acy; &amp;vcy;&amp;scy;&amp;iocy; &amp;vcy;&amp;ycy;&amp;gcy;&amp;lcy;&amp;yacy;&amp;dcy;&amp;icy;&amp;tcy; &amp;dcy;&amp;ocy;&amp;vcy;&amp;ocy;&amp;lcy;&amp;softcy;&amp;ncy;&amp;ocy; &amp;scy;&amp;kcy;&amp;rcy;&amp;ocy;&amp;mcy;&amp;ncy;&amp;ocy;: 2,5 &amp;bcy;&amp;acy;&amp;rcy;&amp;rcy;&amp;iecy;&amp;lcy;&amp;yacy; &amp;scy; &amp;gcy;&amp;iecy;&amp;kcy;&amp;tcy;&amp;acy;&amp;rcy;&amp;acy;, &amp;zhcy;&amp;acy;&amp;lcy;&amp;kcy;&amp;icy;&amp;iecy; &amp;chcy;&amp;iecy;&amp;tcy;&amp;vcy;&amp;iecy;&amp;rcy;&amp;tcy;&amp;softcy; &amp;tcy;&amp;ycy;&amp;scy;&amp;yacy;&amp;chcy;&amp;icy; &amp;dcy;&amp;ocy;&amp;lcy;&amp;lcy;&amp;acy;&amp;rcy;&amp;ocy;&amp;vcy; &amp;vcy; &amp;dcy;&amp;iecy;&amp;ncy;&amp;softcy;. &amp;Vcy; &amp;pcy;&amp;iecy;&amp;rcy;&amp;scy;&amp;pcy;&amp;iecy;&amp;kcy;&amp;tcy;&amp;icy;&amp;vcy;&amp;iecy; &amp;ucy;&amp;rcy;&amp;ocy;&amp;zhcy;&amp;acy;&amp;jcy;&amp;ncy;&amp;ocy;&amp;scy;&amp;tcy;&amp;softcy; &amp;ocy;&amp;bcy;&amp;iecy;&amp;shchcy;&amp;acy;&amp;yucy;&amp;tcy; &amp;pcy;&amp;ocy;&amp;vcy;&amp;ycy;&amp;scy;&amp;icy;&amp;tcy;&amp;softcy; &amp;vcy;&amp;dcy;&amp;vcy;&amp;ocy;&amp;iecy; — &amp;zcy;&amp;acy; &amp;scy;&amp;chcy;&amp;iocy;&amp;tcy; &amp;ncy;&amp;acy;&amp;rcy;&amp;acy;&amp;shchcy;&amp;icy;&amp;vcy;&amp;acy;&amp;ncy;&amp;icy;&amp;yacy; &amp;pcy;&amp;lcy;&amp;ocy;&amp;tcy;&amp;ncy;&amp;ocy;&amp;scy;&amp;tcy;&amp;icy; &amp;fcy;&amp;icy;&amp;tcy;&amp;ocy;&amp;pcy;&amp;lcy;&amp;acy;&amp;ncy;&amp;kcy;&amp;tcy;&amp;ocy;&amp;ncy;&amp;acy;. (&amp;Zcy;&amp;dcy;&amp;iecy;&amp;scy;&amp;softcy; &amp;icy; &amp;ncy;&amp;icy;&amp;zhcy;&amp;iecy; &amp;icy;&amp;lcy;&amp;lcy;&amp;yucy;&amp;scy;&amp;tcy;&amp;rcy;&amp;acy;&amp;tscy;&amp;icy;&amp;icy; BFS.)"/>
          <p:cNvPicPr/>
          <p:nvPr/>
        </p:nvPicPr>
        <p:blipFill>
          <a:blip r:embed="rId2"/>
          <a:stretch/>
        </p:blipFill>
        <p:spPr>
          <a:xfrm>
            <a:off x="3429000" y="129528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Биотопливо из водорослей"/>
          <p:cNvPicPr/>
          <p:nvPr/>
        </p:nvPicPr>
        <p:blipFill>
          <a:blip r:embed="rId3"/>
          <a:stretch/>
        </p:blipFill>
        <p:spPr>
          <a:xfrm>
            <a:off x="0" y="4000680"/>
            <a:ext cx="6667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арвники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91960"/>
            <a:ext cx="81532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Технологія виробництва харчових барвників із водор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2138400"/>
            <a:ext cx="916308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урі водорості вакам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3733920" y="23623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урі. Цукідані із комб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629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Цукерки із комб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&amp;Fcy;&amp;acy;&amp;jcy;&amp;lcy;:Kelp candy.jpg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апня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597560" cy="3678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http://www.zirax-pik.ru/images/lime_spec/golt.jpg"/>
          <p:cNvPicPr/>
          <p:nvPr/>
        </p:nvPicPr>
        <p:blipFill>
          <a:blip r:embed="rId3"/>
          <a:stretch/>
        </p:blipFill>
        <p:spPr>
          <a:xfrm>
            <a:off x="4952880" y="3025800"/>
            <a:ext cx="393876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Діатоміт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9436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Тест-контро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576360"/>
          <a:ext cx="8839440" cy="6141960"/>
        </p:xfrm>
        <a:graphic>
          <a:graphicData uri="http://schemas.openxmlformats.org/drawingml/2006/table">
            <a:tbl>
              <a:tblPr/>
              <a:tblGrid>
                <a:gridCol w="4114800"/>
                <a:gridCol w="914400"/>
                <a:gridCol w="1067040"/>
                <a:gridCol w="914400"/>
                <a:gridCol w="682560"/>
                <a:gridCol w="114624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питанн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еле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іато-мов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р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ерво-н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дно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гаток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У прісних водоймах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Багатоклітинні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анцир із двох половино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Розмножуються вегетативн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ереважає пігмент хлороф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 Запасають ламінарин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 Є ризоїд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 Жодна клітина (навіть статева) не має джгутикі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 Хламідомонада, хлорела, вольвокс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 Клітини зібрані у групи, що нагадують тканин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 Можуть жити на снігу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 Можуть жити на глибині до 250м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 Улотрикс, спірогіра, хар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 Тільки багатоклітинн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 Нестатеве розмноження поділом навпі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іностеклокераміка (ізоляційний матеріал) із діатоміт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http://tsniisk.ru/LoadedImages/2013/03/25/steklokeramika_9_w900_h650.jpg"/>
          <p:cNvPicPr/>
          <p:nvPr/>
        </p:nvPicPr>
        <p:blipFill>
          <a:blip r:embed="rId2"/>
          <a:srcRect l="0" t="0" r="0" b="80"/>
          <a:stretch/>
        </p:blipFill>
        <p:spPr>
          <a:xfrm>
            <a:off x="457200" y="1752480"/>
            <a:ext cx="8315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Виробництво клею, плівок, лаків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2787480" cy="3971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657600" y="2376360"/>
            <a:ext cx="49370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рганічні кисло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09680" y="1495440"/>
            <a:ext cx="4905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Очищення водойм. Хлорела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86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Біоіндикація в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2600280" cy="388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019760" cy="281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276720" y="1219320"/>
            <a:ext cx="26193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91960"/>
            <a:ext cx="87631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ляж Ціньдао (Китай). Катастрофічне розмноження водор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6553080" cy="4357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267080" y="3603600"/>
            <a:ext cx="4876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Cambria"/>
              </a:rPr>
              <a:t>Домашнє завдан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Опрацюват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 39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Оберіть завданн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І Скласти кросворд за темою “Водорості”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ІІ скласти тестові завдання за темою “Водорості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Отримання кисню для забезпечення автономних об’єкт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643280" cy="444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3130560"/>
            <a:ext cx="4500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Корм для водних твар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http://www.katalogrub.narod.ru/wq.jpg"/>
          <p:cNvPicPr/>
          <p:nvPr/>
        </p:nvPicPr>
        <p:blipFill>
          <a:blip r:embed="rId2"/>
          <a:srcRect l="0" t="0" r="0" b="146"/>
          <a:stretch/>
        </p:blipFill>
        <p:spPr>
          <a:xfrm>
            <a:off x="0" y="1371600"/>
            <a:ext cx="4248000" cy="270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http://za-ryboi.ru/wp-content/uploads/2012/02/Belyiy-amur.jpg"/>
          <p:cNvPicPr/>
          <p:nvPr/>
        </p:nvPicPr>
        <p:blipFill>
          <a:blip r:embed="rId3"/>
          <a:stretch/>
        </p:blipFill>
        <p:spPr>
          <a:xfrm>
            <a:off x="0" y="3484440"/>
            <a:ext cx="4495680" cy="3373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http://aquarium.ucoz.org/bas006.jpg"/>
          <p:cNvPicPr/>
          <p:nvPr/>
        </p:nvPicPr>
        <p:blipFill>
          <a:blip r:embed="rId4"/>
          <a:stretch/>
        </p:blipFill>
        <p:spPr>
          <a:xfrm>
            <a:off x="6705720" y="1351080"/>
            <a:ext cx="2438280" cy="2101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http://users.telenet.be/jp.wenselaers/aslak.jpg"/>
          <p:cNvPicPr/>
          <p:nvPr/>
        </p:nvPicPr>
        <p:blipFill>
          <a:blip r:embed="rId5"/>
          <a:stretch/>
        </p:blipFill>
        <p:spPr>
          <a:xfrm>
            <a:off x="4038480" y="1371600"/>
            <a:ext cx="3100680" cy="227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&amp;Fcy;&amp;acy;&amp;jcy;&amp;lcy;:Dugong marsa alam egypt 2011.jpg"/>
          <p:cNvPicPr/>
          <p:nvPr/>
        </p:nvPicPr>
        <p:blipFill>
          <a:blip r:embed="rId6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Ґрунти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емлі формуються з участю водорос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Лишайни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3219480" cy="378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038480" y="304920"/>
            <a:ext cx="4867560" cy="364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819520" y="3665520"/>
            <a:ext cx="42480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Корм для худоб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6675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Хлорела як добавка до корму худоб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talon</cp:lastModifiedBy>
  <dcterms:modified xsi:type="dcterms:W3CDTF">2014-02-24T15:34:5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1c000000000001024140</vt:lpwstr>
  </property>
  <property fmtid="{D5CDD505-2E9C-101B-9397-08002B2CF9AE}" pid="3" name="Version">
    <vt:r8>1</vt:r8>
  </property>
</Properties>
</file>