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38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50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59.jpeg" ContentType="image/jpeg"/>
  <Override PartName="/ppt/media/image42.jpeg" ContentType="image/jpeg"/>
  <Override PartName="/ppt/media/image35.jpeg" ContentType="image/jpeg"/>
  <Override PartName="/ppt/media/image18.jpeg" ContentType="image/jpeg"/>
  <Override PartName="/ppt/media/image17.jpeg" ContentType="image/jpeg"/>
  <Override PartName="/ppt/media/image22.jpeg" ContentType="image/jpeg"/>
  <Override PartName="/ppt/media/image16.jpeg" ContentType="image/jpeg"/>
  <Override PartName="/ppt/media/image14.jpeg" ContentType="image/jpeg"/>
  <Override PartName="/ppt/media/image41.jpeg" ContentType="image/jpeg"/>
  <Override PartName="/ppt/media/image1.jpeg" ContentType="image/jpeg"/>
  <Override PartName="/ppt/media/image21.png" ContentType="image/pn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57.jpeg" ContentType="image/jpeg"/>
  <Override PartName="/ppt/media/image5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2073-7902-476F-B703-3452243A7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304A-A1AE-4E5A-8747-D9C650E31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01DE-6E83-46AC-9480-BA07132A5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5BA5-4D39-499E-B428-23A2306A5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65A0D0-3C7B-4F8C-BBC1-B318670BA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E6FCF8-EBF1-4138-8392-40B1DA3D5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633E31-33BC-46D4-9CDF-AED000D4E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7E0DB8-06DB-4201-9589-58E2FDE35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D0E954-E6A7-4450-AE76-DC111F738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08282B-89B8-4948-BC62-853246352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3C87C8-40B3-4ADF-ADEE-9CEAD660F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6D5B-FA84-4F0C-B69C-A7ABACA04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B832FC-DE76-4B92-9011-1061194ED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2E27B6-A2AB-4A1D-8ABC-478A79EA9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D30D88-80DA-4268-95F8-DE4949946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687D76-FF51-44CB-8674-2344B65C6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D23457-5D73-4A9D-BDFA-B8FBB59CC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C405-BCCA-416D-B62E-8EB288DD9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52BA-E6DE-44E1-88DB-0F7F5CCE3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AE26-0FDA-4B63-B50C-A3EFF9240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F0C8-FD51-4E4C-80A0-2E7FFAC1E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4983-B880-4E65-BDA1-05AC6A360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C000-93A1-4AA5-8B65-13E91B856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C72D-4D1C-4831-BDDB-ADC080631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95C6A-D931-40C4-BFA8-46C561C03B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2D8C3-AB55-40BB-8F53-7FF5610CE8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58.jpeg"/><Relationship Id="rId5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Зна</a:t>
            </a:r>
            <a:r>
              <a:rPr b="1" lang="uk-UA" sz="4800" spc="-1" strike="noStrike">
                <a:solidFill>
                  <a:srgbClr val="ffffff"/>
                </a:solidFill>
                <a:latin typeface="Tahoma"/>
              </a:rPr>
              <a:t>чення водоростей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291960"/>
            <a:ext cx="899172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ahoma"/>
              </a:rPr>
              <a:t>Гідропоніка. Водорості. Хлорела</a:t>
            </a:r>
            <a:r>
              <a:rPr b="0" lang="uk-UA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371600" y="1708200"/>
            <a:ext cx="6172200" cy="39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ahoma"/>
              </a:rPr>
              <a:t>Спіруліна і хлорел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1371600"/>
            <a:ext cx="6400800" cy="48006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rcRect l="0" t="0" r="42" b="0"/>
          <a:stretch/>
        </p:blipFill>
        <p:spPr>
          <a:xfrm>
            <a:off x="6934320" y="533520"/>
            <a:ext cx="1714320" cy="28573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5257800" y="379080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240" y="291960"/>
            <a:ext cx="84582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ahoma"/>
              </a:rPr>
              <a:t>Цех для виробництва хлорел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990720" y="1643040"/>
            <a:ext cx="685800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ahoma"/>
              </a:rPr>
              <a:t>Ламінарія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04920" y="1752480"/>
            <a:ext cx="5105160" cy="3348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5610240" y="1676520"/>
            <a:ext cx="32288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ahoma"/>
              </a:rPr>
              <a:t>Морська капуста як косметичний засіб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3097080"/>
            <a:ext cx="5029200" cy="33512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3809880" y="1600200"/>
            <a:ext cx="5077080" cy="33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ahoma"/>
              </a:rPr>
              <a:t>Альгінат у косметології</a:t>
            </a:r>
            <a:r>
              <a:rPr b="0" lang="uk-UA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914400" y="1809720"/>
            <a:ext cx="752472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ahoma"/>
              </a:rPr>
              <a:t>Агар-агар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762120" y="1506600"/>
            <a:ext cx="7610400" cy="53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ahoma"/>
              </a:rPr>
              <a:t>Зефір і пастила з використанням агар-агару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5343480" cy="40100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3733920" y="1447920"/>
            <a:ext cx="510516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ahoma"/>
              </a:rPr>
              <a:t>Мармелад та інші желеподібні солодощі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04920" y="1676520"/>
            <a:ext cx="3809880" cy="25430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4343400" y="1600200"/>
            <a:ext cx="4538520" cy="52578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304920" y="4314960"/>
            <a:ext cx="380988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ahoma"/>
              </a:rPr>
              <a:t>Агар-агар – поживне середовище для вирощування грибів та бактерій у мікробіології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762600" y="4724280"/>
            <a:ext cx="2381400" cy="18003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609480" y="4314960"/>
            <a:ext cx="3810240" cy="25430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4648320" y="1676520"/>
            <a:ext cx="4190760" cy="27907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304920" y="1676520"/>
            <a:ext cx="4190760" cy="27892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4343400" y="4572000"/>
            <a:ext cx="240048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Тест-контрол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52280" y="576360"/>
          <a:ext cx="8839440" cy="6141960"/>
        </p:xfrm>
        <a:graphic>
          <a:graphicData uri="http://schemas.openxmlformats.org/drawingml/2006/table">
            <a:tbl>
              <a:tblPr/>
              <a:tblGrid>
                <a:gridCol w="4114800"/>
                <a:gridCol w="914400"/>
                <a:gridCol w="1067040"/>
                <a:gridCol w="914400"/>
                <a:gridCol w="682560"/>
                <a:gridCol w="1146240"/>
              </a:tblGrid>
              <a:tr h="337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апитання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елені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іато-мові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урі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ерво-ні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днокл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агаток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У прісних водоймах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 Багатоклітинні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 Панцир із двох половинок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 Розмножуються вегетативно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 Переважає пігмент хлорофіл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 Запасають ламінарин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 Є ризоїди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 Жодна клітина (навіть статева) не має джгутиків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 Хламідомонада, хлорела, вольвокс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 Клітини зібрані у групи, що нагадують тканини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 Можуть жити на снігу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 Можуть жити на глибині до 250м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 Улотрикс, спірогіра, хара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 Тільки багатоклітинні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 Нестатеве розмноження поділом навпіл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ahoma"/>
              </a:rPr>
              <a:t>Папір, лікувальні грязі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" descr="http://www.hobbistica.ru/published/publicdata/HOBBISTICA2/attachments/SC/products_pictures/LX-0019_enl.jpg"/>
          <p:cNvPicPr/>
          <p:nvPr/>
        </p:nvPicPr>
        <p:blipFill>
          <a:blip r:embed="rId2"/>
          <a:stretch/>
        </p:blipFill>
        <p:spPr>
          <a:xfrm>
            <a:off x="0" y="1676520"/>
            <a:ext cx="3809880" cy="38098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http://www.multitour.ru/files/imgs/667x500c/hotel_5349_5_gryazelechenie.jpg"/>
          <p:cNvPicPr/>
          <p:nvPr/>
        </p:nvPicPr>
        <p:blipFill>
          <a:blip r:embed="rId3"/>
          <a:srcRect l="0" t="0" r="0" b="125"/>
          <a:stretch/>
        </p:blipFill>
        <p:spPr>
          <a:xfrm>
            <a:off x="3371760" y="3886200"/>
            <a:ext cx="57722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Органічне землеробство (морські водорості – відновники рослин після стресу: посухи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" descr="http://hydrohobby.ru/assets/images/products/123/424b577cea65dce23388233fb6509068.jpeg"/>
          <p:cNvPicPr/>
          <p:nvPr/>
        </p:nvPicPr>
        <p:blipFill>
          <a:blip r:embed="rId2"/>
          <a:srcRect l="0" t="0" r="115" b="40"/>
          <a:stretch/>
        </p:blipFill>
        <p:spPr>
          <a:xfrm>
            <a:off x="6781680" y="1523880"/>
            <a:ext cx="2067120" cy="50198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&amp;Kcy;&amp;ucy;&amp;pcy;&amp;icy;&amp;tcy;&amp;softcy; &amp;Bcy;&amp;icy;&amp;ocy;&amp;scy;&amp;tcy;&amp;icy;&amp;mcy;&amp;ucy;&amp;lcy;&amp;yacy;&amp;tcy;&amp;ocy;&amp;rcy; &amp;rcy;&amp;ocy;&amp;scy;&amp;tcy;&amp;acy; &amp;Acy;&amp;lcy;&amp;softcy;&amp;gcy;&amp;acy;+&amp;Kcy;, 100&amp;gcy;"/>
          <p:cNvPicPr/>
          <p:nvPr/>
        </p:nvPicPr>
        <p:blipFill>
          <a:blip r:embed="rId3"/>
          <a:stretch/>
        </p:blipFill>
        <p:spPr>
          <a:xfrm>
            <a:off x="685800" y="2057400"/>
            <a:ext cx="291456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1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ahoma"/>
              </a:rPr>
              <a:t>Біологічне паливо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" descr="&amp;Pcy;&amp;ocy;&amp;kcy;&amp;acy; &amp;vcy;&amp;scy;&amp;iocy; &amp;vcy;&amp;ycy;&amp;gcy;&amp;lcy;&amp;yacy;&amp;dcy;&amp;icy;&amp;tcy; &amp;dcy;&amp;ocy;&amp;vcy;&amp;ocy;&amp;lcy;&amp;softcy;&amp;ncy;&amp;ocy; &amp;scy;&amp;kcy;&amp;rcy;&amp;ocy;&amp;mcy;&amp;ncy;&amp;ocy;: 2,5 &amp;bcy;&amp;acy;&amp;rcy;&amp;rcy;&amp;iecy;&amp;lcy;&amp;yacy; &amp;scy; &amp;gcy;&amp;iecy;&amp;kcy;&amp;tcy;&amp;acy;&amp;rcy;&amp;acy;, &amp;zhcy;&amp;acy;&amp;lcy;&amp;kcy;&amp;icy;&amp;iecy; &amp;chcy;&amp;iecy;&amp;tcy;&amp;vcy;&amp;iecy;&amp;rcy;&amp;tcy;&amp;softcy; &amp;tcy;&amp;ycy;&amp;scy;&amp;yacy;&amp;chcy;&amp;icy; &amp;dcy;&amp;ocy;&amp;lcy;&amp;lcy;&amp;acy;&amp;rcy;&amp;ocy;&amp;vcy; &amp;vcy; &amp;dcy;&amp;iecy;&amp;ncy;&amp;softcy;. &amp;Vcy; &amp;pcy;&amp;iecy;&amp;rcy;&amp;scy;&amp;pcy;&amp;iecy;&amp;kcy;&amp;tcy;&amp;icy;&amp;vcy;&amp;iecy; &amp;ucy;&amp;rcy;&amp;ocy;&amp;zhcy;&amp;acy;&amp;jcy;&amp;ncy;&amp;ocy;&amp;scy;&amp;tcy;&amp;softcy; &amp;ocy;&amp;bcy;&amp;iecy;&amp;shchcy;&amp;acy;&amp;yucy;&amp;tcy; &amp;pcy;&amp;ocy;&amp;vcy;&amp;ycy;&amp;scy;&amp;icy;&amp;tcy;&amp;softcy; &amp;vcy;&amp;dcy;&amp;vcy;&amp;ocy;&amp;iecy; — &amp;zcy;&amp;acy; &amp;scy;&amp;chcy;&amp;iocy;&amp;tcy; &amp;ncy;&amp;acy;&amp;rcy;&amp;acy;&amp;shchcy;&amp;icy;&amp;vcy;&amp;acy;&amp;ncy;&amp;icy;&amp;yacy; &amp;pcy;&amp;lcy;&amp;ocy;&amp;tcy;&amp;ncy;&amp;ocy;&amp;scy;&amp;tcy;&amp;icy; &amp;fcy;&amp;icy;&amp;tcy;&amp;ocy;&amp;pcy;&amp;lcy;&amp;acy;&amp;ncy;&amp;kcy;&amp;tcy;&amp;ocy;&amp;ncy;&amp;acy;. (&amp;Zcy;&amp;dcy;&amp;iecy;&amp;scy;&amp;softcy; &amp;icy; &amp;ncy;&amp;icy;&amp;zhcy;&amp;iecy; &amp;icy;&amp;lcy;&amp;lcy;&amp;yucy;&amp;scy;&amp;tcy;&amp;rcy;&amp;acy;&amp;tscy;&amp;icy;&amp;icy; BFS.)"/>
          <p:cNvPicPr/>
          <p:nvPr/>
        </p:nvPicPr>
        <p:blipFill>
          <a:blip r:embed="rId2"/>
          <a:stretch/>
        </p:blipFill>
        <p:spPr>
          <a:xfrm>
            <a:off x="3429000" y="1295280"/>
            <a:ext cx="5715000" cy="38102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Биотопливо из водорослей"/>
          <p:cNvPicPr/>
          <p:nvPr/>
        </p:nvPicPr>
        <p:blipFill>
          <a:blip r:embed="rId3"/>
          <a:stretch/>
        </p:blipFill>
        <p:spPr>
          <a:xfrm>
            <a:off x="0" y="4000680"/>
            <a:ext cx="66675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ahoma"/>
              </a:rPr>
              <a:t>Барвники</a:t>
            </a:r>
            <a:r>
              <a:rPr b="0" lang="uk-UA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057400" y="1600200"/>
            <a:ext cx="4800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520" y="291960"/>
            <a:ext cx="81532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ahoma"/>
              </a:rPr>
              <a:t>Технологія виробництва харчових барвників із водоросте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0" y="2138400"/>
            <a:ext cx="916308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ahoma"/>
              </a:rPr>
              <a:t>Бурі водорості вакам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0" y="1523880"/>
            <a:ext cx="5029200" cy="37720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3733920" y="2362320"/>
            <a:ext cx="5638680" cy="42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ahoma"/>
              </a:rPr>
              <a:t>Бурі. Цукідані із комбу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6294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ahoma"/>
              </a:rPr>
              <a:t>Цукерки із комбу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" descr="&amp;Fcy;&amp;acy;&amp;jcy;&amp;lcy;:Kelp candy.jpg"/>
          <p:cNvPicPr/>
          <p:nvPr/>
        </p:nvPicPr>
        <p:blipFill>
          <a:blip r:embed="rId2"/>
          <a:stretch/>
        </p:blipFill>
        <p:spPr>
          <a:xfrm>
            <a:off x="762120" y="114300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ahoma"/>
              </a:rPr>
              <a:t>Вапняки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4597560" cy="36784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http://www.zirax-pik.ru/images/lime_spec/golt.jpg"/>
          <p:cNvPicPr/>
          <p:nvPr/>
        </p:nvPicPr>
        <p:blipFill>
          <a:blip r:embed="rId3"/>
          <a:stretch/>
        </p:blipFill>
        <p:spPr>
          <a:xfrm>
            <a:off x="4952880" y="3025800"/>
            <a:ext cx="3938760" cy="36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ahoma"/>
              </a:rPr>
              <a:t>Діатоміти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1600200" y="1600200"/>
            <a:ext cx="5943600" cy="46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Тест-контрол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52280" y="576360"/>
          <a:ext cx="8839440" cy="6141960"/>
        </p:xfrm>
        <a:graphic>
          <a:graphicData uri="http://schemas.openxmlformats.org/drawingml/2006/table">
            <a:tbl>
              <a:tblPr/>
              <a:tblGrid>
                <a:gridCol w="4114800"/>
                <a:gridCol w="914400"/>
                <a:gridCol w="1067040"/>
                <a:gridCol w="914400"/>
                <a:gridCol w="682560"/>
                <a:gridCol w="1146240"/>
              </a:tblGrid>
              <a:tr h="337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апитання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елені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іато-мові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урі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ерво-ні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днокл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агаток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У прісних водоймах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 Багатоклітинні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 Панцир із двох половинок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 Розмножуються вегетативно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 Переважає пігмент хлорофіл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 Запасають ламінарин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 Є ризоїди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 Жодна клітина (навіть статева) не має джгутиків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 Хламідомонада, хлорела, вольвокс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 Клітини зібрані у групи, що нагадують тканини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 Можуть жити на снігу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 Можуть жити на глибині до 250м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 Улотрикс, спірогіра, хара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 Тільки багатоклітинні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 Нестатеве розмноження поділом навпіл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Піностеклокераміка (ізоляційний матеріал) із діатоміті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" descr="http://tsniisk.ru/LoadedImages/2013/03/25/steklokeramika_9_w900_h650.jpg"/>
          <p:cNvPicPr/>
          <p:nvPr/>
        </p:nvPicPr>
        <p:blipFill>
          <a:blip r:embed="rId2"/>
          <a:srcRect l="0" t="0" r="0" b="80"/>
          <a:stretch/>
        </p:blipFill>
        <p:spPr>
          <a:xfrm>
            <a:off x="457200" y="1752480"/>
            <a:ext cx="83152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3818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ahoma"/>
              </a:rPr>
              <a:t>Виробництво клею, плівок, лаків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685800" y="2133720"/>
            <a:ext cx="2787480" cy="39718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3657600" y="2376360"/>
            <a:ext cx="4937040" cy="37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ahoma"/>
              </a:rPr>
              <a:t>Органічні кислот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2209680" y="1495440"/>
            <a:ext cx="490536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ahoma"/>
              </a:rPr>
              <a:t>Очищення водойм. Хлорела</a:t>
            </a:r>
            <a:r>
              <a:rPr b="0" lang="uk-UA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990720" y="1219320"/>
            <a:ext cx="7086600" cy="53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ahoma"/>
              </a:rPr>
              <a:t>Біоіндикація вод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380880" y="2209680"/>
            <a:ext cx="2600280" cy="38862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4724280" y="3809880"/>
            <a:ext cx="4019760" cy="28101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3276720" y="1219320"/>
            <a:ext cx="261936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880" y="291960"/>
            <a:ext cx="876312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Пляж Ціньдао (Китай). Катастрофічне розмноження водорост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0" y="1600200"/>
            <a:ext cx="6553080" cy="43578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4267080" y="3603600"/>
            <a:ext cx="487692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Cambria"/>
              </a:rPr>
              <a:t>Домашнє завдання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Опрацювати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§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  <a:ea typeface="Tahoma"/>
              </a:rPr>
              <a:t> 39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  <a:ea typeface="Tahoma"/>
              </a:rPr>
              <a:t>Оберіть завдання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  <a:ea typeface="Tahoma"/>
              </a:rPr>
              <a:t>І Скласти кросворд за темою “Водорості”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  <a:ea typeface="Tahoma"/>
              </a:rPr>
              <a:t>ІІ скласти тестові завдання за темою “Водорості”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ahoma"/>
              </a:rPr>
              <a:t>Отримання кисню для забезпечення автономних об’єкті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1828800"/>
            <a:ext cx="4643280" cy="44449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4643280" y="3130560"/>
            <a:ext cx="450072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ahoma"/>
              </a:rPr>
              <a:t>Корм для водних тварин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http://www.katalogrub.narod.ru/wq.jpg"/>
          <p:cNvPicPr/>
          <p:nvPr/>
        </p:nvPicPr>
        <p:blipFill>
          <a:blip r:embed="rId2"/>
          <a:srcRect l="0" t="0" r="0" b="146"/>
          <a:stretch/>
        </p:blipFill>
        <p:spPr>
          <a:xfrm>
            <a:off x="0" y="1371600"/>
            <a:ext cx="4248000" cy="27050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http://za-ryboi.ru/wp-content/uploads/2012/02/Belyiy-amur.jpg"/>
          <p:cNvPicPr/>
          <p:nvPr/>
        </p:nvPicPr>
        <p:blipFill>
          <a:blip r:embed="rId3"/>
          <a:stretch/>
        </p:blipFill>
        <p:spPr>
          <a:xfrm>
            <a:off x="0" y="3484440"/>
            <a:ext cx="4495680" cy="33735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http://aquarium.ucoz.org/bas006.jpg"/>
          <p:cNvPicPr/>
          <p:nvPr/>
        </p:nvPicPr>
        <p:blipFill>
          <a:blip r:embed="rId4"/>
          <a:stretch/>
        </p:blipFill>
        <p:spPr>
          <a:xfrm>
            <a:off x="6705720" y="1351080"/>
            <a:ext cx="2438280" cy="21016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http://users.telenet.be/jp.wenselaers/aslak.jpg"/>
          <p:cNvPicPr/>
          <p:nvPr/>
        </p:nvPicPr>
        <p:blipFill>
          <a:blip r:embed="rId5"/>
          <a:stretch/>
        </p:blipFill>
        <p:spPr>
          <a:xfrm>
            <a:off x="4038480" y="1371600"/>
            <a:ext cx="3100680" cy="22701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&amp;Fcy;&amp;acy;&amp;jcy;&amp;lcy;:Dugong marsa alam egypt 2011.jpg"/>
          <p:cNvPicPr/>
          <p:nvPr/>
        </p:nvPicPr>
        <p:blipFill>
          <a:blip r:embed="rId6"/>
          <a:stretch/>
        </p:blipFill>
        <p:spPr>
          <a:xfrm>
            <a:off x="4495680" y="3371760"/>
            <a:ext cx="464832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1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ahoma"/>
              </a:rPr>
              <a:t>Ґрунти</a:t>
            </a:r>
            <a:r>
              <a:rPr b="0" lang="uk-UA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uk-UA" sz="4000" spc="-1" strike="noStrike">
                <a:solidFill>
                  <a:srgbClr val="ffffff"/>
                </a:solidFill>
                <a:latin typeface="Tahoma"/>
              </a:rPr>
              <a:t>Землі формуються з участю водоросте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95280" y="1676520"/>
            <a:ext cx="64771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ahoma"/>
              </a:rPr>
              <a:t>Лишайники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04920" y="1143000"/>
            <a:ext cx="3219480" cy="3786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4038480" y="304920"/>
            <a:ext cx="4867560" cy="36464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2819520" y="3665520"/>
            <a:ext cx="4248000" cy="31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ahoma"/>
              </a:rPr>
              <a:t>Корм для худоб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219320" y="1295280"/>
            <a:ext cx="6667560" cy="49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ahoma"/>
              </a:rPr>
              <a:t>Хлорела як добавка до корму худобі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371600" y="1676520"/>
            <a:ext cx="63500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talon</cp:lastModifiedBy>
  <dcterms:modified xsi:type="dcterms:W3CDTF">2014-02-24T15:34:56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61c000000000001024140</vt:lpwstr>
  </property>
  <property fmtid="{D5CDD505-2E9C-101B-9397-08002B2CF9AE}" pid="3" name="Version">
    <vt:r8>1</vt:r8>
  </property>
</Properties>
</file>