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1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523-BCAA-4097-9491-3D314BC6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215-9230-452A-BF24-3E03E734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DA1-71F9-444D-BB61-0F37BE97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16B-79B8-484C-BF62-EF3720F0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0B95F-543F-490A-B637-703F0ED9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88813-8934-418C-A726-697E5640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EEA1A-3A54-48E8-94CF-0CFEA6FC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E94EE-D9D7-4D6B-B818-EA50EBAA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6E9B-9EC1-4A21-BB67-7026BFCB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14879-16C2-469F-93BD-7AC5020C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111AF-7B6A-40CE-9EDA-066B13E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49C-92A8-4A67-9328-22C6F1D1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E29B-54B7-4EE8-91FF-326DC5F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11DA5-D69C-4803-A3E2-B1D8F5D5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8B3B7-A57F-459C-883C-EF85C6EA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1C7C0-AF02-4689-848A-92FCA305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59DD3-9701-40B4-8FD0-AE8FC84F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B1F-296B-44FF-A8F2-D86CA67F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E1E-3DB2-464E-8435-DED6048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313-625C-4D5F-A205-7952A474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2CE-027D-4167-BBA4-8D5EFE4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B05-FDBB-4734-B1D9-BCA7287C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827-B1E3-4DE4-A850-A2F0959B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590-F703-467B-BB62-91B06DF6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641C-4DFB-4AC0-AD59-14253C5CC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D6D0-9389-45DB-9CCA-A13FF12C5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Зна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чення водорост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8991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Гідропоніка. Водорості. Хлорела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1708200"/>
            <a:ext cx="61722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Спіруліна і хлоре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0" t="0" r="42" b="0"/>
          <a:stretch/>
        </p:blipFill>
        <p:spPr>
          <a:xfrm>
            <a:off x="6934320" y="53352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57800" y="3790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Цех для виробництва хлоре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1643040"/>
            <a:ext cx="6858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Ламінарі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5105160" cy="33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10240" y="1676520"/>
            <a:ext cx="32288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Морська капуста як косметичний засі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097080"/>
            <a:ext cx="5029200" cy="335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09880" y="1600200"/>
            <a:ext cx="5077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льгінат у косметології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1809720"/>
            <a:ext cx="75247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гар-аг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506600"/>
            <a:ext cx="76104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ефір і пастила з використанням агар-ага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5343480" cy="4010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1447920"/>
            <a:ext cx="5105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Мармелад та інші желеподібні солодощ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4538520" cy="5257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04920" y="43149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Агар-агар – поживне середовище для вирощування грибів та бактерій у мікробіолог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62600" y="4724280"/>
            <a:ext cx="238140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09480" y="4314960"/>
            <a:ext cx="3810240" cy="254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04920" y="1676520"/>
            <a:ext cx="4190760" cy="27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4343400" y="4572000"/>
            <a:ext cx="24004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Тест-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576360"/>
          <a:ext cx="8839440" cy="614196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  <a:gridCol w="1067040"/>
                <a:gridCol w="914400"/>
                <a:gridCol w="682560"/>
                <a:gridCol w="1146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ит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ле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іато-мов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р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во-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гато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У прісних водойм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Багатоклітинні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анцир із двох половин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Розмножуються вегетативн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ереважає пігмент хлороф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Запасають ламінарин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 Є ризоїд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 Жодна клітина (навіть статева) не має джгути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 Хламідомонада, хлорела, вольвок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 Клітини зібрані у групи, що нагадують тканин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 Можуть жити на сніг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 Можуть жити на глибині до 250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 Улотрикс, спірогіра, ха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 Тільки багатоклітинн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 Нестатеве розмноження поділом навп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апір, лікувальні гряз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http://www.hobbistica.ru/published/publicdata/HOBBISTICA2/attachments/SC/products_pictures/LX-0019_enl.jpg"/>
          <p:cNvPicPr/>
          <p:nvPr/>
        </p:nvPicPr>
        <p:blipFill>
          <a:blip r:embed="rId2"/>
          <a:stretch/>
        </p:blipFill>
        <p:spPr>
          <a:xfrm>
            <a:off x="0" y="16765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http://www.multitour.ru/files/imgs/667x500c/hotel_5349_5_gryazelechenie.jpg"/>
          <p:cNvPicPr/>
          <p:nvPr/>
        </p:nvPicPr>
        <p:blipFill>
          <a:blip r:embed="rId3"/>
          <a:srcRect l="0" t="0" r="0" b="125"/>
          <a:stretch/>
        </p:blipFill>
        <p:spPr>
          <a:xfrm>
            <a:off x="3371760" y="3886200"/>
            <a:ext cx="5772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рганічне землеробство (морські водорості – відновники рослин після стресу: посух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http://hydrohobby.ru/assets/images/products/123/424b577cea65dce23388233fb6509068.jpeg"/>
          <p:cNvPicPr/>
          <p:nvPr/>
        </p:nvPicPr>
        <p:blipFill>
          <a:blip r:embed="rId2"/>
          <a:srcRect l="0" t="0" r="115" b="40"/>
          <a:stretch/>
        </p:blipFill>
        <p:spPr>
          <a:xfrm>
            <a:off x="6781680" y="1523880"/>
            <a:ext cx="2067120" cy="5019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&amp;Kcy;&amp;ucy;&amp;pcy;&amp;icy;&amp;tcy;&amp;softcy; &amp;Bcy;&amp;icy;&amp;ocy;&amp;scy;&amp;tcy;&amp;icy;&amp;mcy;&amp;ucy;&amp;lcy;&amp;yacy;&amp;tcy;&amp;ocy;&amp;rcy; &amp;rcy;&amp;ocy;&amp;scy;&amp;tcy;&amp;acy; &amp;Acy;&amp;lcy;&amp;softcy;&amp;gcy;&amp;acy;+&amp;Kcy;, 100&amp;gcy;"/>
          <p:cNvPicPr/>
          <p:nvPr/>
        </p:nvPicPr>
        <p:blipFill>
          <a:blip r:embed="rId3"/>
          <a:stretch/>
        </p:blipFill>
        <p:spPr>
          <a:xfrm>
            <a:off x="685800" y="2057400"/>
            <a:ext cx="2914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іологічне пали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&amp;Pcy;&amp;ocy;&amp;kcy;&amp;acy; &amp;vcy;&amp;scy;&amp;iocy; &amp;vcy;&amp;ycy;&amp;gcy;&amp;lcy;&amp;yacy;&amp;dcy;&amp;icy;&amp;tcy; &amp;dcy;&amp;ocy;&amp;vcy;&amp;ocy;&amp;lcy;&amp;softcy;&amp;ncy;&amp;ocy; &amp;scy;&amp;kcy;&amp;rcy;&amp;ocy;&amp;mcy;&amp;ncy;&amp;ocy;: 2,5 &amp;bcy;&amp;acy;&amp;rcy;&amp;rcy;&amp;iecy;&amp;lcy;&amp;yacy; &amp;scy; &amp;gcy;&amp;iecy;&amp;kcy;&amp;tcy;&amp;acy;&amp;rcy;&amp;acy;, &amp;zhcy;&amp;acy;&amp;lcy;&amp;kcy;&amp;icy;&amp;iecy; &amp;chcy;&amp;iecy;&amp;tcy;&amp;vcy;&amp;iecy;&amp;rcy;&amp;tcy;&amp;softcy; &amp;tcy;&amp;ycy;&amp;scy;&amp;yacy;&amp;chcy;&amp;icy; &amp;dcy;&amp;ocy;&amp;lcy;&amp;lcy;&amp;acy;&amp;rcy;&amp;ocy;&amp;vcy; &amp;vcy; &amp;dcy;&amp;iecy;&amp;ncy;&amp;softcy;. &amp;Vcy; &amp;pcy;&amp;iecy;&amp;rcy;&amp;scy;&amp;pcy;&amp;iecy;&amp;kcy;&amp;tcy;&amp;icy;&amp;vcy;&amp;iecy; &amp;ucy;&amp;rcy;&amp;ocy;&amp;zhcy;&amp;acy;&amp;jcy;&amp;ncy;&amp;ocy;&amp;scy;&amp;tcy;&amp;softcy; &amp;ocy;&amp;bcy;&amp;iecy;&amp;shchcy;&amp;acy;&amp;yucy;&amp;tcy; &amp;pcy;&amp;ocy;&amp;vcy;&amp;ycy;&amp;scy;&amp;icy;&amp;tcy;&amp;softcy; &amp;vcy;&amp;dcy;&amp;vcy;&amp;ocy;&amp;iecy; — &amp;zcy;&amp;acy; &amp;scy;&amp;chcy;&amp;iocy;&amp;tcy; &amp;ncy;&amp;acy;&amp;rcy;&amp;acy;&amp;shchcy;&amp;icy;&amp;vcy;&amp;acy;&amp;ncy;&amp;icy;&amp;yacy; &amp;pcy;&amp;lcy;&amp;ocy;&amp;tcy;&amp;ncy;&amp;ocy;&amp;scy;&amp;tcy;&amp;icy; &amp;fcy;&amp;icy;&amp;tcy;&amp;ocy;&amp;pcy;&amp;lcy;&amp;acy;&amp;ncy;&amp;kcy;&amp;tcy;&amp;ocy;&amp;ncy;&amp;acy;. (&amp;Zcy;&amp;dcy;&amp;iecy;&amp;scy;&amp;softcy; &amp;icy; &amp;ncy;&amp;icy;&amp;zhcy;&amp;iecy; &amp;icy;&amp;lcy;&amp;lcy;&amp;yucy;&amp;scy;&amp;tcy;&amp;rcy;&amp;acy;&amp;tscy;&amp;icy;&amp;icy; BFS.)"/>
          <p:cNvPicPr/>
          <p:nvPr/>
        </p:nvPicPr>
        <p:blipFill>
          <a:blip r:embed="rId2"/>
          <a:stretch/>
        </p:blipFill>
        <p:spPr>
          <a:xfrm>
            <a:off x="3429000" y="129528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Биотопливо из водорослей"/>
          <p:cNvPicPr/>
          <p:nvPr/>
        </p:nvPicPr>
        <p:blipFill>
          <a:blip r:embed="rId3"/>
          <a:stretch/>
        </p:blipFill>
        <p:spPr>
          <a:xfrm>
            <a:off x="0" y="4000680"/>
            <a:ext cx="6667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арвник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91960"/>
            <a:ext cx="8153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Технологія виробництва харчових барвників із водор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138400"/>
            <a:ext cx="91630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урі водорості вакам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733920" y="23623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урі. Цукідані із комб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629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Цукерки із комб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&amp;Fcy;&amp;acy;&amp;jcy;&amp;lcy;:Kelp candy.jpg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апня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597560" cy="3678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http://www.zirax-pik.ru/images/lime_spec/golt.jpg"/>
          <p:cNvPicPr/>
          <p:nvPr/>
        </p:nvPicPr>
        <p:blipFill>
          <a:blip r:embed="rId3"/>
          <a:stretch/>
        </p:blipFill>
        <p:spPr>
          <a:xfrm>
            <a:off x="4952880" y="3025800"/>
            <a:ext cx="39387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Діатоміт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9436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Тест-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576360"/>
          <a:ext cx="8839440" cy="614196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  <a:gridCol w="1067040"/>
                <a:gridCol w="914400"/>
                <a:gridCol w="682560"/>
                <a:gridCol w="1146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ит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ле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іато-мов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р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во-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гато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У прісних водойм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Багатоклітинні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анцир із двох половин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Розмножуються вегетативн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ереважає пігмент хлороф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Запасають ламінарин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 Є ризоїд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 Жодна клітина (навіть статева) не має джгути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 Хламідомонада, хлорела, вольвок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 Клітини зібрані у групи, що нагадують тканин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 Можуть жити на сніг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 Можуть жити на глибині до 250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 Улотрикс, спірогіра, ха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 Тільки багатоклітинн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 Нестатеве розмноження поділом навп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іностеклокераміка (ізоляційний матеріал) із діатоміт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http://tsniisk.ru/LoadedImages/2013/03/25/steklokeramika_9_w900_h650.jpg"/>
          <p:cNvPicPr/>
          <p:nvPr/>
        </p:nvPicPr>
        <p:blipFill>
          <a:blip r:embed="rId2"/>
          <a:srcRect l="0" t="0" r="0" b="80"/>
          <a:stretch/>
        </p:blipFill>
        <p:spPr>
          <a:xfrm>
            <a:off x="457200" y="1752480"/>
            <a:ext cx="8315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Виробництво клею, плівок, лакі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787480" cy="3971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657600" y="2376360"/>
            <a:ext cx="49370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рганічні кисло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09680" y="1495440"/>
            <a:ext cx="4905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Очищення водойм. Хлорела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86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іоіндикація 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60028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019760" cy="281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2619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9196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ляж Ціньдао (Китай). Катастрофічне розмноження водор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6553080" cy="4357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267080" y="3603600"/>
            <a:ext cx="4876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ambria"/>
              </a:rPr>
              <a:t>Домашнє завда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працюва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39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Оберіть завданн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І Скласти кросворд за темою “Водорості”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ІІ скласти тестові завдання за темою “Водорості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Отримання кисню для забезпечення автономних об’єкт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643280" cy="444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3130560"/>
            <a:ext cx="4500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Корм для водних твар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http://www.katalogrub.narod.ru/wq.jpg"/>
          <p:cNvPicPr/>
          <p:nvPr/>
        </p:nvPicPr>
        <p:blipFill>
          <a:blip r:embed="rId2"/>
          <a:srcRect l="0" t="0" r="0" b="146"/>
          <a:stretch/>
        </p:blipFill>
        <p:spPr>
          <a:xfrm>
            <a:off x="0" y="1371600"/>
            <a:ext cx="4248000" cy="270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http://za-ryboi.ru/wp-content/uploads/2012/02/Belyiy-amur.jpg"/>
          <p:cNvPicPr/>
          <p:nvPr/>
        </p:nvPicPr>
        <p:blipFill>
          <a:blip r:embed="rId3"/>
          <a:stretch/>
        </p:blipFill>
        <p:spPr>
          <a:xfrm>
            <a:off x="0" y="3484440"/>
            <a:ext cx="4495680" cy="3373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http://aquarium.ucoz.org/bas006.jpg"/>
          <p:cNvPicPr/>
          <p:nvPr/>
        </p:nvPicPr>
        <p:blipFill>
          <a:blip r:embed="rId4"/>
          <a:stretch/>
        </p:blipFill>
        <p:spPr>
          <a:xfrm>
            <a:off x="6705720" y="1351080"/>
            <a:ext cx="2438280" cy="2101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users.telenet.be/jp.wenselaers/aslak.jpg"/>
          <p:cNvPicPr/>
          <p:nvPr/>
        </p:nvPicPr>
        <p:blipFill>
          <a:blip r:embed="rId5"/>
          <a:stretch/>
        </p:blipFill>
        <p:spPr>
          <a:xfrm>
            <a:off x="4038480" y="1371600"/>
            <a:ext cx="3100680" cy="227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Fcy;&amp;acy;&amp;jcy;&amp;lcy;:Dugong marsa alam egypt 2011.jpg"/>
          <p:cNvPicPr/>
          <p:nvPr/>
        </p:nvPicPr>
        <p:blipFill>
          <a:blip r:embed="rId6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Ґрунти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емлі формуються з участю водор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Лишайни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3219480" cy="378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038480" y="304920"/>
            <a:ext cx="4867560" cy="364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819520" y="3665520"/>
            <a:ext cx="4248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Корм для худоб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6675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Хлорела як добавка до корму худоб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talon</cp:lastModifiedBy>
  <dcterms:modified xsi:type="dcterms:W3CDTF">2014-02-24T15:34:5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1c000000000001024140</vt:lpwstr>
  </property>
  <property fmtid="{D5CDD505-2E9C-101B-9397-08002B2CF9AE}" pid="3" name="Version">
    <vt:r8>1</vt:r8>
  </property>
</Properties>
</file>