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B22-E666-4AD7-8C55-2D50203D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B67-E2B0-413F-88A5-FDDA7B3B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2B1-A24D-4BF0-A191-3F0D3F1F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759-73D4-49C9-8137-884EE706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9D98-FE0F-4601-BABB-F71E837A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9B7F-C91F-4583-A3AD-C6221E27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F60F-8A9D-4872-A0B2-3D486B0F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6896-BC2A-4A3B-9E0F-738100D9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84DB-A0C6-4601-9554-D4ED0E2E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41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4971-381B-490F-A8C7-F629C674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3DB3-C824-42BB-9538-90635473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570-926A-4346-ACB2-799763F1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56EB-64C8-4E08-9EC6-7E0C313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CCDF-3E54-4081-A3E7-B5E29B2B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78AF-F09B-42DC-8B61-92EAFBBE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A4D8-B3EB-42EB-BD0A-1F2D6EAA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13AE-26E3-4DD9-B7D9-46652391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D47-AD54-4302-A311-D1E960E5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7D6-7922-4006-9599-FF0FF040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A58-CF0D-4701-90E9-EE57FEF9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41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564-5482-4ACF-A1B8-597F4F68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648-52E5-4853-962C-D3207FEA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FF1-A9B0-4398-8DED-24EFB9AE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ED0-5E0D-4572-B0C7-8E472AE0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16747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E6E73D-F5EE-4E25-A7D0-0525C59722D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5360" cy="1598760"/>
            <a:chOff x="279360" y="152280"/>
            <a:chExt cx="8685360" cy="1598760"/>
          </a:xfrm>
        </p:grpSpPr>
        <p:sp>
          <p:nvSpPr>
            <p:cNvPr id="6" name=""/>
            <p:cNvSpPr/>
            <p:nvPr/>
          </p:nvSpPr>
          <p:spPr>
            <a:xfrm flipH="1">
              <a:off x="455760" y="1751040"/>
              <a:ext cx="830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7160" cy="2268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3520" cy="2268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520"/>
              <a:ext cx="8453520" cy="1378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320"/>
              <a:ext cx="227160" cy="1346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464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8DE118-E813-430E-950B-AC4C13FCC83E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560"/>
            <a:ext cx="8390160" cy="5789880"/>
            <a:chOff x="380880" y="304560"/>
            <a:chExt cx="8390160" cy="5789880"/>
          </a:xfrm>
        </p:grpSpPr>
        <p:sp>
          <p:nvSpPr>
            <p:cNvPr id="53" name=""/>
            <p:cNvSpPr/>
            <p:nvPr/>
          </p:nvSpPr>
          <p:spPr>
            <a:xfrm flipV="1">
              <a:off x="8312040" y="303840"/>
              <a:ext cx="455760" cy="4554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3840"/>
              <a:ext cx="7942320" cy="4554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760"/>
              <a:ext cx="7942320" cy="2268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2120"/>
              <a:ext cx="446040" cy="2268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9960" y="3581280"/>
              <a:ext cx="769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0160" cy="578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ommons.wikimedia.org/wiki/File:Karl_Gustavovich_Faberge.jpg?uselang=ru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uk.wikipedia.org/wiki/&#1060;&#1072;&#1081;&#1083;:Plantago-media.jpg" TargetMode="External"/><Relationship Id="rId3" Type="http://schemas.openxmlformats.org/officeDocument/2006/relationships/hyperlink" Target="http://uk.wikipedia.org/wiki/&#1060;&#1072;&#1081;&#1083;:Plantago-media.jpg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edu2.tsu.ru/res/1675/text/biogr01.html" TargetMode="External"/><Relationship Id="rId3" Type="http://schemas.openxmlformats.org/officeDocument/2006/relationships/hyperlink" Target="http://edu2.tsu.ru/res/1675/text/biogr01.html" TargetMode="External"/><Relationship Id="rId4" Type="http://schemas.openxmlformats.org/officeDocument/2006/relationships/hyperlink" Target="http://edu2.tsu.ru/res/1675/text/biogr01.html" TargetMode="External"/><Relationship Id="rId5" Type="http://schemas.openxmlformats.org/officeDocument/2006/relationships/hyperlink" Target="http://edu2.tsu.ru/res/1675/text/biogr01.html" TargetMode="External"/><Relationship Id="rId6" Type="http://schemas.openxmlformats.org/officeDocument/2006/relationships/hyperlink" Target="http://edu2.tsu.ru/res/1675/text/biogr01.html" TargetMode="External"/><Relationship Id="rId7" Type="http://schemas.openxmlformats.org/officeDocument/2006/relationships/hyperlink" Target="http://edu2.tsu.ru/res/1675/text/biogr01.html" TargetMode="External"/><Relationship Id="rId8" Type="http://schemas.openxmlformats.org/officeDocument/2006/relationships/hyperlink" Target="http://uk.wikipedia.org/wiki/&#1050;&#1072;&#1088;&#1110;&#1086;&#1089;&#1080;&#1089;&#1090;&#1077;&#1084;&#1072;&#1090;&#1080;&#1082;&#1072;" TargetMode="External"/><Relationship Id="rId9" Type="http://schemas.openxmlformats.org/officeDocument/2006/relationships/hyperlink" Target="http://uk.wikipedia.org/w/index.php?title=&#1062;&#1080;&#1090;&#1086;&#1077;&#1084;&#1073;&#1088;&#1110;&#1086;&#1083;&#1086;&#1075;&#1110;&#1103;&amp;action=edit&amp;redlink=1" TargetMode="External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                                          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-1295280" y="540864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Яйце Фаберж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«Весняні кві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575160" y="-4276800"/>
          <a:ext cx="182520" cy="154116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10080">
                <a:tc>
                  <a:txBody>
                    <a:bodyPr lIns="90000" rIns="90000" tIns="55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ер Карл Густавович Фабер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0901520">
                <a:tc>
                  <a:txBody>
                    <a:bodyPr lIns="90000" rIns="90000" tIns="540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1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04812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38680" y="46465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Петер Карл  Фаберж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1846 - 1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48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2838240" cy="3809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5849640"/>
            <a:ext cx="60958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КВІ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191120"/>
            <a:ext cx="312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КАТ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БІЛОК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1900-196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                                        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Вінсент Віллем ван  Гог</a:t>
            </a:r>
            <a:br>
              <a:rPr sz="2800"/>
            </a:b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                                         1853 - 1890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ІРИ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ОНЯШ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446724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8960" y="3200400"/>
            <a:ext cx="268128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9132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ОНЯ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660000"/>
                </a:solidFill>
                <a:latin typeface="Times New Roman"/>
              </a:rPr>
              <a:t>Тема: </a:t>
            </a:r>
            <a:r>
              <a:rPr b="1" lang="uk-UA" sz="4400" spc="-1" strike="noStrike">
                <a:solidFill>
                  <a:srgbClr val="660000"/>
                </a:solidFill>
                <a:latin typeface="Times New Roman"/>
              </a:rPr>
              <a:t>Запилення, заплідненн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                                           </a:t>
            </a: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Мет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83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сформувати поняття “запилення” 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 “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апліднення”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83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ознайомитися з різними вид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апилення і з'ясувати їх біологіч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наченн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83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'ясувати особливості процесу заплідненн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у квіткових рослин і його біологічне значення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тема: Запилення, заплідненн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дготувала вчитель біолог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гальноосвітнього навчального закладу І – ІІІ ступен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ередня загальноосвітня школа № 26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ойтенко Тетяна Володимирі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7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7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6000" spc="-1" strike="noStrike">
                <a:solidFill>
                  <a:srgbClr val="420000"/>
                </a:solidFill>
                <a:latin typeface="Times New Roman"/>
              </a:rPr>
              <a:t>ЗАПИЛЕННЯ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27104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27104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ПРОЦЕС ПЕРЕНЕСЕННЯ ПИЛК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З </a:t>
            </a:r>
            <a:r>
              <a:rPr b="1" lang="uk-UA" sz="3200" spc="-1" strike="noStrike">
                <a:solidFill>
                  <a:srgbClr val="e5ad11"/>
                </a:solidFill>
                <a:latin typeface="Times New Roman"/>
              </a:rPr>
              <a:t>ТИЧИН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НА </a:t>
            </a:r>
            <a:r>
              <a:rPr b="1" lang="uk-UA" sz="3200" spc="-1" strike="noStrike">
                <a:solidFill>
                  <a:srgbClr val="971f07"/>
                </a:solidFill>
                <a:latin typeface="Times New Roman"/>
              </a:rPr>
              <a:t>ПРИЙМОЧКУ МАТОЧ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І ОДНА З УМОВ, НЕОБХІДНИХ ДЛЯ УТВОРЕНН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4a063b"/>
                </a:solidFill>
                <a:latin typeface="Times New Roman"/>
              </a:rPr>
              <a:t>ПЛОДІВ І НАСІ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570400" cy="510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19720" y="-4798800"/>
            <a:ext cx="183960" cy="23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26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Подорожник серед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5520" y="51516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ПЕРЕХРЕСНЕ ЗАПИЛЕНН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дорожник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середн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ТЕСТОВІ ЗАВДАННЯ З </a:t>
            </a:r>
            <a:r>
              <a:rPr b="1" i="1" lang="uk-UA" sz="3200" spc="-1" strike="noStrike" u="sng">
                <a:solidFill>
                  <a:srgbClr val="660000"/>
                </a:solidFill>
                <a:uFillTx/>
                <a:latin typeface="Times New Roman"/>
              </a:rPr>
              <a:t>ОДНІЄЮ </a:t>
            </a:r>
            <a:br>
              <a:rPr sz="3200"/>
            </a:b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         ПРАВИЛЬНОЮ ВІДПОВІДДЮ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1. У ЯКОЇ З НАЗВАНИХ РОСЛИН  СУЦВІТТЯ – ПРОСТИЙ ЗОНТ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ПУСТИ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ВЕР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У ВИШНІ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СМОРОД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2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СКЛАДНИЙ ЗОНТ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ГОРОХУ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МОРК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ОНЮШИНИ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СУНИЦ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468920" y="1828800"/>
            <a:ext cx="13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Жито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29040" y="1905120"/>
            <a:ext cx="2057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Вишн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197320" cy="6019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43240" y="1979640"/>
            <a:ext cx="21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Валіснер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піраль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181480" y="684000"/>
            <a:ext cx="304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Кві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в процес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амозапилен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2795760" cy="3505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280044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33720" y="617220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Arial"/>
              </a:rPr>
              <a:t>Пшени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90960" y="5638680"/>
            <a:ext cx="281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420000"/>
                </a:solidFill>
                <a:latin typeface="Times New Roman"/>
              </a:rPr>
              <a:t>Картопл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5812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9800"/>
                <a:tab algn="l" pos="1384200"/>
                <a:tab algn="l" pos="2298600"/>
                <a:tab algn="l" pos="3213000"/>
                <a:tab algn="l" pos="4127400"/>
                <a:tab algn="l" pos="5041800"/>
                <a:tab algn="l" pos="5956200"/>
                <a:tab algn="l" pos="6870600"/>
                <a:tab algn="l" pos="7785000"/>
                <a:tab algn="l" pos="8699400"/>
                <a:tab algn="l" pos="9613800"/>
                <a:tab algn="l" pos="1052820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Першоцв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78560" y="495144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амозапилення (1) і перехресне запилення (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660000"/>
                </a:solidFill>
                <a:latin typeface="Times New Roman"/>
              </a:rPr>
              <a:t>ШТУЧН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29000" y="2589120"/>
            <a:ext cx="5715000" cy="3794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3353040" cy="2521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3265560"/>
            <a:ext cx="32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Фіолетова африканська фіал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повнити схему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________               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__            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   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одою; вітром; тварин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амозапилення; штучне; перехресн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пиленн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284560" y="1676520"/>
            <a:ext cx="2365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676520"/>
            <a:ext cx="1676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666880"/>
            <a:ext cx="7617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666880"/>
            <a:ext cx="2666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369800" y="2666880"/>
            <a:ext cx="307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2666880"/>
            <a:ext cx="20574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ХЕМА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i="1" lang="uk-UA" sz="3600" spc="-1" strike="noStrike">
                <a:solidFill>
                  <a:srgbClr val="660000"/>
                </a:solidFill>
                <a:latin typeface="Times New Roman"/>
              </a:rPr>
              <a:t>ЗАПИЛЕ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ПЕРЕХРЕСНЕ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                                 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АМОЗАПИЛЕ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    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ВІТРОМ        ТВАРИН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            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ВОДОЮ      ШТУЧ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2438280"/>
            <a:ext cx="14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243828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2438280"/>
            <a:ext cx="25146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438280"/>
            <a:ext cx="13716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55640" y="1800360"/>
            <a:ext cx="1228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0000" y="1800360"/>
            <a:ext cx="25146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3. У ЯКОЇ З НАЗВАНИХ РОСЛ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ПОЧАТО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БУЗКУ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СОНЯШ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ГОРОБИНИ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УКУРУД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4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ГОЛОВ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ОНЮШИНИ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УЛЬБА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ЧЕРЕМХИ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ТОПОЛ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БІОЛОГІЧНІ ЗАДАЧІ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1.  ЧОМУ БЕЗВІТРЯНА ПОГОДА ПІД ЧАС ЦВІТІННЯ МОЖЕ СТАТИ ПРИЧИНОЮ ЗНИЖЕННЯ ВРОЖАЙНОСТІ </a:t>
            </a:r>
            <a:r>
              <a:rPr b="1" i="1" lang="uk-UA" sz="3200" spc="-1" strike="noStrike">
                <a:solidFill>
                  <a:srgbClr val="3333ff"/>
                </a:solidFill>
                <a:latin typeface="Times New Roman"/>
              </a:rPr>
              <a:t>ЖИТ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А НА ВРОЖАЙНІСТЬ </a:t>
            </a: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ПШЕНИЦІ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ТАКА ПОГОДА НЕ ВПЛИ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0" y="6094440"/>
            <a:ext cx="13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Жито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4495680"/>
            <a:ext cx="188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609588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Arial"/>
              </a:rPr>
              <a:t>Пшени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2.  КВІТКА </a:t>
            </a:r>
            <a:r>
              <a:rPr b="1" i="1" lang="uk-UA" sz="2800" spc="-1" strike="noStrike">
                <a:solidFill>
                  <a:srgbClr val="3333ff"/>
                </a:solidFill>
                <a:latin typeface="Times New Roman"/>
              </a:rPr>
              <a:t>КАРТОПЛІ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ЩЕ В БУТОНІ БУЛА ЗАКРИТА МАРЛЕВИМ МІШЕЧ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БУТОН РОЗПУСТИВСЯ, ПОТІМ УТВОРИВСЯ ПЛІ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ЯКИМ ШЛЯХОМ ВІДБУЛОСЯ ЗАПИЛЕНН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53352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3. КВІТКА </a:t>
            </a:r>
            <a:r>
              <a:rPr b="1" i="1" lang="uk-UA" sz="28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ВИШНІ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 ЩЕ В БУТОНІ БУЛА ЗАКРИТА МАРЛЕВИМ МІШЕЧ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БУТОН РОЗПУСТИВСЯ, ЦВІТІННЯ ЗАКІНЧИЛОСЯ, АЛЕ ПЛІД НЕ УТВОРИВ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 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ЧО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00400" y="49528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4380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660000"/>
                </a:solidFill>
                <a:latin typeface="Times New Roman"/>
              </a:rPr>
              <a:t>ЗАПЛІДНЕНН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660000"/>
                </a:solidFill>
                <a:latin typeface="Times New Roman"/>
              </a:rPr>
              <a:t>ПРОЦЕС ЗЛИТТЯ ЧОЛОВІЧОЇ ТА ЖІНОЧОЇ СТАТЕВИХ КЛІТИН З УТВОРЕННЯМ ЗИГО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990720" y="-1828800"/>
            <a:ext cx="11125440" cy="8915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333300"/>
                </a:solidFill>
                <a:latin typeface="Times New Roman"/>
              </a:rPr>
              <a:t>ПОДВІЙНЕ    ЗАПЛІДНЕНН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ЯЙЦЕ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ИГ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АРОД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НАСІН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ЦЕНТРАЛЬ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ДИПЛОЇДНА 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ЕНДОСПЕ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(ПОЖИВНІ РЕЧОВИ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3434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39640"/>
            <a:ext cx="4046400" cy="612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79640" y="29016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Серг</a:t>
            </a:r>
            <a:r>
              <a:rPr b="0" lang="ru-RU" sz="4800" spc="-1" strike="noStrike">
                <a:solidFill>
                  <a:srgbClr val="ccccff"/>
                </a:solidFill>
                <a:latin typeface="Times New Roman"/>
              </a:rPr>
              <a:t>і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й Гаврилови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Навашин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  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(1857–1930)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343400" y="3060720"/>
          <a:ext cx="4800600" cy="1739880"/>
        </p:xfrm>
        <a:graphic>
          <a:graphicData uri="http://schemas.openxmlformats.org/drawingml/2006/table">
            <a:tbl>
              <a:tblPr/>
              <a:tblGrid>
                <a:gridCol w="1211400"/>
                <a:gridCol w="3589200"/>
              </a:tblGrid>
              <a:tr h="173988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омий завдя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/>
                        </a:rPr>
                        <a:t>каріосистематика</a:t>
                      </a: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0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/>
                        </a:rPr>
                        <a:t>цитоембріологія</a:t>
                      </a: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відкриття подвійного запліднення покритонасінних росл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4500720" y="4859280"/>
            <a:ext cx="4190760" cy="1932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999640" y="715320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</a:rPr>
              <a:t>ЗАПЛІДНЕНН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ИГ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АРОД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НАСІН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ЦЕНТРАЛЬ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ДИПЛОЇДНА 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ЕНДОСПЕ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(ПОЖИВНІ РЕЧОВИ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3434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</a:rPr>
              <a:t>ЗАПЛІДНЕНН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ЯЙЦЕ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АРОД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НАСІН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-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ЕНДОСПЕ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(ПОЖИВНІ РЕЧОВИ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43434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64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5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СКЛАДНИЙ КОЛ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ПУСТИ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ГОРОБ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ВІВСА 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ЯБЛУ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6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ПРОСТИЙ КОЛ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ЯЧМЕНЮ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ПОДОР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ЛІЩИНИ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ТОПОЛ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§§</a:t>
            </a:r>
            <a:r>
              <a:rPr b="1" lang="uk-UA" sz="6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20, 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УСНО: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ПОЯСНИТИ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ЗАЛЕЖНІСТЬ МІ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БУДОВОЮ КВІ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І СПОСОБОМ ЇЇ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ЗАПИЛЕН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380880" y="1752480"/>
            <a:ext cx="8305920" cy="320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421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КУЮ ЗА СПІВПРАЦЮ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7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КИТИЦ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ПУСТИ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УКУРУД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В АЙСТРИ 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ПРИМУ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8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КОШ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ЛИНИ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РТОПЛ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ВОЛОШКИ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ОНВАЛ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ВІДПОВІ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1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2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3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4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5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6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7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8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42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00840" y="0"/>
            <a:ext cx="3143160" cy="471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95680" y="2590920"/>
            <a:ext cx="2305080" cy="426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C</cp:lastModifiedBy>
  <dcterms:modified xsi:type="dcterms:W3CDTF">2014-02-20T21:05:56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c000000000001024140</vt:lpwstr>
  </property>
  <property fmtid="{D5CDD505-2E9C-101B-9397-08002B2CF9AE}" pid="3" name="Version">
    <vt:r8>1</vt:r8>
  </property>
</Properties>
</file>