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215-8D56-4B95-9419-DE1DF8E1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81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81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54D-6E75-4A03-BEB2-4EDBA7E7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B5F2-B271-4613-B634-43E4DA02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18288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8288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40752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40752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7E5-0FC5-44D8-B4E0-1CC04C50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9E0F-3C8B-4F74-936B-BD447300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6AB7-5E5C-4C8E-95F9-B4DD0B49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2862-B429-4180-A3A6-4F464D73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FD86-67E0-4512-AF01-C080C5FC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4DB1-A8D2-4094-B4DA-F8B378FF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41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09DF-8FFC-481F-B92E-0FB5C2C7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105D-E137-4274-B2B4-AF92E9FE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001-11BF-4B6B-830D-EE5A00EF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352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3827-E748-4C43-8002-BAA8C90A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81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C046-2F0D-4894-83E7-1956DF6F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81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81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D608-EB6C-44B0-993B-1E9DD155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352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B7EC-52E8-4CA8-B71E-A4AC1D76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280" y="18288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1360" y="18288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280" y="40752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1360" y="40752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B720-AD14-49B5-83C4-64BE813E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2B2-4754-4743-800A-A81A2AA0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6E88-E5E5-4ED9-B658-226039DD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6CD-A2B8-445D-B023-EB79A4C2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41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049-2219-4449-A029-B334D601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B5BC-9B04-4EBE-BEE0-86EABA75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0DB0-FDF5-467B-A0A0-A57B2DE3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81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038-12EF-49FF-A461-5698578C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16747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59657F-82E2-4768-873E-8D344638351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5360" cy="1598760"/>
            <a:chOff x="279360" y="152280"/>
            <a:chExt cx="8685360" cy="1598760"/>
          </a:xfrm>
        </p:grpSpPr>
        <p:sp>
          <p:nvSpPr>
            <p:cNvPr id="6" name=""/>
            <p:cNvSpPr/>
            <p:nvPr/>
          </p:nvSpPr>
          <p:spPr>
            <a:xfrm flipH="1">
              <a:off x="455760" y="1751040"/>
              <a:ext cx="830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7160" cy="2268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3520" cy="2268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520"/>
              <a:ext cx="8453520" cy="1378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320"/>
              <a:ext cx="227160" cy="1346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464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D52E98-F9EA-4C6F-A400-EE480C233733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560"/>
            <a:ext cx="8390160" cy="5789880"/>
            <a:chOff x="380880" y="304560"/>
            <a:chExt cx="8390160" cy="5789880"/>
          </a:xfrm>
        </p:grpSpPr>
        <p:sp>
          <p:nvSpPr>
            <p:cNvPr id="53" name=""/>
            <p:cNvSpPr/>
            <p:nvPr/>
          </p:nvSpPr>
          <p:spPr>
            <a:xfrm flipV="1">
              <a:off x="8312040" y="303840"/>
              <a:ext cx="455760" cy="4554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3840"/>
              <a:ext cx="7942320" cy="4554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760"/>
              <a:ext cx="7942320" cy="2268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2120"/>
              <a:ext cx="446040" cy="2268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59960" y="3581280"/>
              <a:ext cx="769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0160" cy="5789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commons.wikimedia.org/wiki/File:Karl_Gustavovich_Faberge.jpg?uselang=ru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uk.wikipedia.org/wiki/&#1060;&#1072;&#1081;&#1083;:Plantago-media.jpg" TargetMode="External"/><Relationship Id="rId3" Type="http://schemas.openxmlformats.org/officeDocument/2006/relationships/hyperlink" Target="http://uk.wikipedia.org/wiki/&#1060;&#1072;&#1081;&#1083;:Plantago-media.jpg" TargetMode="Externa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edu2.tsu.ru/res/1675/text/biogr01.html" TargetMode="External"/><Relationship Id="rId3" Type="http://schemas.openxmlformats.org/officeDocument/2006/relationships/hyperlink" Target="http://edu2.tsu.ru/res/1675/text/biogr01.html" TargetMode="External"/><Relationship Id="rId4" Type="http://schemas.openxmlformats.org/officeDocument/2006/relationships/hyperlink" Target="http://edu2.tsu.ru/res/1675/text/biogr01.html" TargetMode="External"/><Relationship Id="rId5" Type="http://schemas.openxmlformats.org/officeDocument/2006/relationships/hyperlink" Target="http://edu2.tsu.ru/res/1675/text/biogr01.html" TargetMode="External"/><Relationship Id="rId6" Type="http://schemas.openxmlformats.org/officeDocument/2006/relationships/hyperlink" Target="http://edu2.tsu.ru/res/1675/text/biogr01.html" TargetMode="External"/><Relationship Id="rId7" Type="http://schemas.openxmlformats.org/officeDocument/2006/relationships/hyperlink" Target="http://edu2.tsu.ru/res/1675/text/biogr01.html" TargetMode="External"/><Relationship Id="rId8" Type="http://schemas.openxmlformats.org/officeDocument/2006/relationships/hyperlink" Target="http://uk.wikipedia.org/wiki/&#1050;&#1072;&#1088;&#1110;&#1086;&#1089;&#1080;&#1089;&#1090;&#1077;&#1084;&#1072;&#1090;&#1080;&#1082;&#1072;" TargetMode="External"/><Relationship Id="rId9" Type="http://schemas.openxmlformats.org/officeDocument/2006/relationships/hyperlink" Target="http://uk.wikipedia.org/w/index.php?title=&#1062;&#1080;&#1090;&#1086;&#1077;&#1084;&#1073;&#1088;&#1110;&#1086;&#1083;&#1086;&#1075;&#1110;&#1103;&amp;action=edit&amp;redlink=1" TargetMode="External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420000"/>
                </a:solidFill>
                <a:latin typeface="Times New Roman"/>
              </a:rPr>
              <a:t>                                           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-1295280" y="540864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Яйце Фаберж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«Весняні кві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575160" y="-4276800"/>
          <a:ext cx="182520" cy="154116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10080">
                <a:tc>
                  <a:txBody>
                    <a:bodyPr lIns="90000" rIns="90000" tIns="55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ер Карл Густавович Фаберж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10901520">
                <a:tc>
                  <a:txBody>
                    <a:bodyPr lIns="90000" rIns="90000" tIns="540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r>
                        <a:rPr b="0" lang="ru-RU" sz="1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715000" y="0"/>
            <a:ext cx="3048120" cy="4343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638680" y="4646520"/>
            <a:ext cx="325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Петер Карл  Фаберж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660000"/>
                </a:solidFill>
                <a:latin typeface="Times New Roman"/>
              </a:rPr>
              <a:t>1846 - 19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1488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62720" y="304920"/>
            <a:ext cx="2838240" cy="3809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5849640"/>
            <a:ext cx="60958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КВІТ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191120"/>
            <a:ext cx="31240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8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Times New Roman"/>
              </a:rPr>
              <a:t>КАТЕ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Times New Roman"/>
              </a:rPr>
              <a:t>БІЛОК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Times New Roman"/>
              </a:rPr>
              <a:t>1900-196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                                         </a:t>
            </a: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Вінсент Віллем ван  Гог</a:t>
            </a:r>
            <a:br>
              <a:rPr sz="2800"/>
            </a:b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                                          1853 - 1890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ІРИС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СОНЯШ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4467240" cy="3352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88960" y="3200400"/>
            <a:ext cx="2681280" cy="3657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3520" y="5791320"/>
            <a:ext cx="4114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8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СОНЯШ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660000"/>
                </a:solidFill>
                <a:latin typeface="Times New Roman"/>
              </a:rPr>
              <a:t>Тема: </a:t>
            </a:r>
            <a:r>
              <a:rPr b="1" lang="uk-UA" sz="4400" spc="-1" strike="noStrike">
                <a:solidFill>
                  <a:srgbClr val="660000"/>
                </a:solidFill>
                <a:latin typeface="Times New Roman"/>
              </a:rPr>
              <a:t>Запилення, заплідненн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660000"/>
                </a:solidFill>
                <a:latin typeface="Times New Roman"/>
              </a:rPr>
              <a:t>                                           </a:t>
            </a:r>
            <a:r>
              <a:rPr b="1" lang="uk-UA" sz="2400" spc="-1" strike="noStrike">
                <a:solidFill>
                  <a:srgbClr val="660000"/>
                </a:solidFill>
                <a:latin typeface="Times New Roman"/>
              </a:rPr>
              <a:t>Мет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83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сформувати поняття “запилення” 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      “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запліднення”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83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ознайомитися з різними вид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запилення і з'ясувати їх біологічн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значенн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83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з'ясувати особливості процесу запліднення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у квіткових рослин і його біологічне значення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66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084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400" spc="-1" strike="noStrike">
                <a:solidFill>
                  <a:srgbClr val="420000"/>
                </a:solidFill>
                <a:latin typeface="Times New Roman"/>
              </a:rPr>
              <a:t>тема: Запилення, заплідненн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ідготувала вчитель біолог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гальноосвітнього навчального закладу І – ІІІ ступені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“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ередня загальноосвітня школа № 262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ойтенко Тетяна Володимирі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454824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73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73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6000" spc="-1" strike="noStrike">
                <a:solidFill>
                  <a:srgbClr val="420000"/>
                </a:solidFill>
                <a:latin typeface="Times New Roman"/>
              </a:rPr>
              <a:t>ЗАПИЛЕННЯ</a:t>
            </a:r>
            <a:endParaRPr b="0" lang="en-US" sz="6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27104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271040"/>
                </a:solidFill>
                <a:latin typeface="Times New Roman"/>
              </a:rPr>
              <a:t>     </a:t>
            </a:r>
            <a:r>
              <a:rPr b="1" lang="uk-UA" sz="3200" spc="-1" strike="noStrike">
                <a:solidFill>
                  <a:srgbClr val="271040"/>
                </a:solidFill>
                <a:latin typeface="Times New Roman"/>
              </a:rPr>
              <a:t>ПРОЦЕС ПЕРЕНЕСЕННЯ ПИЛК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271040"/>
                </a:solidFill>
                <a:latin typeface="Times New Roman"/>
              </a:rPr>
              <a:t>З </a:t>
            </a:r>
            <a:r>
              <a:rPr b="1" lang="uk-UA" sz="3200" spc="-1" strike="noStrike">
                <a:solidFill>
                  <a:srgbClr val="e5ad11"/>
                </a:solidFill>
                <a:latin typeface="Times New Roman"/>
              </a:rPr>
              <a:t>ТИЧИНО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271040"/>
                </a:solidFill>
                <a:latin typeface="Times New Roman"/>
              </a:rPr>
              <a:t>НА </a:t>
            </a:r>
            <a:r>
              <a:rPr b="1" lang="uk-UA" sz="3200" spc="-1" strike="noStrike">
                <a:solidFill>
                  <a:srgbClr val="971f07"/>
                </a:solidFill>
                <a:latin typeface="Times New Roman"/>
              </a:rPr>
              <a:t>ПРИЙМОЧКУ МАТОЧ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271040"/>
                </a:solidFill>
                <a:latin typeface="Times New Roman"/>
              </a:rPr>
              <a:t>І ОДНА З УМОВ, НЕОБХІДНИХ ДЛЯ УТВОРЕНН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4a063b"/>
                </a:solidFill>
                <a:latin typeface="Times New Roman"/>
              </a:rPr>
              <a:t>ПЛОДІВ І НАСІН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2570400" cy="5105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419720" y="-4798800"/>
            <a:ext cx="183960" cy="23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 </a:t>
            </a:r>
            <a:r>
              <a:rPr b="0" lang="ru-RU" sz="26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Arial"/>
              </a:rPr>
              <a:t>Подорожник середн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55520" y="515160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420000"/>
                </a:solidFill>
                <a:latin typeface="Times New Roman"/>
              </a:rPr>
              <a:t>ПЕРЕХРЕСНЕ ЗАПИЛЕННЯ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дорожник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середні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ТЕСТОВІ ЗАВДАННЯ З </a:t>
            </a:r>
            <a:r>
              <a:rPr b="1" i="1" lang="uk-UA" sz="3200" spc="-1" strike="noStrike" u="sng">
                <a:solidFill>
                  <a:srgbClr val="660000"/>
                </a:solidFill>
                <a:uFillTx/>
                <a:latin typeface="Times New Roman"/>
              </a:rPr>
              <a:t>ОДНІЄЮ </a:t>
            </a:r>
            <a:br>
              <a:rPr sz="3200"/>
            </a:b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         ПРАВИЛЬНОЮ ВІДПОВІДДЮ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1. У ЯКОЇ З НАЗВАНИХ РОСЛИН  СУЦВІТТЯ – ПРОСТИЙ ЗОНТ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АПУСТИ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ВЕРБ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У ВИШНІ 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СМОРОДИ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2. У ЯКОЇ З НАЗВАНИХ РОС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СУЦВІТТЯ – СКЛАДНИЙ ЗОНТ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ГОРОХУ   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МОРК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ОНЮШИНИ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СУНИЦ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468920" y="1828800"/>
            <a:ext cx="13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Жито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629040" y="1905120"/>
            <a:ext cx="2057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Вишня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867280" y="35812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5197320" cy="6019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943240" y="1979640"/>
            <a:ext cx="218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Валіснер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спіраль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181480" y="684000"/>
            <a:ext cx="304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Кві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в процес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самозапилен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514600" y="2666880"/>
            <a:ext cx="2795760" cy="3505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715000" y="2286000"/>
            <a:ext cx="2800440" cy="3733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133720" y="6172200"/>
            <a:ext cx="304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Arial"/>
              </a:rPr>
              <a:t>Пшениц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90960" y="5638680"/>
            <a:ext cx="2819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420000"/>
                </a:solidFill>
                <a:latin typeface="Times New Roman"/>
              </a:rPr>
              <a:t>Картопля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581280"/>
            <a:ext cx="2666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8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69800"/>
                <a:tab algn="l" pos="1384200"/>
                <a:tab algn="l" pos="2298600"/>
                <a:tab algn="l" pos="3213000"/>
                <a:tab algn="l" pos="4127400"/>
                <a:tab algn="l" pos="5041800"/>
                <a:tab algn="l" pos="5956200"/>
                <a:tab algn="l" pos="6870600"/>
                <a:tab algn="l" pos="7785000"/>
                <a:tab algn="l" pos="8699400"/>
                <a:tab algn="l" pos="9613800"/>
                <a:tab algn="l" pos="1052820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Першоцві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772400" cy="3038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978560" y="4951440"/>
            <a:ext cx="46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амозапилення (1) і перехресне запилення (2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660000"/>
                </a:solidFill>
                <a:latin typeface="Times New Roman"/>
              </a:rPr>
              <a:t>ШТУЧН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429000" y="2589120"/>
            <a:ext cx="5715000" cy="37940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3353040" cy="2521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3265560"/>
            <a:ext cx="32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Фіолетова африканська фіалк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842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повнити схему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______________                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________             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______      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одою; вітром; тварина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амозапилення; штучне; перехресн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пиленн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284560" y="1676520"/>
            <a:ext cx="2365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48320" y="1676520"/>
            <a:ext cx="1676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2666880"/>
            <a:ext cx="7617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666880"/>
            <a:ext cx="2666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369800" y="2666880"/>
            <a:ext cx="307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2666880"/>
            <a:ext cx="20574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СХЕМА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i="1" lang="uk-UA" sz="3600" spc="-1" strike="noStrike">
                <a:solidFill>
                  <a:srgbClr val="660000"/>
                </a:solidFill>
                <a:latin typeface="Times New Roman"/>
              </a:rPr>
              <a:t>ЗАПИЛЕ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ПЕРЕХРЕСНЕ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                                       </a:t>
            </a: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САМОЗАПИЛЕ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          </a:t>
            </a: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ВІТРОМ        ТВАРИН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                  </a:t>
            </a: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ВОДОЮ      ШТУЧН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2438280"/>
            <a:ext cx="14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2438280"/>
            <a:ext cx="23619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2438280"/>
            <a:ext cx="25146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438280"/>
            <a:ext cx="13716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455640" y="1800360"/>
            <a:ext cx="1228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0000" y="1800360"/>
            <a:ext cx="25146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3. У ЯКОЇ З НАЗВАНИХ РОСЛИ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СУЦВІТТЯ – ПОЧАТО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БУЗКУ   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СОНЯШ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ГОРОБИНИ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УКУРУД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4. У ЯКОЇ З НАЗВАНИХ РОС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СУЦВІТТЯ – ГОЛОВ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ОНЮШИНИ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УЛЬБАБ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ЧЕРЕМХИ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ТОПОЛ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420000"/>
                </a:solidFill>
                <a:latin typeface="Times New Roman"/>
              </a:rPr>
              <a:t>БІОЛОГІЧНІ ЗАДАЧІ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52640"/>
                <a:tab algn="l" pos="1967040"/>
                <a:tab algn="l" pos="2881440"/>
                <a:tab algn="l" pos="3795840"/>
                <a:tab algn="l" pos="4710240"/>
                <a:tab algn="l" pos="5624640"/>
                <a:tab algn="l" pos="6539040"/>
                <a:tab algn="l" pos="7453440"/>
                <a:tab algn="l" pos="8367840"/>
                <a:tab algn="l" pos="9282240"/>
                <a:tab algn="l" pos="1019664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1.  ЧОМУ БЕЗВІТРЯНА ПОГОДА ПІД ЧАС ЦВІТІННЯ МОЖЕ СТАТИ ПРИЧИНОЮ ЗНИЖЕННЯ ВРОЖАЙНОСТІ </a:t>
            </a:r>
            <a:r>
              <a:rPr b="1" i="1" lang="uk-UA" sz="3200" spc="-1" strike="noStrike">
                <a:solidFill>
                  <a:srgbClr val="3333ff"/>
                </a:solidFill>
                <a:latin typeface="Times New Roman"/>
              </a:rPr>
              <a:t>ЖИТ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52640"/>
                <a:tab algn="l" pos="1967040"/>
                <a:tab algn="l" pos="2881440"/>
                <a:tab algn="l" pos="3795840"/>
                <a:tab algn="l" pos="4710240"/>
                <a:tab algn="l" pos="5624640"/>
                <a:tab algn="l" pos="6539040"/>
                <a:tab algn="l" pos="7453440"/>
                <a:tab algn="l" pos="8367840"/>
                <a:tab algn="l" pos="9282240"/>
                <a:tab algn="l" pos="1019664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А НА ВРОЖАЙНІСТЬ </a:t>
            </a:r>
            <a:r>
              <a:rPr b="1" lang="uk-UA" sz="3200" spc="-1" strike="noStrike">
                <a:solidFill>
                  <a:srgbClr val="3333ff"/>
                </a:solidFill>
                <a:latin typeface="Times New Roman"/>
              </a:rPr>
              <a:t>ПШЕНИЦІ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ТАКА ПОГОДА НЕ ВПЛИН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44956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049200" y="6094440"/>
            <a:ext cx="13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Жито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64000" y="4495680"/>
            <a:ext cx="1884600" cy="2362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6095880"/>
            <a:ext cx="304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Arial"/>
              </a:rPr>
              <a:t>Пшениц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44956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2.  КВІТКА </a:t>
            </a:r>
            <a:r>
              <a:rPr b="1" i="1" lang="uk-UA" sz="2800" spc="-1" strike="noStrike">
                <a:solidFill>
                  <a:srgbClr val="3333ff"/>
                </a:solidFill>
                <a:latin typeface="Times New Roman"/>
              </a:rPr>
              <a:t>КАРТОПЛІ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ЩЕ В БУТОНІ БУЛА ЗАКРИТА МАРЛЕВИМ МІШЕЧК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БУТОН РОЗПУСТИВСЯ, ПОТІМ УТВОРИВСЯ ПЛІ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ЯКИМ ШЛЯХОМ ВІДБУЛОСЯ ЗАПИЛЕНН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8320" y="533520"/>
            <a:ext cx="44956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3. КВІТКА </a:t>
            </a:r>
            <a:r>
              <a:rPr b="1" i="1" lang="uk-UA" sz="2800" spc="-1" strike="noStrike">
                <a:solidFill>
                  <a:srgbClr val="3333ff"/>
                </a:solidFill>
                <a:latin typeface="Times New Roman"/>
                <a:ea typeface="Arial Unicode MS"/>
              </a:rPr>
              <a:t>ВИШНІ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 ЩЕ В БУТОНІ БУЛА ЗАКРИТА МАРЛЕВИМ МІШЕЧК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    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БУТОН РОЗПУСТИВСЯ, ЦВІТІННЯ ЗАКІНЧИЛОСЯ, АЛЕ ПЛІД НЕ УТВОРИВ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     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ЧОМ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200400" y="495288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543800" y="5334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660000"/>
                </a:solidFill>
                <a:latin typeface="Times New Roman"/>
              </a:rPr>
              <a:t>ЗАПЛІДНЕНН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uk-UA" sz="4000" spc="-1" strike="noStrike">
                <a:solidFill>
                  <a:srgbClr val="660000"/>
                </a:solidFill>
                <a:latin typeface="Times New Roman"/>
              </a:rPr>
              <a:t>ПРОЦЕС ЗЛИТТЯ ЧОЛОВІЧОЇ ТА ЖІНОЧОЇ СТАТЕВИХ КЛІТИН З УТВОРЕННЯМ ЗИГО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-990720" y="-1828800"/>
            <a:ext cx="11125440" cy="8915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4000" spc="-1" strike="noStrike">
                <a:solidFill>
                  <a:srgbClr val="333300"/>
                </a:solidFill>
                <a:latin typeface="Times New Roman"/>
              </a:rPr>
              <a:t>ПОДВІЙНЕ    ЗАПЛІДНЕНН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СПЕРМІ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ЯЙЦЕКЛІТ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ЗИГОТ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ЗАРОД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НАСІНИ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СПЕРМІ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ЦЕНТРАЛЬН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ДИПЛОЇДНА КЛІТ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ЕНДОСПЕР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(ПОЖИВНІ РЕЧОВИН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434340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539640"/>
            <a:ext cx="4046400" cy="612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79640" y="29016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Серг</a:t>
            </a:r>
            <a:r>
              <a:rPr b="0" lang="ru-RU" sz="4800" spc="-1" strike="noStrike">
                <a:solidFill>
                  <a:srgbClr val="ccccff"/>
                </a:solidFill>
                <a:latin typeface="Times New Roman"/>
              </a:rPr>
              <a:t>і</a:t>
            </a:r>
            <a:r>
              <a:rPr b="0" lang="ru-RU" sz="4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й Гаврилович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Навашин</a:t>
            </a:r>
            <a:r>
              <a:rPr b="0" lang="ru-RU" sz="4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  </a:t>
            </a:r>
            <a:r>
              <a:rPr b="0" lang="ru-RU" sz="4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(1857–1930)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343400" y="3060720"/>
          <a:ext cx="4800600" cy="1739880"/>
        </p:xfrm>
        <a:graphic>
          <a:graphicData uri="http://schemas.openxmlformats.org/drawingml/2006/table">
            <a:tbl>
              <a:tblPr/>
              <a:tblGrid>
                <a:gridCol w="1211400"/>
                <a:gridCol w="3589200"/>
              </a:tblGrid>
              <a:tr h="1739880"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омий завдяк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08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/>
                        </a:rPr>
                        <a:t>каріосистематика</a:t>
                      </a:r>
                      <a:r>
                        <a:rPr b="1" lang="ru-RU" sz="20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20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/>
                        </a:rPr>
                        <a:t>цитоембріологія</a:t>
                      </a:r>
                      <a:r>
                        <a:rPr b="1" lang="ru-RU" sz="20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відкриття подвійного запліднення покритонасінних росл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4500720" y="4859280"/>
            <a:ext cx="4190760" cy="1932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999640" y="715320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660000"/>
                </a:solidFill>
                <a:latin typeface="Times New Roman"/>
              </a:rPr>
              <a:t>ЗАПЛІДНЕНН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СПЕРМІ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-----------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ЗИГОТ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ЗАРОД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НАСІНИ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-----------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ЦЕНТРАЛЬН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ДИПЛОЇДНА КЛІТ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ЕНДОСПЕР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(ПОЖИВНІ РЕЧОВИН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434340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660000"/>
                </a:solidFill>
                <a:latin typeface="Times New Roman"/>
              </a:rPr>
              <a:t>ЗАПЛІДНЕНН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СПЕРМІ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ЯЙЦЕКЛІТ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---------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ЗАРОД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НАСІНИ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СПЕРМІ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------------------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------------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-----------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ЕНДОСПЕР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(ПОЖИВНІ РЕЧОВИН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434340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52640"/>
                <a:tab algn="l" pos="1967040"/>
                <a:tab algn="l" pos="2881440"/>
                <a:tab algn="l" pos="3795840"/>
                <a:tab algn="l" pos="4710240"/>
                <a:tab algn="l" pos="5624640"/>
                <a:tab algn="l" pos="6539040"/>
                <a:tab algn="l" pos="7453440"/>
                <a:tab algn="l" pos="8367840"/>
                <a:tab algn="l" pos="9282240"/>
                <a:tab algn="l" pos="1019664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52640"/>
                <a:tab algn="l" pos="1967040"/>
                <a:tab algn="l" pos="2881440"/>
                <a:tab algn="l" pos="3795840"/>
                <a:tab algn="l" pos="4710240"/>
                <a:tab algn="l" pos="5624640"/>
                <a:tab algn="l" pos="6539040"/>
                <a:tab algn="l" pos="7453440"/>
                <a:tab algn="l" pos="8367840"/>
                <a:tab algn="l" pos="9282240"/>
                <a:tab algn="l" pos="1019664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64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5. У ЯКОЇ З НАЗВАНИХ РОС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СУЦВІТТЯ – СКЛАДНИЙ КОЛО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АПУСТИ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ГОРОБИ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ВІВСА    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ЯБЛУН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6. У ЯКОЇ З НАЗВАНИХ РОС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СУЦВІТТЯ – ПРОСТИЙ КОЛО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ЯЧМЕНЮ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ПОДОРОЖ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ЛІЩИНИ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ТОПОЛ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ДОМАШНЄ ЗАВДА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§§</a:t>
            </a:r>
            <a:r>
              <a:rPr b="1" lang="uk-UA" sz="6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 20, 2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48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УСНО:</a:t>
            </a: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 ПОЯСНИТИ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ЗАЛЕЖНІСТЬ МІЖ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БУДОВОЮ КВІТ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І СПОСОБОМ ЇЇ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ЗАПИЛЕНН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380880" y="1752480"/>
            <a:ext cx="8305920" cy="3200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421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ЯКУЮ ЗА СПІВПРАЦЮ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7. У ЯКОЇ З НАЗВАНИХ РОС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СУЦВІТТЯ – КИТИЦ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АПУСТИ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УКУРУД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В АЙСТРИ    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ПРИМУ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8. У ЯКОЇ З НАЗВАНИХ РОС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СУЦВІТТЯ – КОШ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АЛИНИ   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АРТОПЛ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ВОЛОШКИ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ОНВАЛІ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9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ВІДПОВІД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1 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2 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3 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4 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5 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6 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7 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8 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42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00840" y="0"/>
            <a:ext cx="3143160" cy="4714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495680" y="2590920"/>
            <a:ext cx="2305080" cy="426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C</cp:lastModifiedBy>
  <dcterms:modified xsi:type="dcterms:W3CDTF">2014-02-20T21:05:56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1c000000000001024140</vt:lpwstr>
  </property>
  <property fmtid="{D5CDD505-2E9C-101B-9397-08002B2CF9AE}" pid="3" name="Version">
    <vt:r8>1</vt:r8>
  </property>
</Properties>
</file>