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13.png" ContentType="image/png"/>
  <Override PartName="/ppt/media/image50.jpeg" ContentType="image/jpeg"/>
  <Override PartName="/ppt/media/image48.jpeg" ContentType="image/jpeg"/>
  <Override PartName="/ppt/media/image25.jpeg" ContentType="image/jpeg"/>
  <Override PartName="/ppt/media/image10.jpeg" ContentType="image/jpeg"/>
  <Override PartName="/ppt/media/image15.jpeg" ContentType="image/jpeg"/>
  <Override PartName="/ppt/media/image49.jpeg" ContentType="image/jpeg"/>
  <Override PartName="/ppt/media/image36.jpeg" ContentType="image/jpeg"/>
  <Override PartName="/ppt/media/image51.jpeg" ContentType="image/jpeg"/>
  <Override PartName="/ppt/media/image28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45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22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65.jpeg" ContentType="image/jpeg"/>
  <Override PartName="/ppt/media/image44.jpeg" ContentType="image/jpeg"/>
  <Override PartName="/ppt/media/image38.png" ContentType="image/png"/>
  <Override PartName="/ppt/media/image69.jpeg" ContentType="image/jpeg"/>
  <Override PartName="/ppt/media/image68.png" ContentType="image/png"/>
  <Override PartName="/ppt/media/image31.png" ContentType="image/png"/>
  <Override PartName="/ppt/media/image67.jpeg" ContentType="image/jpeg"/>
  <Override PartName="/ppt/media/image24.png" ContentType="image/png"/>
  <Override PartName="/ppt/media/image64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41.png" ContentType="image/png"/>
  <Override PartName="/ppt/media/image3.jpeg" ContentType="image/jpeg"/>
  <Override PartName="/ppt/media/image70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26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47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23.jpeg" ContentType="image/jpeg"/>
  <Override PartName="/ppt/media/image5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57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D4A-5B99-41AC-8E09-E23F214C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09E-F014-4116-9A84-D4F07D8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6B9-D1E2-4DCC-850D-7D042866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CE3-5DB1-4B78-A685-D2B4F862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2CC-9F4B-468B-8B94-61AE8ABB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013-CCA5-49A8-99FB-C31C985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8A3-5E37-4D9B-B251-FD7997B7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5AD-1125-4E9B-AEC9-242FC139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7BA-4AB2-456B-9D25-8A0B7DD0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327-FBCD-4B9C-A555-8F43DB68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AB7-8E97-4D9F-ABAF-95A25E5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49B-2F60-461C-80DB-F434D91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5A8D-F66E-47BE-8AC7-0EDCC3E4C7C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dovidka.com/wp-content/uploads/2012/07/Bulimia_by_LemonTequila.jpg" TargetMode="External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dovidka.com/wp-content/uploads/2012/07/Anorexia.jpg" TargetMode="External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DOM\Desktop\img14.jpg"/>
          <p:cNvPicPr/>
          <p:nvPr/>
        </p:nvPicPr>
        <p:blipFill>
          <a:blip r:embed="rId1"/>
          <a:stretch/>
        </p:blipFill>
        <p:spPr>
          <a:xfrm>
            <a:off x="-36360" y="11592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Заголовок 1"/>
          <p:cNvGrpSpPr/>
          <p:nvPr/>
        </p:nvGrpSpPr>
        <p:grpSpPr>
          <a:xfrm>
            <a:off x="219240" y="36360"/>
            <a:ext cx="8705520" cy="1621080"/>
            <a:chOff x="219240" y="36360"/>
            <a:chExt cx="8705520" cy="1621080"/>
          </a:xfrm>
        </p:grpSpPr>
        <p:pic>
          <p:nvPicPr>
            <p:cNvPr id="6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9240" y="36360"/>
              <a:ext cx="8705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0000"/>
                  </a:solidFill>
                  <a:latin typeface="Calibri"/>
                </a:rPr>
                <a:t>Б і л к и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178920" y="1599840"/>
            <a:ext cx="8713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агатими  на  незамінні  амінокисло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є білки  тваринного  походженн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що містяться в м’ясі, рибі, яйцях,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олочних продуктах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DOM\Desktop\b3b16032c6814077ee12011a9432af5b_573084_oxvxcc.jpeg"/>
          <p:cNvPicPr/>
          <p:nvPr/>
        </p:nvPicPr>
        <p:blipFill>
          <a:blip r:embed="rId2"/>
          <a:stretch/>
        </p:blipFill>
        <p:spPr>
          <a:xfrm>
            <a:off x="1187280" y="4005360"/>
            <a:ext cx="65534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358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Добре  засвоюються  жири  молочних продуктів,  рослинні,  риб’ячий ,  гірше свинячий,  баранячий,  яловичий  жи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DOM\Desktop\95(249).jpg"/>
          <p:cNvPicPr/>
          <p:nvPr/>
        </p:nvPicPr>
        <p:blipFill>
          <a:blip r:embed="rId2"/>
          <a:stretch/>
        </p:blipFill>
        <p:spPr>
          <a:xfrm>
            <a:off x="2031840" y="3141720"/>
            <a:ext cx="508032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70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Головними постачальниками вуглеводів є продукти рослинного походження: хліб, крупи, макаронні вироби, картопля, овочі, фрук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DOM\Desktop\13371849661678produktysoderzhaschieuglevody.jpeg"/>
          <p:cNvPicPr/>
          <p:nvPr/>
        </p:nvPicPr>
        <p:blipFill>
          <a:blip r:embed="rId2"/>
          <a:stretch/>
        </p:blipFill>
        <p:spPr>
          <a:xfrm>
            <a:off x="828720" y="3432240"/>
            <a:ext cx="762624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Місце для вмісту 3" descr="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трілка вниз 4" descr=""/>
          <p:cNvPicPr/>
          <p:nvPr/>
        </p:nvPicPr>
        <p:blipFill>
          <a:blip r:embed="rId1"/>
          <a:stretch/>
        </p:blipFill>
        <p:spPr>
          <a:xfrm>
            <a:off x="85680" y="30240"/>
            <a:ext cx="8747280" cy="1749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2"/>
          <a:srcRect l="0" t="0" r="99" b="11"/>
          <a:stretch/>
        </p:blipFill>
        <p:spPr>
          <a:xfrm>
            <a:off x="804960" y="1712880"/>
            <a:ext cx="7308720" cy="499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Місце для вмісту 2" descr=""/>
          <p:cNvPicPr/>
          <p:nvPr/>
        </p:nvPicPr>
        <p:blipFill>
          <a:blip r:embed="rId1"/>
          <a:stretch/>
        </p:blipFill>
        <p:spPr>
          <a:xfrm>
            <a:off x="237960" y="115920"/>
            <a:ext cx="8650440" cy="2408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135.jpg (400×250)"/>
          <p:cNvPicPr/>
          <p:nvPr/>
        </p:nvPicPr>
        <p:blipFill>
          <a:blip r:embed="rId2"/>
          <a:stretch/>
        </p:blipFill>
        <p:spPr>
          <a:xfrm>
            <a:off x="1460520" y="2421000"/>
            <a:ext cx="622296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Місце для вмісту 2" descr=""/>
          <p:cNvPicPr/>
          <p:nvPr/>
        </p:nvPicPr>
        <p:blipFill>
          <a:blip r:embed="rId1"/>
          <a:stretch/>
        </p:blipFill>
        <p:spPr>
          <a:xfrm>
            <a:off x="341280" y="-103320"/>
            <a:ext cx="8454960" cy="254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shutterstock_101261458.jpg (500×334)"/>
          <p:cNvPicPr/>
          <p:nvPr/>
        </p:nvPicPr>
        <p:blipFill>
          <a:blip r:embed="rId2"/>
          <a:stretch/>
        </p:blipFill>
        <p:spPr>
          <a:xfrm>
            <a:off x="1116000" y="2205000"/>
            <a:ext cx="6769080" cy="452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Місце для вмісту 2" descr=""/>
          <p:cNvPicPr/>
          <p:nvPr/>
        </p:nvPicPr>
        <p:blipFill>
          <a:blip r:embed="rId1"/>
          <a:stretch/>
        </p:blipFill>
        <p:spPr>
          <a:xfrm>
            <a:off x="176040" y="-66600"/>
            <a:ext cx="9047160" cy="285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ferum_big.jpg (650×408)"/>
          <p:cNvPicPr/>
          <p:nvPr/>
        </p:nvPicPr>
        <p:blipFill>
          <a:blip r:embed="rId2"/>
          <a:stretch/>
        </p:blipFill>
        <p:spPr>
          <a:xfrm>
            <a:off x="1258920" y="2503440"/>
            <a:ext cx="662616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Місце для вмісту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211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image002.jpg (446×405)"/>
          <p:cNvPicPr/>
          <p:nvPr/>
        </p:nvPicPr>
        <p:blipFill>
          <a:blip r:embed="rId2"/>
          <a:stretch/>
        </p:blipFill>
        <p:spPr>
          <a:xfrm>
            <a:off x="1979640" y="2276640"/>
            <a:ext cx="5113440" cy="442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Й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Добову потребу в йоді можуть забезпечити такі продукти: 1 куряче яйце, 100 г морської риби, 300г овочів, 500мл моло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0036-036-Istochniki-joda.jpg (960×720)"/>
          <p:cNvPicPr/>
          <p:nvPr/>
        </p:nvPicPr>
        <p:blipFill>
          <a:blip r:embed="rId1"/>
          <a:srcRect l="0" t="0" r="-62" b="80"/>
          <a:stretch/>
        </p:blipFill>
        <p:spPr>
          <a:xfrm>
            <a:off x="1908000" y="2421000"/>
            <a:ext cx="5040360" cy="3892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Заголовок 1"/>
          <p:cNvGrpSpPr/>
          <p:nvPr/>
        </p:nvGrpSpPr>
        <p:grpSpPr>
          <a:xfrm>
            <a:off x="-103320" y="-66600"/>
            <a:ext cx="9277560" cy="6960960"/>
            <a:chOff x="-103320" y="-66600"/>
            <a:chExt cx="9277560" cy="6960960"/>
          </a:xfrm>
        </p:grpSpPr>
        <p:pic>
          <p:nvPicPr>
            <p:cNvPr id="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03320" y="-66600"/>
              <a:ext cx="9277560" cy="69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79280" y="189000"/>
              <a:ext cx="8713800" cy="64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0000"/>
                  </a:solidFill>
                  <a:latin typeface="Calibri"/>
                  <a:ea typeface="Aharoni"/>
                </a:rPr>
                <a:t>«Здоров’я – це ще не все, </a:t>
              </a:r>
              <a:br>
                <a:rPr sz="4400"/>
              </a:br>
              <a:r>
                <a:rPr b="1" lang="uk-UA" sz="4400" spc="-1" strike="noStrike">
                  <a:solidFill>
                    <a:srgbClr val="ff0000"/>
                  </a:solidFill>
                  <a:latin typeface="Calibri"/>
                  <a:ea typeface="Aharoni"/>
                </a:rPr>
                <a:t>але без здоров’я все інше ніщо».</a:t>
              </a:r>
              <a:br>
                <a:rPr sz="4400"/>
              </a:br>
              <a:r>
                <a:rPr b="0" lang="uk-UA" sz="4400" spc="-1" strike="noStrike">
                  <a:solidFill>
                    <a:srgbClr val="000000"/>
                  </a:solidFill>
                  <a:latin typeface="Calibri"/>
                </a:rPr>
                <a:t>                        </a:t>
              </a:r>
              <a:br>
                <a:rPr sz="4400"/>
              </a:br>
              <a:r>
                <a:rPr b="0" lang="uk-UA" sz="4400" spc="-1" strike="noStrike">
                  <a:solidFill>
                    <a:srgbClr val="000000"/>
                  </a:solidFill>
                  <a:latin typeface="Calibri"/>
                </a:rPr>
                <a:t>                          </a:t>
              </a:r>
              <a:r>
                <a:rPr b="0" lang="uk-UA" sz="4400" spc="-1" strike="noStrike">
                  <a:solidFill>
                    <a:srgbClr val="00b050"/>
                  </a:solidFill>
                  <a:latin typeface="Calibri"/>
                </a:rPr>
                <a:t>Народна мудрість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65912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Місце для вмісту 2" descr=""/>
          <p:cNvPicPr/>
          <p:nvPr/>
        </p:nvPicPr>
        <p:blipFill>
          <a:blip r:embed="rId1"/>
          <a:stretch/>
        </p:blipFill>
        <p:spPr>
          <a:xfrm>
            <a:off x="-30240" y="-201600"/>
            <a:ext cx="9223560" cy="267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thumb2-b9a23582de8cf28fd46a5f7f1ab4bd5c_13753609682.jpg (393×262)"/>
          <p:cNvPicPr/>
          <p:nvPr/>
        </p:nvPicPr>
        <p:blipFill>
          <a:blip r:embed="rId2"/>
          <a:stretch/>
        </p:blipFill>
        <p:spPr>
          <a:xfrm>
            <a:off x="1258920" y="2281320"/>
            <a:ext cx="68659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Місце для вмісту 2" descr=""/>
          <p:cNvPicPr/>
          <p:nvPr/>
        </p:nvPicPr>
        <p:blipFill>
          <a:blip r:embed="rId1"/>
          <a:stretch/>
        </p:blipFill>
        <p:spPr>
          <a:xfrm>
            <a:off x="-66600" y="-165240"/>
            <a:ext cx="9307440" cy="370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mag.jpg (400×326)"/>
          <p:cNvPicPr/>
          <p:nvPr/>
        </p:nvPicPr>
        <p:blipFill>
          <a:blip r:embed="rId2"/>
          <a:stretch/>
        </p:blipFill>
        <p:spPr>
          <a:xfrm>
            <a:off x="2141640" y="3357720"/>
            <a:ext cx="429552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Місце для вмісту 2" descr=""/>
          <p:cNvPicPr/>
          <p:nvPr/>
        </p:nvPicPr>
        <p:blipFill>
          <a:blip r:embed="rId1"/>
          <a:stretch/>
        </p:blipFill>
        <p:spPr>
          <a:xfrm>
            <a:off x="6480" y="-122400"/>
            <a:ext cx="9137520" cy="1517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C:\Users\DOM\Desktop\worstpillscom_478fc47b650f6-300x281.jpg"/>
          <p:cNvPicPr/>
          <p:nvPr/>
        </p:nvPicPr>
        <p:blipFill>
          <a:blip r:embed="rId2"/>
          <a:stretch/>
        </p:blipFill>
        <p:spPr>
          <a:xfrm>
            <a:off x="108000" y="907920"/>
            <a:ext cx="3887640" cy="5950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3995640" y="957240"/>
            <a:ext cx="4942080" cy="5900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3760" y="27000"/>
            <a:ext cx="91440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Вітамін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водорозчинні та жиророзчинн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epositphotos_8783966_S.jpg (866×577)"/>
          <p:cNvPicPr/>
          <p:nvPr/>
        </p:nvPicPr>
        <p:blipFill>
          <a:blip r:embed="rId1"/>
          <a:srcRect l="0" t="0" r="0" b="38"/>
          <a:stretch/>
        </p:blipFill>
        <p:spPr>
          <a:xfrm>
            <a:off x="1258920" y="1773360"/>
            <a:ext cx="6697800" cy="4919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Місце для вмісту 2" descr=""/>
          <p:cNvPicPr/>
          <p:nvPr/>
        </p:nvPicPr>
        <p:blipFill>
          <a:blip r:embed="rId1"/>
          <a:stretch/>
        </p:blipFill>
        <p:spPr>
          <a:xfrm>
            <a:off x="6480" y="-189000"/>
            <a:ext cx="9144000" cy="31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28647_html_2e82342e.jpg (625×416)"/>
          <p:cNvPicPr/>
          <p:nvPr/>
        </p:nvPicPr>
        <p:blipFill>
          <a:blip r:embed="rId2"/>
          <a:stretch/>
        </p:blipFill>
        <p:spPr>
          <a:xfrm>
            <a:off x="1030320" y="2725560"/>
            <a:ext cx="693108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8720"/>
            <a:ext cx="91440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Вітаміни групи 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обхідні для розумової і фізичної прац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тяться вони у житньому хлібі, вівсяній та гречаній крупах, у горосі, квасолі, жовтку яєць, печінці, м’ясі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rcRect l="0" t="0" r="10" b="-1080"/>
          <a:stretch/>
        </p:blipFill>
        <p:spPr>
          <a:xfrm>
            <a:off x="611280" y="2743200"/>
            <a:ext cx="779148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Місце для вмісту 2" descr=""/>
          <p:cNvPicPr/>
          <p:nvPr/>
        </p:nvPicPr>
        <p:blipFill>
          <a:blip r:embed="rId1"/>
          <a:stretch/>
        </p:blipFill>
        <p:spPr>
          <a:xfrm>
            <a:off x="-231840" y="-237960"/>
            <a:ext cx="9699840" cy="4097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rcRect l="38821" t="0" r="171" b="62156"/>
          <a:stretch/>
        </p:blipFill>
        <p:spPr>
          <a:xfrm>
            <a:off x="755640" y="3551400"/>
            <a:ext cx="3095640" cy="2955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rcRect l="0" t="37966" r="42750" b="98"/>
          <a:stretch/>
        </p:blipFill>
        <p:spPr>
          <a:xfrm>
            <a:off x="4643280" y="3551400"/>
            <a:ext cx="3673800" cy="2955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Вітамін 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міцнює кістки, запобігає рахітов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титься в молоці, печінці, житньому хлібі, яйцях, риб’ячому жир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864072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Місце для вмісту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69200" cy="4024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2"/>
          <a:srcRect l="0" t="0" r="0" b="216"/>
          <a:stretch/>
        </p:blipFill>
        <p:spPr>
          <a:xfrm>
            <a:off x="1332000" y="3933720"/>
            <a:ext cx="65167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Місце для вмісту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1536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http://www.colady.ru/wp-content/uploads/2013/04/avitaminoz2.jpg"/>
          <p:cNvPicPr/>
          <p:nvPr/>
        </p:nvPicPr>
        <p:blipFill>
          <a:blip r:embed="rId2"/>
          <a:stretch/>
        </p:blipFill>
        <p:spPr>
          <a:xfrm>
            <a:off x="0" y="3395520"/>
            <a:ext cx="3598920" cy="3462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http://nmedik.org/images/stories/raznoe/avitaminoz.jpg"/>
          <p:cNvPicPr/>
          <p:nvPr/>
        </p:nvPicPr>
        <p:blipFill>
          <a:blip r:embed="rId3"/>
          <a:stretch/>
        </p:blipFill>
        <p:spPr>
          <a:xfrm>
            <a:off x="0" y="907920"/>
            <a:ext cx="529272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http://www.colady.ru/wp-content/uploads/2013/04/avitaminoz3.jpg"/>
          <p:cNvPicPr/>
          <p:nvPr/>
        </p:nvPicPr>
        <p:blipFill>
          <a:blip r:embed="rId4"/>
          <a:stretch/>
        </p:blipFill>
        <p:spPr>
          <a:xfrm>
            <a:off x="5292720" y="2708280"/>
            <a:ext cx="385128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ьна виноска 3"/>
          <p:cNvSpPr/>
          <p:nvPr/>
        </p:nvSpPr>
        <p:spPr>
          <a:xfrm>
            <a:off x="200160" y="260280"/>
            <a:ext cx="8712000" cy="57610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Calibri"/>
              </a:rPr>
              <a:t>Жити , щоб їсти , чи їсти, щоб жити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Місце для вмісту 2" descr=""/>
          <p:cNvPicPr/>
          <p:nvPr/>
        </p:nvPicPr>
        <p:blipFill>
          <a:blip r:embed="rId1"/>
          <a:stretch/>
        </p:blipFill>
        <p:spPr>
          <a:xfrm>
            <a:off x="-49320" y="-171360"/>
            <a:ext cx="924264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http://doctor54.ru/mod/wiki/images/bands/1283944052_1_images.jpg"/>
          <p:cNvPicPr/>
          <p:nvPr/>
        </p:nvPicPr>
        <p:blipFill>
          <a:blip r:embed="rId2"/>
          <a:stretch/>
        </p:blipFill>
        <p:spPr>
          <a:xfrm>
            <a:off x="5867280" y="4822920"/>
            <a:ext cx="3305160" cy="20415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Ребенок с рахитом. Искривление позвоночника при рахите"/>
          <p:cNvPicPr/>
          <p:nvPr/>
        </p:nvPicPr>
        <p:blipFill>
          <a:blip r:embed="rId3"/>
          <a:srcRect l="0" t="0" r="112" b="28"/>
          <a:stretch/>
        </p:blipFill>
        <p:spPr>
          <a:xfrm>
            <a:off x="5148360" y="993600"/>
            <a:ext cx="3797280" cy="38293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https://encrypted-tbn3.gstatic.com/images?q=tbn:ANd9GcRNjrxOURsgYW6koHezHvasEiIwMU28I6J4Lm_bWSoMRgTuC66_VQ"/>
          <p:cNvPicPr/>
          <p:nvPr/>
        </p:nvPicPr>
        <p:blipFill>
          <a:blip r:embed="rId4"/>
          <a:stretch/>
        </p:blipFill>
        <p:spPr>
          <a:xfrm>
            <a:off x="484200" y="4087800"/>
            <a:ext cx="3413160" cy="263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http://health.passion.ru/sites/passion.ru/files/content/images/s_article/36208/bodyimages/0302hea_1.jpg"/>
          <p:cNvPicPr/>
          <p:nvPr/>
        </p:nvPicPr>
        <p:blipFill>
          <a:blip r:embed="rId5"/>
          <a:stretch/>
        </p:blipFill>
        <p:spPr>
          <a:xfrm>
            <a:off x="0" y="993600"/>
            <a:ext cx="438156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20520"/>
            <a:ext cx="9144000" cy="2903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и надлишку (а буває й таке) – </a:t>
            </a: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гіпервітаміноз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Порушується обмін речовин, проходить інтоксикація організм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C:\Users\DOM\Desktop\01-too-many-drugs.jpg"/>
          <p:cNvPicPr/>
          <p:nvPr/>
        </p:nvPicPr>
        <p:blipFill>
          <a:blip r:embed="rId1"/>
          <a:stretch/>
        </p:blipFill>
        <p:spPr>
          <a:xfrm>
            <a:off x="5048280" y="2997360"/>
            <a:ext cx="4095720" cy="3860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http://polyvita.ru/wp-content/uploads/2012/01/pellagra.jpg"/>
          <p:cNvPicPr/>
          <p:nvPr/>
        </p:nvPicPr>
        <p:blipFill>
          <a:blip r:embed="rId2"/>
          <a:stretch/>
        </p:blipFill>
        <p:spPr>
          <a:xfrm>
            <a:off x="0" y="2997360"/>
            <a:ext cx="50482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-14400" y="0"/>
            <a:ext cx="9158400" cy="1773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Культура харчув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Наше здоров’я в наших руках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1329401543.jpg (400×336)"/>
          <p:cNvPicPr/>
          <p:nvPr/>
        </p:nvPicPr>
        <p:blipFill>
          <a:blip r:embed="rId1"/>
          <a:stretch/>
        </p:blipFill>
        <p:spPr>
          <a:xfrm>
            <a:off x="1476360" y="1790640"/>
            <a:ext cx="6053040" cy="5085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Місце для вмісту 2"/>
          <p:cNvGrpSpPr/>
          <p:nvPr/>
        </p:nvGrpSpPr>
        <p:grpSpPr>
          <a:xfrm>
            <a:off x="-55440" y="-201600"/>
            <a:ext cx="9254880" cy="1560600"/>
            <a:chOff x="-55440" y="-201600"/>
            <a:chExt cx="9254880" cy="1560600"/>
          </a:xfrm>
        </p:grpSpPr>
        <p:pic>
          <p:nvPicPr>
            <p:cNvPr id="123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55440" y="-201600"/>
              <a:ext cx="92548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Ожиріння</a:t>
              </a: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Рисунок 3" descr="Так відбувається процес ожиріння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Булім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захворювання, в основі якого лежить нервово-психічний розлад, що виявляється в неконтрольованому споживанні їжі, зосередженості на їжі, калоріях, ваз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Bulimia by LemonTequila Булімі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33480"/>
            <a:ext cx="9144000" cy="2404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Анорекс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  – захворювання, що характеризується порушенням роботи харчового центру головного мозку і проявляється відсутністю апетиту, відмовою від їж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Anorexia Анорексі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1840" y="2503440"/>
            <a:ext cx="626580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ini_canned-peas-small.jpg (215×237)"/>
          <p:cNvPicPr/>
          <p:nvPr/>
        </p:nvPicPr>
        <p:blipFill>
          <a:blip r:embed="rId1"/>
          <a:srcRect l="0" t="0" r="-147" b="0"/>
          <a:stretch/>
        </p:blipFill>
        <p:spPr>
          <a:xfrm>
            <a:off x="0" y="7920"/>
            <a:ext cx="2411280" cy="367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yak-zakochuvati-banki.jpg (500×349)"/>
          <p:cNvPicPr/>
          <p:nvPr/>
        </p:nvPicPr>
        <p:blipFill>
          <a:blip r:embed="rId2"/>
          <a:srcRect l="0" t="0" r="-39" b="-74"/>
          <a:stretch/>
        </p:blipFill>
        <p:spPr>
          <a:xfrm>
            <a:off x="2400480" y="-23760"/>
            <a:ext cx="2325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eshki_bumazhnye.jpg (200×130)"/>
          <p:cNvPicPr/>
          <p:nvPr/>
        </p:nvPicPr>
        <p:blipFill>
          <a:blip r:embed="rId3"/>
          <a:stretch/>
        </p:blipFill>
        <p:spPr>
          <a:xfrm>
            <a:off x="4713120" y="-23760"/>
            <a:ext cx="4424400" cy="287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kakaja-upakovka-polzuetsja-sprosom-obo-vsem_1.jpg (320×265)"/>
          <p:cNvPicPr/>
          <p:nvPr/>
        </p:nvPicPr>
        <p:blipFill>
          <a:blip r:embed="rId4"/>
          <a:srcRect l="0" t="0" r="-65" b="0"/>
          <a:stretch/>
        </p:blipFill>
        <p:spPr>
          <a:xfrm>
            <a:off x="0" y="3681360"/>
            <a:ext cx="3362400" cy="25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19440_149145_1379063683.jpg (360×222)"/>
          <p:cNvPicPr/>
          <p:nvPr/>
        </p:nvPicPr>
        <p:blipFill>
          <a:blip r:embed="rId5"/>
          <a:stretch/>
        </p:blipFill>
        <p:spPr>
          <a:xfrm>
            <a:off x="3203640" y="2782800"/>
            <a:ext cx="3287520" cy="2027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news_detail_480_800_7116b7b7980f9157c9d07da36d010e0d.jpg (480×326)"/>
          <p:cNvPicPr/>
          <p:nvPr/>
        </p:nvPicPr>
        <p:blipFill>
          <a:blip r:embed="rId6"/>
          <a:srcRect l="0" t="0" r="0" b="-36"/>
          <a:stretch/>
        </p:blipFill>
        <p:spPr>
          <a:xfrm>
            <a:off x="4979880" y="3935520"/>
            <a:ext cx="41576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-360"/>
            <a:ext cx="9144000" cy="264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Консультація №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«Про що нам розповідає штрихкод?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1"/>
          <p:cNvSpPr/>
          <p:nvPr/>
        </p:nvSpPr>
        <p:spPr>
          <a:xfrm>
            <a:off x="0" y="2690640"/>
            <a:ext cx="9144000" cy="3018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клади деяких кодів краї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країна -4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ерманія – 400–44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сія – 460–4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льща – 5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итай – 690–69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3" descr="мал"/>
          <p:cNvPicPr/>
          <p:nvPr/>
        </p:nvPicPr>
        <p:blipFill>
          <a:blip r:embed="rId1"/>
          <a:stretch/>
        </p:blipFill>
        <p:spPr>
          <a:xfrm>
            <a:off x="755640" y="90360"/>
            <a:ext cx="7961400" cy="45133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кутник 4"/>
          <p:cNvSpPr/>
          <p:nvPr/>
        </p:nvSpPr>
        <p:spPr>
          <a:xfrm>
            <a:off x="3240" y="4603680"/>
            <a:ext cx="9144000" cy="2226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 штриху-коді перші 2-3 цифри означають країну-виробника, наступні 5 - підприємство-виробник, ще 5 - найменування товару, споживчі властивості, розміри, масу, колір. Остання цифра - контрольна, для перевірки правильності зчитування штрих-коду скане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Місце для вмісту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640720" cy="4605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кутник 7" descr=""/>
          <p:cNvPicPr/>
          <p:nvPr/>
        </p:nvPicPr>
        <p:blipFill>
          <a:blip r:embed="rId2"/>
          <a:stretch/>
        </p:blipFill>
        <p:spPr>
          <a:xfrm>
            <a:off x="19080" y="4565520"/>
            <a:ext cx="91058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Консультація №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alibri"/>
              </a:rPr>
              <a:t>«Знайомтесь: харчова добавка!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xarchovi-dobavki-e-dobavki.jpg (336×336)"/>
          <p:cNvPicPr/>
          <p:nvPr/>
        </p:nvPicPr>
        <p:blipFill>
          <a:blip r:embed="rId1"/>
          <a:stretch/>
        </p:blipFill>
        <p:spPr>
          <a:xfrm>
            <a:off x="-7920" y="28288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кутник 1"/>
          <p:cNvSpPr/>
          <p:nvPr/>
        </p:nvSpPr>
        <p:spPr>
          <a:xfrm>
            <a:off x="3975120" y="2900520"/>
            <a:ext cx="5168880" cy="2775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100-Е182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бар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200-Е2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консерван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300-Е3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антизакислювач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400-Е4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стабілізато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500-Е5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емульга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600-Е6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посилювачі смаку та арома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700-Е8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запасні індекс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Е900-Е999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піногасн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Місце для вмісту 2"/>
          <p:cNvGrpSpPr/>
          <p:nvPr/>
        </p:nvGrpSpPr>
        <p:grpSpPr>
          <a:xfrm>
            <a:off x="-66600" y="-281160"/>
            <a:ext cx="9375840" cy="3206880"/>
            <a:chOff x="-66600" y="-281160"/>
            <a:chExt cx="9375840" cy="3206880"/>
          </a:xfrm>
        </p:grpSpPr>
        <p:pic>
          <p:nvPicPr>
            <p:cNvPr id="144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66600" y="-281160"/>
              <a:ext cx="937584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-9360" y="0"/>
              <a:ext cx="915336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Консультація №3 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«ГМО - шлях до вимирання людства?»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6" name="Picture 2" descr="Klimat.jpg (900×600)"/>
          <p:cNvPicPr/>
          <p:nvPr/>
        </p:nvPicPr>
        <p:blipFill>
          <a:blip r:embed="rId2"/>
          <a:stretch/>
        </p:blipFill>
        <p:spPr>
          <a:xfrm>
            <a:off x="1187280" y="2514600"/>
            <a:ext cx="65167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6480" y="2023920"/>
            <a:ext cx="9156960" cy="2810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Практикум</a:t>
            </a: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«Первинна екологічна експертиз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-16200"/>
            <a:ext cx="9144000" cy="142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Дослідження складу улюблених продуктів учні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gr_31.10.13_chipsu.jpg (300×186)"/>
          <p:cNvPicPr/>
          <p:nvPr/>
        </p:nvPicPr>
        <p:blipFill>
          <a:blip r:embed="rId1"/>
          <a:stretch/>
        </p:blipFill>
        <p:spPr>
          <a:xfrm>
            <a:off x="0" y="1413000"/>
            <a:ext cx="5076720" cy="3146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oca-Cola1.jpg (380×300)"/>
          <p:cNvPicPr/>
          <p:nvPr/>
        </p:nvPicPr>
        <p:blipFill>
          <a:blip r:embed="rId2"/>
          <a:srcRect l="0" t="0" r="68" b="0"/>
          <a:stretch/>
        </p:blipFill>
        <p:spPr>
          <a:xfrm>
            <a:off x="7020000" y="1413000"/>
            <a:ext cx="1655640" cy="447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250px-Snickers_wrapped.Этикетка.jpg (250×72)"/>
          <p:cNvPicPr/>
          <p:nvPr/>
        </p:nvPicPr>
        <p:blipFill>
          <a:blip r:embed="rId3"/>
          <a:stretch/>
        </p:blipFill>
        <p:spPr>
          <a:xfrm>
            <a:off x="0" y="4559400"/>
            <a:ext cx="6073920" cy="1749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Місце для вмісту 2"/>
          <p:cNvGrpSpPr/>
          <p:nvPr/>
        </p:nvGrpSpPr>
        <p:grpSpPr>
          <a:xfrm>
            <a:off x="-55440" y="-201600"/>
            <a:ext cx="9254880" cy="2384280"/>
            <a:chOff x="-55440" y="-201600"/>
            <a:chExt cx="9254880" cy="2384280"/>
          </a:xfrm>
        </p:grpSpPr>
        <p:pic>
          <p:nvPicPr>
            <p:cNvPr id="153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55440" y="-201600"/>
              <a:ext cx="9254880" cy="23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0"/>
              <a:ext cx="914400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ffff"/>
                  </a:solidFill>
                  <a:latin typeface="Calibri"/>
                </a:rPr>
                <a:t>Корисні поради з питань гігієни харчування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Прямокутник 1"/>
          <p:cNvSpPr/>
          <p:nvPr/>
        </p:nvSpPr>
        <p:spPr>
          <a:xfrm>
            <a:off x="0" y="1700280"/>
            <a:ext cx="9144000" cy="5119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сі продукти тваринного і більшість рослинного походження обов’язково піддавати тепловій обробці з метою запобігання харчовому отруєнню та кращого засвоєння. 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Щоб поліпшити смак і підвищити поживну цінність овочевих супів, у них рекомендується додавати молоко, вершки, сметану, кисле молоко.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Їжу рекомендується приймати 4 рази на день, але не менше 3-х разів, а хворим 5-6 разів.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• Важливо харчуватися в одні і ті ж години. За 1,5 години до сну необхідно з’їсти легку вечер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кутник 3"/>
          <p:cNvSpPr/>
          <p:nvPr/>
        </p:nvSpPr>
        <p:spPr>
          <a:xfrm>
            <a:off x="0" y="0"/>
            <a:ext cx="9144000" cy="6704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Calibri"/>
              </a:rPr>
              <a:t>Поясніть зміст приказок різних народів про здорове харчуванн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Лягай натщесерце - прокинешся бадьорим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ассірійська приказк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Розподіли свій обід - залишиться й на вечерю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арабська приказк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Шлунок вже наївся, а очі - ще ні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монгольська приказк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Calibri"/>
              </a:rPr>
              <a:t>Свою хворобу шукай на дні тарілки </a:t>
            </a:r>
            <a:r>
              <a:rPr b="0" i="1" lang="uk-UA" sz="3400" spc="-1" strike="noStrike">
                <a:solidFill>
                  <a:srgbClr val="ffffff"/>
                </a:solidFill>
                <a:latin typeface="Calibri"/>
              </a:rPr>
              <a:t>(китайська мудрість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Місце для вмісту 2"/>
          <p:cNvGrpSpPr/>
          <p:nvPr/>
        </p:nvGrpSpPr>
        <p:grpSpPr>
          <a:xfrm>
            <a:off x="12600" y="-49320"/>
            <a:ext cx="9045720" cy="6810480"/>
            <a:chOff x="12600" y="-49320"/>
            <a:chExt cx="9045720" cy="6810480"/>
          </a:xfrm>
        </p:grpSpPr>
        <p:pic>
          <p:nvPicPr>
            <p:cNvPr id="53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12600" y="-49320"/>
              <a:ext cx="9045720" cy="68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50920" y="189000"/>
              <a:ext cx="85690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ема. Харчування і здоров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</a:t>
              </a:r>
              <a:r>
                <a:rPr b="1" lang="uk-UA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я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558ed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558ed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558ed5"/>
                  </a:solidFill>
                  <a:latin typeface="Times New Roman"/>
                  <a:ea typeface="Times New Roman"/>
                </a:rPr>
                <a:t>Мета уроку: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вчити основні аспекти раціонального харчування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ти поняття про значення вітамінів та мінеральних речовин для обміну речовин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рияти розумінню учнями переваг здорового способу життя та заохочувати до здобуття знань, умінь і навичок здорового способу життя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имулювати до самостійного й усвідомленого вибору життєвої позиції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ховувати в підлітків бережливе, дбайливе та усвідомлене ставлення до власного здоров’я як однієї з найвищих людських цінностей, та ведення здорового способу життя;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Місце для вмісту 2"/>
          <p:cNvGrpSpPr/>
          <p:nvPr/>
        </p:nvGrpSpPr>
        <p:grpSpPr>
          <a:xfrm>
            <a:off x="-103320" y="6480"/>
            <a:ext cx="9350640" cy="6887880"/>
            <a:chOff x="-103320" y="6480"/>
            <a:chExt cx="9350640" cy="6887880"/>
          </a:xfrm>
        </p:grpSpPr>
        <p:pic>
          <p:nvPicPr>
            <p:cNvPr id="56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-103320" y="6480"/>
              <a:ext cx="9350640" cy="68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79280" y="260280"/>
              <a:ext cx="878544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00000"/>
                  </a:solidFill>
                  <a:latin typeface="Calibri"/>
                </a:rPr>
                <a:t>Вивчивши цю тему, ви дізнаєтеся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що  їжа основне джерело енергії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процеси живлення і травленн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зможете пояснити функціональне значення для організму білків, жирів, вуглеводів, вітамінів, води і мінеральних речовин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обмін речовин і енергії між організмом і оточуючим середовищем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4f81bd"/>
                  </a:solidFill>
                  <a:latin typeface="Calibri"/>
                </a:rPr>
                <a:t>зможете застосувати знання для самоспостереження за співвідношенням ваги і росту тіла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8000" y="189000"/>
            <a:ext cx="8856720" cy="6480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558ed5"/>
                </a:solidFill>
                <a:latin typeface="Calibri"/>
              </a:rPr>
              <a:t>                           </a:t>
            </a:r>
            <a:r>
              <a:rPr b="1" lang="uk-UA" sz="3100" spc="-1" strike="noStrike">
                <a:solidFill>
                  <a:srgbClr val="558ed5"/>
                </a:solidFill>
                <a:latin typeface="Calibri"/>
              </a:rPr>
              <a:t>Інформаційний бюлетень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500" spc="-1" strike="noStrike">
                <a:solidFill>
                  <a:srgbClr val="c00000"/>
                </a:solidFill>
                <a:latin typeface="Calibri"/>
              </a:rPr>
              <a:t>Учені  підрахували,  що  протягом  доби  в  людському        організмі   масою   70 кг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розкладається 125г білків, 70г жирів, 450г вуглеводів з вивільненням 12 600 кДж енергії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поглинається 460л кисню і виділяється 403л вуглекислого газ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гине і змінюється 450 млрд еритроцитів, 22 – 30 млрд лейкоцитів, 270-430  млрд тромбоциті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гине та відновлюється 50% епітеліальних клітин шлунка та кишковик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серце проштовхує від 10 до 70 тисяч літрів кров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у вени надходить близько 14кг лімф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передсердя і шлуночки скорочуються 86400 разі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953735"/>
                </a:solidFill>
                <a:latin typeface="Calibri"/>
              </a:rPr>
              <a:t>здійснюється 23040 дихальних рухі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через легені проходить 11520л повітр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00000"/>
                </a:solidFill>
                <a:latin typeface="Calibri"/>
              </a:rPr>
              <a:t>через травну систему всмоктується 7-9л рідин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58ed5"/>
                </a:solidFill>
                <a:latin typeface="Calibri"/>
              </a:rPr>
              <a:t>утворюється і виділяється з організму 1,3-1,5л сеч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00000"/>
                </a:solidFill>
                <a:latin typeface="Calibri"/>
              </a:rPr>
              <a:t>випаровується через легені 0,4л води та разом з потом – 0,5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Місце для вмісту 3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839440" cy="6600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трілка вниз 3"/>
          <p:cNvSpPr/>
          <p:nvPr/>
        </p:nvSpPr>
        <p:spPr>
          <a:xfrm>
            <a:off x="108000" y="189000"/>
            <a:ext cx="8567640" cy="2922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Calibri"/>
              </a:rPr>
              <a:t>Співвідношення білків, жирів і вуглеводів повинна склад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953735"/>
                </a:solidFill>
                <a:latin typeface="Calibri"/>
              </a:rPr>
              <a:t>1:1: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Місце для вмісту 4" descr="http://disted.edu.vn.ua/media/images/student2/biology/9_form/tema_01/02.png"/>
          <p:cNvPicPr/>
          <p:nvPr/>
        </p:nvPicPr>
        <p:blipFill>
          <a:blip r:embed="rId1"/>
          <a:stretch/>
        </p:blipFill>
        <p:spPr>
          <a:xfrm>
            <a:off x="395280" y="3429000"/>
            <a:ext cx="84978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6:44:46Z</dcterms:created>
  <dc:creator>DOM</dc:creator>
  <dc:description/>
  <dc:language>en-US</dc:language>
  <cp:lastModifiedBy>User</cp:lastModifiedBy>
  <dcterms:modified xsi:type="dcterms:W3CDTF">2014-01-22T10:29:28Z</dcterms:modified>
  <cp:revision>39</cp:revision>
  <dc:subject/>
  <dc:title>«Здоров’я – це ще не все, але без здоров’я все інше ніщо».                         Народна мудрі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3c000000000001024140</vt:lpwstr>
  </property>
</Properties>
</file>