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692-E918-42D5-93A5-447A3AD3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BD7-0DE4-4509-972A-86F23C7E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E34-B93A-46A0-B692-8568480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B6F-24EF-483B-99F6-69E33D7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C946-92D6-4FE0-8988-6DD2A555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C3FE-6A63-4E4E-8D02-BE316903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05B-DA12-49DD-A9A3-05EB9401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4D5-95E8-47FE-AE15-E8927E85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F419-6323-496F-B77F-92943F7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11E6-4AE4-4564-97E0-559E2668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5773-77D0-4B45-A3A3-905BC82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E78-8A5C-469E-A224-A15B8ABE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0F0-68CD-4C0A-8452-9DCA504F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9F2-C528-4C48-8F57-2BC3B87D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066-DFA1-493B-A5B4-3FD80FB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4819-8E02-4729-973F-84031FBB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1A07-1C02-446A-A236-2EDADE60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2EE-E564-4A48-8CBD-1237B567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C26-1D6D-4EA4-BD03-C5368D3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B73-3993-473A-AF1A-1BD52D05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F3B-7653-4F1D-8B9A-4E4C48CF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2CF-E625-4254-B614-28384A8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756-55A5-4792-866E-C159C7D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B55-77AE-4A9D-890D-B0C9B7C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AF1-42F0-4EF2-AAB7-9631CA347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F35-0039-4D9C-A9B5-0124882FE82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лайд1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276640"/>
            <a:ext cx="309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ВТ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48360" y="2205000"/>
            <a:ext cx="36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ЕТЕР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5157720"/>
            <a:ext cx="280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ИНТЕЗУЮТЬ ОРГАНІЧНІ РЕЧОВИН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00000" y="364500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ОДОРОСТ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2000" y="3500280"/>
            <a:ext cx="19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76720" y="5445000"/>
            <a:ext cx="35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БИРАЄ ВОДУ І МІНЕРАЛЬНІ СОЛ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77164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ЛЕН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2124000" y="1341360"/>
            <a:ext cx="144000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2195640" y="285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076720" y="1341360"/>
            <a:ext cx="1800360" cy="865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877080" y="2781360"/>
            <a:ext cx="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6804000" y="4076640"/>
            <a:ext cx="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916360" y="1052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ІС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79280" y="3284640"/>
            <a:ext cx="388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вільно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-8 мм за рі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356000" y="3357720"/>
            <a:ext cx="44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у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 4 тис. рокі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484360" y="1844640"/>
            <a:ext cx="1944720" cy="158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76720" y="1844640"/>
            <a:ext cx="1728720" cy="165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3492360" y="4653000"/>
            <a:ext cx="207036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ла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419640" y="33336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кипні (8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615636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истуваті (1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61128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щисті (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4500720" y="227628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5292720" y="3500280"/>
            <a:ext cx="122400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2411280" y="3429000"/>
            <a:ext cx="1368720" cy="15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Дослід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Лишайник сизий"/>
          <p:cNvPicPr/>
          <p:nvPr/>
        </p:nvPicPr>
        <p:blipFill>
          <a:blip r:embed="rId1"/>
          <a:stretch/>
        </p:blipFill>
        <p:spPr>
          <a:xfrm>
            <a:off x="1835280" y="1341360"/>
            <a:ext cx="5905440" cy="4302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9528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Лишайник коричневий"/>
          <p:cNvPicPr/>
          <p:nvPr/>
        </p:nvPicPr>
        <p:blipFill>
          <a:blip r:embed="rId1"/>
          <a:stretch/>
        </p:blipFill>
        <p:spPr>
          <a:xfrm>
            <a:off x="1116000" y="404640"/>
            <a:ext cx="7299360" cy="5475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Nak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61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4" descr="Лишайник жовтий"/>
          <p:cNvPicPr/>
          <p:nvPr/>
        </p:nvPicPr>
        <p:blipFill>
          <a:blip r:embed="rId1"/>
          <a:stretch/>
        </p:blipFill>
        <p:spPr>
          <a:xfrm>
            <a:off x="1403280" y="189000"/>
            <a:ext cx="6696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3020402-3"/>
          <p:cNvPicPr/>
          <p:nvPr/>
        </p:nvPicPr>
        <p:blipFill>
          <a:blip r:embed="rId1"/>
          <a:stretch/>
        </p:blipFill>
        <p:spPr>
          <a:xfrm>
            <a:off x="1979640" y="765000"/>
            <a:ext cx="52927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uch"/>
          <p:cNvPicPr/>
          <p:nvPr/>
        </p:nvPicPr>
        <p:blipFill>
          <a:blip r:embed="rId1"/>
          <a:stretch/>
        </p:blipFill>
        <p:spPr>
          <a:xfrm>
            <a:off x="2050920" y="189000"/>
            <a:ext cx="4513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79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List"/>
          <p:cNvPicPr/>
          <p:nvPr/>
        </p:nvPicPr>
        <p:blipFill>
          <a:blip r:embed="rId1"/>
          <a:stretch/>
        </p:blipFill>
        <p:spPr>
          <a:xfrm>
            <a:off x="1979640" y="189000"/>
            <a:ext cx="56167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Monotype Corsiva"/>
              </a:rPr>
              <a:t>Урок-подорож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: Лишайники – симбіотичні організми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начення лишайників у природі й житті люди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59280" y="436572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ишайників країна вас зустрічає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ікаві знання для вас відкрива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Gri113"/>
          <p:cNvPicPr/>
          <p:nvPr/>
        </p:nvPicPr>
        <p:blipFill>
          <a:blip r:embed="rId1"/>
          <a:stretch/>
        </p:blipFill>
        <p:spPr>
          <a:xfrm>
            <a:off x="539640" y="4149720"/>
            <a:ext cx="2714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40" y="744120"/>
            <a:ext cx="8161920" cy="5707080"/>
            <a:chOff x="228240" y="744120"/>
            <a:chExt cx="8161920" cy="5707080"/>
          </a:xfrm>
        </p:grpSpPr>
        <p:sp>
          <p:nvSpPr>
            <p:cNvPr id="185" name="_s1029"/>
            <p:cNvSpPr/>
            <p:nvPr/>
          </p:nvSpPr>
          <p:spPr>
            <a:xfrm>
              <a:off x="3708720" y="4508640"/>
              <a:ext cx="1934640" cy="1942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Ґрунтоутворююч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>
              <a:off x="228240" y="744120"/>
              <a:ext cx="2111040" cy="20365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Бактерицид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720" y="4150080"/>
              <a:ext cx="2168280" cy="2096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Їстів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1080" y="4221000"/>
              <a:ext cx="2089080" cy="1944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Кормов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720" y="1988640"/>
              <a:ext cx="2070720" cy="191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Ліхенологі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339280" y="3429000"/>
              <a:ext cx="1439280" cy="93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16720" y="3933360"/>
              <a:ext cx="324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68360" y="2134800"/>
              <a:ext cx="1510200" cy="501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796360" y="1773720"/>
              <a:ext cx="1296720" cy="79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" name="Line 13"/>
          <p:cNvSpPr/>
          <p:nvPr/>
        </p:nvSpPr>
        <p:spPr>
          <a:xfrm>
            <a:off x="5651640" y="3500280"/>
            <a:ext cx="108108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_s1029"/>
          <p:cNvSpPr/>
          <p:nvPr/>
        </p:nvSpPr>
        <p:spPr>
          <a:xfrm>
            <a:off x="7020000" y="620640"/>
            <a:ext cx="1944720" cy="18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Біоіндикатор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Підприєм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начення лишайників у житті людини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корм для тварин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кладонія, цетрарія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їжа для людей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леканора, або манна небесна, аспіцилія їстівн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 у промисловості для отримання цукрів, барвників, лакмусу, фарби, спир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у парфумерії для закріплення аромату духів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еверія “дубовий мох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у медицині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ісландський мох, багатий на вітамін С, має бактерицидні властивості, з нього виготовляють антибіотик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Екологічна зупи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Екологічна роль лишайників у природі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грунтоутворююч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організми-піонер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середовище життя багатьох безхребетних твари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беруть участь у біологічному вивітрюванні скельних порі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індикатори стану навколишнього середовища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Флуору, чадного газу, оксидів Сульфуру, Нітроген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6) накопичують радіоактивні елементи – Уран, Радій, Торі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вчи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§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58, с. 238-241; виконати завдання в робочому зошит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Спасибі за плідну роботу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о нових цікавих зустріче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Мет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14716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знайомити учнів із особливостями будови, процесів життєдіяльності, значенням у природі та житті людини лишайників, розвивати вміння порівнювати особливості будови лишайників з іншими вивченими групами організмів; виховувати екологічне мислення школярів і цікавість д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4797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Обладнання: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зразки лишайників, таблиці, блок-схеми, дидактичний матері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роблемне питанн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 дозволяє лишайникам заселити зовсім різні за природними умовами куточки Землі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112536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Місце лишайників у класифікації живих організм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24000" y="333360"/>
            <a:ext cx="8497800" cy="6335640"/>
            <a:chOff x="324000" y="333360"/>
            <a:chExt cx="8497800" cy="6335640"/>
          </a:xfrm>
        </p:grpSpPr>
        <p:grpSp>
          <p:nvGrpSpPr>
            <p:cNvPr id="110" name="Group 3"/>
            <p:cNvGrpSpPr/>
            <p:nvPr/>
          </p:nvGrpSpPr>
          <p:grpSpPr>
            <a:xfrm>
              <a:off x="2556000" y="333360"/>
              <a:ext cx="3887640" cy="936720"/>
              <a:chOff x="2556000" y="333360"/>
              <a:chExt cx="3887640" cy="936720"/>
            </a:xfrm>
          </p:grpSpPr>
          <p:sp>
            <p:nvSpPr>
              <p:cNvPr id="111" name="AutoShape 4"/>
              <p:cNvSpPr/>
              <p:nvPr/>
            </p:nvSpPr>
            <p:spPr>
              <a:xfrm>
                <a:off x="2556000" y="333360"/>
                <a:ext cx="3887640" cy="936720"/>
              </a:xfrm>
              <a:prstGeom prst="flowChartAlternateProcess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Text Box 5"/>
              <p:cNvSpPr/>
              <p:nvPr/>
            </p:nvSpPr>
            <p:spPr>
              <a:xfrm>
                <a:off x="2772000" y="405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000000"/>
                    </a:solidFill>
                    <a:latin typeface="Arial"/>
                  </a:rPr>
                  <a:t>Царство гриби</a:t>
                </a: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" name="AutoShape 6"/>
            <p:cNvSpPr/>
            <p:nvPr/>
          </p:nvSpPr>
          <p:spPr>
            <a:xfrm>
              <a:off x="755640" y="4292640"/>
              <a:ext cx="2160720" cy="1368360"/>
            </a:xfrm>
            <a:prstGeom prst="flowChartConnec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324000" y="2133720"/>
              <a:ext cx="2232000" cy="863640"/>
              <a:chOff x="324000" y="2133720"/>
              <a:chExt cx="2232000" cy="863640"/>
            </a:xfrm>
          </p:grpSpPr>
          <p:sp>
            <p:nvSpPr>
              <p:cNvPr id="115" name="AutoShape 8"/>
              <p:cNvSpPr/>
              <p:nvPr/>
            </p:nvSpPr>
            <p:spPr>
              <a:xfrm>
                <a:off x="324000" y="2133720"/>
                <a:ext cx="2232000" cy="86364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611280" y="2421000"/>
                <a:ext cx="16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діл гриби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0"/>
            <p:cNvGrpSpPr/>
            <p:nvPr/>
          </p:nvGrpSpPr>
          <p:grpSpPr>
            <a:xfrm>
              <a:off x="3348000" y="2637000"/>
              <a:ext cx="2233440" cy="1511280"/>
              <a:chOff x="3348000" y="2637000"/>
              <a:chExt cx="2233440" cy="1511280"/>
            </a:xfrm>
          </p:grpSpPr>
          <p:sp>
            <p:nvSpPr>
              <p:cNvPr id="118" name="AutoShape 11"/>
              <p:cNvSpPr/>
              <p:nvPr/>
            </p:nvSpPr>
            <p:spPr>
              <a:xfrm>
                <a:off x="3348000" y="2637000"/>
                <a:ext cx="2233440" cy="151128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3636720" y="2924280"/>
                <a:ext cx="172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Слизовики (Міксоміцети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3"/>
            <p:cNvGrpSpPr/>
            <p:nvPr/>
          </p:nvGrpSpPr>
          <p:grpSpPr>
            <a:xfrm>
              <a:off x="6443640" y="2060640"/>
              <a:ext cx="2232000" cy="790560"/>
              <a:chOff x="6443640" y="2060640"/>
              <a:chExt cx="2232000" cy="790560"/>
            </a:xfrm>
          </p:grpSpPr>
          <p:sp>
            <p:nvSpPr>
              <p:cNvPr id="121" name="AutoShape 14"/>
              <p:cNvSpPr/>
              <p:nvPr/>
            </p:nvSpPr>
            <p:spPr>
              <a:xfrm>
                <a:off x="6443640" y="2060640"/>
                <a:ext cx="2232000" cy="79056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732720" y="2131920"/>
                <a:ext cx="165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лишайник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16"/>
            <p:cNvGrpSpPr/>
            <p:nvPr/>
          </p:nvGrpSpPr>
          <p:grpSpPr>
            <a:xfrm>
              <a:off x="900000" y="4581360"/>
              <a:ext cx="2016360" cy="642600"/>
              <a:chOff x="900000" y="4581360"/>
              <a:chExt cx="2016360" cy="642600"/>
            </a:xfrm>
          </p:grpSpPr>
          <p:sp>
            <p:nvSpPr>
              <p:cNvPr id="124" name="Text Box 17"/>
              <p:cNvSpPr/>
              <p:nvPr/>
            </p:nvSpPr>
            <p:spPr>
              <a:xfrm>
                <a:off x="1116000" y="465300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18"/>
              <p:cNvSpPr/>
              <p:nvPr/>
            </p:nvSpPr>
            <p:spPr>
              <a:xfrm>
                <a:off x="900000" y="458136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Багатоклітинні, Безхлорофільні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19"/>
            <p:cNvGrpSpPr/>
            <p:nvPr/>
          </p:nvGrpSpPr>
          <p:grpSpPr>
            <a:xfrm>
              <a:off x="3564000" y="5300640"/>
              <a:ext cx="2160360" cy="1368360"/>
              <a:chOff x="3564000" y="5300640"/>
              <a:chExt cx="2160360" cy="1368360"/>
            </a:xfrm>
          </p:grpSpPr>
          <p:sp>
            <p:nvSpPr>
              <p:cNvPr id="127" name="AutoShape 20"/>
              <p:cNvSpPr/>
              <p:nvPr/>
            </p:nvSpPr>
            <p:spPr>
              <a:xfrm>
                <a:off x="3564000" y="5300640"/>
                <a:ext cx="2160360" cy="136836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3708000" y="558936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Тіло не має сталої форм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22"/>
            <p:cNvGrpSpPr/>
            <p:nvPr/>
          </p:nvGrpSpPr>
          <p:grpSpPr>
            <a:xfrm>
              <a:off x="6084720" y="4149720"/>
              <a:ext cx="2737080" cy="1728720"/>
              <a:chOff x="6084720" y="4149720"/>
              <a:chExt cx="2737080" cy="1728720"/>
            </a:xfrm>
          </p:grpSpPr>
          <p:sp>
            <p:nvSpPr>
              <p:cNvPr id="130" name="AutoShape 23"/>
              <p:cNvSpPr/>
              <p:nvPr/>
            </p:nvSpPr>
            <p:spPr>
              <a:xfrm>
                <a:off x="6084720" y="4149720"/>
                <a:ext cx="2737080" cy="172872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24"/>
              <p:cNvSpPr/>
              <p:nvPr/>
            </p:nvSpPr>
            <p:spPr>
              <a:xfrm>
                <a:off x="6661080" y="4365720"/>
                <a:ext cx="1800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имбіотичні організми, що складаються з гриба та водоростей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AutoShape 25"/>
            <p:cNvSpPr/>
            <p:nvPr/>
          </p:nvSpPr>
          <p:spPr>
            <a:xfrm flipV="1">
              <a:off x="6516720" y="906840"/>
              <a:ext cx="1655640" cy="1079640"/>
            </a:xfrm>
            <a:custGeom>
              <a:avLst/>
              <a:gdLst>
                <a:gd name="textAreaLeft" fmla="*/ 0 w 1655640"/>
                <a:gd name="textAreaRight" fmla="*/ 1447920 w 1655640"/>
                <a:gd name="textAreaTop" fmla="*/ 91476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437" y="0"/>
                  </a:moveTo>
                  <a:lnTo>
                    <a:pt x="13274" y="11467"/>
                  </a:lnTo>
                  <a:lnTo>
                    <a:pt x="15987" y="11467"/>
                  </a:lnTo>
                  <a:lnTo>
                    <a:pt x="15987" y="18283"/>
                  </a:lnTo>
                  <a:lnTo>
                    <a:pt x="0" y="18283"/>
                  </a:lnTo>
                  <a:lnTo>
                    <a:pt x="0" y="21600"/>
                  </a:lnTo>
                  <a:lnTo>
                    <a:pt x="18887" y="21600"/>
                  </a:lnTo>
                  <a:lnTo>
                    <a:pt x="18887" y="11467"/>
                  </a:lnTo>
                  <a:lnTo>
                    <a:pt x="21600" y="11467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26"/>
            <p:cNvSpPr/>
            <p:nvPr/>
          </p:nvSpPr>
          <p:spPr>
            <a:xfrm rot="10800000">
              <a:off x="611280" y="907560"/>
              <a:ext cx="1800000" cy="1152720"/>
            </a:xfrm>
            <a:custGeom>
              <a:avLst/>
              <a:gdLst>
                <a:gd name="textAreaLeft" fmla="*/ 0 w 1800000"/>
                <a:gd name="textAreaRight" fmla="*/ 1379520 w 1800000"/>
                <a:gd name="textAreaTop" fmla="*/ 100368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86" y="0"/>
                  </a:moveTo>
                  <a:lnTo>
                    <a:pt x="9371" y="8895"/>
                  </a:lnTo>
                  <a:lnTo>
                    <a:pt x="14419" y="8895"/>
                  </a:lnTo>
                  <a:lnTo>
                    <a:pt x="14419" y="18816"/>
                  </a:lnTo>
                  <a:lnTo>
                    <a:pt x="0" y="18816"/>
                  </a:lnTo>
                  <a:lnTo>
                    <a:pt x="0" y="21600"/>
                  </a:lnTo>
                  <a:lnTo>
                    <a:pt x="16552" y="21600"/>
                  </a:lnTo>
                  <a:lnTo>
                    <a:pt x="16552" y="8895"/>
                  </a:lnTo>
                  <a:lnTo>
                    <a:pt x="21600" y="8895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27"/>
            <p:cNvSpPr/>
            <p:nvPr/>
          </p:nvSpPr>
          <p:spPr>
            <a:xfrm rot="5400000">
              <a:off x="3850920" y="1449360"/>
              <a:ext cx="1152360" cy="10796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270000 h 1079640"/>
                <a:gd name="textAreaBottom" fmla="*/ 81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 rot="5400000">
              <a:off x="7126920" y="3248640"/>
              <a:ext cx="1152360" cy="50328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 rot="5400000">
              <a:off x="3960000" y="4617000"/>
              <a:ext cx="1152360" cy="217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54360 h 217440"/>
                <a:gd name="textAreaBottom" fmla="*/ 1630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 rot="5400000">
              <a:off x="1259640" y="3427920"/>
              <a:ext cx="1152360" cy="433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08360 h 433440"/>
                <a:gd name="textAreaBottom" fmla="*/ 3250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Географічна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8000" y="1914840"/>
            <a:ext cx="90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айники основні надгрунтові рослини тундрової зони, де вони є головною кормовою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линою для північних оленів. Олені мають здатність відчувати запах лишайників крізь сніговий покрив, з-під якого вони їх дістають, розгрібаючи сніг копитами. При годуванні олені скуштують лише верхівки кущиків кладоній і цетрарій, і лишайники продовжують свій ріст. Проте ростуть вони повільно, і для відновлення пасовищ вимагається від 10 до 30 років. Тому в оленярських господарствах Півночі ведеться планове використання лишайникових пасовищ з урахуванням їх відновлення. Лишайники використовують в їжу й інші тварини, зокрема, свині і вівці охоче поїдають кладонію листувату, кладонію оленєвид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Біологічн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59119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ова слані лишай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03020401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lishajniki-stroenie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45:35Z</dcterms:created>
  <dc:creator>MK</dc:creator>
  <dc:description/>
  <dc:language>en-US</dc:language>
  <cp:lastModifiedBy>Admin</cp:lastModifiedBy>
  <dcterms:modified xsi:type="dcterms:W3CDTF">2013-12-09T07:52:48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