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FEB-22DC-4625-B3FA-5E7B0E6B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95D-F9FA-4B28-B4B5-A6698B8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A7-4985-4473-BE47-4DCB99B2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B20-1B4A-4720-8CCD-A55A838F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833F-1BD7-41C0-B101-26EBD898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74B6-0A73-4B3B-A0A1-5891E4C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D4D0-44DD-44CE-864F-C01A53C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3A2B-760C-497D-A55C-AC4F3A9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80A7-CEAD-453D-B1ED-902FE604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9C0-50F4-47D0-B91C-92D05E2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A3E-B664-46ED-A185-6F637C5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842-1DBB-4C0D-85C7-14A1C5FD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853-D6FC-4921-BDA1-B95C90F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1CC-324C-4C65-824A-F788ED1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2C4E-2AC2-4DE6-9326-6A21BAB6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237-A357-41A7-95E8-2954E1A4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C146-963C-4A3A-84B5-EC26379E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7F6-6228-484B-A73F-B697A05B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B29-2C3F-49FF-9774-F890E28A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01C-C530-4C3C-BD7A-B7B717B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626-2B57-42D4-9588-2CE7D15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E22-A1EE-4F2F-81AB-6970116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C84-2C0E-481C-952E-AE78D923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B40-7F90-45AA-910E-DA7C895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F19-0BB2-44FB-A252-3A06099A42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16A6-B6C1-4064-9720-3361E1CDE1C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лайд1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276640"/>
            <a:ext cx="309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ВТ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48360" y="2205000"/>
            <a:ext cx="36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ЕТЕР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5157720"/>
            <a:ext cx="280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ИНТЕЗУЮТЬ ОРГАНІЧНІ РЕЧОВИН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00000" y="364500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ОДОРОСТ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2000" y="3500280"/>
            <a:ext cx="19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76720" y="5445000"/>
            <a:ext cx="35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БИРАЄ ВОДУ І МІНЕРАЛЬНІ СОЛ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77164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ЛЕ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2124000" y="1341360"/>
            <a:ext cx="144000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2195640" y="285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076720" y="1341360"/>
            <a:ext cx="180036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77080" y="2781360"/>
            <a:ext cx="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804000" y="4076640"/>
            <a:ext cx="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916360" y="1052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ІС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9280" y="3284640"/>
            <a:ext cx="388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вільно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-8 мм за рі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356000" y="3357720"/>
            <a:ext cx="44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у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 4 тис. рокі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484360" y="1844640"/>
            <a:ext cx="194472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76720" y="1844640"/>
            <a:ext cx="1728720" cy="165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492360" y="4653000"/>
            <a:ext cx="207036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ла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419640" y="33336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ипні (8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615636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истуваті (1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1128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щисті (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4500720" y="227628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292720" y="3500280"/>
            <a:ext cx="122400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2411280" y="3429000"/>
            <a:ext cx="1368720" cy="15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Дослід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Лишайник сизий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4302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95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Лишайник коричневий"/>
          <p:cNvPicPr/>
          <p:nvPr/>
        </p:nvPicPr>
        <p:blipFill>
          <a:blip r:embed="rId1"/>
          <a:stretch/>
        </p:blipFill>
        <p:spPr>
          <a:xfrm>
            <a:off x="1116000" y="404640"/>
            <a:ext cx="7299360" cy="5475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Nak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61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4" descr="Лишайник жовтий"/>
          <p:cNvPicPr/>
          <p:nvPr/>
        </p:nvPicPr>
        <p:blipFill>
          <a:blip r:embed="rId1"/>
          <a:stretch/>
        </p:blipFill>
        <p:spPr>
          <a:xfrm>
            <a:off x="1403280" y="189000"/>
            <a:ext cx="6696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3020402-3"/>
          <p:cNvPicPr/>
          <p:nvPr/>
        </p:nvPicPr>
        <p:blipFill>
          <a:blip r:embed="rId1"/>
          <a:stretch/>
        </p:blipFill>
        <p:spPr>
          <a:xfrm>
            <a:off x="1979640" y="765000"/>
            <a:ext cx="52927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uch"/>
          <p:cNvPicPr/>
          <p:nvPr/>
        </p:nvPicPr>
        <p:blipFill>
          <a:blip r:embed="rId1"/>
          <a:stretch/>
        </p:blipFill>
        <p:spPr>
          <a:xfrm>
            <a:off x="2050920" y="189000"/>
            <a:ext cx="4513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79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List"/>
          <p:cNvPicPr/>
          <p:nvPr/>
        </p:nvPicPr>
        <p:blipFill>
          <a:blip r:embed="rId1"/>
          <a:stretch/>
        </p:blipFill>
        <p:spPr>
          <a:xfrm>
            <a:off x="1979640" y="189000"/>
            <a:ext cx="56167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Monotype Corsiva"/>
              </a:rPr>
              <a:t>Урок-подорож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: Лишайники – симбіотичні організми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чення лишайників у природі й житті люди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59280" y="436572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ишайників країна вас зустрічає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каві знання для вас відкрива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Gri113"/>
          <p:cNvPicPr/>
          <p:nvPr/>
        </p:nvPicPr>
        <p:blipFill>
          <a:blip r:embed="rId1"/>
          <a:stretch/>
        </p:blipFill>
        <p:spPr>
          <a:xfrm>
            <a:off x="539640" y="4149720"/>
            <a:ext cx="2714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40" y="744120"/>
            <a:ext cx="8161920" cy="5707080"/>
            <a:chOff x="228240" y="744120"/>
            <a:chExt cx="8161920" cy="5707080"/>
          </a:xfrm>
        </p:grpSpPr>
        <p:sp>
          <p:nvSpPr>
            <p:cNvPr id="185" name="_s1029"/>
            <p:cNvSpPr/>
            <p:nvPr/>
          </p:nvSpPr>
          <p:spPr>
            <a:xfrm>
              <a:off x="3708720" y="4508640"/>
              <a:ext cx="1934640" cy="1942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Ґрунтоутворююч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>
              <a:off x="228240" y="744120"/>
              <a:ext cx="2111040" cy="20365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Бактерицид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720" y="4150080"/>
              <a:ext cx="2168280" cy="2096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Їстів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1080" y="4221000"/>
              <a:ext cx="2089080" cy="1944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Кормов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720" y="1988640"/>
              <a:ext cx="2070720" cy="191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Ліхенологі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339280" y="3429000"/>
              <a:ext cx="1439280" cy="93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16720" y="3933360"/>
              <a:ext cx="324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68360" y="2134800"/>
              <a:ext cx="1510200" cy="501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796360" y="1773720"/>
              <a:ext cx="1296720" cy="79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5651640" y="3500280"/>
            <a:ext cx="108108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_s1029"/>
          <p:cNvSpPr/>
          <p:nvPr/>
        </p:nvSpPr>
        <p:spPr>
          <a:xfrm>
            <a:off x="7020000" y="620640"/>
            <a:ext cx="1944720" cy="18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іоіндикатор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Підприєм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начення лишайників у житті людини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корм для тварин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кладонія, цетрарі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їжа для людей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леканора, або манна небесна, аспіцилія їстівн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 у промисловості для отримання цукрів, барвників, лакмусу, фарби, спир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у парфумерії для закріплення аромату духів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еверія “дубовий мох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у медицині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ісландський мох, багатий на вітамін С, має бактерицидні властивості, з нього виготовляють антибіоти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Екологічна зуп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Екологічна роль лишайників у природі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грунтоутворююч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організми-піонер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середовище життя багатьох безхребетних твари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беруть участь у біологічному вивітрюванні скельних порі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індикатори стану навколишнього середовища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Флуору, чадного газу, оксидів Сульфуру, Нітроген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6) накопичують радіоактивні елементи – Уран, Радій, Торі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вчи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58, с. 238-241; виконати завдання в робочому зошит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Спасибі за плідну роботу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 нових цікавих зустріче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Мет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знайомити учнів із особливостями будови, процесів життєдіяльності, значенням у природі та житті людини лишайників, розвивати вміння порівнювати особливості будови лишайників з іншими вивченими групами організмів; виховувати екологічне мислення школярів і цікавість д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4797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Обладнання: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зразки лишайників, таблиці, блок-схеми, дидактичний матері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блемне питанн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 дозволяє лишайникам заселити зовсім різні за природними умовами куточки Землі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112536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Місце лишайників у класифікації живих організм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24000" y="333360"/>
            <a:ext cx="8497800" cy="6335640"/>
            <a:chOff x="324000" y="333360"/>
            <a:chExt cx="8497800" cy="6335640"/>
          </a:xfrm>
        </p:grpSpPr>
        <p:grpSp>
          <p:nvGrpSpPr>
            <p:cNvPr id="110" name="Group 3"/>
            <p:cNvGrpSpPr/>
            <p:nvPr/>
          </p:nvGrpSpPr>
          <p:grpSpPr>
            <a:xfrm>
              <a:off x="2556000" y="333360"/>
              <a:ext cx="3887640" cy="936720"/>
              <a:chOff x="2556000" y="333360"/>
              <a:chExt cx="3887640" cy="936720"/>
            </a:xfrm>
          </p:grpSpPr>
          <p:sp>
            <p:nvSpPr>
              <p:cNvPr id="111" name="AutoShape 4"/>
              <p:cNvSpPr/>
              <p:nvPr/>
            </p:nvSpPr>
            <p:spPr>
              <a:xfrm>
                <a:off x="2556000" y="333360"/>
                <a:ext cx="3887640" cy="936720"/>
              </a:xfrm>
              <a:prstGeom prst="flowChartAlternateProcess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Text Box 5"/>
              <p:cNvSpPr/>
              <p:nvPr/>
            </p:nvSpPr>
            <p:spPr>
              <a:xfrm>
                <a:off x="2772000" y="405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000000"/>
                    </a:solidFill>
                    <a:latin typeface="Arial"/>
                  </a:rPr>
                  <a:t>Царство гриби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AutoShape 6"/>
            <p:cNvSpPr/>
            <p:nvPr/>
          </p:nvSpPr>
          <p:spPr>
            <a:xfrm>
              <a:off x="755640" y="4292640"/>
              <a:ext cx="2160720" cy="1368360"/>
            </a:xfrm>
            <a:prstGeom prst="flowChartConnec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24000" y="2133720"/>
              <a:ext cx="2232000" cy="863640"/>
              <a:chOff x="324000" y="2133720"/>
              <a:chExt cx="2232000" cy="86364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324000" y="2133720"/>
                <a:ext cx="2232000" cy="86364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611280" y="2421000"/>
                <a:ext cx="16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діл гриби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3348000" y="2637000"/>
              <a:ext cx="2233440" cy="1511280"/>
              <a:chOff x="3348000" y="2637000"/>
              <a:chExt cx="2233440" cy="1511280"/>
            </a:xfrm>
          </p:grpSpPr>
          <p:sp>
            <p:nvSpPr>
              <p:cNvPr id="118" name="AutoShape 11"/>
              <p:cNvSpPr/>
              <p:nvPr/>
            </p:nvSpPr>
            <p:spPr>
              <a:xfrm>
                <a:off x="3348000" y="2637000"/>
                <a:ext cx="2233440" cy="151128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3636720" y="2924280"/>
                <a:ext cx="172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Слизовики (Міксоміцети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3"/>
            <p:cNvGrpSpPr/>
            <p:nvPr/>
          </p:nvGrpSpPr>
          <p:grpSpPr>
            <a:xfrm>
              <a:off x="6443640" y="2060640"/>
              <a:ext cx="2232000" cy="790560"/>
              <a:chOff x="6443640" y="2060640"/>
              <a:chExt cx="2232000" cy="7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6443640" y="2060640"/>
                <a:ext cx="2232000" cy="79056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732720" y="2131920"/>
                <a:ext cx="165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лишайник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900000" y="4581360"/>
              <a:ext cx="2016360" cy="642600"/>
              <a:chOff x="900000" y="4581360"/>
              <a:chExt cx="2016360" cy="642600"/>
            </a:xfrm>
          </p:grpSpPr>
          <p:sp>
            <p:nvSpPr>
              <p:cNvPr id="124" name="Text Box 17"/>
              <p:cNvSpPr/>
              <p:nvPr/>
            </p:nvSpPr>
            <p:spPr>
              <a:xfrm>
                <a:off x="1116000" y="465300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900000" y="458136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агатоклітинні, Безхлорофільні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9"/>
            <p:cNvGrpSpPr/>
            <p:nvPr/>
          </p:nvGrpSpPr>
          <p:grpSpPr>
            <a:xfrm>
              <a:off x="3564000" y="5300640"/>
              <a:ext cx="2160360" cy="1368360"/>
              <a:chOff x="3564000" y="5300640"/>
              <a:chExt cx="2160360" cy="1368360"/>
            </a:xfrm>
          </p:grpSpPr>
          <p:sp>
            <p:nvSpPr>
              <p:cNvPr id="127" name="AutoShape 20"/>
              <p:cNvSpPr/>
              <p:nvPr/>
            </p:nvSpPr>
            <p:spPr>
              <a:xfrm>
                <a:off x="3564000" y="5300640"/>
                <a:ext cx="2160360" cy="136836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3708000" y="558936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Тіло не має сталої форм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22"/>
            <p:cNvGrpSpPr/>
            <p:nvPr/>
          </p:nvGrpSpPr>
          <p:grpSpPr>
            <a:xfrm>
              <a:off x="6084720" y="4149720"/>
              <a:ext cx="2737080" cy="1728720"/>
              <a:chOff x="6084720" y="4149720"/>
              <a:chExt cx="2737080" cy="1728720"/>
            </a:xfrm>
          </p:grpSpPr>
          <p:sp>
            <p:nvSpPr>
              <p:cNvPr id="130" name="AutoShape 23"/>
              <p:cNvSpPr/>
              <p:nvPr/>
            </p:nvSpPr>
            <p:spPr>
              <a:xfrm>
                <a:off x="6084720" y="4149720"/>
                <a:ext cx="2737080" cy="172872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24"/>
              <p:cNvSpPr/>
              <p:nvPr/>
            </p:nvSpPr>
            <p:spPr>
              <a:xfrm>
                <a:off x="6661080" y="4365720"/>
                <a:ext cx="1800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имбіотичні організми, що складаються з гриба та водоростей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AutoShape 25"/>
            <p:cNvSpPr/>
            <p:nvPr/>
          </p:nvSpPr>
          <p:spPr>
            <a:xfrm flipV="1">
              <a:off x="6516720" y="906840"/>
              <a:ext cx="1655640" cy="1079640"/>
            </a:xfrm>
            <a:custGeom>
              <a:avLst/>
              <a:gdLst>
                <a:gd name="textAreaLeft" fmla="*/ 0 w 1655640"/>
                <a:gd name="textAreaRight" fmla="*/ 1447920 w 1655640"/>
                <a:gd name="textAreaTop" fmla="*/ 91476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437" y="0"/>
                  </a:moveTo>
                  <a:lnTo>
                    <a:pt x="13274" y="11467"/>
                  </a:lnTo>
                  <a:lnTo>
                    <a:pt x="15987" y="11467"/>
                  </a:lnTo>
                  <a:lnTo>
                    <a:pt x="15987" y="18283"/>
                  </a:lnTo>
                  <a:lnTo>
                    <a:pt x="0" y="18283"/>
                  </a:lnTo>
                  <a:lnTo>
                    <a:pt x="0" y="21600"/>
                  </a:lnTo>
                  <a:lnTo>
                    <a:pt x="18887" y="21600"/>
                  </a:lnTo>
                  <a:lnTo>
                    <a:pt x="18887" y="11467"/>
                  </a:lnTo>
                  <a:lnTo>
                    <a:pt x="21600" y="11467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 rot="10800000">
              <a:off x="611280" y="907560"/>
              <a:ext cx="1800000" cy="1152720"/>
            </a:xfrm>
            <a:custGeom>
              <a:avLst/>
              <a:gdLst>
                <a:gd name="textAreaLeft" fmla="*/ 0 w 1800000"/>
                <a:gd name="textAreaRight" fmla="*/ 1379520 w 1800000"/>
                <a:gd name="textAreaTop" fmla="*/ 100368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86" y="0"/>
                  </a:moveTo>
                  <a:lnTo>
                    <a:pt x="9371" y="8895"/>
                  </a:lnTo>
                  <a:lnTo>
                    <a:pt x="14419" y="8895"/>
                  </a:lnTo>
                  <a:lnTo>
                    <a:pt x="14419" y="18816"/>
                  </a:lnTo>
                  <a:lnTo>
                    <a:pt x="0" y="18816"/>
                  </a:lnTo>
                  <a:lnTo>
                    <a:pt x="0" y="21600"/>
                  </a:lnTo>
                  <a:lnTo>
                    <a:pt x="16552" y="21600"/>
                  </a:lnTo>
                  <a:lnTo>
                    <a:pt x="16552" y="8895"/>
                  </a:lnTo>
                  <a:lnTo>
                    <a:pt x="21600" y="8895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 rot="5400000">
              <a:off x="3850920" y="1449360"/>
              <a:ext cx="1152360" cy="10796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270000 h 1079640"/>
                <a:gd name="textAreaBottom" fmla="*/ 81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 rot="5400000">
              <a:off x="7126920" y="3248640"/>
              <a:ext cx="1152360" cy="50328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 rot="5400000">
              <a:off x="3960000" y="4617000"/>
              <a:ext cx="1152360" cy="217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 rot="5400000">
              <a:off x="1259640" y="3427920"/>
              <a:ext cx="1152360" cy="433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08360 h 433440"/>
                <a:gd name="textAreaBottom" fmla="*/ 3250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Географічна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8000" y="1914840"/>
            <a:ext cx="90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айники основні надгрунтові рослини тундрової зони, де вони є головною кормовою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линою для північних оленів. Олені мають здатність відчувати запах лишайників крізь сніговий покрив, з-під якого вони їх дістають, розгрібаючи сніг копитами. При годуванні олені скуштують лише верхівки кущиків кладоній і цетрарій, і лишайники продовжують свій ріст. Проте ростуть вони повільно, і для відновлення пасовищ вимагається від 10 до 30 років. Тому в оленярських господарствах Півночі ведеться планове використання лишайникових пасовищ з урахуванням їх відновлення. Лишайники використовують в їжу й інші тварини, зокрема, свині і вівці охоче поїдають кладонію листувату, кладонію оленєвид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Біологічн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9119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ова слані лишай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03020401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lishajniki-stroenie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5:35Z</dcterms:created>
  <dc:creator>MK</dc:creator>
  <dc:description/>
  <dc:language>en-US</dc:language>
  <cp:lastModifiedBy>Admin</cp:lastModifiedBy>
  <dcterms:modified xsi:type="dcterms:W3CDTF">2013-12-09T07:52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