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8E8-8913-4F3B-9AC0-E58F94ED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4E1-A5FB-470E-9288-A10D2606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5FA-823E-40AF-BC0A-CE113AB0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59E-F3FF-4B0F-AC6A-EA0F651F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2708-6DFD-4ECC-A758-2ABD0C6F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CA69-BA74-42E8-9A79-744DADAC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B62E-DDF4-4969-B666-6AEF30F2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D803-CBD6-4CEC-AFF7-DE462794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FA8A-7CA9-4CD1-A5EA-3AA0858F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F6C6-381E-48B2-8058-706C8D19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6E78-7B97-4B69-83B3-63807B3A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AE0-E333-4E53-A57A-53EF2E35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AEC9-2509-4E34-ADFF-1816A4D2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B7EF-2162-495D-A419-94D14514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7138-2B3E-4956-A530-42B3B77D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9E98-70C6-41AD-9ED8-806064E1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9258-5825-4DA9-8CA3-1A86CAB7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3B45-DF52-4C64-A8F3-9ACF4198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A67-5D0A-490D-83F8-31E072CD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1D1-C1BD-4389-B3D2-34AFD7CE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D11-7948-4529-B9BF-FEAE3B37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603-090C-40A8-89CA-1788F1CA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065-B06B-4B41-B739-80E0B94D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E9D-B5ED-4A85-AD9D-72177C9D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6A1B-272C-4A96-B76B-EEA210C7E1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AB58-0DEF-492D-9F46-99DD10AF905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Слайд11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9640" y="2276640"/>
            <a:ext cx="3097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АВТОТРОФНЕ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148360" y="2205000"/>
            <a:ext cx="367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ГЕТЕРОТРОФНЕ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84360" y="5157720"/>
            <a:ext cx="2808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СИНТЕЗУЮТЬ ОРГАНІЧНІ РЕЧОВИНИ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00000" y="3645000"/>
            <a:ext cx="23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ВОДОРОСТІ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012000" y="3500280"/>
            <a:ext cx="194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ГРИБ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076720" y="5445000"/>
            <a:ext cx="352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ВБИРАЄ ВОДУ І МІНЕРАЛЬНІ СОЛІ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771640" y="549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ЖИВЛЕНН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9"/>
          <p:cNvSpPr/>
          <p:nvPr/>
        </p:nvSpPr>
        <p:spPr>
          <a:xfrm flipH="1">
            <a:off x="2124000" y="1341360"/>
            <a:ext cx="144000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2195640" y="285264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2124000" y="4149720"/>
            <a:ext cx="0" cy="1008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5076720" y="1341360"/>
            <a:ext cx="1800360" cy="865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6877080" y="2781360"/>
            <a:ext cx="0" cy="72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6804000" y="4076640"/>
            <a:ext cx="0" cy="144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916360" y="105264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ІС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79280" y="3284640"/>
            <a:ext cx="388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вільно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1-8 мм за рі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356000" y="3357720"/>
            <a:ext cx="44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Живуть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о 4 тис. рокі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2484360" y="1844640"/>
            <a:ext cx="1944720" cy="1584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076720" y="1844640"/>
            <a:ext cx="1728720" cy="1655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2"/>
          <p:cNvSpPr/>
          <p:nvPr/>
        </p:nvSpPr>
        <p:spPr>
          <a:xfrm>
            <a:off x="3492360" y="4653000"/>
            <a:ext cx="207036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лан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3419640" y="333360"/>
            <a:ext cx="207000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кипні (8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6156360" y="1844640"/>
            <a:ext cx="207000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истуваті (1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611280" y="1844640"/>
            <a:ext cx="2070000" cy="191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ущисті (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6"/>
          <p:cNvSpPr/>
          <p:nvPr/>
        </p:nvSpPr>
        <p:spPr>
          <a:xfrm flipV="1">
            <a:off x="4500720" y="2276280"/>
            <a:ext cx="0" cy="2376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7"/>
          <p:cNvSpPr/>
          <p:nvPr/>
        </p:nvSpPr>
        <p:spPr>
          <a:xfrm flipV="1">
            <a:off x="5292720" y="3500280"/>
            <a:ext cx="1224000" cy="144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H="1" flipV="1">
            <a:off x="2411280" y="3429000"/>
            <a:ext cx="1368720" cy="15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Дослідницька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Picture 4" descr="Лишайник сизий"/>
          <p:cNvPicPr/>
          <p:nvPr/>
        </p:nvPicPr>
        <p:blipFill>
          <a:blip r:embed="rId1"/>
          <a:stretch/>
        </p:blipFill>
        <p:spPr>
          <a:xfrm>
            <a:off x="1835280" y="1341360"/>
            <a:ext cx="5905440" cy="4302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39528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листуваті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Лишайник коричневий"/>
          <p:cNvPicPr/>
          <p:nvPr/>
        </p:nvPicPr>
        <p:blipFill>
          <a:blip r:embed="rId1"/>
          <a:stretch/>
        </p:blipFill>
        <p:spPr>
          <a:xfrm>
            <a:off x="1116000" y="404640"/>
            <a:ext cx="7299360" cy="5475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57340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накипн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Nak"/>
          <p:cNvPicPr/>
          <p:nvPr/>
        </p:nvPicPr>
        <p:blipFill>
          <a:blip r:embed="rId1"/>
          <a:stretch/>
        </p:blipFill>
        <p:spPr>
          <a:xfrm>
            <a:off x="971640" y="260280"/>
            <a:ext cx="7272360" cy="56149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395280" y="573408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накипні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накипн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7" name="Picture 4" descr="Лишайник жовтий"/>
          <p:cNvPicPr/>
          <p:nvPr/>
        </p:nvPicPr>
        <p:blipFill>
          <a:blip r:embed="rId1"/>
          <a:stretch/>
        </p:blipFill>
        <p:spPr>
          <a:xfrm>
            <a:off x="1403280" y="189000"/>
            <a:ext cx="6696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03020402-3"/>
          <p:cNvPicPr/>
          <p:nvPr/>
        </p:nvPicPr>
        <p:blipFill>
          <a:blip r:embed="rId1"/>
          <a:stretch/>
        </p:blipFill>
        <p:spPr>
          <a:xfrm>
            <a:off x="1979640" y="765000"/>
            <a:ext cx="5292720" cy="4538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кущист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Cuch"/>
          <p:cNvPicPr/>
          <p:nvPr/>
        </p:nvPicPr>
        <p:blipFill>
          <a:blip r:embed="rId1"/>
          <a:stretch/>
        </p:blipFill>
        <p:spPr>
          <a:xfrm>
            <a:off x="2050920" y="189000"/>
            <a:ext cx="4513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7928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Лишайники кущисті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Лишайники листуват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Picture 4" descr="List"/>
          <p:cNvPicPr/>
          <p:nvPr/>
        </p:nvPicPr>
        <p:blipFill>
          <a:blip r:embed="rId1"/>
          <a:stretch/>
        </p:blipFill>
        <p:spPr>
          <a:xfrm>
            <a:off x="1979640" y="189000"/>
            <a:ext cx="56167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333399"/>
                </a:solidFill>
                <a:latin typeface="Monotype Corsiva"/>
              </a:rPr>
              <a:t>Урок-подорож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3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Тема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: Лишайники – симбіотичні організми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начення лишайників у природі й житті людин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859280" y="4365720"/>
            <a:ext cx="3024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ишайників країна вас зустрічає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Цікаві знання для вас відкриває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6" descr="Gri113"/>
          <p:cNvPicPr/>
          <p:nvPr/>
        </p:nvPicPr>
        <p:blipFill>
          <a:blip r:embed="rId1"/>
          <a:stretch/>
        </p:blipFill>
        <p:spPr>
          <a:xfrm>
            <a:off x="539640" y="4149720"/>
            <a:ext cx="27147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240" y="744120"/>
            <a:ext cx="8161920" cy="5707080"/>
            <a:chOff x="228240" y="744120"/>
            <a:chExt cx="8161920" cy="5707080"/>
          </a:xfrm>
        </p:grpSpPr>
        <p:sp>
          <p:nvSpPr>
            <p:cNvPr id="185" name="_s1029"/>
            <p:cNvSpPr/>
            <p:nvPr/>
          </p:nvSpPr>
          <p:spPr>
            <a:xfrm>
              <a:off x="3708720" y="4508640"/>
              <a:ext cx="1934640" cy="1942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Ґрунтоутворююч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_s1029"/>
            <p:cNvSpPr/>
            <p:nvPr/>
          </p:nvSpPr>
          <p:spPr>
            <a:xfrm>
              <a:off x="228240" y="744120"/>
              <a:ext cx="2111040" cy="20365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Бактерицидн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1720" y="4150080"/>
              <a:ext cx="2168280" cy="20966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Їстівн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1080" y="4221000"/>
              <a:ext cx="2089080" cy="19443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Кормові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08720" y="1988640"/>
              <a:ext cx="2070720" cy="19112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Ліхенологія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2339280" y="3429000"/>
              <a:ext cx="1439280" cy="935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716720" y="3933360"/>
              <a:ext cx="3240" cy="57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268360" y="2134800"/>
              <a:ext cx="1510200" cy="501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796360" y="1773720"/>
              <a:ext cx="1296720" cy="79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" name="Line 13"/>
          <p:cNvSpPr/>
          <p:nvPr/>
        </p:nvSpPr>
        <p:spPr>
          <a:xfrm>
            <a:off x="5651640" y="3500280"/>
            <a:ext cx="108108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_s1029"/>
          <p:cNvSpPr/>
          <p:nvPr/>
        </p:nvSpPr>
        <p:spPr>
          <a:xfrm>
            <a:off x="7020000" y="620640"/>
            <a:ext cx="1944720" cy="1871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Біоіндикатор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Підприємницька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Значення лишайників у житті людини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1)корм для тварин (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кладонія, цетрарія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2) їжа для людей 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(леканора, або манна небесна, аспіцилія їстівна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3) у промисловості для отримання цукрів, барвників, лакмусу, фарби, спирт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4) у парфумерії для закріплення аромату духів (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еверія “дубовий мох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5) у медицині 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(ісландський мох, багатий на вітамін С, має бактерицидні властивості, з нього виготовляють антибіотик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Екологічна зупи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Екологічна роль лишайників у природі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1)грунтоутворююч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2) організми-піонер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3)середовище життя багатьох безхребетних твари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4) беруть участь у біологічному вивітрюванні скельних порі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5) індикатори стану навколишнього середовища (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Флуору, чадного газу, оксидів Сульфуру, Нітрогену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6) накопичують радіоактивні елементи – Уран, Радій, Торі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Домашнє завданн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вчи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§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58, с. 238-241; виконати завдання в робочому зошиті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Спасибі за плідну роботу</a:t>
            </a: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До нових цікавих зустрічей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ahoma"/>
              </a:rPr>
              <a:t>Мета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147160" cy="1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Ознайомити учнів із особливостями будови, процесів життєдіяльності, значенням у природі та житті людини лишайників, розвивати вміння порівнювати особливості будови лишайників з іншими вивченими групами організмів; виховувати екологічне мислення школярів і цікавість до предме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" y="4797360"/>
            <a:ext cx="7921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Обладнання: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зразки лишайників, таблиці, блок-схеми, дидактичний матері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Проблемне питання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Що дозволяє лишайникам заселити зовсім різні за природними умовами куточки Землі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3280" y="1125360"/>
            <a:ext cx="828036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33399"/>
                </a:solidFill>
                <a:latin typeface="Tahoma"/>
              </a:rPr>
              <a:t>Місце лишайників у класифікації живих організмі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324000" y="333360"/>
            <a:ext cx="8497800" cy="6335640"/>
            <a:chOff x="324000" y="333360"/>
            <a:chExt cx="8497800" cy="6335640"/>
          </a:xfrm>
        </p:grpSpPr>
        <p:grpSp>
          <p:nvGrpSpPr>
            <p:cNvPr id="110" name="Group 3"/>
            <p:cNvGrpSpPr/>
            <p:nvPr/>
          </p:nvGrpSpPr>
          <p:grpSpPr>
            <a:xfrm>
              <a:off x="2556000" y="333360"/>
              <a:ext cx="3887640" cy="936720"/>
              <a:chOff x="2556000" y="333360"/>
              <a:chExt cx="3887640" cy="936720"/>
            </a:xfrm>
          </p:grpSpPr>
          <p:sp>
            <p:nvSpPr>
              <p:cNvPr id="111" name="AutoShape 4"/>
              <p:cNvSpPr/>
              <p:nvPr/>
            </p:nvSpPr>
            <p:spPr>
              <a:xfrm>
                <a:off x="2556000" y="333360"/>
                <a:ext cx="3887640" cy="936720"/>
              </a:xfrm>
              <a:prstGeom prst="flowChartAlternateProcess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Text Box 5"/>
              <p:cNvSpPr/>
              <p:nvPr/>
            </p:nvSpPr>
            <p:spPr>
              <a:xfrm>
                <a:off x="2772000" y="405000"/>
                <a:ext cx="345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600" spc="-1" strike="noStrike">
                    <a:solidFill>
                      <a:srgbClr val="000000"/>
                    </a:solidFill>
                    <a:latin typeface="Arial"/>
                  </a:rPr>
                  <a:t>Царство гриби</a:t>
                </a: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" name="AutoShape 6"/>
            <p:cNvSpPr/>
            <p:nvPr/>
          </p:nvSpPr>
          <p:spPr>
            <a:xfrm>
              <a:off x="755640" y="4292640"/>
              <a:ext cx="2160720" cy="1368360"/>
            </a:xfrm>
            <a:prstGeom prst="flowChartConnector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4" name="Group 7"/>
            <p:cNvGrpSpPr/>
            <p:nvPr/>
          </p:nvGrpSpPr>
          <p:grpSpPr>
            <a:xfrm>
              <a:off x="324000" y="2133720"/>
              <a:ext cx="2232000" cy="863640"/>
              <a:chOff x="324000" y="2133720"/>
              <a:chExt cx="2232000" cy="863640"/>
            </a:xfrm>
          </p:grpSpPr>
          <p:sp>
            <p:nvSpPr>
              <p:cNvPr id="115" name="AutoShape 8"/>
              <p:cNvSpPr/>
              <p:nvPr/>
            </p:nvSpPr>
            <p:spPr>
              <a:xfrm>
                <a:off x="324000" y="2133720"/>
                <a:ext cx="2232000" cy="863640"/>
              </a:xfrm>
              <a:prstGeom prst="flowChartTermina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611280" y="2421000"/>
                <a:ext cx="165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Arial"/>
                  </a:rPr>
                  <a:t>Відділ гриби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" name="Group 10"/>
            <p:cNvGrpSpPr/>
            <p:nvPr/>
          </p:nvGrpSpPr>
          <p:grpSpPr>
            <a:xfrm>
              <a:off x="3348000" y="2637000"/>
              <a:ext cx="2233440" cy="1511280"/>
              <a:chOff x="3348000" y="2637000"/>
              <a:chExt cx="2233440" cy="1511280"/>
            </a:xfrm>
          </p:grpSpPr>
          <p:sp>
            <p:nvSpPr>
              <p:cNvPr id="118" name="AutoShape 11"/>
              <p:cNvSpPr/>
              <p:nvPr/>
            </p:nvSpPr>
            <p:spPr>
              <a:xfrm>
                <a:off x="3348000" y="2637000"/>
                <a:ext cx="2233440" cy="1511280"/>
              </a:xfrm>
              <a:prstGeom prst="flowChartTermina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3636720" y="2924280"/>
                <a:ext cx="1727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Відділ Слизовики (Міксоміцети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" name="Group 13"/>
            <p:cNvGrpSpPr/>
            <p:nvPr/>
          </p:nvGrpSpPr>
          <p:grpSpPr>
            <a:xfrm>
              <a:off x="6443640" y="2060640"/>
              <a:ext cx="2232000" cy="790560"/>
              <a:chOff x="6443640" y="2060640"/>
              <a:chExt cx="2232000" cy="790560"/>
            </a:xfrm>
          </p:grpSpPr>
          <p:sp>
            <p:nvSpPr>
              <p:cNvPr id="121" name="AutoShape 14"/>
              <p:cNvSpPr/>
              <p:nvPr/>
            </p:nvSpPr>
            <p:spPr>
              <a:xfrm>
                <a:off x="6443640" y="2060640"/>
                <a:ext cx="2232000" cy="790560"/>
              </a:xfrm>
              <a:prstGeom prst="flowChartTermina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732720" y="2131920"/>
                <a:ext cx="1657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Відділ лишайники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3" name="Group 16"/>
            <p:cNvGrpSpPr/>
            <p:nvPr/>
          </p:nvGrpSpPr>
          <p:grpSpPr>
            <a:xfrm>
              <a:off x="900000" y="4581360"/>
              <a:ext cx="2016360" cy="642600"/>
              <a:chOff x="900000" y="4581360"/>
              <a:chExt cx="2016360" cy="642600"/>
            </a:xfrm>
          </p:grpSpPr>
          <p:sp>
            <p:nvSpPr>
              <p:cNvPr id="124" name="Text Box 17"/>
              <p:cNvSpPr/>
              <p:nvPr/>
            </p:nvSpPr>
            <p:spPr>
              <a:xfrm>
                <a:off x="1116000" y="4653000"/>
                <a:ext cx="1295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Text Box 18"/>
              <p:cNvSpPr/>
              <p:nvPr/>
            </p:nvSpPr>
            <p:spPr>
              <a:xfrm>
                <a:off x="900000" y="4581360"/>
                <a:ext cx="201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Багатоклітинні, Безхлорофільні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6" name="Group 19"/>
            <p:cNvGrpSpPr/>
            <p:nvPr/>
          </p:nvGrpSpPr>
          <p:grpSpPr>
            <a:xfrm>
              <a:off x="3564000" y="5300640"/>
              <a:ext cx="2160360" cy="1368360"/>
              <a:chOff x="3564000" y="5300640"/>
              <a:chExt cx="2160360" cy="1368360"/>
            </a:xfrm>
          </p:grpSpPr>
          <p:sp>
            <p:nvSpPr>
              <p:cNvPr id="127" name="AutoShape 20"/>
              <p:cNvSpPr/>
              <p:nvPr/>
            </p:nvSpPr>
            <p:spPr>
              <a:xfrm>
                <a:off x="3564000" y="5300640"/>
                <a:ext cx="2160360" cy="1368360"/>
              </a:xfrm>
              <a:prstGeom prst="flowChartConnec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Text Box 21"/>
              <p:cNvSpPr/>
              <p:nvPr/>
            </p:nvSpPr>
            <p:spPr>
              <a:xfrm>
                <a:off x="3708000" y="5589360"/>
                <a:ext cx="180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Тіло не має сталої форми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9" name="Group 22"/>
            <p:cNvGrpSpPr/>
            <p:nvPr/>
          </p:nvGrpSpPr>
          <p:grpSpPr>
            <a:xfrm>
              <a:off x="6084720" y="4149720"/>
              <a:ext cx="2737080" cy="1728720"/>
              <a:chOff x="6084720" y="4149720"/>
              <a:chExt cx="2737080" cy="1728720"/>
            </a:xfrm>
          </p:grpSpPr>
          <p:sp>
            <p:nvSpPr>
              <p:cNvPr id="130" name="AutoShape 23"/>
              <p:cNvSpPr/>
              <p:nvPr/>
            </p:nvSpPr>
            <p:spPr>
              <a:xfrm>
                <a:off x="6084720" y="4149720"/>
                <a:ext cx="2737080" cy="1728720"/>
              </a:xfrm>
              <a:prstGeom prst="flowChartConnector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Text Box 24"/>
              <p:cNvSpPr/>
              <p:nvPr/>
            </p:nvSpPr>
            <p:spPr>
              <a:xfrm>
                <a:off x="6661080" y="4365720"/>
                <a:ext cx="18003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Симбіотичні організми, що складаються з гриба та водоростей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2" name="AutoShape 25"/>
            <p:cNvSpPr/>
            <p:nvPr/>
          </p:nvSpPr>
          <p:spPr>
            <a:xfrm flipV="1">
              <a:off x="6516720" y="906840"/>
              <a:ext cx="1655640" cy="1079640"/>
            </a:xfrm>
            <a:custGeom>
              <a:avLst/>
              <a:gdLst>
                <a:gd name="textAreaLeft" fmla="*/ 0 w 1655640"/>
                <a:gd name="textAreaRight" fmla="*/ 1447920 w 1655640"/>
                <a:gd name="textAreaTop" fmla="*/ 91476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437" y="0"/>
                  </a:moveTo>
                  <a:lnTo>
                    <a:pt x="13274" y="11467"/>
                  </a:lnTo>
                  <a:lnTo>
                    <a:pt x="15987" y="11467"/>
                  </a:lnTo>
                  <a:lnTo>
                    <a:pt x="15987" y="18283"/>
                  </a:lnTo>
                  <a:lnTo>
                    <a:pt x="0" y="18283"/>
                  </a:lnTo>
                  <a:lnTo>
                    <a:pt x="0" y="21600"/>
                  </a:lnTo>
                  <a:lnTo>
                    <a:pt x="18887" y="21600"/>
                  </a:lnTo>
                  <a:lnTo>
                    <a:pt x="18887" y="11467"/>
                  </a:lnTo>
                  <a:lnTo>
                    <a:pt x="21600" y="11467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26"/>
            <p:cNvSpPr/>
            <p:nvPr/>
          </p:nvSpPr>
          <p:spPr>
            <a:xfrm rot="10800000">
              <a:off x="611280" y="907560"/>
              <a:ext cx="1800000" cy="1152720"/>
            </a:xfrm>
            <a:custGeom>
              <a:avLst/>
              <a:gdLst>
                <a:gd name="textAreaLeft" fmla="*/ 0 w 1800000"/>
                <a:gd name="textAreaRight" fmla="*/ 1379520 w 1800000"/>
                <a:gd name="textAreaTop" fmla="*/ 100368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86" y="0"/>
                  </a:moveTo>
                  <a:lnTo>
                    <a:pt x="9371" y="8895"/>
                  </a:lnTo>
                  <a:lnTo>
                    <a:pt x="14419" y="8895"/>
                  </a:lnTo>
                  <a:lnTo>
                    <a:pt x="14419" y="18816"/>
                  </a:lnTo>
                  <a:lnTo>
                    <a:pt x="0" y="18816"/>
                  </a:lnTo>
                  <a:lnTo>
                    <a:pt x="0" y="21600"/>
                  </a:lnTo>
                  <a:lnTo>
                    <a:pt x="16552" y="21600"/>
                  </a:lnTo>
                  <a:lnTo>
                    <a:pt x="16552" y="8895"/>
                  </a:lnTo>
                  <a:lnTo>
                    <a:pt x="21600" y="8895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AutoShape 27"/>
            <p:cNvSpPr/>
            <p:nvPr/>
          </p:nvSpPr>
          <p:spPr>
            <a:xfrm rot="5400000">
              <a:off x="3850920" y="1449360"/>
              <a:ext cx="1152360" cy="107964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270000 h 1079640"/>
                <a:gd name="textAreaBottom" fmla="*/ 81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AutoShape 28"/>
            <p:cNvSpPr/>
            <p:nvPr/>
          </p:nvSpPr>
          <p:spPr>
            <a:xfrm rot="5400000">
              <a:off x="7126920" y="3248640"/>
              <a:ext cx="1152360" cy="50328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AutoShape 29"/>
            <p:cNvSpPr/>
            <p:nvPr/>
          </p:nvSpPr>
          <p:spPr>
            <a:xfrm rot="5400000">
              <a:off x="3960000" y="4617000"/>
              <a:ext cx="1152360" cy="21744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54360 h 217440"/>
                <a:gd name="textAreaBottom" fmla="*/ 16308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AutoShape 30"/>
            <p:cNvSpPr/>
            <p:nvPr/>
          </p:nvSpPr>
          <p:spPr>
            <a:xfrm rot="5400000">
              <a:off x="1259640" y="3427920"/>
              <a:ext cx="1152360" cy="433440"/>
            </a:xfrm>
            <a:custGeom>
              <a:avLst/>
              <a:gdLst>
                <a:gd name="textAreaLeft" fmla="*/ 144000 w 1152360"/>
                <a:gd name="textAreaRight" fmla="*/ 1008360 w 1152360"/>
                <a:gd name="textAreaTop" fmla="*/ 108360 h 433440"/>
                <a:gd name="textAreaBottom" fmla="*/ 32508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Географічна”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08000" y="1914840"/>
            <a:ext cx="903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шайники основні надгрунтові рослини тундрової зони, де вони є головною кормовою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ослиною для північних оленів. Олені мають здатність відчувати запах лишайників крізь сніговий покрив, з-під якого вони їх дістають, розгрібаючи сніг копитами. При годуванні олені скуштують лише верхівки кущиків кладоній і цетрарій, і лишайники продовжують свій ріст. Проте ростуть вони повільно, і для відновлення пасовищ вимагається від 10 до 30 років. Тому в оленярських господарствах Півночі ведеться планове використання лишайникових пасовищ з урахуванням їх відновлення. Лишайники використовують в їжу й інші тварини, зокрема, свині і вівці охоче поїдають кладонію листувату, кладонію оленєвидну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Tahoma"/>
              </a:rPr>
              <a:t>Зупинка “Біологічна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59119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Будова слані лишай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4" descr="03020401"/>
          <p:cNvPicPr/>
          <p:nvPr/>
        </p:nvPicPr>
        <p:blipFill>
          <a:blip r:embed="rId1"/>
          <a:stretch/>
        </p:blipFill>
        <p:spPr>
          <a:xfrm>
            <a:off x="1332000" y="981000"/>
            <a:ext cx="655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lishajniki-stroenie.WMV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2:45:35Z</dcterms:created>
  <dc:creator>MK</dc:creator>
  <dc:description/>
  <dc:language>en-US</dc:language>
  <cp:lastModifiedBy>Admin</cp:lastModifiedBy>
  <dcterms:modified xsi:type="dcterms:W3CDTF">2013-12-09T07:52:48Z</dcterms:modified>
  <cp:revision>6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b000000000001024140</vt:lpwstr>
  </property>
</Properties>
</file>