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9799-495E-4FDB-99A3-486355E1F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2081-8DA3-45B0-9A95-39DF38B1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E92D-74DC-4533-B39A-6A8AB4930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59EB-2034-4846-8DC3-E85812E8B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5DD6-A982-48E5-85EF-AE39CACA1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6DBC-FAC4-45D9-899A-0322E9B7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5C85-A826-443C-B440-386BF1A6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9F2F-AEE2-42B3-B5DB-3FC0BEBB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AF675-2C21-441C-BF83-A591AA25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1F0F-E234-4A6F-9247-3DF6B64B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9898-56A9-4177-86E3-DC8BCB60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0A8A-8135-4903-84CF-6B85A93B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00BA-1E5E-42F4-BC73-9DD8606E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EC84-2FB2-4226-BF42-02084175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554B-E267-4A92-B6BC-DF8464E2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D548-7B2F-4E45-A799-51BF2ABE9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7907-7B04-46B3-9694-E9909F735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8C74-D107-49E0-9936-65EE494D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BEFE-62EB-4D04-9AD5-A5593831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D086-5649-494C-9760-D2A04EB2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79B9-7D92-4BB6-B01F-90478FFD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FE63-DF4B-48B4-A48B-1B89C6E4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5E8D-976B-4159-8839-A31788D7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2FE4-389B-4BE4-93E3-70A57421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DEC0-723B-453D-A612-8738E08737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ABDE-4289-4F84-A809-452EAD29BC04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Слайд11"/>
          <p:cNvPicPr/>
          <p:nvPr/>
        </p:nvPicPr>
        <p:blipFill>
          <a:blip r:embed="rId1"/>
          <a:stretch/>
        </p:blipFill>
        <p:spPr>
          <a:xfrm>
            <a:off x="324000" y="189000"/>
            <a:ext cx="8569080" cy="64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539640" y="2276640"/>
            <a:ext cx="3097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АВТОТРОФНЕ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5148360" y="2205000"/>
            <a:ext cx="3673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ГЕТЕРОТРОФНЕ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84360" y="5157720"/>
            <a:ext cx="28080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СИНТЕЗУЮТЬ ОРГАНІЧНІ РЕЧОВИНИ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900000" y="3645000"/>
            <a:ext cx="2376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ВОДОРОСТІ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6012000" y="3500280"/>
            <a:ext cx="194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ГРИБ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5076720" y="5445000"/>
            <a:ext cx="3529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ВБИРАЄ ВОДУ І МІНЕРАЛЬНІ СОЛІ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2771640" y="54936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ЖИВЛЕНН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Line 9"/>
          <p:cNvSpPr/>
          <p:nvPr/>
        </p:nvSpPr>
        <p:spPr>
          <a:xfrm flipH="1">
            <a:off x="2124000" y="1341360"/>
            <a:ext cx="1440000" cy="936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Line 10"/>
          <p:cNvSpPr/>
          <p:nvPr/>
        </p:nvSpPr>
        <p:spPr>
          <a:xfrm>
            <a:off x="2195640" y="2852640"/>
            <a:ext cx="0" cy="792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Line 11"/>
          <p:cNvSpPr/>
          <p:nvPr/>
        </p:nvSpPr>
        <p:spPr>
          <a:xfrm>
            <a:off x="2124000" y="4149720"/>
            <a:ext cx="0" cy="1008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Line 12"/>
          <p:cNvSpPr/>
          <p:nvPr/>
        </p:nvSpPr>
        <p:spPr>
          <a:xfrm>
            <a:off x="5076720" y="1341360"/>
            <a:ext cx="1800360" cy="865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Line 13"/>
          <p:cNvSpPr/>
          <p:nvPr/>
        </p:nvSpPr>
        <p:spPr>
          <a:xfrm>
            <a:off x="6877080" y="2781360"/>
            <a:ext cx="0" cy="720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Line 14"/>
          <p:cNvSpPr/>
          <p:nvPr/>
        </p:nvSpPr>
        <p:spPr>
          <a:xfrm>
            <a:off x="6804000" y="4076640"/>
            <a:ext cx="0" cy="1441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2916360" y="1052640"/>
            <a:ext cx="35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РІС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79280" y="3284640"/>
            <a:ext cx="3889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Повільно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1-8 мм за рік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4356000" y="3357720"/>
            <a:ext cx="44625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Живуть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до 4 тис. років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Line 5"/>
          <p:cNvSpPr/>
          <p:nvPr/>
        </p:nvSpPr>
        <p:spPr>
          <a:xfrm flipH="1">
            <a:off x="2484360" y="1844640"/>
            <a:ext cx="1944720" cy="1584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Line 6"/>
          <p:cNvSpPr/>
          <p:nvPr/>
        </p:nvSpPr>
        <p:spPr>
          <a:xfrm>
            <a:off x="5076720" y="1844640"/>
            <a:ext cx="1728720" cy="1655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Oval 2"/>
          <p:cNvSpPr/>
          <p:nvPr/>
        </p:nvSpPr>
        <p:spPr>
          <a:xfrm>
            <a:off x="3492360" y="4653000"/>
            <a:ext cx="2070360" cy="19112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лан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Oval 3"/>
          <p:cNvSpPr/>
          <p:nvPr/>
        </p:nvSpPr>
        <p:spPr>
          <a:xfrm>
            <a:off x="3419640" y="333360"/>
            <a:ext cx="2070000" cy="19112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Накипні (80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Oval 4"/>
          <p:cNvSpPr/>
          <p:nvPr/>
        </p:nvSpPr>
        <p:spPr>
          <a:xfrm>
            <a:off x="6156360" y="1844640"/>
            <a:ext cx="2070000" cy="19112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Листуваті (1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Oval 5"/>
          <p:cNvSpPr/>
          <p:nvPr/>
        </p:nvSpPr>
        <p:spPr>
          <a:xfrm>
            <a:off x="611280" y="1844640"/>
            <a:ext cx="2070000" cy="19112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Кущисті (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Line 6"/>
          <p:cNvSpPr/>
          <p:nvPr/>
        </p:nvSpPr>
        <p:spPr>
          <a:xfrm flipV="1">
            <a:off x="4500720" y="2276280"/>
            <a:ext cx="0" cy="2376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Line 7"/>
          <p:cNvSpPr/>
          <p:nvPr/>
        </p:nvSpPr>
        <p:spPr>
          <a:xfrm flipV="1">
            <a:off x="5292720" y="3500280"/>
            <a:ext cx="1224000" cy="1441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Line 8"/>
          <p:cNvSpPr/>
          <p:nvPr/>
        </p:nvSpPr>
        <p:spPr>
          <a:xfrm flipH="1" flipV="1">
            <a:off x="2411280" y="3429000"/>
            <a:ext cx="1368720" cy="1512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333399"/>
                </a:solidFill>
                <a:latin typeface="Tahoma"/>
              </a:rPr>
              <a:t>Зупинка “Дослідницька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0" name="Picture 4" descr="Лишайник сизий"/>
          <p:cNvPicPr/>
          <p:nvPr/>
        </p:nvPicPr>
        <p:blipFill>
          <a:blip r:embed="rId1"/>
          <a:stretch/>
        </p:blipFill>
        <p:spPr>
          <a:xfrm>
            <a:off x="1835280" y="1341360"/>
            <a:ext cx="5905440" cy="43023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395280" y="5373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Лишайники листуваті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Лишайник коричневий"/>
          <p:cNvPicPr/>
          <p:nvPr/>
        </p:nvPicPr>
        <p:blipFill>
          <a:blip r:embed="rId1"/>
          <a:stretch/>
        </p:blipFill>
        <p:spPr>
          <a:xfrm>
            <a:off x="1116000" y="404640"/>
            <a:ext cx="7299360" cy="54756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57340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Лишайники накипні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Nak"/>
          <p:cNvPicPr/>
          <p:nvPr/>
        </p:nvPicPr>
        <p:blipFill>
          <a:blip r:embed="rId1"/>
          <a:stretch/>
        </p:blipFill>
        <p:spPr>
          <a:xfrm>
            <a:off x="971640" y="260280"/>
            <a:ext cx="7272360" cy="561492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5"/>
          <p:cNvSpPr/>
          <p:nvPr/>
        </p:nvSpPr>
        <p:spPr>
          <a:xfrm>
            <a:off x="395280" y="573408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         </a:t>
            </a: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Лишайники накипні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Лишайники накипні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7" name="Picture 4" descr="Лишайник жовтий"/>
          <p:cNvPicPr/>
          <p:nvPr/>
        </p:nvPicPr>
        <p:blipFill>
          <a:blip r:embed="rId1"/>
          <a:stretch/>
        </p:blipFill>
        <p:spPr>
          <a:xfrm>
            <a:off x="1403280" y="189000"/>
            <a:ext cx="669600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03020402-3"/>
          <p:cNvPicPr/>
          <p:nvPr/>
        </p:nvPicPr>
        <p:blipFill>
          <a:blip r:embed="rId1"/>
          <a:stretch/>
        </p:blipFill>
        <p:spPr>
          <a:xfrm>
            <a:off x="1979640" y="765000"/>
            <a:ext cx="5292720" cy="45388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928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Лишайники кущисті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Cuch"/>
          <p:cNvPicPr/>
          <p:nvPr/>
        </p:nvPicPr>
        <p:blipFill>
          <a:blip r:embed="rId1"/>
          <a:stretch/>
        </p:blipFill>
        <p:spPr>
          <a:xfrm>
            <a:off x="2050920" y="189000"/>
            <a:ext cx="4513320" cy="58770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5"/>
          <p:cNvSpPr/>
          <p:nvPr/>
        </p:nvSpPr>
        <p:spPr>
          <a:xfrm>
            <a:off x="179280" y="571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3399"/>
                </a:solidFill>
                <a:latin typeface="Tahoma"/>
              </a:rPr>
              <a:t>Лишайники кущисті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Лишайники листуваті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3" name="Picture 4" descr="List"/>
          <p:cNvPicPr/>
          <p:nvPr/>
        </p:nvPicPr>
        <p:blipFill>
          <a:blip r:embed="rId1"/>
          <a:stretch/>
        </p:blipFill>
        <p:spPr>
          <a:xfrm>
            <a:off x="1979640" y="189000"/>
            <a:ext cx="56167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333399"/>
                </a:solidFill>
                <a:latin typeface="Monotype Corsiva"/>
              </a:rPr>
              <a:t>Урок-подорож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2603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ahoma"/>
              </a:rPr>
              <a:t>Тема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: Лишайники – симбіотичні організми.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Значення лишайників у природі й житті людин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4859280" y="4365720"/>
            <a:ext cx="3024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Лишайників країна вас зустрічає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Цікаві знання для вас відкриває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Picture 6" descr="Gri113"/>
          <p:cNvPicPr/>
          <p:nvPr/>
        </p:nvPicPr>
        <p:blipFill>
          <a:blip r:embed="rId1"/>
          <a:stretch/>
        </p:blipFill>
        <p:spPr>
          <a:xfrm>
            <a:off x="539640" y="4149720"/>
            <a:ext cx="271476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228240" y="744120"/>
            <a:ext cx="8161920" cy="5707080"/>
            <a:chOff x="228240" y="744120"/>
            <a:chExt cx="8161920" cy="5707080"/>
          </a:xfrm>
        </p:grpSpPr>
        <p:sp>
          <p:nvSpPr>
            <p:cNvPr id="185" name="_s1029"/>
            <p:cNvSpPr/>
            <p:nvPr/>
          </p:nvSpPr>
          <p:spPr>
            <a:xfrm>
              <a:off x="3708720" y="4508640"/>
              <a:ext cx="1934640" cy="19425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</a:rPr>
                <a:t>Ґрунтоутворююча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_s1029"/>
            <p:cNvSpPr/>
            <p:nvPr/>
          </p:nvSpPr>
          <p:spPr>
            <a:xfrm>
              <a:off x="228240" y="744120"/>
              <a:ext cx="2111040" cy="203652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Бактерицидні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1720" y="4150080"/>
              <a:ext cx="2168280" cy="20966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Їстівні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01080" y="4221000"/>
              <a:ext cx="2089080" cy="19443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Кормові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08720" y="1988640"/>
              <a:ext cx="2070720" cy="19112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Ліхенологія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2339280" y="3429000"/>
              <a:ext cx="1439280" cy="935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4716720" y="3933360"/>
              <a:ext cx="3240" cy="57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2268360" y="2134800"/>
              <a:ext cx="1510200" cy="501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796360" y="1773720"/>
              <a:ext cx="1296720" cy="791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4" name="Line 13"/>
          <p:cNvSpPr/>
          <p:nvPr/>
        </p:nvSpPr>
        <p:spPr>
          <a:xfrm>
            <a:off x="5651640" y="3500280"/>
            <a:ext cx="1081080" cy="936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_s1029"/>
          <p:cNvSpPr/>
          <p:nvPr/>
        </p:nvSpPr>
        <p:spPr>
          <a:xfrm>
            <a:off x="7020000" y="620640"/>
            <a:ext cx="1944720" cy="1871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Біоіндикатор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333399"/>
                </a:solidFill>
                <a:latin typeface="Tahoma"/>
              </a:rPr>
              <a:t>Зупинка “Підприємницька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ahoma"/>
              </a:rPr>
              <a:t>Значення лишайників у житті людини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1)корм для тварин (</a:t>
            </a:r>
            <a:r>
              <a:rPr b="0" i="1" lang="uk-UA" sz="2400" spc="-1" strike="noStrike">
                <a:solidFill>
                  <a:srgbClr val="000000"/>
                </a:solidFill>
                <a:latin typeface="Tahoma"/>
              </a:rPr>
              <a:t>кладонія, цетрарія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2) їжа для людей </a:t>
            </a:r>
            <a:r>
              <a:rPr b="0" i="1" lang="uk-UA" sz="2400" spc="-1" strike="noStrike">
                <a:solidFill>
                  <a:srgbClr val="000000"/>
                </a:solidFill>
                <a:latin typeface="Tahoma"/>
              </a:rPr>
              <a:t>(леканора, або манна небесна, аспіцилія їстівна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3) у промисловості для отримання цукрів, барвників, лакмусу, фарби, спирту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4) у парфумерії для закріплення аромату духів (</a:t>
            </a:r>
            <a:r>
              <a:rPr b="0" i="1" lang="uk-UA" sz="2400" spc="-1" strike="noStrike">
                <a:solidFill>
                  <a:srgbClr val="000000"/>
                </a:solidFill>
                <a:latin typeface="Tahoma"/>
              </a:rPr>
              <a:t>еверія “дубовий мох”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5) у медицині </a:t>
            </a:r>
            <a:r>
              <a:rPr b="0" i="1" lang="uk-UA" sz="2400" spc="-1" strike="noStrike">
                <a:solidFill>
                  <a:srgbClr val="000000"/>
                </a:solidFill>
                <a:latin typeface="Tahoma"/>
              </a:rPr>
              <a:t>(ісландський мох, багатий на вітамін С, має бактерицидні властивості, з нього виготовляють антибіотики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333399"/>
                </a:solidFill>
                <a:latin typeface="Tahoma"/>
              </a:rPr>
              <a:t>Екологічна зупин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ahoma"/>
              </a:rPr>
              <a:t>Екологічна роль лишайників у природі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1)грунтоутворююч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2) організми-піонер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3)середовище життя багатьох безхребетних тварин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4) беруть участь у біологічному вивітрюванні скельних порід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5) індикатори стану навколишнього середовища (</a:t>
            </a:r>
            <a:r>
              <a:rPr b="0" i="1" lang="uk-UA" sz="2400" spc="-1" strike="noStrike">
                <a:solidFill>
                  <a:srgbClr val="000000"/>
                </a:solidFill>
                <a:latin typeface="Tahoma"/>
              </a:rPr>
              <a:t>Флуору, чадного газу, оксидів Сульфуру, Нітрогену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6) накопичують радіоактивні елементи – Уран, Радій, Торі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333399"/>
                </a:solidFill>
                <a:latin typeface="Tahoma"/>
              </a:rPr>
              <a:t>Домашнє завданн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Вивчит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§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58, с. 238-241; виконати завдання в робочому зошиті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333399"/>
                </a:solidFill>
                <a:latin typeface="Tahoma"/>
              </a:rPr>
              <a:t>Спасибі за плідну роботу</a:t>
            </a:r>
            <a:r>
              <a:rPr b="1" i="1" lang="uk-UA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i="1" lang="uk-UA" sz="40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До нових цікавих зустрічей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99"/>
                </a:solidFill>
                <a:latin typeface="Tahoma"/>
              </a:rPr>
              <a:t>Мета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147160" cy="1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3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Ознайомити учнів із особливостями будови, процесів життєдіяльності, значенням у природі та житті людини лишайників, розвивати вміння порівнювати особливості будови лишайників з іншими вивченими групами організмів; виховувати екологічне мислення школярів і цікавість до предмет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360" y="4797360"/>
            <a:ext cx="792144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ahoma"/>
              </a:rPr>
              <a:t>Обладнання: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 зразки лишайників, таблиці, блок-схеми, дидактичний матеріа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ahoma"/>
              </a:rPr>
              <a:t>Проблемне питання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Що дозволяє лишайникам заселити зовсім різні за природними умовами куточки Землі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63280" y="1125360"/>
            <a:ext cx="8280360" cy="28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333399"/>
                </a:solidFill>
                <a:latin typeface="Tahoma"/>
              </a:rPr>
              <a:t>Місце лишайників у класифікації живих організмів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324000" y="333360"/>
            <a:ext cx="8497800" cy="6335640"/>
            <a:chOff x="324000" y="333360"/>
            <a:chExt cx="8497800" cy="6335640"/>
          </a:xfrm>
        </p:grpSpPr>
        <p:grpSp>
          <p:nvGrpSpPr>
            <p:cNvPr id="110" name="Group 3"/>
            <p:cNvGrpSpPr/>
            <p:nvPr/>
          </p:nvGrpSpPr>
          <p:grpSpPr>
            <a:xfrm>
              <a:off x="2556000" y="333360"/>
              <a:ext cx="3887640" cy="936720"/>
              <a:chOff x="2556000" y="333360"/>
              <a:chExt cx="3887640" cy="936720"/>
            </a:xfrm>
          </p:grpSpPr>
          <p:sp>
            <p:nvSpPr>
              <p:cNvPr id="111" name="AutoShape 4"/>
              <p:cNvSpPr/>
              <p:nvPr/>
            </p:nvSpPr>
            <p:spPr>
              <a:xfrm>
                <a:off x="2556000" y="333360"/>
                <a:ext cx="3887640" cy="936720"/>
              </a:xfrm>
              <a:prstGeom prst="flowChartAlternateProcess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Text Box 5"/>
              <p:cNvSpPr/>
              <p:nvPr/>
            </p:nvSpPr>
            <p:spPr>
              <a:xfrm>
                <a:off x="2772000" y="405000"/>
                <a:ext cx="345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3600" spc="-1" strike="noStrike">
                    <a:solidFill>
                      <a:srgbClr val="000000"/>
                    </a:solidFill>
                    <a:latin typeface="Arial"/>
                  </a:rPr>
                  <a:t>Царство гриби</a:t>
                </a: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13" name="AutoShape 6"/>
            <p:cNvSpPr/>
            <p:nvPr/>
          </p:nvSpPr>
          <p:spPr>
            <a:xfrm>
              <a:off x="755640" y="4292640"/>
              <a:ext cx="2160720" cy="1368360"/>
            </a:xfrm>
            <a:prstGeom prst="flowChartConnec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4" name="Group 7"/>
            <p:cNvGrpSpPr/>
            <p:nvPr/>
          </p:nvGrpSpPr>
          <p:grpSpPr>
            <a:xfrm>
              <a:off x="324000" y="2133720"/>
              <a:ext cx="2232000" cy="863640"/>
              <a:chOff x="324000" y="2133720"/>
              <a:chExt cx="2232000" cy="863640"/>
            </a:xfrm>
          </p:grpSpPr>
          <p:sp>
            <p:nvSpPr>
              <p:cNvPr id="115" name="AutoShape 8"/>
              <p:cNvSpPr/>
              <p:nvPr/>
            </p:nvSpPr>
            <p:spPr>
              <a:xfrm>
                <a:off x="324000" y="2133720"/>
                <a:ext cx="2232000" cy="863640"/>
              </a:xfrm>
              <a:prstGeom prst="flowChartTerminator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Text Box 9"/>
              <p:cNvSpPr/>
              <p:nvPr/>
            </p:nvSpPr>
            <p:spPr>
              <a:xfrm>
                <a:off x="611280" y="2421000"/>
                <a:ext cx="165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2000" spc="-1" strike="noStrike">
                    <a:solidFill>
                      <a:srgbClr val="000000"/>
                    </a:solidFill>
                    <a:latin typeface="Arial"/>
                  </a:rPr>
                  <a:t>Відділ гриби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7" name="Group 10"/>
            <p:cNvGrpSpPr/>
            <p:nvPr/>
          </p:nvGrpSpPr>
          <p:grpSpPr>
            <a:xfrm>
              <a:off x="3348000" y="2637000"/>
              <a:ext cx="2233440" cy="1511280"/>
              <a:chOff x="3348000" y="2637000"/>
              <a:chExt cx="2233440" cy="1511280"/>
            </a:xfrm>
          </p:grpSpPr>
          <p:sp>
            <p:nvSpPr>
              <p:cNvPr id="118" name="AutoShape 11"/>
              <p:cNvSpPr/>
              <p:nvPr/>
            </p:nvSpPr>
            <p:spPr>
              <a:xfrm>
                <a:off x="3348000" y="2637000"/>
                <a:ext cx="2233440" cy="1511280"/>
              </a:xfrm>
              <a:prstGeom prst="flowChartTerminator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Text Box 12"/>
              <p:cNvSpPr/>
              <p:nvPr/>
            </p:nvSpPr>
            <p:spPr>
              <a:xfrm>
                <a:off x="3636720" y="2924280"/>
                <a:ext cx="17272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Відділ Слизовики (Міксоміцети)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0" name="Group 13"/>
            <p:cNvGrpSpPr/>
            <p:nvPr/>
          </p:nvGrpSpPr>
          <p:grpSpPr>
            <a:xfrm>
              <a:off x="6443640" y="2060640"/>
              <a:ext cx="2232000" cy="790560"/>
              <a:chOff x="6443640" y="2060640"/>
              <a:chExt cx="2232000" cy="790560"/>
            </a:xfrm>
          </p:grpSpPr>
          <p:sp>
            <p:nvSpPr>
              <p:cNvPr id="121" name="AutoShape 14"/>
              <p:cNvSpPr/>
              <p:nvPr/>
            </p:nvSpPr>
            <p:spPr>
              <a:xfrm>
                <a:off x="6443640" y="2060640"/>
                <a:ext cx="2232000" cy="790560"/>
              </a:xfrm>
              <a:prstGeom prst="flowChartTerminator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Text Box 15"/>
              <p:cNvSpPr/>
              <p:nvPr/>
            </p:nvSpPr>
            <p:spPr>
              <a:xfrm>
                <a:off x="6732720" y="2131920"/>
                <a:ext cx="1657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Відділ лишайники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3" name="Group 16"/>
            <p:cNvGrpSpPr/>
            <p:nvPr/>
          </p:nvGrpSpPr>
          <p:grpSpPr>
            <a:xfrm>
              <a:off x="900000" y="4581360"/>
              <a:ext cx="2016360" cy="642600"/>
              <a:chOff x="900000" y="4581360"/>
              <a:chExt cx="2016360" cy="642600"/>
            </a:xfrm>
          </p:grpSpPr>
          <p:sp>
            <p:nvSpPr>
              <p:cNvPr id="124" name="Text Box 17"/>
              <p:cNvSpPr/>
              <p:nvPr/>
            </p:nvSpPr>
            <p:spPr>
              <a:xfrm>
                <a:off x="1116000" y="4653000"/>
                <a:ext cx="12952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Text Box 18"/>
              <p:cNvSpPr/>
              <p:nvPr/>
            </p:nvSpPr>
            <p:spPr>
              <a:xfrm>
                <a:off x="900000" y="4581360"/>
                <a:ext cx="201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Багатоклітинні, Безхлорофільні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6" name="Group 19"/>
            <p:cNvGrpSpPr/>
            <p:nvPr/>
          </p:nvGrpSpPr>
          <p:grpSpPr>
            <a:xfrm>
              <a:off x="3564000" y="5300640"/>
              <a:ext cx="2160360" cy="1368360"/>
              <a:chOff x="3564000" y="5300640"/>
              <a:chExt cx="2160360" cy="1368360"/>
            </a:xfrm>
          </p:grpSpPr>
          <p:sp>
            <p:nvSpPr>
              <p:cNvPr id="127" name="AutoShape 20"/>
              <p:cNvSpPr/>
              <p:nvPr/>
            </p:nvSpPr>
            <p:spPr>
              <a:xfrm>
                <a:off x="3564000" y="5300640"/>
                <a:ext cx="2160360" cy="1368360"/>
              </a:xfrm>
              <a:prstGeom prst="flowChartConnector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Text Box 21"/>
              <p:cNvSpPr/>
              <p:nvPr/>
            </p:nvSpPr>
            <p:spPr>
              <a:xfrm>
                <a:off x="3708000" y="5589360"/>
                <a:ext cx="1800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Тіло не має сталої форми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9" name="Group 22"/>
            <p:cNvGrpSpPr/>
            <p:nvPr/>
          </p:nvGrpSpPr>
          <p:grpSpPr>
            <a:xfrm>
              <a:off x="6084720" y="4149720"/>
              <a:ext cx="2737080" cy="1728720"/>
              <a:chOff x="6084720" y="4149720"/>
              <a:chExt cx="2737080" cy="1728720"/>
            </a:xfrm>
          </p:grpSpPr>
          <p:sp>
            <p:nvSpPr>
              <p:cNvPr id="130" name="AutoShape 23"/>
              <p:cNvSpPr/>
              <p:nvPr/>
            </p:nvSpPr>
            <p:spPr>
              <a:xfrm>
                <a:off x="6084720" y="4149720"/>
                <a:ext cx="2737080" cy="1728720"/>
              </a:xfrm>
              <a:prstGeom prst="flowChartConnector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" name="Text Box 24"/>
              <p:cNvSpPr/>
              <p:nvPr/>
            </p:nvSpPr>
            <p:spPr>
              <a:xfrm>
                <a:off x="6661080" y="4365720"/>
                <a:ext cx="18003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Симбіотичні організми, що складаються з гриба та водоростей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2" name="AutoShape 25"/>
            <p:cNvSpPr/>
            <p:nvPr/>
          </p:nvSpPr>
          <p:spPr>
            <a:xfrm flipV="1">
              <a:off x="6516720" y="906840"/>
              <a:ext cx="1655640" cy="1079640"/>
            </a:xfrm>
            <a:custGeom>
              <a:avLst/>
              <a:gdLst>
                <a:gd name="textAreaLeft" fmla="*/ 0 w 1655640"/>
                <a:gd name="textAreaRight" fmla="*/ 1447920 w 1655640"/>
                <a:gd name="textAreaTop" fmla="*/ 91476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437" y="0"/>
                  </a:moveTo>
                  <a:lnTo>
                    <a:pt x="13274" y="11467"/>
                  </a:lnTo>
                  <a:lnTo>
                    <a:pt x="15987" y="11467"/>
                  </a:lnTo>
                  <a:lnTo>
                    <a:pt x="15987" y="18283"/>
                  </a:lnTo>
                  <a:lnTo>
                    <a:pt x="0" y="18283"/>
                  </a:lnTo>
                  <a:lnTo>
                    <a:pt x="0" y="21600"/>
                  </a:lnTo>
                  <a:lnTo>
                    <a:pt x="18887" y="21600"/>
                  </a:lnTo>
                  <a:lnTo>
                    <a:pt x="18887" y="11467"/>
                  </a:lnTo>
                  <a:lnTo>
                    <a:pt x="21600" y="11467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AutoShape 26"/>
            <p:cNvSpPr/>
            <p:nvPr/>
          </p:nvSpPr>
          <p:spPr>
            <a:xfrm rot="10800000">
              <a:off x="611280" y="907560"/>
              <a:ext cx="1800000" cy="1152720"/>
            </a:xfrm>
            <a:custGeom>
              <a:avLst/>
              <a:gdLst>
                <a:gd name="textAreaLeft" fmla="*/ 0 w 1800000"/>
                <a:gd name="textAreaRight" fmla="*/ 1379520 w 1800000"/>
                <a:gd name="textAreaTop" fmla="*/ 1003680 h 1152720"/>
                <a:gd name="textAreaBottom" fmla="*/ 1153080 h 115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86" y="0"/>
                  </a:moveTo>
                  <a:lnTo>
                    <a:pt x="9371" y="8895"/>
                  </a:lnTo>
                  <a:lnTo>
                    <a:pt x="14419" y="8895"/>
                  </a:lnTo>
                  <a:lnTo>
                    <a:pt x="14419" y="18816"/>
                  </a:lnTo>
                  <a:lnTo>
                    <a:pt x="0" y="18816"/>
                  </a:lnTo>
                  <a:lnTo>
                    <a:pt x="0" y="21600"/>
                  </a:lnTo>
                  <a:lnTo>
                    <a:pt x="16552" y="21600"/>
                  </a:lnTo>
                  <a:lnTo>
                    <a:pt x="16552" y="8895"/>
                  </a:lnTo>
                  <a:lnTo>
                    <a:pt x="21600" y="8895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AutoShape 27"/>
            <p:cNvSpPr/>
            <p:nvPr/>
          </p:nvSpPr>
          <p:spPr>
            <a:xfrm rot="5400000">
              <a:off x="3850920" y="1449360"/>
              <a:ext cx="1152360" cy="1079640"/>
            </a:xfrm>
            <a:custGeom>
              <a:avLst/>
              <a:gdLst>
                <a:gd name="textAreaLeft" fmla="*/ 144000 w 1152360"/>
                <a:gd name="textAreaRight" fmla="*/ 1008360 w 1152360"/>
                <a:gd name="textAreaTop" fmla="*/ 270000 h 1079640"/>
                <a:gd name="textAreaBottom" fmla="*/ 81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AutoShape 28"/>
            <p:cNvSpPr/>
            <p:nvPr/>
          </p:nvSpPr>
          <p:spPr>
            <a:xfrm rot="5400000">
              <a:off x="7126920" y="3248640"/>
              <a:ext cx="1152360" cy="503280"/>
            </a:xfrm>
            <a:custGeom>
              <a:avLst/>
              <a:gdLst>
                <a:gd name="textAreaLeft" fmla="*/ 144000 w 1152360"/>
                <a:gd name="textAreaRight" fmla="*/ 1008360 w 1152360"/>
                <a:gd name="textAreaTop" fmla="*/ 125640 h 503280"/>
                <a:gd name="textAreaBottom" fmla="*/ 37764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AutoShape 29"/>
            <p:cNvSpPr/>
            <p:nvPr/>
          </p:nvSpPr>
          <p:spPr>
            <a:xfrm rot="5400000">
              <a:off x="3960000" y="4617000"/>
              <a:ext cx="1152360" cy="217440"/>
            </a:xfrm>
            <a:custGeom>
              <a:avLst/>
              <a:gdLst>
                <a:gd name="textAreaLeft" fmla="*/ 144000 w 1152360"/>
                <a:gd name="textAreaRight" fmla="*/ 1008360 w 1152360"/>
                <a:gd name="textAreaTop" fmla="*/ 54360 h 217440"/>
                <a:gd name="textAreaBottom" fmla="*/ 163080 h 21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AutoShape 30"/>
            <p:cNvSpPr/>
            <p:nvPr/>
          </p:nvSpPr>
          <p:spPr>
            <a:xfrm rot="5400000">
              <a:off x="1259640" y="3427920"/>
              <a:ext cx="1152360" cy="433440"/>
            </a:xfrm>
            <a:custGeom>
              <a:avLst/>
              <a:gdLst>
                <a:gd name="textAreaLeft" fmla="*/ 144000 w 1152360"/>
                <a:gd name="textAreaRight" fmla="*/ 1008360 w 1152360"/>
                <a:gd name="textAreaTop" fmla="*/ 108360 h 433440"/>
                <a:gd name="textAreaBottom" fmla="*/ 325080 h 43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333399"/>
                </a:solidFill>
                <a:latin typeface="Tahoma"/>
              </a:rPr>
              <a:t>Зупинка “Географічна”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108000" y="1914840"/>
            <a:ext cx="9036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шайники основні надгрунтові рослини тундрової зони, де вони є головною кормовою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ослиною для північних оленів. Олені мають здатність відчувати запах лишайників крізь сніговий покрив, з-під якого вони їх дістають, розгрібаючи сніг копитами. При годуванні олені скуштують лише верхівки кущиків кладоній і цетрарій, і лишайники продовжують свій ріст. Проте ростуть вони повільно, і для відновлення пасовищ вимагається від 10 до 30 років. Тому в оленярських господарствах Півночі ведеться планове використання лишайникових пасовищ з урахуванням їх відновлення. Лишайники використовують в їжу й інші тварини, зокрема, свині і вівці охоче поїдають кладонію листувату, кладонію оленєвидну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5640" y="11556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333399"/>
                </a:solidFill>
                <a:latin typeface="Tahoma"/>
              </a:rPr>
              <a:t>Зупинка “Біологічна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59119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Будова слані лишайни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4" descr="03020401"/>
          <p:cNvPicPr/>
          <p:nvPr/>
        </p:nvPicPr>
        <p:blipFill>
          <a:blip r:embed="rId1"/>
          <a:stretch/>
        </p:blipFill>
        <p:spPr>
          <a:xfrm>
            <a:off x="1332000" y="981000"/>
            <a:ext cx="6553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lishajniki-stroenie.WMV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12:45:35Z</dcterms:created>
  <dc:creator>MK</dc:creator>
  <dc:description/>
  <dc:language>en-US</dc:language>
  <cp:lastModifiedBy>Admin</cp:lastModifiedBy>
  <dcterms:modified xsi:type="dcterms:W3CDTF">2013-12-09T07:52:48Z</dcterms:modified>
  <cp:revision>6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0b000000000001024140</vt:lpwstr>
  </property>
</Properties>
</file>