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4E8-A814-47EC-89F7-CF109F7D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BB8-4ABB-4BE2-A102-E76D065F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4E9-C1B2-4FBC-A63C-0BD7CB3B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286-E8CF-465D-86DB-3B4E981B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4621-1A33-4BDE-A6EF-702286CC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37C1-A77D-47A4-9502-BBB6D50A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D619-05C4-4EED-AAAB-8705FC56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C21-BB03-4BBA-8E04-B98CC8D7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CAE0-EBAF-4EDE-910F-84987645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BA27-050D-4067-9B09-5B536C5B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F7EA-7067-4CE1-BA22-8A93EFEB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15C-8DE9-42B9-85EC-308D3C11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3448-2DE8-4072-A2BE-358F184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084F-A865-4847-8D7B-275C736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3767-530C-41D6-85A7-8822F159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D33B-7AA3-4A65-BAF1-B2CB1DF3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C079-4022-49E0-81F9-CF0C8EC7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935-FF8F-4176-8557-C2062E82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A92-1CDA-4F38-8EA5-375FA8B0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986-4165-41EC-8D2D-0C82F2F0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ADA-04DF-483B-B620-73092735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D8F-1B0E-4683-A8D5-BFB3B346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7BD-132E-4D8A-BBC4-F67E3816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DB2-E191-4CF5-8876-3B328033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5021-56D2-4D57-BC10-ECB9AB7CB61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59B4-5410-4CAF-8160-1C15B1E6704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546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400" spc="-1" strike="noStrike">
                <a:solidFill>
                  <a:srgbClr val="006633"/>
                </a:solidFill>
                <a:latin typeface="Arial"/>
              </a:rPr>
              <a:t>Будова і функції</a:t>
            </a:r>
            <a:br>
              <a:rPr sz="4400"/>
            </a:br>
            <a:r>
              <a:rPr b="1" lang="uk-UA" sz="4400" spc="-1" strike="noStrike">
                <a:solidFill>
                  <a:srgbClr val="006633"/>
                </a:solidFill>
                <a:latin typeface="Arial"/>
              </a:rPr>
              <a:t>сечовидільної</a:t>
            </a:r>
            <a:br>
              <a:rPr sz="4400"/>
            </a:br>
            <a:r>
              <a:rPr b="1" lang="uk-UA" sz="4400" spc="-1" strike="noStrike">
                <a:solidFill>
                  <a:srgbClr val="006633"/>
                </a:solidFill>
                <a:latin typeface="Arial"/>
              </a:rPr>
              <a:t>системи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685800"/>
            <a:ext cx="2743200" cy="38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Завдання уро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'ясувати місце сечовидільної системи у процесі обміну речов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вчити будову сечовидільної систе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Установити відповідність будови органів їхнім функці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пам'ятати ключові поняття: </a:t>
            </a:r>
            <a:r>
              <a:rPr b="0" i="1" lang="uk-UA" sz="3000" spc="-1" strike="noStrike">
                <a:solidFill>
                  <a:srgbClr val="ff3300"/>
                </a:solidFill>
                <a:latin typeface="Arial"/>
              </a:rPr>
              <a:t>виділення, нирка, нефрон, ниркова миска, сечовід, сечівник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90720"/>
            <a:ext cx="8839080" cy="563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Gungsuh"/>
                <a:ea typeface="Times New Roman"/>
              </a:rPr>
              <a:t>Виділення</a:t>
            </a:r>
            <a:r>
              <a:rPr b="1" lang="en-US" sz="4400" spc="-1" strike="noStrike">
                <a:solidFill>
                  <a:srgbClr val="660066"/>
                </a:solidFill>
                <a:latin typeface="Gungsuh"/>
                <a:ea typeface="Times New Roman"/>
              </a:rPr>
              <a:t> – </a:t>
            </a:r>
            <a:r>
              <a:rPr b="1" lang="uk-UA" sz="4400" spc="-1" strike="noStrike">
                <a:solidFill>
                  <a:srgbClr val="660066"/>
                </a:solidFill>
                <a:latin typeface="Gungsuh"/>
                <a:ea typeface="Times New Roman"/>
              </a:rPr>
              <a:t>це процес видалення з організму шкідливих і непотрібних продуктів обміну речовин, надлишку води, солей, спрямований на підтримання сталості його внутрішнього середовища.</a:t>
            </a:r>
            <a:r>
              <a:rPr b="1" lang="uk-UA" sz="4400" spc="-1" strike="noStrike">
                <a:solidFill>
                  <a:srgbClr val="333399"/>
                </a:solidFill>
                <a:latin typeface="Gungsuh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ілення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43548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5219640" y="2565360"/>
            <a:ext cx="1728720" cy="93492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2133720"/>
            <a:ext cx="1511280" cy="21564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932000" y="3860640"/>
            <a:ext cx="165564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14600" y="3728520"/>
            <a:ext cx="2158920" cy="8100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52680" y="5854680"/>
            <a:ext cx="1511280" cy="241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932360" y="5373720"/>
            <a:ext cx="1440000" cy="7128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00200"/>
            <a:ext cx="175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Ни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124080"/>
            <a:ext cx="2232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Ниркова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артер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і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352680"/>
            <a:ext cx="2232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Ниркова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1905120"/>
            <a:ext cx="1905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Сечові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029200"/>
            <a:ext cx="2305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Сечовий міх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10080"/>
            <a:ext cx="352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Сечі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ова видільної системи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375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87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4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8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3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4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450"/>
                            </p:stCondLst>
                            <p:childTnLst>
                              <p:par>
                                <p:cTn id="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95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273480" cy="3819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248520" y="3352680"/>
            <a:ext cx="2743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523880"/>
            <a:ext cx="25923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2205000"/>
            <a:ext cx="935280" cy="79236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114800" y="3733560"/>
            <a:ext cx="1892160" cy="158724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562360" y="2209680"/>
            <a:ext cx="990360" cy="79560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562360" y="3352680"/>
            <a:ext cx="1143000" cy="53352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6520" y="4114440"/>
            <a:ext cx="1828800" cy="101268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ова нирки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924280"/>
            <a:ext cx="201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і пірамі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3500280"/>
            <a:ext cx="1081080" cy="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8000" y="148428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а 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328464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а артер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5084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а м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48428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Корковий 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94172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Мозковий 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90792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і чаш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95280" y="1989000"/>
            <a:ext cx="1081080" cy="107964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2622600" cy="432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43200" y="2057400"/>
            <a:ext cx="1604880" cy="77472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435280" y="3716280"/>
            <a:ext cx="1297080" cy="72072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3141720"/>
            <a:ext cx="1368360" cy="28728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876920" y="3200040"/>
            <a:ext cx="1828800" cy="22860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3200" y="3429000"/>
            <a:ext cx="1698480" cy="91440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638320" y="1905120"/>
            <a:ext cx="1143000" cy="88416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6019920"/>
            <a:ext cx="302400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743200" y="5562720"/>
            <a:ext cx="1550880" cy="38088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181480" y="5486040"/>
            <a:ext cx="990720" cy="60948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ова нефрона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1052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носна артері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56536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ри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осна артері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00536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апілярний клубо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44500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ркова артер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5950080"/>
            <a:ext cx="305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ркова 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88000" y="4437000"/>
            <a:ext cx="273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Зв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вистий каналец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2924280"/>
            <a:ext cx="194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ркова капс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77080" y="1197000"/>
            <a:ext cx="2087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іт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ка капіля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ілення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1676520"/>
            <a:ext cx="3962160" cy="487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562720" y="182880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943600" y="3048120"/>
            <a:ext cx="1905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57800" y="4648320"/>
            <a:ext cx="2666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23880" y="4419360"/>
            <a:ext cx="297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276720"/>
            <a:ext cx="1905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00200" y="579096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981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66"/>
                </a:solidFill>
                <a:latin typeface="Arial"/>
              </a:rPr>
              <a:t>Зробити позна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67640" y="15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850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5672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47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623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ілення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12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Закінчити р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84464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У видаленні з організму продуктів обміну беру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участь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Органи сечовидільної системи розташовані 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Структурною та функціональною одинице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нирки є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Місткість сечового міхура станови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Видільна функція нирок полягає у виділенні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3:29:41Z</dcterms:created>
  <dc:creator>VIENNA XP</dc:creator>
  <dc:description/>
  <dc:language>en-US</dc:language>
  <cp:lastModifiedBy>VIENNA XP</cp:lastModifiedBy>
  <dcterms:modified xsi:type="dcterms:W3CDTF">2012-01-16T04:41:01Z</dcterms:modified>
  <cp:revision>7</cp:revision>
  <dc:subject/>
  <dc:title>  Будова і функції сечовидільної систе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4000000000001024140</vt:lpwstr>
  </property>
</Properties>
</file>