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BA5-F126-4551-829B-67C64402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B70-3CC3-42FA-A9F9-9C2D7757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C6A-871C-4A43-A455-460DABA3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782-6D3B-4A0B-B839-1BDC47E1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213B-46A2-4D1E-A640-D33E9F28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96CC-D173-4845-A5B2-8E32097C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7E4C-1528-4117-AC47-B5617ACE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F664-53B4-4928-B8DA-3DC5F2F5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48B6-1B7C-4A74-B641-D3B7582E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C510-A5CC-4084-B64E-5E486BFA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D0A9-6E51-4126-B52C-ACD0E15F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EC9-F3EE-42AC-B7AD-E6B13E2B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DA63-6532-4ED5-9F83-65167E9D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E6F5-7C3F-4BAA-9818-233FFFB2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5ED2-AA01-4EE2-AC23-93553F30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6CF-1B26-447F-81CE-0D0C0114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7E64-D0F5-4EF3-B5EC-0215BCFC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F55-7D79-4CF2-B317-68E5F968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ADB-2A8E-4E05-826C-D61874D8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EA2-C55C-418F-8811-16BA140D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399-AF6E-47C6-A7A9-37815049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CA1-E04D-4829-B87C-DBF2EA9F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530-5FFD-4EA8-A494-1A137AB9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2C8-5A43-48E7-873B-3437C628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1C05-8713-4DA3-9A43-BF69E5AAAF5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CC62-6D1C-4039-8A69-001C9735378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546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400" spc="-1" strike="noStrike">
                <a:solidFill>
                  <a:srgbClr val="006633"/>
                </a:solidFill>
                <a:latin typeface="Arial"/>
              </a:rPr>
              <a:t>Будова і функції</a:t>
            </a:r>
            <a:br>
              <a:rPr sz="4400"/>
            </a:br>
            <a:r>
              <a:rPr b="1" lang="uk-UA" sz="4400" spc="-1" strike="noStrike">
                <a:solidFill>
                  <a:srgbClr val="006633"/>
                </a:solidFill>
                <a:latin typeface="Arial"/>
              </a:rPr>
              <a:t>сечовидільної</a:t>
            </a:r>
            <a:br>
              <a:rPr sz="4400"/>
            </a:br>
            <a:r>
              <a:rPr b="1" lang="uk-UA" sz="4400" spc="-1" strike="noStrike">
                <a:solidFill>
                  <a:srgbClr val="006633"/>
                </a:solidFill>
                <a:latin typeface="Arial"/>
              </a:rPr>
              <a:t>системи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685800"/>
            <a:ext cx="2743200" cy="388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Завдання урок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'ясувати місце сечовидільної системи у процесі обміну речов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ивчити будову сечовидільної систе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Установити відповідність будови органів їхнім функці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апам'ятати ключові поняття: </a:t>
            </a:r>
            <a:r>
              <a:rPr b="0" i="1" lang="uk-UA" sz="3000" spc="-1" strike="noStrike">
                <a:solidFill>
                  <a:srgbClr val="ff3300"/>
                </a:solidFill>
                <a:latin typeface="Arial"/>
              </a:rPr>
              <a:t>виділення, нирка, нефрон, ниркова миска, сечовід, сечівник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52280"/>
            <a:ext cx="762120" cy="106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90720"/>
            <a:ext cx="8839080" cy="563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Gungsuh"/>
                <a:ea typeface="Times New Roman"/>
              </a:rPr>
              <a:t>Виділення</a:t>
            </a:r>
            <a:r>
              <a:rPr b="1" lang="en-US" sz="4400" spc="-1" strike="noStrike">
                <a:solidFill>
                  <a:srgbClr val="660066"/>
                </a:solidFill>
                <a:latin typeface="Gungsuh"/>
                <a:ea typeface="Times New Roman"/>
              </a:rPr>
              <a:t> – </a:t>
            </a:r>
            <a:r>
              <a:rPr b="1" lang="uk-UA" sz="4400" spc="-1" strike="noStrike">
                <a:solidFill>
                  <a:srgbClr val="660066"/>
                </a:solidFill>
                <a:latin typeface="Gungsuh"/>
                <a:ea typeface="Times New Roman"/>
              </a:rPr>
              <a:t>це процес видалення з організму шкідливих і непотрібних продуктів обміну речовин, надлишку води, солей, спрямований на підтримання сталості його внутрішнього середовища.</a:t>
            </a:r>
            <a:r>
              <a:rPr b="1" lang="uk-UA" sz="4400" spc="-1" strike="noStrike">
                <a:solidFill>
                  <a:srgbClr val="333399"/>
                </a:solidFill>
                <a:latin typeface="Gungsuh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ілення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52280"/>
            <a:ext cx="762120" cy="106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343548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5219640" y="2565360"/>
            <a:ext cx="1728720" cy="934920"/>
          </a:xfrm>
          <a:prstGeom prst="line">
            <a:avLst/>
          </a:prstGeom>
          <a:ln w="38160">
            <a:solidFill>
              <a:srgbClr val="66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2133720"/>
            <a:ext cx="1511280" cy="215640"/>
          </a:xfrm>
          <a:prstGeom prst="line">
            <a:avLst/>
          </a:prstGeom>
          <a:ln w="38160">
            <a:solidFill>
              <a:srgbClr val="66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932000" y="3860640"/>
            <a:ext cx="1655640" cy="0"/>
          </a:xfrm>
          <a:prstGeom prst="line">
            <a:avLst/>
          </a:prstGeom>
          <a:ln w="38160">
            <a:solidFill>
              <a:srgbClr val="66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14600" y="3728520"/>
            <a:ext cx="2158920" cy="81000"/>
          </a:xfrm>
          <a:prstGeom prst="line">
            <a:avLst/>
          </a:prstGeom>
          <a:ln w="38160">
            <a:solidFill>
              <a:srgbClr val="66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52680" y="5854680"/>
            <a:ext cx="1511280" cy="241200"/>
          </a:xfrm>
          <a:prstGeom prst="line">
            <a:avLst/>
          </a:prstGeom>
          <a:ln w="38160">
            <a:solidFill>
              <a:srgbClr val="66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932360" y="5373720"/>
            <a:ext cx="1440000" cy="71280"/>
          </a:xfrm>
          <a:prstGeom prst="line">
            <a:avLst/>
          </a:prstGeom>
          <a:ln w="38160">
            <a:solidFill>
              <a:srgbClr val="66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600200"/>
            <a:ext cx="175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Ни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124080"/>
            <a:ext cx="2232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Ниркова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 артер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і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352680"/>
            <a:ext cx="2232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Ниркова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 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1905120"/>
            <a:ext cx="1905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Сечові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029200"/>
            <a:ext cx="2305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Сечовий міх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10080"/>
            <a:ext cx="352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Сечі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52280"/>
            <a:ext cx="762120" cy="106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9528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дова видільної системи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375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875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4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8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3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4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450"/>
                            </p:stCondLst>
                            <p:childTnLst>
                              <p:par>
                                <p:cTn id="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95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273480" cy="3819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248520" y="3352680"/>
            <a:ext cx="2743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1523880"/>
            <a:ext cx="25923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2205000"/>
            <a:ext cx="935280" cy="79236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114800" y="3733560"/>
            <a:ext cx="1892160" cy="158724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562360" y="2209680"/>
            <a:ext cx="990360" cy="79560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562360" y="3352680"/>
            <a:ext cx="1143000" cy="53352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76520" y="4114440"/>
            <a:ext cx="1828800" cy="101268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52280"/>
            <a:ext cx="762120" cy="106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9528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дова нирки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924280"/>
            <a:ext cx="2017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Ниркові пірамі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3500280"/>
            <a:ext cx="1081080" cy="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88000" y="148428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Ниркова 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328464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Ниркова артер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508464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Ниркова м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48428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Корковий ш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94172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Мозковий ш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90792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Ниркові чаше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95280" y="1989000"/>
            <a:ext cx="1081080" cy="1079640"/>
          </a:xfrm>
          <a:prstGeom prst="line">
            <a:avLst/>
          </a:prstGeom>
          <a:ln w="38160">
            <a:solidFill>
              <a:srgbClr val="9b38c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2622600" cy="432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43200" y="2057400"/>
            <a:ext cx="1604880" cy="77472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435280" y="3716280"/>
            <a:ext cx="1297080" cy="72072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3141720"/>
            <a:ext cx="1368360" cy="28728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876920" y="3200040"/>
            <a:ext cx="1828800" cy="22860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43200" y="3429000"/>
            <a:ext cx="1698480" cy="91440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638320" y="1905120"/>
            <a:ext cx="1143000" cy="88416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6019920"/>
            <a:ext cx="302400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743200" y="5562720"/>
            <a:ext cx="1550880" cy="38088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181480" y="5486040"/>
            <a:ext cx="990720" cy="609480"/>
          </a:xfrm>
          <a:prstGeom prst="line">
            <a:avLst/>
          </a:prstGeom>
          <a:ln w="38160">
            <a:solidFill>
              <a:srgbClr val="2718e8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52280"/>
            <a:ext cx="762120" cy="106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дова нефрона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105264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иносна артері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56536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ри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носна артері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400536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апілярний клубо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544500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иркова артер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5950080"/>
            <a:ext cx="305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иркова 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88000" y="4437000"/>
            <a:ext cx="273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Зв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ивистий каналец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2924280"/>
            <a:ext cx="1942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иркова капс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77080" y="1197000"/>
            <a:ext cx="2087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іт</a:t>
            </a: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ка капіля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152280"/>
            <a:ext cx="762120" cy="106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9528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ілення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1676520"/>
            <a:ext cx="3962160" cy="4876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562720" y="182880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943600" y="3048120"/>
            <a:ext cx="1905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257800" y="4648320"/>
            <a:ext cx="2666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23880" y="4419360"/>
            <a:ext cx="297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3276720"/>
            <a:ext cx="1905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00200" y="579096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981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66"/>
                </a:solidFill>
                <a:latin typeface="Arial"/>
              </a:rPr>
              <a:t>Зробити позна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67640" y="155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8508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5672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47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6237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95280" y="22860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ілення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125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66"/>
                </a:solidFill>
                <a:latin typeface="Arial"/>
              </a:rPr>
              <a:t>Закінчити р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84464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У видаленні з організму продуктів обміну беру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участь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Органи сечовидільної системи розташовані 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Структурною та функціональною одинице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нирки є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Місткість сечового міхура станови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660066"/>
                </a:solidFill>
                <a:latin typeface="Arial"/>
              </a:rPr>
              <a:t>Видільна функція нирок полягає у виділенні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3:29:41Z</dcterms:created>
  <dc:creator>VIENNA XP</dc:creator>
  <dc:description/>
  <dc:language>en-US</dc:language>
  <cp:lastModifiedBy>VIENNA XP</cp:lastModifiedBy>
  <dcterms:modified xsi:type="dcterms:W3CDTF">2012-01-16T04:41:01Z</dcterms:modified>
  <cp:revision>7</cp:revision>
  <dc:subject/>
  <dc:title>  Будова і функції сечовидільної систе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04000000000001024140</vt:lpwstr>
  </property>
</Properties>
</file>