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3CA8-7A61-408B-8719-10611059C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6DA4-63B6-4DBE-8333-37F4321D8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4208-C678-439F-9096-9D668F0AD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A60-8742-401E-8EEE-B0CE7E55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E31-23D5-48C3-B350-77A64BF0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14FC1-D0CC-4CF5-A616-9CCB8B5C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641E6-3138-4CBA-BE0B-D17EC57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DB6E6-4740-4335-89D9-2FC34B32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3BD06-3FEF-414A-9488-AD1AE9D5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C1418-0BB5-4104-970D-C1858BF8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74704-CD04-43BA-B7DD-2E7E3D90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85039-E2D5-45B0-A2D9-BD908966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2237B-0492-46EF-BDCA-7E6443F2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B0095-8E79-43E0-8415-18B109EC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6B3-E83E-46C4-9ABD-60D570B3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C64-5EAA-4F1E-8771-7A3C50F7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4B86-5D8C-4EDE-AD5E-B29E21EF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1EA1-0657-4841-9E2D-99AEC5A4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413D-935B-4B59-9D8F-F823B6E1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C821-C2B9-4433-B600-B254F82B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5C23-ABC6-41A2-8E2A-D5D922A4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D76F-2CA9-4ACF-81B1-A7ECE5D3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00F7-BDDD-4E70-A59B-CF68ACB6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8D0-E851-441C-816A-79C5BD4C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48D9-A479-4CA3-8A8B-70BD6174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75F0-125B-4436-B10C-37783D73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9EB6-B943-44B4-BFCA-182A6B73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7CF7-CC3E-4FC0-B281-3A425C72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A1AD-9F8B-4ECE-9875-9A30184F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410A-529B-44CE-8316-8B2365E9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5919-9336-447D-A5C7-91DE8716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D6D3-1020-4547-9287-B0C59EB0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DCB5-31CA-4336-A80E-BDCD8F5F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A02C-341B-4C2E-BAD3-0BA7DF1E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8BD-F001-49EA-93B5-3C4858C0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AC43-809D-43EA-BE27-625F84CB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5EF4-AFE3-4B92-A203-AC04D3E0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F663-EEF7-4EEC-9809-BF0E4C81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0432-D14C-4BE7-81CE-C63E2BBC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14A4-5266-45B6-8FF3-C47B75D0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54A9-C91E-4554-AE27-61767902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3F6A-643B-4CCE-9A6D-FD3181B3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9DB2-FDE8-487F-BA35-D652E9F7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DE5B-951A-4CD5-A50F-C0479FCC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F203-B910-45E3-ACA6-24B1C77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1F3-AA19-423A-9A56-19E46F8F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C009-445B-43A9-A779-187BAF37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9F04F-DE4F-4E46-BD9C-3BA0BB24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9FBB7-ABC0-4864-B74F-A0057DA1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759AF-48AB-4E0B-A0E4-8A51BDB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F68EA-072A-43DF-AB45-6D5DA35D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4A11A-13C4-4AE9-9E2F-95AE73CE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7249-3BBC-4415-9601-4EDE5355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5683E-6789-487D-9E18-5CF51804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D83E-6C79-4817-8E4B-CFFFFE93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DB9E5-0442-44C9-80FA-6C44C6D8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EA3-1E85-4FC9-AE4E-CE0B659D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84E60-A09B-40F3-B28D-44ECA527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F1729-274A-444B-8DCA-FA76F5D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61B7-9906-4050-85AE-5802974D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F472A-4133-4632-A01D-BCF0CD56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41970-7CA5-476D-9A80-551D52E9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B82F1-899E-4BFC-9856-5CA04D8F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F268-738F-4F7D-93A5-286E1C7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377F3-A7B3-4A4D-A5E2-4486A1F8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70E34-8CF3-44AA-90BB-254A9CB7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2D77-B3C2-4E7E-BE0F-E0C5A2A5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B86-3860-4D17-9457-A6FF815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43DA7-366F-4F08-AA9E-A229C2EF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1ECBB-6D53-4DAD-980F-9FF3F874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2865A-74AB-4AA3-B294-D612E48C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A25E-2E0E-4035-A0E6-0330F385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842F-AAAF-407B-B3DB-0697C29A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1F2AB-85F6-48BB-ADA1-ABD488E3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8DBAC-4DA9-4B15-B168-684A68A7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2CDEE-E835-401D-A24C-2F32FFDA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CB57E-4490-462A-922F-CF85D627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CEF7F-274F-44FC-ABC2-E4B9E797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DA1-0F67-4C18-8347-8B9F1E4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B7122-BF6F-4B97-9667-40E78382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8197-2933-4057-BADC-49AB487F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0F220-6B5B-4F9C-8CD7-99C596BF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2B77E-57F7-47DB-B56F-37507FEC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D3BC1-9668-42C2-868A-53550C99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7B492-7C1D-4FD9-8537-EC2BD90E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7989-F440-41CA-B59D-C7DE4155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C547A-C8BF-45B9-AE9F-E3B3DAB8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6048-474A-43DA-9F47-6688CC9F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69D70-FB07-4F4B-ADC3-82C1238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1FA-DD96-4441-9037-B374C7B0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00AE9-E974-4956-A5A0-E4A1984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57C97-04B9-4D35-BB70-4EDC99A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50C68-D4F5-4D7B-9B56-0F44535D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E513B-969D-4449-B76E-45BED025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024B7-C634-4B84-BFA7-76046480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A6EF0-1EF8-4635-AE57-CB63D341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F6483-06FD-4C58-9271-072BE3D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7BF6D-58EB-4A2D-9052-F61BC572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3D2A6-6563-412D-9228-0B05F4C1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647D7-06FE-4FDF-BBE5-74A4FBA5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A3C-6983-4FD2-B86D-0558DAB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EA30A-9773-4327-BA30-D27A3C36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985F-62A9-43B9-8C43-CBB30C18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12666-181B-4245-9C87-620CE5B4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818B2-DE0F-4260-B698-5C43B33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60E67-9E4C-4C96-91CB-3DAF97EE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2A3E0-FDC5-463C-BF51-B006673F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76464-FEDB-4E32-9529-855B0EBF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E7E56-B1C8-4FF4-8F0F-03074E57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0F648-F4E3-4438-B45E-74EC9EB4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6FD4B-31C6-4CD6-BFAA-822C1093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006F-3659-4C3B-B2AD-97D158AE8BA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E3A1-8595-4C90-8EF5-6676008F21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122F-0A2E-48F0-954A-08CF1408E57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A678-6534-4E9D-9B4F-B2D68957D92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9D16-2315-4111-A6D0-855A08297B1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BCDF-7D7E-434F-9914-7FBE6BFBE1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4A2-0904-4573-8966-6BAE9D4C13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36F3-AA57-4BD7-843A-171DB4BF3F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C15F-12DD-4B2A-8226-8EDA9D26D5E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871120" cy="1869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2142720"/>
            <a:ext cx="52671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1. Зародок насінин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2. Коренева систем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3. Стебл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4. Листк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5. Жилкування 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6. 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500440" y="2142720"/>
            <a:ext cx="34909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1. Дві сім'ядолі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2. Стрижне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3. Дерев’янисте і трав’янист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4. Прості і складні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5. Сітчаст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6. Оцвітина подвій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785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Bookman Old Style"/>
              </a:rPr>
              <a:t>АНАГРАМ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560" y="1143000"/>
            <a:ext cx="6553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</a:t>
            </a: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Сов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люблена зернова культура коне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2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Говуд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тип жилкування листк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3.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иканіг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лікарська рослина родини Айстрові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4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аом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поширена напівпаразитична рослина, оселяється на деревах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5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Бриводо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речовина для підживлення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6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тсо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злісний бур'я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7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Ипал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дерево з духмяними квітам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8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Четверта </a:t>
            </a:r>
            <a:r>
              <a:rPr b="1" lang="uk-UA" sz="2000" spc="-1" strike="noStrike">
                <a:solidFill>
                  <a:srgbClr val="624139"/>
                </a:solidFill>
                <a:latin typeface="Bookman Old Style"/>
              </a:rPr>
              <a:t>літера у назві рослини,           насіння якої поширюється за допомогою “ парашутиків ”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9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ШавиНан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чений, який відкрив          подвійне запліднення у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0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Жасітрі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група паразитичних  гриб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786360" y="1214280"/>
            <a:ext cx="2205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ве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угов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гід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ме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обрив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со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ип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Кул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Ь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баб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ваш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І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ржасті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572600" cy="9003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9900"/>
                </a:solidFill>
                <a:latin typeface="Bookman Old Style"/>
              </a:rPr>
              <a:t>ТЕМА УРОКУ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5840" y="1928880"/>
            <a:ext cx="8562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Характеристика</a:t>
            </a:r>
            <a:r>
              <a:rPr b="1" lang="uk-UA" sz="6000" spc="-1" strike="noStrike">
                <a:solidFill>
                  <a:srgbClr val="4e3b30"/>
                </a:solidFill>
                <a:latin typeface="Franklin Gothic Book"/>
              </a:rPr>
              <a:t>                                 </a:t>
            </a: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класу Однодольні.                                   Родина Злакові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686800" cy="838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Franklin Gothic Medium"/>
              </a:rPr>
              <a:t>ХАРАКТЕРНІ ОЗНАКИ КЛАСУ ОДНОДОЛЬНІ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Зародок насінини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дна сім'ядол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оренева систем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мичкува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c4c2c"/>
                </a:solidFill>
                <a:latin typeface="Franklin Gothic Book"/>
              </a:rPr>
              <a:t>Стебло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трав’янист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Листки – 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рост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Жилкування листків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аралельне і дугов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вітк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цвітина прост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ХАРАКТЕРНІ ОЗНАКИ РОСЛИНИ                          РОДИНИ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4200" y="1499760"/>
            <a:ext cx="328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уцвітт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ебл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Жилкуванн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лі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500280" y="1428840"/>
            <a:ext cx="5491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ві квіткових луски, дві плівки, три тичинки, маточ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олос, волоть,                                     початок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ломи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аралельн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ернівка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6" descr="C:\Documents and Settings\Admin\Мои документы\Мои рисунки\Изображение\Изображение 176.jpg"/>
          <p:cNvPicPr/>
          <p:nvPr/>
        </p:nvPicPr>
        <p:blipFill>
          <a:blip r:embed="rId1"/>
          <a:srcRect l="40824" t="57041" r="19" b="0"/>
          <a:stretch/>
        </p:blipFill>
        <p:spPr>
          <a:xfrm>
            <a:off x="7358040" y="1857240"/>
            <a:ext cx="1500120" cy="1779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Мои документы\Мои рисунки\Изображение\Изображение 174.jpg"/>
          <p:cNvPicPr/>
          <p:nvPr/>
        </p:nvPicPr>
        <p:blipFill>
          <a:blip r:embed="rId2"/>
          <a:srcRect l="67456" t="35108" r="0" b="-10"/>
          <a:stretch/>
        </p:blipFill>
        <p:spPr>
          <a:xfrm>
            <a:off x="8001000" y="3214800"/>
            <a:ext cx="895320" cy="228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Documents and Settings\Admin\Мои документы\Мои рисунки\Изображение\Изображение 176.jpg"/>
          <p:cNvPicPr/>
          <p:nvPr/>
        </p:nvPicPr>
        <p:blipFill>
          <a:blip r:embed="rId3"/>
          <a:srcRect l="1674" t="51544" r="53347" b="3561"/>
          <a:stretch/>
        </p:blipFill>
        <p:spPr>
          <a:xfrm>
            <a:off x="5786280" y="2357280"/>
            <a:ext cx="1314720" cy="2143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Documents and Settings\Admin\Мои документы\Мои рисунки\Изображение\Изображение 176.jpg"/>
          <p:cNvPicPr/>
          <p:nvPr/>
        </p:nvPicPr>
        <p:blipFill>
          <a:blip r:embed="rId4"/>
          <a:srcRect l="0" t="0" r="38774" b="54886"/>
          <a:stretch/>
        </p:blipFill>
        <p:spPr>
          <a:xfrm>
            <a:off x="6500880" y="4286160"/>
            <a:ext cx="1500120" cy="180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ПРЕДСТАВНИКИ РОДИНИ 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Содержимое 2" descr=""/>
          <p:cNvPicPr/>
          <p:nvPr/>
        </p:nvPicPr>
        <p:blipFill>
          <a:blip r:embed="rId1"/>
          <a:stretch/>
        </p:blipFill>
        <p:spPr>
          <a:xfrm>
            <a:off x="30240" y="1054080"/>
            <a:ext cx="8905680" cy="5595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Мои документы\Мои рисунки\Изображение\Изображение.jpg"/>
          <p:cNvPicPr/>
          <p:nvPr/>
        </p:nvPicPr>
        <p:blipFill>
          <a:blip r:embed="rId2"/>
          <a:srcRect l="0" t="52075" r="17772" b="46"/>
          <a:stretch/>
        </p:blipFill>
        <p:spPr>
          <a:xfrm>
            <a:off x="4143240" y="1143000"/>
            <a:ext cx="1214640" cy="235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Documents and Settings\Admin\Мои документы\Мои рисунки\Изображение\Изображение.jpg"/>
          <p:cNvPicPr/>
          <p:nvPr/>
        </p:nvPicPr>
        <p:blipFill>
          <a:blip r:embed="rId3"/>
          <a:srcRect l="1989" t="0" r="0" b="47933"/>
          <a:stretch/>
        </p:blipFill>
        <p:spPr>
          <a:xfrm>
            <a:off x="7358040" y="1143000"/>
            <a:ext cx="1143000" cy="2616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C:\Documents and Settings\Admin\Мои документы\Мои рисунки\Изображение\Изображение 175.jpg"/>
          <p:cNvPicPr/>
          <p:nvPr/>
        </p:nvPicPr>
        <p:blipFill>
          <a:blip r:embed="rId4"/>
          <a:srcRect l="40541" t="75853" r="-644" b="2280"/>
          <a:stretch/>
        </p:blipFill>
        <p:spPr>
          <a:xfrm>
            <a:off x="3357720" y="407196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Admin\Мои документы\Мои рисунки\Изображение\Изображение 175.jpg"/>
          <p:cNvPicPr/>
          <p:nvPr/>
        </p:nvPicPr>
        <p:blipFill>
          <a:blip r:embed="rId5"/>
          <a:srcRect l="55701" t="2557" r="10135" b="65129"/>
          <a:stretch/>
        </p:blipFill>
        <p:spPr>
          <a:xfrm>
            <a:off x="5072040" y="3857760"/>
            <a:ext cx="1000080" cy="2708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C:\Documents and Settings\Admin\Мои документы\Мои рисунки\Изображение\Изображение 175.jpg"/>
          <p:cNvPicPr/>
          <p:nvPr/>
        </p:nvPicPr>
        <p:blipFill>
          <a:blip r:embed="rId6"/>
          <a:srcRect l="6657" t="65099" r="60082" b="30"/>
          <a:stretch/>
        </p:blipFill>
        <p:spPr>
          <a:xfrm>
            <a:off x="6143760" y="3929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C:\Documents and Settings\Admin\Мои документы\Мои рисунки\Изображение\Изображение 175.jpg"/>
          <p:cNvPicPr/>
          <p:nvPr/>
        </p:nvPicPr>
        <p:blipFill>
          <a:blip r:embed="rId7"/>
          <a:srcRect l="0" t="0" r="46747" b="67454"/>
          <a:stretch/>
        </p:blipFill>
        <p:spPr>
          <a:xfrm>
            <a:off x="7429680" y="3929040"/>
            <a:ext cx="1285560" cy="2251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Documents and Settings\Admin\Мои документы\Мои рисунки\Изображение\Изображение 174.jpg"/>
          <p:cNvPicPr/>
          <p:nvPr/>
        </p:nvPicPr>
        <p:blipFill>
          <a:blip r:embed="rId8"/>
          <a:srcRect l="0" t="0" r="0" b="-10"/>
          <a:stretch/>
        </p:blipFill>
        <p:spPr>
          <a:xfrm>
            <a:off x="5857920" y="1714680"/>
            <a:ext cx="1571760" cy="2012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Овал 4"/>
          <p:cNvSpPr/>
          <p:nvPr/>
        </p:nvSpPr>
        <p:spPr>
          <a:xfrm>
            <a:off x="785880" y="2143080"/>
            <a:ext cx="2913120" cy="421488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5"/>
          <p:cNvSpPr/>
          <p:nvPr/>
        </p:nvSpPr>
        <p:spPr>
          <a:xfrm>
            <a:off x="4857840" y="2214720"/>
            <a:ext cx="3071880" cy="421452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6"/>
          <p:cNvSpPr/>
          <p:nvPr/>
        </p:nvSpPr>
        <p:spPr>
          <a:xfrm>
            <a:off x="3071880" y="2000160"/>
            <a:ext cx="2428920" cy="4357800"/>
          </a:xfrm>
          <a:prstGeom prst="ellipse">
            <a:avLst/>
          </a:pr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54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Прямоугольник 7" descr=""/>
          <p:cNvPicPr/>
          <p:nvPr/>
        </p:nvPicPr>
        <p:blipFill>
          <a:blip r:embed="rId1"/>
          <a:stretch/>
        </p:blipFill>
        <p:spPr>
          <a:xfrm>
            <a:off x="1000080" y="1243080"/>
            <a:ext cx="2560680" cy="73188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8" descr=""/>
          <p:cNvPicPr/>
          <p:nvPr/>
        </p:nvPicPr>
        <p:blipFill>
          <a:blip r:embed="rId2"/>
          <a:stretch/>
        </p:blipFill>
        <p:spPr>
          <a:xfrm>
            <a:off x="5005440" y="1170000"/>
            <a:ext cx="2822400" cy="73188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9" descr=""/>
          <p:cNvPicPr/>
          <p:nvPr/>
        </p:nvPicPr>
        <p:blipFill>
          <a:blip r:embed="rId3"/>
          <a:stretch/>
        </p:blipFill>
        <p:spPr>
          <a:xfrm>
            <a:off x="3144960" y="2468520"/>
            <a:ext cx="2292120" cy="376092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10" descr=""/>
          <p:cNvPicPr/>
          <p:nvPr/>
        </p:nvPicPr>
        <p:blipFill>
          <a:blip r:embed="rId4"/>
          <a:stretch/>
        </p:blipFill>
        <p:spPr>
          <a:xfrm>
            <a:off x="1195560" y="2548080"/>
            <a:ext cx="2176200" cy="54900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11" descr=""/>
          <p:cNvPicPr/>
          <p:nvPr/>
        </p:nvPicPr>
        <p:blipFill>
          <a:blip r:embed="rId5"/>
          <a:stretch/>
        </p:blipFill>
        <p:spPr>
          <a:xfrm>
            <a:off x="5479920" y="2481120"/>
            <a:ext cx="1871640" cy="54792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12" descr=""/>
          <p:cNvPicPr/>
          <p:nvPr/>
        </p:nvPicPr>
        <p:blipFill>
          <a:blip r:embed="rId6"/>
          <a:stretch/>
        </p:blipFill>
        <p:spPr>
          <a:xfrm>
            <a:off x="1341360" y="3333600"/>
            <a:ext cx="1596960" cy="54936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13" descr=""/>
          <p:cNvPicPr/>
          <p:nvPr/>
        </p:nvPicPr>
        <p:blipFill>
          <a:blip r:embed="rId7"/>
          <a:stretch/>
        </p:blipFill>
        <p:spPr>
          <a:xfrm>
            <a:off x="1133640" y="3906720"/>
            <a:ext cx="2006280" cy="79380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14" descr=""/>
          <p:cNvPicPr/>
          <p:nvPr/>
        </p:nvPicPr>
        <p:blipFill>
          <a:blip r:embed="rId8"/>
          <a:stretch/>
        </p:blipFill>
        <p:spPr>
          <a:xfrm>
            <a:off x="920880" y="4552920"/>
            <a:ext cx="2230200" cy="54936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15" descr=""/>
          <p:cNvPicPr/>
          <p:nvPr/>
        </p:nvPicPr>
        <p:blipFill>
          <a:blip r:embed="rId9"/>
          <a:stretch/>
        </p:blipFill>
        <p:spPr>
          <a:xfrm>
            <a:off x="1481040" y="5052960"/>
            <a:ext cx="1328760" cy="54936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7" descr=""/>
          <p:cNvPicPr/>
          <p:nvPr/>
        </p:nvPicPr>
        <p:blipFill>
          <a:blip r:embed="rId10"/>
          <a:stretch/>
        </p:blipFill>
        <p:spPr>
          <a:xfrm>
            <a:off x="1494000" y="5553000"/>
            <a:ext cx="1584000" cy="79236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8" descr=""/>
          <p:cNvPicPr/>
          <p:nvPr/>
        </p:nvPicPr>
        <p:blipFill>
          <a:blip r:embed="rId11"/>
          <a:stretch/>
        </p:blipFill>
        <p:spPr>
          <a:xfrm>
            <a:off x="5626080" y="3333600"/>
            <a:ext cx="1639800" cy="549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19" descr=""/>
          <p:cNvPicPr/>
          <p:nvPr/>
        </p:nvPicPr>
        <p:blipFill>
          <a:blip r:embed="rId12"/>
          <a:stretch/>
        </p:blipFill>
        <p:spPr>
          <a:xfrm>
            <a:off x="5619600" y="3981600"/>
            <a:ext cx="1835280" cy="5475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20" descr=""/>
          <p:cNvPicPr/>
          <p:nvPr/>
        </p:nvPicPr>
        <p:blipFill>
          <a:blip r:embed="rId13"/>
          <a:stretch/>
        </p:blipFill>
        <p:spPr>
          <a:xfrm>
            <a:off x="5907240" y="4479840"/>
            <a:ext cx="1176120" cy="549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21" descr=""/>
          <p:cNvPicPr/>
          <p:nvPr/>
        </p:nvPicPr>
        <p:blipFill>
          <a:blip r:embed="rId14"/>
          <a:stretch/>
        </p:blipFill>
        <p:spPr>
          <a:xfrm>
            <a:off x="5565600" y="4906800"/>
            <a:ext cx="2011680" cy="792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22" descr=""/>
          <p:cNvPicPr/>
          <p:nvPr/>
        </p:nvPicPr>
        <p:blipFill>
          <a:blip r:embed="rId15"/>
          <a:stretch/>
        </p:blipFill>
        <p:spPr>
          <a:xfrm>
            <a:off x="5778360" y="5553000"/>
            <a:ext cx="1586160" cy="792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23" descr=""/>
          <p:cNvPicPr/>
          <p:nvPr/>
        </p:nvPicPr>
        <p:blipFill>
          <a:blip r:embed="rId16"/>
          <a:stretch/>
        </p:blipFill>
        <p:spPr>
          <a:xfrm>
            <a:off x="281160" y="128520"/>
            <a:ext cx="10240920" cy="1200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07:18:38Z</dcterms:created>
  <dc:creator>Admin</dc:creator>
  <dc:description/>
  <dc:language>en-US</dc:language>
  <cp:lastModifiedBy>ANGEL</cp:lastModifiedBy>
  <dcterms:modified xsi:type="dcterms:W3CDTF">2013-04-09T06:20:55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0000000000001024140</vt:lpwstr>
  </property>
</Properties>
</file>