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26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C21E-3AA8-4829-B67B-7095C7EB0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459D-D247-42B0-A190-BB3DBE0EF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E8E0-3C0B-4878-9FD6-E50655D31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462-0043-476E-85C4-4EB64359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8A5-D2D0-42F0-964A-166A443D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1AC23-0E09-4EB2-B69A-30DCAAB7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6D392-9B63-4C16-AFFF-E08ECAF8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5D4F4-3822-4717-BF34-981168FE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9EBB4-2638-4093-A88A-E4251EB3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D4CC5-E9A2-40CD-AE22-1438656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580A5-E609-48E5-8A8D-A8BC506C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4EC44-F7E6-4600-9A29-C67FAA43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E13BE-DB69-4E7B-A917-92EB469A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159B6-4AA2-4A78-B44B-B0B6CA93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64B-D349-4618-A737-5B264F9E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BA3-CB9B-4BE9-85BD-0ADAE3B0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846A-C35C-4FB2-A235-D726D748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4C08-A86A-4C2E-9E4C-2990BDB9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0F8F-B7D0-4770-A142-8CCDBDFF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5CDD-1C64-4B03-81DD-1CC4E5A8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9956-5D97-4E73-9664-E4FB478A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18D5-6FE5-490A-A79C-80749E9E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F770-0880-44A4-92F1-ADCC97D2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521-E315-4AA4-A651-BA84FA45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360F-278F-4F61-8E44-9D8BF6FB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C57C-6C5F-4572-840A-6E360EDB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EFC9-E4AD-4C97-9F99-FE15F1E6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221F-5209-4D3D-939C-BEC76E36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86F0-C623-459A-B588-0D9FEFE9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E4F0-4096-4E47-9FA3-988AF4AA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7D69D-E4D4-4311-BC16-F8129E0F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2424-6CF5-4F75-B96F-E941A84B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F8E37-4463-4D7C-BFC5-B956AB05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E3FD-4524-4E2E-8DFC-7678E345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A32-C94E-4E84-91C9-A705CB67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2515-048D-48F3-A579-F203A409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BAB9-7AA5-431A-959F-C8DE72D5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FFC3-14FB-405D-B6AD-C4FA9B3E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E85F-32FE-4E73-9BBF-189DCBB1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FD940-5162-4A55-AED7-8CFE68F6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4504-F65F-4577-8074-04AC4FA7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5E55-954C-4A7B-9059-46BEB306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BDA3-69CD-48F0-A65E-275F19B8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3A106-CD87-469C-A6C9-37F115CA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3B800-BFF6-4C8A-B8B5-ECB5D01A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3E1-0AA5-4AC0-B9AA-895B25CD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0276-F980-404A-BC54-88F650C7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75FA-D300-4634-BB2A-F014E5B9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2B6E-9D50-43E1-BFB6-FA6CC304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15C8B-7CEF-4E37-A09F-89D368AE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0BFE-3382-480E-9CA4-F052DCF3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B9C6-D4A6-4306-8C14-EB85D50E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6FEF1-8E64-4ADF-A2CD-2DF0F761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D055E-618C-4BB7-8D6C-B66DB9A7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DFBE5-5A6F-47A2-A7E8-74456DE1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A19C2-4020-4842-9F35-C110ABE5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38C-E1A2-42F1-8850-4AC8395C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DE48A-2615-40B7-AFB7-47008796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1649-559B-47A0-9D8F-4704E9DC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D5EB5-1CCA-4E15-9D81-FB87BDBE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4FF2F-A93F-439D-9AED-E783D4E9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B9B71-C151-4470-8408-A06C3447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051A-BDFA-4562-AFC0-87464098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41121-15EB-4F72-BEA3-EB6ABB0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F59F5-BE8C-4473-9A81-35B1C5B8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596A9-C31B-455B-A030-3EE8237B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DCD5A-E5A4-49C2-82F1-E4CB17B4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29FF-58D3-40BB-A04B-309A1F41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3F44D-13D1-4650-BD6A-AEF5DD9D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746B9-F613-4C17-992C-E6F55B22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4119B-4058-41C8-A0DF-1DFC5B7D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84705-9F71-41A7-80F8-294F3380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14F1E-6EAD-41DA-83DC-B3A7709D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17E67-8F0A-4D29-A3F9-C5E31ABC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7F160-5506-4E56-A6AB-AFC201FE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B8105-5427-4D21-8510-ACD362AE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31A7E-964C-4040-BB39-2F1D4346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BB7EC-360D-4885-A498-28EA92A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E1F-28E4-4B4A-88C2-CB90568B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FEE52-B84A-4912-A4F6-CE66D6D1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0EAEC-F504-4BDB-A15C-8C7BDD73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A5ECF-6D55-4D9F-9BEC-4CCE1E0E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5D24B-52CF-4865-BD20-7F91ECF6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02B81-0619-4397-B504-CAACB82C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015E9-0DD4-4AB6-91DA-8693484F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BCFB6-53B4-4C96-80A5-17F4E452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A0496-37CE-4E92-97E2-8BE244E4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EE9F3-18B1-42C3-AFB6-AF05BB2F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AAB15-819C-4FC8-B851-41764B0B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ED2F-3DC7-4634-9C8D-258D0906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961B0-C857-42DC-9711-60D1BD8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F094B-97C1-4B1C-A793-43706210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B3B85-F357-473A-B4DB-ED8F8038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41CC0-FF9C-4FAD-8CE3-C0AB5684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48BD5-E8D6-44AA-A933-7A7E2ED7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AD36-5C19-4F89-8396-8871D021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292BC-EDAD-4C9B-BAE3-9B2F3110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E37DD-DFED-4646-8D9E-B29B4D05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E6EFD-11DE-47E9-8A50-33E8DAD5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3EF3C-0B56-4CE0-94B9-7DF69CA9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827-0A17-485B-8B6D-286988B7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71AD5-CB8A-47EF-8AC6-79B7FEC7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92E1D-A705-4E34-B5E5-D6E3B303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6BBEA-B2A0-45ED-9A35-080179A8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1512F-E1D5-4759-8E29-F33EF4DF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D714E-7159-4EF2-92C7-37A7F96F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3C3E9-CA1F-46B7-ADF7-B4192F16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09CCF-E9D6-4DC2-BDD6-D689E7A3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D77DC-FBAB-4B02-A00E-142A3CD8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0EA28-7B1D-45CE-995A-1002AC95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181E3-1294-46B4-9E4A-8D424C1A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D070-71B4-4865-A292-E92D1E968E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D01A-D7DD-4209-B030-C7A51977C70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CE36-8395-40D3-9CC3-B5C17D13F2D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F03B-44F5-497B-9810-24795B4DE7E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F784-7783-4FCA-B3FD-902A8B40A37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0FB6-81C3-4259-B385-B502796CBE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1FFE-ADAE-4868-929C-F4FCD3FF40B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A683-35A7-496C-BCC7-72E2E6B135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F35E-D65D-45E1-8F6C-2BD7DD42A76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65040" y="92160"/>
            <a:ext cx="8871120" cy="1869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560" y="2142720"/>
            <a:ext cx="52671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1. Зародок насінин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2. Коренева систем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3. Стебло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4. Листки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5. Жилкування листкі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6. Квіт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500440" y="2142720"/>
            <a:ext cx="349092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1. Дві сім'ядолі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2. Стрижне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3. Дерев’янисте і трав’янисте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4. Прості і складні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5. Сітчаст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Franklin Gothic Book"/>
              </a:rPr>
              <a:t>6. Оцвітина подвій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785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Bookman Old Style"/>
              </a:rPr>
              <a:t>АНАГРАМ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560" y="1143000"/>
            <a:ext cx="6553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1</a:t>
            </a: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Сов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улюблена зернова культура коне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2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Говуд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тип жилкування листкі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3.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иканіг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лікарська рослина родини Айстрові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4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Лаоме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поширена напівпаразитична рослина, оселяється на деревах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5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Бриводо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речовина для підживлення росл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6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тсо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злісний бур'я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7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Ипал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дерево з духмяними квітам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8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Четверта </a:t>
            </a:r>
            <a:r>
              <a:rPr b="1" lang="uk-UA" sz="2000" spc="-1" strike="noStrike">
                <a:solidFill>
                  <a:srgbClr val="624139"/>
                </a:solidFill>
                <a:latin typeface="Bookman Old Style"/>
              </a:rPr>
              <a:t>літера у назві рослини,           насіння якої поширюється за допомогою “ парашутиків ”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9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ШавиНан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 – учений, який відкрив          подвійне запліднення у росл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c4b3b"/>
                </a:solidFill>
                <a:latin typeface="Bookman Old Style"/>
              </a:rPr>
              <a:t>10.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Жасітрі </a:t>
            </a:r>
            <a:r>
              <a:rPr b="1" lang="uk-UA" sz="2000" spc="-1" strike="noStrike">
                <a:solidFill>
                  <a:srgbClr val="4e3b30"/>
                </a:solidFill>
                <a:latin typeface="Bookman Old Style"/>
              </a:rPr>
              <a:t>– група паразитичних  грибі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786360" y="1214280"/>
            <a:ext cx="2205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вес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угов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Н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агід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ме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Д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обрив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сот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Л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ип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 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Кул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Ь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баб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Н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аваши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c00000"/>
                </a:solidFill>
                <a:latin typeface="Bookman Old Style"/>
              </a:rPr>
              <a:t>І</a:t>
            </a:r>
            <a:r>
              <a:rPr b="1" lang="uk-UA" sz="2000" spc="-1" strike="noStrike">
                <a:solidFill>
                  <a:srgbClr val="009900"/>
                </a:solidFill>
                <a:latin typeface="Bookman Old Style"/>
              </a:rPr>
              <a:t>ржасті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95280" indent="-395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" fill="hold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/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" fill="hold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/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" fill="hold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/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7572600" cy="9003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9900"/>
                </a:solidFill>
                <a:latin typeface="Bookman Old Style"/>
              </a:rPr>
              <a:t>ТЕМА УРОКУ</a:t>
            </a: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85840" y="1928880"/>
            <a:ext cx="85629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00000"/>
                </a:solidFill>
                <a:latin typeface="Monotype Corsiva"/>
              </a:rPr>
              <a:t>Характеристика</a:t>
            </a:r>
            <a:r>
              <a:rPr b="1" lang="uk-UA" sz="6000" spc="-1" strike="noStrike">
                <a:solidFill>
                  <a:srgbClr val="4e3b30"/>
                </a:solidFill>
                <a:latin typeface="Franklin Gothic Book"/>
              </a:rPr>
              <a:t>                                 </a:t>
            </a:r>
            <a:r>
              <a:rPr b="1" lang="uk-UA" sz="6000" spc="-1" strike="noStrike">
                <a:solidFill>
                  <a:srgbClr val="c00000"/>
                </a:solidFill>
                <a:latin typeface="Monotype Corsiva"/>
              </a:rPr>
              <a:t>класу Однодольні.                                   Родина Злакові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686800" cy="8380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Franklin Gothic Medium"/>
              </a:rPr>
              <a:t>ХАРАКТЕРНІ ОЗНАКИ КЛАСУ ОДНОДОЛЬНІ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14200" y="1554120"/>
            <a:ext cx="877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Зародок насінини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одна сім'ядол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Коренева система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мичкува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c4c2c"/>
                </a:solidFill>
                <a:latin typeface="Franklin Gothic Book"/>
              </a:rPr>
              <a:t>Стебло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трав’янисте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Листки – 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рості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Жилкування листків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паралельне і дугов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Квітка – </a:t>
            </a:r>
            <a:r>
              <a:rPr b="1" lang="uk-UA" sz="3200" spc="-1" strike="noStrike">
                <a:solidFill>
                  <a:srgbClr val="009900"/>
                </a:solidFill>
                <a:latin typeface="Franklin Gothic Book"/>
              </a:rPr>
              <a:t>оцвітина прост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Bookman Old Style"/>
              </a:rPr>
              <a:t>ХАРАКТЕРНІ ОЗНАКИ РОСЛИНИ                          РОДИНИ ЗЛАКОВІ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4200" y="1499760"/>
            <a:ext cx="328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Квіт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уцвіття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Стебл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Жилкуванн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листків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Плід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9040" indent="-50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500280" y="1428840"/>
            <a:ext cx="5491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ві квіткових луски, дві плівки, три тичинки, маточ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олос, волоть,                                     початок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оломин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аралельн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ернівка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6" descr="C:\Documents and Settings\Admin\Мои документы\Мои рисунки\Изображение\Изображение 176.jpg"/>
          <p:cNvPicPr/>
          <p:nvPr/>
        </p:nvPicPr>
        <p:blipFill>
          <a:blip r:embed="rId1"/>
          <a:srcRect l="40824" t="57041" r="19" b="0"/>
          <a:stretch/>
        </p:blipFill>
        <p:spPr>
          <a:xfrm>
            <a:off x="7358040" y="1857240"/>
            <a:ext cx="1500120" cy="1779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Admin\Мои документы\Мои рисунки\Изображение\Изображение 174.jpg"/>
          <p:cNvPicPr/>
          <p:nvPr/>
        </p:nvPicPr>
        <p:blipFill>
          <a:blip r:embed="rId2"/>
          <a:srcRect l="67456" t="35108" r="0" b="-10"/>
          <a:stretch/>
        </p:blipFill>
        <p:spPr>
          <a:xfrm>
            <a:off x="8001000" y="3214800"/>
            <a:ext cx="895320" cy="2286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C:\Documents and Settings\Admin\Мои документы\Мои рисунки\Изображение\Изображение 176.jpg"/>
          <p:cNvPicPr/>
          <p:nvPr/>
        </p:nvPicPr>
        <p:blipFill>
          <a:blip r:embed="rId3"/>
          <a:srcRect l="1674" t="51544" r="53347" b="3561"/>
          <a:stretch/>
        </p:blipFill>
        <p:spPr>
          <a:xfrm>
            <a:off x="5786280" y="2357280"/>
            <a:ext cx="1314720" cy="2143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C:\Documents and Settings\Admin\Мои документы\Мои рисунки\Изображение\Изображение 176.jpg"/>
          <p:cNvPicPr/>
          <p:nvPr/>
        </p:nvPicPr>
        <p:blipFill>
          <a:blip r:embed="rId4"/>
          <a:srcRect l="0" t="0" r="38774" b="54886"/>
          <a:stretch/>
        </p:blipFill>
        <p:spPr>
          <a:xfrm>
            <a:off x="6500880" y="4286160"/>
            <a:ext cx="1500120" cy="180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Bookman Old Style"/>
              </a:rPr>
              <a:t>ПРЕДСТАВНИКИ РОДИНИ  ЗЛАКОВІ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4" name="Содержимое 2" descr=""/>
          <p:cNvPicPr/>
          <p:nvPr/>
        </p:nvPicPr>
        <p:blipFill>
          <a:blip r:embed="rId1"/>
          <a:stretch/>
        </p:blipFill>
        <p:spPr>
          <a:xfrm>
            <a:off x="30240" y="1054080"/>
            <a:ext cx="8905680" cy="5595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Documents and Settings\Admin\Мои документы\Мои рисунки\Изображение\Изображение.jpg"/>
          <p:cNvPicPr/>
          <p:nvPr/>
        </p:nvPicPr>
        <p:blipFill>
          <a:blip r:embed="rId2"/>
          <a:srcRect l="0" t="52075" r="17772" b="46"/>
          <a:stretch/>
        </p:blipFill>
        <p:spPr>
          <a:xfrm>
            <a:off x="4143240" y="1143000"/>
            <a:ext cx="1214640" cy="2357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Documents and Settings\Admin\Мои документы\Мои рисунки\Изображение\Изображение.jpg"/>
          <p:cNvPicPr/>
          <p:nvPr/>
        </p:nvPicPr>
        <p:blipFill>
          <a:blip r:embed="rId3"/>
          <a:srcRect l="1989" t="0" r="0" b="47933"/>
          <a:stretch/>
        </p:blipFill>
        <p:spPr>
          <a:xfrm>
            <a:off x="7358040" y="1143000"/>
            <a:ext cx="1143000" cy="2616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C:\Documents and Settings\Admin\Мои документы\Мои рисунки\Изображение\Изображение 175.jpg"/>
          <p:cNvPicPr/>
          <p:nvPr/>
        </p:nvPicPr>
        <p:blipFill>
          <a:blip r:embed="rId4"/>
          <a:srcRect l="40541" t="75853" r="-644" b="2280"/>
          <a:stretch/>
        </p:blipFill>
        <p:spPr>
          <a:xfrm>
            <a:off x="3357720" y="4071960"/>
            <a:ext cx="1714320" cy="1785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C:\Documents and Settings\Admin\Мои документы\Мои рисунки\Изображение\Изображение 175.jpg"/>
          <p:cNvPicPr/>
          <p:nvPr/>
        </p:nvPicPr>
        <p:blipFill>
          <a:blip r:embed="rId5"/>
          <a:srcRect l="55701" t="2557" r="10135" b="65129"/>
          <a:stretch/>
        </p:blipFill>
        <p:spPr>
          <a:xfrm>
            <a:off x="5072040" y="3857760"/>
            <a:ext cx="1000080" cy="2708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C:\Documents and Settings\Admin\Мои документы\Мои рисунки\Изображение\Изображение 175.jpg"/>
          <p:cNvPicPr/>
          <p:nvPr/>
        </p:nvPicPr>
        <p:blipFill>
          <a:blip r:embed="rId6"/>
          <a:srcRect l="6657" t="65099" r="60082" b="30"/>
          <a:stretch/>
        </p:blipFill>
        <p:spPr>
          <a:xfrm>
            <a:off x="6143760" y="3929040"/>
            <a:ext cx="1000080" cy="2500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C:\Documents and Settings\Admin\Мои документы\Мои рисунки\Изображение\Изображение 175.jpg"/>
          <p:cNvPicPr/>
          <p:nvPr/>
        </p:nvPicPr>
        <p:blipFill>
          <a:blip r:embed="rId7"/>
          <a:srcRect l="0" t="0" r="46747" b="67454"/>
          <a:stretch/>
        </p:blipFill>
        <p:spPr>
          <a:xfrm>
            <a:off x="7429680" y="3929040"/>
            <a:ext cx="1285560" cy="2251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C:\Documents and Settings\Admin\Мои документы\Мои рисунки\Изображение\Изображение 174.jpg"/>
          <p:cNvPicPr/>
          <p:nvPr/>
        </p:nvPicPr>
        <p:blipFill>
          <a:blip r:embed="rId8"/>
          <a:srcRect l="0" t="0" r="0" b="-10"/>
          <a:stretch/>
        </p:blipFill>
        <p:spPr>
          <a:xfrm>
            <a:off x="5857920" y="1714680"/>
            <a:ext cx="1571760" cy="2012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Овал 4"/>
          <p:cNvSpPr/>
          <p:nvPr/>
        </p:nvSpPr>
        <p:spPr>
          <a:xfrm>
            <a:off x="785880" y="2143080"/>
            <a:ext cx="2913120" cy="4214880"/>
          </a:xfrm>
          <a:prstGeom prst="ellipse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5"/>
          <p:cNvSpPr/>
          <p:nvPr/>
        </p:nvSpPr>
        <p:spPr>
          <a:xfrm>
            <a:off x="4857840" y="2214720"/>
            <a:ext cx="3071880" cy="4214520"/>
          </a:xfrm>
          <a:prstGeom prst="ellipse">
            <a:avLst/>
          </a:prstGeom>
          <a:gradFill rotWithShape="0">
            <a:gsLst>
              <a:gs pos="0">
                <a:srgbClr val="ffe4c3"/>
              </a:gs>
              <a:gs pos="100000">
                <a:srgbClr val="ffb52e"/>
              </a:gs>
            </a:gsLst>
            <a:lin ang="5400000"/>
          </a:gradFill>
          <a:ln w="10080">
            <a:solidFill>
              <a:srgbClr val="f0a22e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6"/>
          <p:cNvSpPr/>
          <p:nvPr/>
        </p:nvSpPr>
        <p:spPr>
          <a:xfrm>
            <a:off x="3071880" y="2000160"/>
            <a:ext cx="2428920" cy="4357800"/>
          </a:xfrm>
          <a:prstGeom prst="ellipse">
            <a:avLst/>
          </a:prstGeom>
          <a:gradFill rotWithShape="0">
            <a:gsLst>
              <a:gs pos="0">
                <a:srgbClr val="ede8dc"/>
              </a:gs>
              <a:gs pos="100000">
                <a:srgbClr val="c4b284"/>
              </a:gs>
            </a:gsLst>
            <a:lin ang="5400000"/>
          </a:gradFill>
          <a:ln w="10080">
            <a:solidFill>
              <a:srgbClr val="a19574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Прямоугольник 7" descr=""/>
          <p:cNvPicPr/>
          <p:nvPr/>
        </p:nvPicPr>
        <p:blipFill>
          <a:blip r:embed="rId1"/>
          <a:stretch/>
        </p:blipFill>
        <p:spPr>
          <a:xfrm>
            <a:off x="1000080" y="1243080"/>
            <a:ext cx="2560680" cy="73188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оугольник 8" descr=""/>
          <p:cNvPicPr/>
          <p:nvPr/>
        </p:nvPicPr>
        <p:blipFill>
          <a:blip r:embed="rId2"/>
          <a:stretch/>
        </p:blipFill>
        <p:spPr>
          <a:xfrm>
            <a:off x="5005440" y="1170000"/>
            <a:ext cx="2822400" cy="731880"/>
          </a:xfrm>
          <a:prstGeom prst="rect">
            <a:avLst/>
          </a:prstGeom>
          <a:ln w="0">
            <a:noFill/>
          </a:ln>
        </p:spPr>
      </p:pic>
      <p:pic>
        <p:nvPicPr>
          <p:cNvPr id="437" name="Прямоугольник 9" descr=""/>
          <p:cNvPicPr/>
          <p:nvPr/>
        </p:nvPicPr>
        <p:blipFill>
          <a:blip r:embed="rId3"/>
          <a:stretch/>
        </p:blipFill>
        <p:spPr>
          <a:xfrm>
            <a:off x="3144960" y="2468520"/>
            <a:ext cx="2292120" cy="376092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10" descr=""/>
          <p:cNvPicPr/>
          <p:nvPr/>
        </p:nvPicPr>
        <p:blipFill>
          <a:blip r:embed="rId4"/>
          <a:stretch/>
        </p:blipFill>
        <p:spPr>
          <a:xfrm>
            <a:off x="1195560" y="2548080"/>
            <a:ext cx="2176200" cy="549000"/>
          </a:xfrm>
          <a:prstGeom prst="rect">
            <a:avLst/>
          </a:prstGeom>
          <a:ln w="0">
            <a:noFill/>
          </a:ln>
        </p:spPr>
      </p:pic>
      <p:pic>
        <p:nvPicPr>
          <p:cNvPr id="439" name="Прямоугольник 11" descr=""/>
          <p:cNvPicPr/>
          <p:nvPr/>
        </p:nvPicPr>
        <p:blipFill>
          <a:blip r:embed="rId5"/>
          <a:stretch/>
        </p:blipFill>
        <p:spPr>
          <a:xfrm>
            <a:off x="5479920" y="2481120"/>
            <a:ext cx="1871640" cy="547920"/>
          </a:xfrm>
          <a:prstGeom prst="rect">
            <a:avLst/>
          </a:prstGeom>
          <a:ln w="0">
            <a:noFill/>
          </a:ln>
        </p:spPr>
      </p:pic>
      <p:pic>
        <p:nvPicPr>
          <p:cNvPr id="440" name="Прямоугольник 12" descr=""/>
          <p:cNvPicPr/>
          <p:nvPr/>
        </p:nvPicPr>
        <p:blipFill>
          <a:blip r:embed="rId6"/>
          <a:stretch/>
        </p:blipFill>
        <p:spPr>
          <a:xfrm>
            <a:off x="1341360" y="3333600"/>
            <a:ext cx="1596960" cy="549360"/>
          </a:xfrm>
          <a:prstGeom prst="rect">
            <a:avLst/>
          </a:prstGeom>
          <a:ln w="0">
            <a:noFill/>
          </a:ln>
        </p:spPr>
      </p:pic>
      <p:pic>
        <p:nvPicPr>
          <p:cNvPr id="441" name="Прямоугольник 13" descr=""/>
          <p:cNvPicPr/>
          <p:nvPr/>
        </p:nvPicPr>
        <p:blipFill>
          <a:blip r:embed="rId7"/>
          <a:stretch/>
        </p:blipFill>
        <p:spPr>
          <a:xfrm>
            <a:off x="1133640" y="3906720"/>
            <a:ext cx="2006280" cy="793800"/>
          </a:xfrm>
          <a:prstGeom prst="rect">
            <a:avLst/>
          </a:prstGeom>
          <a:ln w="0">
            <a:noFill/>
          </a:ln>
        </p:spPr>
      </p:pic>
      <p:pic>
        <p:nvPicPr>
          <p:cNvPr id="442" name="Прямоугольник 14" descr=""/>
          <p:cNvPicPr/>
          <p:nvPr/>
        </p:nvPicPr>
        <p:blipFill>
          <a:blip r:embed="rId8"/>
          <a:stretch/>
        </p:blipFill>
        <p:spPr>
          <a:xfrm>
            <a:off x="920880" y="4552920"/>
            <a:ext cx="2230200" cy="549360"/>
          </a:xfrm>
          <a:prstGeom prst="rect">
            <a:avLst/>
          </a:prstGeom>
          <a:ln w="0">
            <a:noFill/>
          </a:ln>
        </p:spPr>
      </p:pic>
      <p:pic>
        <p:nvPicPr>
          <p:cNvPr id="443" name="Прямоугольник 15" descr=""/>
          <p:cNvPicPr/>
          <p:nvPr/>
        </p:nvPicPr>
        <p:blipFill>
          <a:blip r:embed="rId9"/>
          <a:stretch/>
        </p:blipFill>
        <p:spPr>
          <a:xfrm>
            <a:off x="1481040" y="5052960"/>
            <a:ext cx="1328760" cy="54936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7" descr=""/>
          <p:cNvPicPr/>
          <p:nvPr/>
        </p:nvPicPr>
        <p:blipFill>
          <a:blip r:embed="rId10"/>
          <a:stretch/>
        </p:blipFill>
        <p:spPr>
          <a:xfrm>
            <a:off x="1494000" y="5553000"/>
            <a:ext cx="1584000" cy="79236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18" descr=""/>
          <p:cNvPicPr/>
          <p:nvPr/>
        </p:nvPicPr>
        <p:blipFill>
          <a:blip r:embed="rId11"/>
          <a:stretch/>
        </p:blipFill>
        <p:spPr>
          <a:xfrm>
            <a:off x="5626080" y="3333600"/>
            <a:ext cx="1639800" cy="54936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19" descr=""/>
          <p:cNvPicPr/>
          <p:nvPr/>
        </p:nvPicPr>
        <p:blipFill>
          <a:blip r:embed="rId12"/>
          <a:stretch/>
        </p:blipFill>
        <p:spPr>
          <a:xfrm>
            <a:off x="5619600" y="3981600"/>
            <a:ext cx="1835280" cy="54756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20" descr=""/>
          <p:cNvPicPr/>
          <p:nvPr/>
        </p:nvPicPr>
        <p:blipFill>
          <a:blip r:embed="rId13"/>
          <a:stretch/>
        </p:blipFill>
        <p:spPr>
          <a:xfrm>
            <a:off x="5907240" y="4479840"/>
            <a:ext cx="1176120" cy="54936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21" descr=""/>
          <p:cNvPicPr/>
          <p:nvPr/>
        </p:nvPicPr>
        <p:blipFill>
          <a:blip r:embed="rId14"/>
          <a:stretch/>
        </p:blipFill>
        <p:spPr>
          <a:xfrm>
            <a:off x="5565600" y="4906800"/>
            <a:ext cx="2011680" cy="79236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22" descr=""/>
          <p:cNvPicPr/>
          <p:nvPr/>
        </p:nvPicPr>
        <p:blipFill>
          <a:blip r:embed="rId15"/>
          <a:stretch/>
        </p:blipFill>
        <p:spPr>
          <a:xfrm>
            <a:off x="5778360" y="5553000"/>
            <a:ext cx="1586160" cy="79236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23" descr=""/>
          <p:cNvPicPr/>
          <p:nvPr/>
        </p:nvPicPr>
        <p:blipFill>
          <a:blip r:embed="rId16"/>
          <a:stretch/>
        </p:blipFill>
        <p:spPr>
          <a:xfrm>
            <a:off x="281160" y="128520"/>
            <a:ext cx="10240920" cy="1200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07:18:38Z</dcterms:created>
  <dc:creator>Admin</dc:creator>
  <dc:description/>
  <dc:language>en-US</dc:language>
  <cp:lastModifiedBy>ANGEL</cp:lastModifiedBy>
  <dcterms:modified xsi:type="dcterms:W3CDTF">2013-04-09T06:20:55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20000000000001024140</vt:lpwstr>
  </property>
</Properties>
</file>