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DC8-E7E8-4564-91BB-4778DB460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2045-CFA9-4E10-93A6-9CC424940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3F90-227B-4764-B3E9-BE21C7B73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E41-47B6-4E04-9F7F-E5830AFF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4E2-1DDB-4781-8EBB-60C557BA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A3EF8-C0EA-4904-8F65-8B2D06FC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65A75-C5AD-4015-9EFB-635AE148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EA233-7AFD-4508-87F8-FF6929E5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DB036-27B9-4BF0-863F-C9EAD32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A61D6-385D-4465-8320-0FEABE9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06222-019A-4837-A823-5292FF6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FD470-3FC8-48B5-8A77-A49BD462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360D0-DA1A-46E5-8D31-4F902891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5E7E7-0F9F-493D-9249-4E38DB87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CC0-4853-4F75-BD9D-2169CDA9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65A-3545-4911-84A3-4C6F2B6B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DE8-0DC2-4C29-B15F-7F1B1A87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C986-541A-49DA-B476-531A710F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BA73-6E52-4927-80EA-4C5FAB4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8A35-3B80-4B17-99DD-EC2CE055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6827-CDD2-4E48-A920-C6D1512A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F263-25F0-4684-B1E9-18F27140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A351-20B7-4308-A552-FCE50106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A67-AFF0-4FDC-849C-37F733BF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BAA9-5781-48BD-8C48-409D920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41C1-2136-4433-B61C-3F44640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4827-83BE-401D-BDEA-20654DC6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2D02-9B74-4651-96D6-DE78F69C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F058-3085-44D6-915B-DBD96790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191B-5964-4AE6-811C-38C0023C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0344-B3F3-430A-8B39-378ADE06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403E-84D3-4606-963A-619790BC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EFBB-BBD4-4E2D-BE4D-97D75AA3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A830-C027-4149-BC2D-E80098B1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0E9-E163-4405-82FC-607C521C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AD57-E215-4E04-9609-8A54EFAC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DD2A-1D62-4EB2-90B1-346A99B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8FA4-BB4A-4BEF-93E0-E930A4C8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AEB2-0D91-4E09-8B5C-5F55C7AD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41BC-28A3-4CA1-B1F3-1C185A6B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3C7B-16C1-4751-90ED-450605F4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564F-73C3-402B-BEC7-E5D899ED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6FF2-E402-4D0A-9150-4971190B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A7E0F-EFA5-4A84-B7C9-AD9E7F4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E152-79B8-417C-AE1B-8DEDD817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CAF-AFC1-4EBE-9E2B-113F122C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BDA6-2B3B-44C4-8825-81F9D531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4E6C-7280-46B9-9093-2C35DDB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4193-BD01-4250-BA85-0A544A1A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D741-E44A-43C3-A474-143388F8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66233-A536-4CBD-852F-D2E722D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0A8D-9AAA-46D8-A712-769BB2A9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E4D26-DBB4-42AE-A12B-912E3F06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AA98-EB3A-4777-9F1F-58C9AB38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896D-CFB1-44AD-860B-961E2F55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62EF9-76BB-41DD-AB1B-BC0B323B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D24-1F49-46AF-938B-5FF019D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5CB4-77B5-45DB-ABF2-EAE2640F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914B-3FF4-4A4D-9054-556C450B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9B02B-51E6-4E48-B832-EE6155DA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25817-BF19-4F66-8D2C-1C3156C8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E658-5214-46CA-B067-B6772403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CC70-8843-4955-9157-10145AF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1E8C7-17B2-4642-AC55-41D842E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5311-3044-4962-8B21-D4C67BED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C219-5A51-4A86-A35E-F27B8E74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44148-7129-48C3-83AB-B46EAFA7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DC2-2F9C-47FA-AA84-C2EFE32C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D17B-1E5D-4D1B-BD1E-BA676CCB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40C2D-088A-4122-A6F6-CDEB598A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4F065-274B-4503-928C-67B4AD87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EF84-2DB7-4B02-B353-EC0794D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774C-B8DF-4485-A8E8-8FA429D8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787D-4BD7-47A3-B44C-5EE3F955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27515-509E-4319-ABC9-8805741B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CD248-9086-4A80-A09C-DF15E5D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7621-C3C0-4EC0-B33D-54120F5F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F718D-D49B-4302-A075-E4C34758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AEA-26DC-4622-8878-980B85A0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6D75-D5E4-4A79-BFBE-31EB197D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3CF0E-3E33-45E8-B4FB-F7498D41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1C7FE-E2E9-440C-8628-044BEA36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2FECF-B860-4A51-A81E-4905D9C4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E6B51-5571-4897-A564-2FEB81FF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4699-AE19-4BA8-B05D-7AA549D1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21F6-7246-4CA0-8F41-06884DD2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BD73C-025D-41FE-A8E2-B7E4936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C00E4-260E-48F0-8FF8-807BCC3B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035E-EC36-4718-830F-BDC70E8D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6C6-FD19-4E15-9362-5442A5D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56AE0-1EF9-4D35-BDDA-569C972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F247-793C-4668-81FA-D43E1C05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FDB32-4EF5-4108-8F5E-441A9EE4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40EB-1691-40DC-913D-3BBFD8A6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F764-81D1-4531-AA39-A83987AF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1E42-B252-4E28-B2C5-730E0B6B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9ED5E-A030-4BFD-8967-000237A8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110DF-A982-4249-A8BB-1DC7E4E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1BA98-D9FC-47CF-94A2-79DF5FBA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AF062-D731-4D67-9063-E02785C0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B31-8F33-4631-8BAB-07A73D67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37BF7-83B3-48A6-B9F8-8A44DBBD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C46B3-B34C-4D14-81CE-EFE5D88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3D9C6-834F-408A-BA9B-1B2F79C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E2C48-4AA6-483D-A089-0F8FA25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3782D-ED3B-4CB7-A7D4-A610E962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F4DC-FFB9-4187-88E9-D69F9E51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5D471-D01E-433E-B130-BB451AEA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A84F8-5F98-403C-8175-1D149E2D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1CE48-CAC6-41CB-900B-880002FE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46A1A-43CF-4EE9-A3AE-8B54684A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319F-5A8E-4238-A552-DC70A100DF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67B5-834E-49D9-B599-1614AA4ADB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9436-9D87-40E8-A813-616A250FADC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8C84-C24A-4B6B-B225-2388E78217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4011-772C-42AE-909A-C2B6667186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50E4-DB79-46AB-B622-08FD9532E7F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E36-99EF-4ECE-AFC0-3561169D50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B8F3-5CDC-4031-B3C7-8084028A9F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3837-4DAC-4E85-9E9D-7B32D590D07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871120" cy="1869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2142720"/>
            <a:ext cx="52671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1. Зародок насінин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2. Коренева систем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3. Стебл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4. Листк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5. Жилкування 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6. 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500440" y="2142720"/>
            <a:ext cx="34909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1. Дві сім'ядолі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2. Стрижне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3. Дерев’янисте і трав’янист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4. Прості і складні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5. Сітчаст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6. Оцвітина подвій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785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Bookman Old Style"/>
              </a:rPr>
              <a:t>АНАГРАМ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1143000"/>
            <a:ext cx="6553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</a:t>
            </a: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Сов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люблена зернова культура коне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2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Говуд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тип жилкування листк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3.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иканіг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лікарська рослина родини Айстрові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4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аом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поширена напівпаразитична рослина, оселяється на деревах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5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Бриводо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речовина для підживлення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6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тсо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злісний бур'я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7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Ипал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дерево з духмяними квітам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8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Четверта </a:t>
            </a:r>
            <a:r>
              <a:rPr b="1" lang="uk-UA" sz="2000" spc="-1" strike="noStrike">
                <a:solidFill>
                  <a:srgbClr val="624139"/>
                </a:solidFill>
                <a:latin typeface="Bookman Old Style"/>
              </a:rPr>
              <a:t>літера у назві рослини,           насіння якої поширюється за допомогою “ парашутиків ”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9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ШавиНан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чений, який відкрив          подвійне запліднення у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0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Жасітрі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група паразитичних  гриб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786360" y="1214280"/>
            <a:ext cx="2205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ве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угов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гід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ме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обрив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со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ип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Кул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Ь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баб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ваш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І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ржасті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572600" cy="9003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9900"/>
                </a:solidFill>
                <a:latin typeface="Bookman Old Style"/>
              </a:rPr>
              <a:t>ТЕМА УРОКУ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5840" y="1928880"/>
            <a:ext cx="8562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Характеристика</a:t>
            </a:r>
            <a:r>
              <a:rPr b="1" lang="uk-UA" sz="6000" spc="-1" strike="noStrike">
                <a:solidFill>
                  <a:srgbClr val="4e3b30"/>
                </a:solidFill>
                <a:latin typeface="Franklin Gothic Book"/>
              </a:rPr>
              <a:t>                                 </a:t>
            </a: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класу Однодольні.                                   Родина Злакові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686800" cy="838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Franklin Gothic Medium"/>
              </a:rPr>
              <a:t>ХАРАКТЕРНІ ОЗНАКИ КЛАСУ ОДНОДОЛЬНІ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Зародок насінини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дна сім'ядол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оренева систем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мичкува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c4c2c"/>
                </a:solidFill>
                <a:latin typeface="Franklin Gothic Book"/>
              </a:rPr>
              <a:t>Стебло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трав’янист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истки – 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рост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Жилкування листків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аралельне і дугов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вітк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цвітина прост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ХАРАКТЕРНІ ОЗНАКИ РОСЛИНИ                          РОДИНИ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4200" y="1499760"/>
            <a:ext cx="328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уцвітт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еб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Жилкуван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лі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500280" y="1428840"/>
            <a:ext cx="5491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ві квіткових луски, дві плівки, три тичинки, маточ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олос, волоть,                                     початок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ломи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аралельн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ернівка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6" descr="C:\Documents and Settings\Admin\Мои документы\Мои рисунки\Изображение\Изображение 176.jpg"/>
          <p:cNvPicPr/>
          <p:nvPr/>
        </p:nvPicPr>
        <p:blipFill>
          <a:blip r:embed="rId1"/>
          <a:srcRect l="40824" t="57041" r="19" b="0"/>
          <a:stretch/>
        </p:blipFill>
        <p:spPr>
          <a:xfrm>
            <a:off x="7358040" y="1857240"/>
            <a:ext cx="1500120" cy="1779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Мои документы\Мои рисунки\Изображение\Изображение 174.jpg"/>
          <p:cNvPicPr/>
          <p:nvPr/>
        </p:nvPicPr>
        <p:blipFill>
          <a:blip r:embed="rId2"/>
          <a:srcRect l="67456" t="35108" r="0" b="-10"/>
          <a:stretch/>
        </p:blipFill>
        <p:spPr>
          <a:xfrm>
            <a:off x="8001000" y="3214800"/>
            <a:ext cx="895320" cy="22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Documents and Settings\Admin\Мои документы\Мои рисунки\Изображение\Изображение 176.jpg"/>
          <p:cNvPicPr/>
          <p:nvPr/>
        </p:nvPicPr>
        <p:blipFill>
          <a:blip r:embed="rId3"/>
          <a:srcRect l="1674" t="51544" r="53347" b="3561"/>
          <a:stretch/>
        </p:blipFill>
        <p:spPr>
          <a:xfrm>
            <a:off x="5786280" y="2357280"/>
            <a:ext cx="1314720" cy="214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Documents and Settings\Admin\Мои документы\Мои рисунки\Изображение\Изображение 176.jpg"/>
          <p:cNvPicPr/>
          <p:nvPr/>
        </p:nvPicPr>
        <p:blipFill>
          <a:blip r:embed="rId4"/>
          <a:srcRect l="0" t="0" r="38774" b="54886"/>
          <a:stretch/>
        </p:blipFill>
        <p:spPr>
          <a:xfrm>
            <a:off x="6500880" y="4286160"/>
            <a:ext cx="1500120" cy="180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ПРЕДСТАВНИКИ РОДИНИ 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Содержимое 2" descr=""/>
          <p:cNvPicPr/>
          <p:nvPr/>
        </p:nvPicPr>
        <p:blipFill>
          <a:blip r:embed="rId1"/>
          <a:stretch/>
        </p:blipFill>
        <p:spPr>
          <a:xfrm>
            <a:off x="30240" y="1054080"/>
            <a:ext cx="8905680" cy="5595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Мои документы\Мои рисунки\Изображение\Изображение.jpg"/>
          <p:cNvPicPr/>
          <p:nvPr/>
        </p:nvPicPr>
        <p:blipFill>
          <a:blip r:embed="rId2"/>
          <a:srcRect l="0" t="52075" r="17772" b="46"/>
          <a:stretch/>
        </p:blipFill>
        <p:spPr>
          <a:xfrm>
            <a:off x="4143240" y="1143000"/>
            <a:ext cx="1214640" cy="235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Documents and Settings\Admin\Мои документы\Мои рисунки\Изображение\Изображение.jpg"/>
          <p:cNvPicPr/>
          <p:nvPr/>
        </p:nvPicPr>
        <p:blipFill>
          <a:blip r:embed="rId3"/>
          <a:srcRect l="1989" t="0" r="0" b="47933"/>
          <a:stretch/>
        </p:blipFill>
        <p:spPr>
          <a:xfrm>
            <a:off x="7358040" y="1143000"/>
            <a:ext cx="1143000" cy="2616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C:\Documents and Settings\Admin\Мои документы\Мои рисунки\Изображение\Изображение 175.jpg"/>
          <p:cNvPicPr/>
          <p:nvPr/>
        </p:nvPicPr>
        <p:blipFill>
          <a:blip r:embed="rId4"/>
          <a:srcRect l="40541" t="75853" r="-644" b="2280"/>
          <a:stretch/>
        </p:blipFill>
        <p:spPr>
          <a:xfrm>
            <a:off x="3357720" y="40719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Admin\Мои документы\Мои рисунки\Изображение\Изображение 175.jpg"/>
          <p:cNvPicPr/>
          <p:nvPr/>
        </p:nvPicPr>
        <p:blipFill>
          <a:blip r:embed="rId5"/>
          <a:srcRect l="55701" t="2557" r="10135" b="65129"/>
          <a:stretch/>
        </p:blipFill>
        <p:spPr>
          <a:xfrm>
            <a:off x="5072040" y="3857760"/>
            <a:ext cx="1000080" cy="2708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C:\Documents and Settings\Admin\Мои документы\Мои рисунки\Изображение\Изображение 175.jpg"/>
          <p:cNvPicPr/>
          <p:nvPr/>
        </p:nvPicPr>
        <p:blipFill>
          <a:blip r:embed="rId6"/>
          <a:srcRect l="6657" t="65099" r="60082" b="30"/>
          <a:stretch/>
        </p:blipFill>
        <p:spPr>
          <a:xfrm>
            <a:off x="6143760" y="3929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C:\Documents and Settings\Admin\Мои документы\Мои рисунки\Изображение\Изображение 175.jpg"/>
          <p:cNvPicPr/>
          <p:nvPr/>
        </p:nvPicPr>
        <p:blipFill>
          <a:blip r:embed="rId7"/>
          <a:srcRect l="0" t="0" r="46747" b="67454"/>
          <a:stretch/>
        </p:blipFill>
        <p:spPr>
          <a:xfrm>
            <a:off x="7429680" y="3929040"/>
            <a:ext cx="1285560" cy="2251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Documents and Settings\Admin\Мои документы\Мои рисунки\Изображение\Изображение 174.jpg"/>
          <p:cNvPicPr/>
          <p:nvPr/>
        </p:nvPicPr>
        <p:blipFill>
          <a:blip r:embed="rId8"/>
          <a:srcRect l="0" t="0" r="0" b="-10"/>
          <a:stretch/>
        </p:blipFill>
        <p:spPr>
          <a:xfrm>
            <a:off x="5857920" y="1714680"/>
            <a:ext cx="1571760" cy="2012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Овал 4"/>
          <p:cNvSpPr/>
          <p:nvPr/>
        </p:nvSpPr>
        <p:spPr>
          <a:xfrm>
            <a:off x="785880" y="2143080"/>
            <a:ext cx="2913120" cy="421488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5"/>
          <p:cNvSpPr/>
          <p:nvPr/>
        </p:nvSpPr>
        <p:spPr>
          <a:xfrm>
            <a:off x="4857840" y="2214720"/>
            <a:ext cx="3071880" cy="421452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6"/>
          <p:cNvSpPr/>
          <p:nvPr/>
        </p:nvSpPr>
        <p:spPr>
          <a:xfrm>
            <a:off x="3071880" y="2000160"/>
            <a:ext cx="2428920" cy="4357800"/>
          </a:xfrm>
          <a:prstGeom prst="ellipse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Прямоугольник 7" descr=""/>
          <p:cNvPicPr/>
          <p:nvPr/>
        </p:nvPicPr>
        <p:blipFill>
          <a:blip r:embed="rId1"/>
          <a:stretch/>
        </p:blipFill>
        <p:spPr>
          <a:xfrm>
            <a:off x="1000080" y="1243080"/>
            <a:ext cx="2560680" cy="73188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8" descr=""/>
          <p:cNvPicPr/>
          <p:nvPr/>
        </p:nvPicPr>
        <p:blipFill>
          <a:blip r:embed="rId2"/>
          <a:stretch/>
        </p:blipFill>
        <p:spPr>
          <a:xfrm>
            <a:off x="5005440" y="1170000"/>
            <a:ext cx="282240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9" descr=""/>
          <p:cNvPicPr/>
          <p:nvPr/>
        </p:nvPicPr>
        <p:blipFill>
          <a:blip r:embed="rId3"/>
          <a:stretch/>
        </p:blipFill>
        <p:spPr>
          <a:xfrm>
            <a:off x="3144960" y="2468520"/>
            <a:ext cx="2292120" cy="37609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10" descr=""/>
          <p:cNvPicPr/>
          <p:nvPr/>
        </p:nvPicPr>
        <p:blipFill>
          <a:blip r:embed="rId4"/>
          <a:stretch/>
        </p:blipFill>
        <p:spPr>
          <a:xfrm>
            <a:off x="1195560" y="2548080"/>
            <a:ext cx="2176200" cy="549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11" descr=""/>
          <p:cNvPicPr/>
          <p:nvPr/>
        </p:nvPicPr>
        <p:blipFill>
          <a:blip r:embed="rId5"/>
          <a:stretch/>
        </p:blipFill>
        <p:spPr>
          <a:xfrm>
            <a:off x="5479920" y="2481120"/>
            <a:ext cx="1871640" cy="54792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2" descr=""/>
          <p:cNvPicPr/>
          <p:nvPr/>
        </p:nvPicPr>
        <p:blipFill>
          <a:blip r:embed="rId6"/>
          <a:stretch/>
        </p:blipFill>
        <p:spPr>
          <a:xfrm>
            <a:off x="1341360" y="3333600"/>
            <a:ext cx="1596960" cy="54936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3906720"/>
            <a:ext cx="2006280" cy="79380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14" descr=""/>
          <p:cNvPicPr/>
          <p:nvPr/>
        </p:nvPicPr>
        <p:blipFill>
          <a:blip r:embed="rId8"/>
          <a:stretch/>
        </p:blipFill>
        <p:spPr>
          <a:xfrm>
            <a:off x="920880" y="4552920"/>
            <a:ext cx="2230200" cy="54936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15" descr=""/>
          <p:cNvPicPr/>
          <p:nvPr/>
        </p:nvPicPr>
        <p:blipFill>
          <a:blip r:embed="rId9"/>
          <a:stretch/>
        </p:blipFill>
        <p:spPr>
          <a:xfrm>
            <a:off x="1481040" y="5052960"/>
            <a:ext cx="1328760" cy="54936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7" descr=""/>
          <p:cNvPicPr/>
          <p:nvPr/>
        </p:nvPicPr>
        <p:blipFill>
          <a:blip r:embed="rId10"/>
          <a:stretch/>
        </p:blipFill>
        <p:spPr>
          <a:xfrm>
            <a:off x="1494000" y="5553000"/>
            <a:ext cx="1584000" cy="79236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8" descr=""/>
          <p:cNvPicPr/>
          <p:nvPr/>
        </p:nvPicPr>
        <p:blipFill>
          <a:blip r:embed="rId11"/>
          <a:stretch/>
        </p:blipFill>
        <p:spPr>
          <a:xfrm>
            <a:off x="5626080" y="3333600"/>
            <a:ext cx="1639800" cy="549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19" descr=""/>
          <p:cNvPicPr/>
          <p:nvPr/>
        </p:nvPicPr>
        <p:blipFill>
          <a:blip r:embed="rId12"/>
          <a:stretch/>
        </p:blipFill>
        <p:spPr>
          <a:xfrm>
            <a:off x="5619600" y="3981600"/>
            <a:ext cx="1835280" cy="5475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20" descr=""/>
          <p:cNvPicPr/>
          <p:nvPr/>
        </p:nvPicPr>
        <p:blipFill>
          <a:blip r:embed="rId13"/>
          <a:stretch/>
        </p:blipFill>
        <p:spPr>
          <a:xfrm>
            <a:off x="5907240" y="4479840"/>
            <a:ext cx="1176120" cy="549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21" descr=""/>
          <p:cNvPicPr/>
          <p:nvPr/>
        </p:nvPicPr>
        <p:blipFill>
          <a:blip r:embed="rId14"/>
          <a:stretch/>
        </p:blipFill>
        <p:spPr>
          <a:xfrm>
            <a:off x="5565600" y="4906800"/>
            <a:ext cx="2011680" cy="792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2" descr=""/>
          <p:cNvPicPr/>
          <p:nvPr/>
        </p:nvPicPr>
        <p:blipFill>
          <a:blip r:embed="rId15"/>
          <a:stretch/>
        </p:blipFill>
        <p:spPr>
          <a:xfrm>
            <a:off x="5778360" y="5553000"/>
            <a:ext cx="1586160" cy="792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23" descr=""/>
          <p:cNvPicPr/>
          <p:nvPr/>
        </p:nvPicPr>
        <p:blipFill>
          <a:blip r:embed="rId16"/>
          <a:stretch/>
        </p:blipFill>
        <p:spPr>
          <a:xfrm>
            <a:off x="281160" y="128520"/>
            <a:ext cx="10240920" cy="12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7:18:38Z</dcterms:created>
  <dc:creator>Admin</dc:creator>
  <dc:description/>
  <dc:language>en-US</dc:language>
  <cp:lastModifiedBy>ANGEL</cp:lastModifiedBy>
  <dcterms:modified xsi:type="dcterms:W3CDTF">2013-04-09T06:20:55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0000000000001024140</vt:lpwstr>
  </property>
</Properties>
</file>