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26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AD6C-7343-4E9D-AE56-C4B1317540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591E-053C-4213-B0EC-A85E666D8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0E48-D0F1-4AF4-BA53-FE86318CF6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9501-BBCA-4C32-8D17-25A15AF4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785-E3A1-4C70-B53E-D4644956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B43CC-5CF2-40BB-B07F-6541F04D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E0AF3-BC69-4FFB-AC76-34D7A81A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B38ED-5B14-42A3-908D-C75A510B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4C129-AEDC-4F9B-AA3B-A49E7244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3859F-0F86-4A8A-9C42-B3A9F7C5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C9EEC-6B96-4C7F-BFD1-CC5BE4CF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F85F7-3D2B-4B83-A8E0-2030FACF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F20A1-51FC-4A28-A604-904C42A0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8BE73-4213-4C4A-B99C-08B394D1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A81-799B-4EAF-AD9A-E9F0B3DB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A63-71F6-4D05-B377-8005C9EA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1430-9C61-4BD1-8575-710E5E41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D83D-C6FC-4CD1-AECC-B84801CE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1BED-AABC-4442-8661-7351D76E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BE0B-8E1A-46CD-BC5D-95867DC6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42BD-E00C-40D9-9685-DA1BFB92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99BE-160D-4FDA-9C74-C1B6F7C4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EEC6-A10B-4409-AF03-4E3A0B20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528-9712-4EEA-9C27-59344CB9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9936-A4C8-4B66-9068-3B0A843B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0012-5D8A-44AC-B31F-31E2183B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0797-4AA4-4016-89AF-53D8D275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C18D-F808-4005-A307-C4F8E27A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D03C-EF23-4697-B5F9-45954D67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168C7-BC64-46B6-B025-3004CFBA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4194E-8B62-4506-865F-60D7BA0D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7D11-7C49-409B-B199-92563AD3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C6C2-5CA3-4E59-8978-52987D72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556A-20C9-4C9C-B893-74B9C5AD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53F-A02B-43F8-97E1-58A76509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591E1-1D29-4442-96BE-EB1DE18C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E037-F529-4E2F-B7E4-64C02107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038C-D9CF-4FD5-8122-81DCBF71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78AC8-B999-4BAD-808E-DE251F27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882E7-8003-46C9-BCDA-FDAA01A8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F7CDB-2AD2-478C-BBEB-6C9AF695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D905-4E09-424B-80F9-AD916969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3E807-50C1-4B37-A94B-E9D93D83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F8895-0D8D-46CA-B163-10E06107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02974-4502-4C89-B993-184431B4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A47-CA60-4B8F-A4C2-E05AE086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DC286-5A8C-42E0-8619-5592F615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F9340-5631-44BB-ABDC-9AC84959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FEA80-8D90-45CA-8A8A-B7AA4B6B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1B66A-3828-49F2-AF40-59ADA564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F13E9-F6B0-4503-A725-90589B28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CF505-91C4-4A94-9D6C-7C94C331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CC486-593D-467D-998B-3B2D7B1A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AAF46-A3E7-488B-9DB8-C9A98848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E3911-865E-404C-A99A-62F8568F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969C6-BF13-4C02-8EC1-AB6258DC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4EE-263E-4978-ACA5-7E420900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56C03-623D-464A-80CA-0DA5FBF7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9D6C8-E182-4942-B686-6D9076B6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A3A01-C359-4EB8-A0F2-2145BCFB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0617E-657F-46CA-82D2-BF7389E8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A3FFD-CEA7-4E91-A068-8BFB1110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7AD3-E0CB-42D4-810F-FB61CB79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78C17-F46F-4CD0-AE05-287B1779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96836-1DA4-4597-95E0-937DAC81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CDB44-752B-4D2E-8D56-7D2260AF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FF240-55B3-4F86-AFB5-DC2F7DEE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815-BF13-4AB5-976D-85396FD2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0CFA2-792E-4351-B5B5-CDC1F2EB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D8A9E-A603-4F4F-B31D-AEB6CC0B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738E9-FD4A-4649-99DC-99F5A469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E6BB0-DC8C-4A6F-9CC9-02EEF8E2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7D813-4F15-4753-8C7B-60200129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509D0-57B2-42F4-9F69-BEFED5DF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E42AD-A5D2-4602-81F9-12C7CDC0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D603-02E9-43B8-89B0-5BA4397A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D5F51-A585-40B2-9CF6-79FFE8BC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6E1D0-4728-453F-BADB-C8A3EED7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69B-C664-4F4F-B466-F4253CEA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B451E-226F-41D5-9AAE-95F43187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92246-235C-4779-B159-1D732263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F836F-7FE4-4299-8CF1-9B1613A9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AB6A2-7C5F-4C0F-916D-988345B4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4A16D-4C2A-4F3D-B4D0-0D4C4118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9B7A7-4160-462F-A7F2-58CAE6E4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6D7D4-AA28-45B0-B3A9-82609BF1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8981E-066C-488B-9C93-0E905B00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8AD4C-9BBE-4E93-8C00-E5DADD63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BFD41-F7A7-41BB-A267-48777056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80E-DF87-42B3-B44A-7FB10E8F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B94CA-C7C1-431D-8B04-D521DDD5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64A1E-7B71-4413-87F0-F4538561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CF4F0-F632-4A3F-9513-E275FEF7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703E8-D5B8-4A20-9EF0-043D1568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8A8FD-8873-4823-9866-87D84CC7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574B6-7B90-4463-993E-5564AEB1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7B755-DEC2-4A5B-85F4-B19D7128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0B633-0440-41AB-B337-C19A1086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B754F-408D-4CF4-95CA-B89E146B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1651E-6B42-40CE-A03C-4DDEE449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C0F-5D81-4D53-9092-A3805AC7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99629-7076-475E-B026-540CF255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8B24B-6701-4999-B6F4-C8084508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D818-A6C6-4FAD-8904-7928806B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FA885-AEFA-442C-AD75-4EBDF965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BEB27-D2F2-4EDE-BDAE-8AFBC417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7D57A-727C-4E3B-BB6E-548DED6E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ADB90-3E47-484E-B5E4-523BFB4E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048F8-8AAD-49BC-9AE7-AA0C7883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62111-EF96-4BBD-9968-3EACBC7B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F91D4-A231-4DA8-845F-8D8B5CD5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E2AE-86D8-40DC-ADAB-2D02DB4AE3E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8327-8BD4-43AC-9271-6227EE5661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EBB3-95AF-4F69-9316-22FB5EECACB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7306-87D9-4150-8A6B-0B89801D12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17A5-CCE6-4FBB-BFBC-26FC5D6D233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E98A-A393-475C-8263-82C91715344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43A8-4716-4C24-BCF1-0EA23665931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2C33-1E68-473A-9BD1-22CC601744E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546F-D8BE-44AB-897C-B670F0C4823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65040" y="92160"/>
            <a:ext cx="8871120" cy="1869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560" y="2142720"/>
            <a:ext cx="52671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1. Зародок насінин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2. Коренева систем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3. Стебло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4. Листк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5. Жилкування листкі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6. Квіт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500440" y="2142720"/>
            <a:ext cx="34909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1. Дві сім'ядолі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2. Стрижне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3. Дерев’янисте і трав’янист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4. Прості і складні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5. Сітчаст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6. Оцвітина подвій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785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Bookman Old Style"/>
              </a:rPr>
              <a:t>АНАГРАМ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560" y="1143000"/>
            <a:ext cx="6553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1</a:t>
            </a: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Сов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улюблена зернова культура коне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2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Говуд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тип жилкування листкі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3.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иканіг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лікарська рослина родини Айстрові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4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Лаом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поширена напівпаразитична рослина, оселяється на деревах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5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Бриводо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речовина для підживлення росл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6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тсо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злісний бур'я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7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Ипал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дерево з духмяними квітами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8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Четверта </a:t>
            </a:r>
            <a:r>
              <a:rPr b="1" lang="uk-UA" sz="2000" spc="-1" strike="noStrike">
                <a:solidFill>
                  <a:srgbClr val="624139"/>
                </a:solidFill>
                <a:latin typeface="Bookman Old Style"/>
              </a:rPr>
              <a:t>літера у назві рослини,           насіння якої поширюється за допомогою “ парашутиків ”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9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ШавиНан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учений, який відкрив          подвійне запліднення у росл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10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Жасітрі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група паразитичних  грибі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786360" y="1214280"/>
            <a:ext cx="2205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вес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угов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Н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агід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ме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обрив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со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Л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ип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 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Кул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Ь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баб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Н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аваш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І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ржасті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" fill="hold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" fill="hold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" fill="hold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572600" cy="9003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9900"/>
                </a:solidFill>
                <a:latin typeface="Bookman Old Style"/>
              </a:rPr>
              <a:t>ТЕМА УРОКУ</a:t>
            </a: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85840" y="1928880"/>
            <a:ext cx="85629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00000"/>
                </a:solidFill>
                <a:latin typeface="Monotype Corsiva"/>
              </a:rPr>
              <a:t>Характеристика</a:t>
            </a:r>
            <a:r>
              <a:rPr b="1" lang="uk-UA" sz="6000" spc="-1" strike="noStrike">
                <a:solidFill>
                  <a:srgbClr val="4e3b30"/>
                </a:solidFill>
                <a:latin typeface="Franklin Gothic Book"/>
              </a:rPr>
              <a:t>                                 </a:t>
            </a:r>
            <a:r>
              <a:rPr b="1" lang="uk-UA" sz="6000" spc="-1" strike="noStrike">
                <a:solidFill>
                  <a:srgbClr val="c00000"/>
                </a:solidFill>
                <a:latin typeface="Monotype Corsiva"/>
              </a:rPr>
              <a:t>класу Однодольні.                                   Родина Злакові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686800" cy="8380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Franklin Gothic Medium"/>
              </a:rPr>
              <a:t>ХАРАКТЕРНІ ОЗНАКИ КЛАСУ ОДНОДОЛЬНІ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14200" y="1554120"/>
            <a:ext cx="877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Зародок насінини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одна сім'ядол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Коренева система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мичкува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c4c2c"/>
                </a:solidFill>
                <a:latin typeface="Franklin Gothic Book"/>
              </a:rPr>
              <a:t>Стебло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трав’янист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Листки – 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прості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Жилкування листків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паралельне і дугов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Квітка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оцвітина прост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Bookman Old Style"/>
              </a:rPr>
              <a:t>ХАРАКТЕРНІ ОЗНАКИ РОСЛИНИ                          РОДИНИ ЗЛАКОВІ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4200" y="1499760"/>
            <a:ext cx="328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Квіт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уцвіття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тебл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Жилкуванн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листкі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лід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500280" y="1428840"/>
            <a:ext cx="5491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ві квіткових луски, дві плівки, три тичинки, маточ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олос, волоть,                                     початок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оломин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аралельн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ернівка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6" descr="C:\Documents and Settings\Admin\Мои документы\Мои рисунки\Изображение\Изображение 176.jpg"/>
          <p:cNvPicPr/>
          <p:nvPr/>
        </p:nvPicPr>
        <p:blipFill>
          <a:blip r:embed="rId1"/>
          <a:srcRect l="40824" t="57041" r="19" b="0"/>
          <a:stretch/>
        </p:blipFill>
        <p:spPr>
          <a:xfrm>
            <a:off x="7358040" y="1857240"/>
            <a:ext cx="1500120" cy="1779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Admin\Мои документы\Мои рисунки\Изображение\Изображение 174.jpg"/>
          <p:cNvPicPr/>
          <p:nvPr/>
        </p:nvPicPr>
        <p:blipFill>
          <a:blip r:embed="rId2"/>
          <a:srcRect l="67456" t="35108" r="0" b="-10"/>
          <a:stretch/>
        </p:blipFill>
        <p:spPr>
          <a:xfrm>
            <a:off x="8001000" y="3214800"/>
            <a:ext cx="895320" cy="2286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C:\Documents and Settings\Admin\Мои документы\Мои рисунки\Изображение\Изображение 176.jpg"/>
          <p:cNvPicPr/>
          <p:nvPr/>
        </p:nvPicPr>
        <p:blipFill>
          <a:blip r:embed="rId3"/>
          <a:srcRect l="1674" t="51544" r="53347" b="3561"/>
          <a:stretch/>
        </p:blipFill>
        <p:spPr>
          <a:xfrm>
            <a:off x="5786280" y="2357280"/>
            <a:ext cx="1314720" cy="2143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C:\Documents and Settings\Admin\Мои документы\Мои рисунки\Изображение\Изображение 176.jpg"/>
          <p:cNvPicPr/>
          <p:nvPr/>
        </p:nvPicPr>
        <p:blipFill>
          <a:blip r:embed="rId4"/>
          <a:srcRect l="0" t="0" r="38774" b="54886"/>
          <a:stretch/>
        </p:blipFill>
        <p:spPr>
          <a:xfrm>
            <a:off x="6500880" y="4286160"/>
            <a:ext cx="1500120" cy="180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Bookman Old Style"/>
              </a:rPr>
              <a:t>ПРЕДСТАВНИКИ РОДИНИ  ЗЛАКОВІ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4" name="Содержимое 2" descr=""/>
          <p:cNvPicPr/>
          <p:nvPr/>
        </p:nvPicPr>
        <p:blipFill>
          <a:blip r:embed="rId1"/>
          <a:stretch/>
        </p:blipFill>
        <p:spPr>
          <a:xfrm>
            <a:off x="30240" y="1054080"/>
            <a:ext cx="8905680" cy="5595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Documents and Settings\Admin\Мои документы\Мои рисунки\Изображение\Изображение.jpg"/>
          <p:cNvPicPr/>
          <p:nvPr/>
        </p:nvPicPr>
        <p:blipFill>
          <a:blip r:embed="rId2"/>
          <a:srcRect l="0" t="52075" r="17772" b="46"/>
          <a:stretch/>
        </p:blipFill>
        <p:spPr>
          <a:xfrm>
            <a:off x="4143240" y="1143000"/>
            <a:ext cx="1214640" cy="2357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Documents and Settings\Admin\Мои документы\Мои рисунки\Изображение\Изображение.jpg"/>
          <p:cNvPicPr/>
          <p:nvPr/>
        </p:nvPicPr>
        <p:blipFill>
          <a:blip r:embed="rId3"/>
          <a:srcRect l="1989" t="0" r="0" b="47933"/>
          <a:stretch/>
        </p:blipFill>
        <p:spPr>
          <a:xfrm>
            <a:off x="7358040" y="1143000"/>
            <a:ext cx="1143000" cy="2616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C:\Documents and Settings\Admin\Мои документы\Мои рисунки\Изображение\Изображение 175.jpg"/>
          <p:cNvPicPr/>
          <p:nvPr/>
        </p:nvPicPr>
        <p:blipFill>
          <a:blip r:embed="rId4"/>
          <a:srcRect l="40541" t="75853" r="-644" b="2280"/>
          <a:stretch/>
        </p:blipFill>
        <p:spPr>
          <a:xfrm>
            <a:off x="3357720" y="4071960"/>
            <a:ext cx="1714320" cy="1785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Documents and Settings\Admin\Мои документы\Мои рисунки\Изображение\Изображение 175.jpg"/>
          <p:cNvPicPr/>
          <p:nvPr/>
        </p:nvPicPr>
        <p:blipFill>
          <a:blip r:embed="rId5"/>
          <a:srcRect l="55701" t="2557" r="10135" b="65129"/>
          <a:stretch/>
        </p:blipFill>
        <p:spPr>
          <a:xfrm>
            <a:off x="5072040" y="3857760"/>
            <a:ext cx="1000080" cy="2708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C:\Documents and Settings\Admin\Мои документы\Мои рисунки\Изображение\Изображение 175.jpg"/>
          <p:cNvPicPr/>
          <p:nvPr/>
        </p:nvPicPr>
        <p:blipFill>
          <a:blip r:embed="rId6"/>
          <a:srcRect l="6657" t="65099" r="60082" b="30"/>
          <a:stretch/>
        </p:blipFill>
        <p:spPr>
          <a:xfrm>
            <a:off x="6143760" y="3929040"/>
            <a:ext cx="1000080" cy="2500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C:\Documents and Settings\Admin\Мои документы\Мои рисунки\Изображение\Изображение 175.jpg"/>
          <p:cNvPicPr/>
          <p:nvPr/>
        </p:nvPicPr>
        <p:blipFill>
          <a:blip r:embed="rId7"/>
          <a:srcRect l="0" t="0" r="46747" b="67454"/>
          <a:stretch/>
        </p:blipFill>
        <p:spPr>
          <a:xfrm>
            <a:off x="7429680" y="3929040"/>
            <a:ext cx="1285560" cy="2251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C:\Documents and Settings\Admin\Мои документы\Мои рисунки\Изображение\Изображение 174.jpg"/>
          <p:cNvPicPr/>
          <p:nvPr/>
        </p:nvPicPr>
        <p:blipFill>
          <a:blip r:embed="rId8"/>
          <a:srcRect l="0" t="0" r="0" b="-10"/>
          <a:stretch/>
        </p:blipFill>
        <p:spPr>
          <a:xfrm>
            <a:off x="5857920" y="1714680"/>
            <a:ext cx="1571760" cy="2012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Овал 4"/>
          <p:cNvSpPr/>
          <p:nvPr/>
        </p:nvSpPr>
        <p:spPr>
          <a:xfrm>
            <a:off x="785880" y="2143080"/>
            <a:ext cx="2913120" cy="4214880"/>
          </a:xfrm>
          <a:prstGeom prst="ellipse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5"/>
          <p:cNvSpPr/>
          <p:nvPr/>
        </p:nvSpPr>
        <p:spPr>
          <a:xfrm>
            <a:off x="4857840" y="2214720"/>
            <a:ext cx="3071880" cy="4214520"/>
          </a:xfrm>
          <a:prstGeom prst="ellipse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6"/>
          <p:cNvSpPr/>
          <p:nvPr/>
        </p:nvSpPr>
        <p:spPr>
          <a:xfrm>
            <a:off x="3071880" y="2000160"/>
            <a:ext cx="2428920" cy="4357800"/>
          </a:xfrm>
          <a:prstGeom prst="ellipse">
            <a:avLst/>
          </a:prstGeom>
          <a:gradFill rotWithShape="0">
            <a:gsLst>
              <a:gs pos="0">
                <a:srgbClr val="ede8dc"/>
              </a:gs>
              <a:gs pos="100000">
                <a:srgbClr val="c4b284"/>
              </a:gs>
            </a:gsLst>
            <a:lin ang="5400000"/>
          </a:gradFill>
          <a:ln w="10080">
            <a:solidFill>
              <a:srgbClr val="a1957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Прямоугольник 7" descr=""/>
          <p:cNvPicPr/>
          <p:nvPr/>
        </p:nvPicPr>
        <p:blipFill>
          <a:blip r:embed="rId1"/>
          <a:stretch/>
        </p:blipFill>
        <p:spPr>
          <a:xfrm>
            <a:off x="1000080" y="1243080"/>
            <a:ext cx="2560680" cy="731880"/>
          </a:xfrm>
          <a:prstGeom prst="rect">
            <a:avLst/>
          </a:prstGeom>
          <a:ln w="0">
            <a:noFill/>
          </a:ln>
        </p:spPr>
      </p:pic>
      <p:pic>
        <p:nvPicPr>
          <p:cNvPr id="436" name="Прямоугольник 8" descr=""/>
          <p:cNvPicPr/>
          <p:nvPr/>
        </p:nvPicPr>
        <p:blipFill>
          <a:blip r:embed="rId2"/>
          <a:stretch/>
        </p:blipFill>
        <p:spPr>
          <a:xfrm>
            <a:off x="5005440" y="1170000"/>
            <a:ext cx="2822400" cy="731880"/>
          </a:xfrm>
          <a:prstGeom prst="rect">
            <a:avLst/>
          </a:prstGeom>
          <a:ln w="0">
            <a:noFill/>
          </a:ln>
        </p:spPr>
      </p:pic>
      <p:pic>
        <p:nvPicPr>
          <p:cNvPr id="437" name="Прямоугольник 9" descr=""/>
          <p:cNvPicPr/>
          <p:nvPr/>
        </p:nvPicPr>
        <p:blipFill>
          <a:blip r:embed="rId3"/>
          <a:stretch/>
        </p:blipFill>
        <p:spPr>
          <a:xfrm>
            <a:off x="3144960" y="2468520"/>
            <a:ext cx="2292120" cy="376092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10" descr=""/>
          <p:cNvPicPr/>
          <p:nvPr/>
        </p:nvPicPr>
        <p:blipFill>
          <a:blip r:embed="rId4"/>
          <a:stretch/>
        </p:blipFill>
        <p:spPr>
          <a:xfrm>
            <a:off x="1195560" y="2548080"/>
            <a:ext cx="2176200" cy="54900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11" descr=""/>
          <p:cNvPicPr/>
          <p:nvPr/>
        </p:nvPicPr>
        <p:blipFill>
          <a:blip r:embed="rId5"/>
          <a:stretch/>
        </p:blipFill>
        <p:spPr>
          <a:xfrm>
            <a:off x="5479920" y="2481120"/>
            <a:ext cx="1871640" cy="547920"/>
          </a:xfrm>
          <a:prstGeom prst="rect">
            <a:avLst/>
          </a:prstGeom>
          <a:ln w="0">
            <a:noFill/>
          </a:ln>
        </p:spPr>
      </p:pic>
      <p:pic>
        <p:nvPicPr>
          <p:cNvPr id="440" name="Прямоугольник 12" descr=""/>
          <p:cNvPicPr/>
          <p:nvPr/>
        </p:nvPicPr>
        <p:blipFill>
          <a:blip r:embed="rId6"/>
          <a:stretch/>
        </p:blipFill>
        <p:spPr>
          <a:xfrm>
            <a:off x="1341360" y="3333600"/>
            <a:ext cx="1596960" cy="549360"/>
          </a:xfrm>
          <a:prstGeom prst="rect">
            <a:avLst/>
          </a:prstGeom>
          <a:ln w="0">
            <a:noFill/>
          </a:ln>
        </p:spPr>
      </p:pic>
      <p:pic>
        <p:nvPicPr>
          <p:cNvPr id="441" name="Прямоугольник 13" descr=""/>
          <p:cNvPicPr/>
          <p:nvPr/>
        </p:nvPicPr>
        <p:blipFill>
          <a:blip r:embed="rId7"/>
          <a:stretch/>
        </p:blipFill>
        <p:spPr>
          <a:xfrm>
            <a:off x="1133640" y="3906720"/>
            <a:ext cx="2006280" cy="793800"/>
          </a:xfrm>
          <a:prstGeom prst="rect">
            <a:avLst/>
          </a:prstGeom>
          <a:ln w="0">
            <a:noFill/>
          </a:ln>
        </p:spPr>
      </p:pic>
      <p:pic>
        <p:nvPicPr>
          <p:cNvPr id="442" name="Прямоугольник 14" descr=""/>
          <p:cNvPicPr/>
          <p:nvPr/>
        </p:nvPicPr>
        <p:blipFill>
          <a:blip r:embed="rId8"/>
          <a:stretch/>
        </p:blipFill>
        <p:spPr>
          <a:xfrm>
            <a:off x="920880" y="4552920"/>
            <a:ext cx="2230200" cy="549360"/>
          </a:xfrm>
          <a:prstGeom prst="rect">
            <a:avLst/>
          </a:prstGeom>
          <a:ln w="0">
            <a:noFill/>
          </a:ln>
        </p:spPr>
      </p:pic>
      <p:pic>
        <p:nvPicPr>
          <p:cNvPr id="443" name="Прямоугольник 15" descr=""/>
          <p:cNvPicPr/>
          <p:nvPr/>
        </p:nvPicPr>
        <p:blipFill>
          <a:blip r:embed="rId9"/>
          <a:stretch/>
        </p:blipFill>
        <p:spPr>
          <a:xfrm>
            <a:off x="1481040" y="5052960"/>
            <a:ext cx="1328760" cy="54936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7" descr=""/>
          <p:cNvPicPr/>
          <p:nvPr/>
        </p:nvPicPr>
        <p:blipFill>
          <a:blip r:embed="rId10"/>
          <a:stretch/>
        </p:blipFill>
        <p:spPr>
          <a:xfrm>
            <a:off x="1494000" y="5553000"/>
            <a:ext cx="1584000" cy="79236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18" descr=""/>
          <p:cNvPicPr/>
          <p:nvPr/>
        </p:nvPicPr>
        <p:blipFill>
          <a:blip r:embed="rId11"/>
          <a:stretch/>
        </p:blipFill>
        <p:spPr>
          <a:xfrm>
            <a:off x="5626080" y="3333600"/>
            <a:ext cx="1639800" cy="54936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19" descr=""/>
          <p:cNvPicPr/>
          <p:nvPr/>
        </p:nvPicPr>
        <p:blipFill>
          <a:blip r:embed="rId12"/>
          <a:stretch/>
        </p:blipFill>
        <p:spPr>
          <a:xfrm>
            <a:off x="5619600" y="3981600"/>
            <a:ext cx="1835280" cy="54756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20" descr=""/>
          <p:cNvPicPr/>
          <p:nvPr/>
        </p:nvPicPr>
        <p:blipFill>
          <a:blip r:embed="rId13"/>
          <a:stretch/>
        </p:blipFill>
        <p:spPr>
          <a:xfrm>
            <a:off x="5907240" y="4479840"/>
            <a:ext cx="1176120" cy="54936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21" descr=""/>
          <p:cNvPicPr/>
          <p:nvPr/>
        </p:nvPicPr>
        <p:blipFill>
          <a:blip r:embed="rId14"/>
          <a:stretch/>
        </p:blipFill>
        <p:spPr>
          <a:xfrm>
            <a:off x="5565600" y="4906800"/>
            <a:ext cx="2011680" cy="79236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22" descr=""/>
          <p:cNvPicPr/>
          <p:nvPr/>
        </p:nvPicPr>
        <p:blipFill>
          <a:blip r:embed="rId15"/>
          <a:stretch/>
        </p:blipFill>
        <p:spPr>
          <a:xfrm>
            <a:off x="5778360" y="5553000"/>
            <a:ext cx="1586160" cy="79236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23" descr=""/>
          <p:cNvPicPr/>
          <p:nvPr/>
        </p:nvPicPr>
        <p:blipFill>
          <a:blip r:embed="rId16"/>
          <a:stretch/>
        </p:blipFill>
        <p:spPr>
          <a:xfrm>
            <a:off x="281160" y="128520"/>
            <a:ext cx="10240920" cy="1200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07:18:38Z</dcterms:created>
  <dc:creator>Admin</dc:creator>
  <dc:description/>
  <dc:language>en-US</dc:language>
  <cp:lastModifiedBy>ANGEL</cp:lastModifiedBy>
  <dcterms:modified xsi:type="dcterms:W3CDTF">2013-04-09T06:20:55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0000000000001024140</vt:lpwstr>
  </property>
</Properties>
</file>