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E988-B34E-4F19-8D3B-3139106E3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7383-7815-40EB-8F89-D088D2F0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E9E1-23A3-4710-BED9-00A2438B4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62CF-E5F1-4D99-81CE-ADF938D13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758B-431B-4FD9-926F-55A64D8C3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4156-A960-47F5-B5C2-8CD29144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E77E-D4E3-4CC8-B63A-154F602D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84C7-58DE-4759-94EF-78CA1590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FFF1-069E-4C6A-8DDE-5B4A79A9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BD4C-2C2E-4FF3-9CD0-439B2E69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B1A1-67BA-4D81-AC04-7AE16CC9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E2D9-75A3-424D-B7FC-971E3570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0D87-50DC-4E17-AED7-34D0BB18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A620-067C-4105-95AA-657A3623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D750-B8F4-43C4-855A-54618CF6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BE4B-DB9F-4FB5-9C7F-555F735E0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E2FD-2598-453A-B767-35C2A14CC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319B-BB5C-4B88-AF15-6885CB31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731C-9877-44D7-9F23-A899F955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2F82-25AF-4D5B-BB22-CDD77350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81BF-57BD-408A-8DB1-D97D1975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8BC8-6E9D-420B-90C9-4463BA6D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E916-BDAA-4383-890B-97C055DC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C071-DB51-43D1-B254-71FDF175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B733-04A1-4989-A92E-9F4FDEB5CE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AED3-4B51-4286-8735-F274CBB20D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#1073;&#1091;&#1076;&#1086;&#1074;&#1072;+&#1083;&#1080;&#1089;&#1090;&#1082;&#1072;&amp;source=images&amp;cd=&amp;cad=rja&amp;docid=Ip0Y48nNMiPAkM&amp;tbnid=oZCjdzvrIO4Y4M:&amp;ved=0CAQQjB0&amp;url=http%3A%2F%2Fschool.xvatit.com%2Findex.php%3Ftitle%3D%25D0%25A2%25D0%25B5%25D0%25BC%25D0%25B0_19._%25D0%259B%25D0%25B8%25D1%2581%25D1%2582%25D0%25BE%25D0%25BA._%25D0%2597%25D0%25BE%25D0%25B2%25D0%25BD%25D1%2596%25D1%2588%25D0%25BD%25D1%258F_%25D0%25B1%25D1%2583%25D0%25B4%25D0%25BE%25D0%25B2%25D0%25B0_%25D0%25BB%25D0%25B8%25D1%2581%25D1%2582%25D0%25BA%25D0%25B0&amp;ei=pJcaUYyONoeHtAbeoYCIAQ&amp;bvm=bv.42261806,d.Yms&amp;psig=AFQjCNGfcRx3Kl_ZA5uRN6nEhp6PWEz4UA&amp;ust=1360783648969477" TargetMode="External"/><Relationship Id="rId2" Type="http://schemas.openxmlformats.org/officeDocument/2006/relationships/hyperlink" Target="http://www.google.com/url?sa=i&amp;rct=j&amp;q=&#1073;&#1091;&#1076;&#1086;&#1074;&#1072;+&#1083;&#1080;&#1089;&#1090;&#1082;&#1072;&amp;source=images&amp;cd=&amp;cad=rja&amp;docid=YUxST8BD5W4XLM&amp;tbnid=RvU8Gg3r0w2lCM:&amp;ved=0CAQQjB0&amp;url=http%3A%2F%2Fshkola.ua%2Fbook%2Fread%2F35%2Fpage45&amp;ei=y5caUa76EIfPsgavhIGYBQ&amp;bvm=bv.42261806,d.Yms&amp;psig=AFQjCNGfcRx3Kl_ZA5uRN6nEhp6PWEz4UA&amp;ust=1360783648969477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b7"/>
                </a:solidFill>
                <a:latin typeface="Arial Black"/>
              </a:rPr>
              <a:t>Листок-бічний орган пагон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63640" y="3962520"/>
            <a:ext cx="352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резентаці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читель Саганюк О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Типи жилкуванн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8640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Форми листків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496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Форми листкової пластинки і краю листкі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8353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244440"/>
            <a:ext cx="851832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b7"/>
                </a:solidFill>
                <a:latin typeface="Arial Black"/>
              </a:rPr>
              <a:t>Типи листкорозміщення</a:t>
            </a:r>
            <a:br>
              <a:rPr sz="3600"/>
            </a:br>
            <a:r>
              <a:rPr b="1" lang="uk-UA" sz="36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i="1" lang="ru-RU" sz="3600" spc="-1" strike="noStrike">
                <a:solidFill>
                  <a:srgbClr val="ffffb7"/>
                </a:solidFill>
                <a:latin typeface="Arial Black"/>
              </a:rPr>
              <a:t>1 - супротивне; 2 - чергове; 3 - кільчасте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56908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Видозміни лист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Мал. 81. Видозміни листків.jpg"/>
          <p:cNvPicPr/>
          <p:nvPr/>
        </p:nvPicPr>
        <p:blipFill>
          <a:blip r:embed="rId1"/>
          <a:stretch/>
        </p:blipFill>
        <p:spPr>
          <a:xfrm>
            <a:off x="250920" y="1413000"/>
            <a:ext cx="87138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Дати характеристику листку за планом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ростий чи склад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идячий чи черешков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Тип жилкуван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Форма лис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Форма краю лис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7720" y="476280"/>
            <a:ext cx="800748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Які функції листка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Які особливості будови листка дозволяють йому виконувати такі функції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ВИКОРИСТАНІ ДЖЕРЕЛ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school.xvatit.com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shkola.ua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byology.ru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uk.wikipedia.org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Вікторія амазонсь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Файл:Victoria amazonica JPG01.jpg"/>
          <p:cNvPicPr/>
          <p:nvPr/>
        </p:nvPicPr>
        <p:blipFill>
          <a:blip r:embed="rId1"/>
          <a:stretch/>
        </p:blipFill>
        <p:spPr>
          <a:xfrm>
            <a:off x="250920" y="1413000"/>
            <a:ext cx="86421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91796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Файл:Victoria amazonica, back side of a leaf (Kobe Kachoen).jpg"/>
          <p:cNvPicPr/>
          <p:nvPr/>
        </p:nvPicPr>
        <p:blipFill>
          <a:blip r:embed="rId3"/>
          <a:stretch/>
        </p:blipFill>
        <p:spPr>
          <a:xfrm>
            <a:off x="250920" y="260280"/>
            <a:ext cx="4465440" cy="6445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Файл:Victoria amazonica bud.jpg"/>
          <p:cNvPicPr/>
          <p:nvPr/>
        </p:nvPicPr>
        <p:blipFill>
          <a:blip r:embed="rId4"/>
          <a:stretch/>
        </p:blipFill>
        <p:spPr>
          <a:xfrm>
            <a:off x="4788000" y="260280"/>
            <a:ext cx="435600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b7"/>
                </a:solidFill>
                <a:latin typeface="Arial Black"/>
              </a:rPr>
              <a:t>Квітка вікторії амазонської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5690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                 </a:t>
            </a: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Рафія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File:Raphia australis.jpg"/>
          <p:cNvPicPr/>
          <p:nvPr/>
        </p:nvPicPr>
        <p:blipFill>
          <a:blip r:embed="rId1"/>
          <a:stretch/>
        </p:blipFill>
        <p:spPr>
          <a:xfrm>
            <a:off x="611280" y="1773360"/>
            <a:ext cx="76197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362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b7"/>
                </a:solidFill>
                <a:latin typeface="Arial Black"/>
              </a:rPr>
              <a:t>Листок-бічна частина пагона, що виконує функції фотосинтезу, газообміну і випаровування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88240" y="4475160"/>
            <a:ext cx="225576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Зовнішня будова лист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8496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07:33:30Z</dcterms:created>
  <dc:creator>Admin</dc:creator>
  <dc:description/>
  <dc:language>en-US</dc:language>
  <cp:lastModifiedBy>Admin</cp:lastModifiedBy>
  <dcterms:modified xsi:type="dcterms:W3CDTF">2013-02-12T19:32:12Z</dcterms:modified>
  <cp:revision>5</cp:revision>
  <dc:subject/>
  <dc:title>Листок-бічний орган паго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0a000000000001024140</vt:lpwstr>
  </property>
</Properties>
</file>