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5CC-7F76-41D1-9BA2-2FBCEA02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C38-9BF1-4E05-85CA-C4416A7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A70-29CE-4B7C-839F-701EC16F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AB2-F3D6-40CD-B591-F31DAD07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5C96-E308-4224-B570-894C3E38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D074-C8F0-428E-B86F-1EE8D13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45AD-AD11-46E7-B26B-48DDA1D7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BFE0-F320-4F30-8469-914721F6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443E-AC38-4FCD-B679-5F65D06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4101-EB3B-4E91-AB0A-B6DBC13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4AB-8937-4B2A-90E1-7F13316C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717-46F7-4C56-8CA4-A060705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C39A-6113-4650-A7CB-F03C752E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0C13-3866-46E4-B35A-1123DA0F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9F16-FB67-42E8-80B0-091BF6B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5760-7AE0-4490-91BE-15A6F6E9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5A3D-9D8D-4B1B-8560-F05C59BD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628-64E2-4974-88DD-FEC8466B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7D5-A0C9-4DBF-ABFD-9C49FF7C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7AF-3BB5-47BA-8993-568B7ED9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559-7589-4E07-837D-0BD55CCD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A4F-558C-43BA-AFA3-3F38738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6DF-E111-4EDD-BA48-32A07DED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764-FEBE-47DF-8843-7803289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DB8-6BCE-4249-95C2-DE318718D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A2DD-C6BB-4B0C-80C8-7AD4F6253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#1073;&#1091;&#1076;&#1086;&#1074;&#1072;+&#1083;&#1080;&#1089;&#1090;&#1082;&#1072;&amp;source=images&amp;cd=&amp;cad=rja&amp;docid=Ip0Y48nNMiPAkM&amp;tbnid=oZCjdzvrIO4Y4M:&amp;ved=0CAQQjB0&amp;url=http%3A%2F%2Fschool.xvatit.com%2Findex.php%3Ftitle%3D%25D0%25A2%25D0%25B5%25D0%25BC%25D0%25B0_19._%25D0%259B%25D0%25B8%25D1%2581%25D1%2582%25D0%25BE%25D0%25BA._%25D0%2597%25D0%25BE%25D0%25B2%25D0%25BD%25D1%2596%25D1%2588%25D0%25BD%25D1%258F_%25D0%25B1%25D1%2583%25D0%25B4%25D0%25BE%25D0%25B2%25D0%25B0_%25D0%25BB%25D0%25B8%25D1%2581%25D1%2582%25D0%25BA%25D0%25B0&amp;ei=pJcaUYyONoeHtAbeoYCIAQ&amp;bvm=bv.42261806,d.Yms&amp;psig=AFQjCNGfcRx3Kl_ZA5uRN6nEhp6PWEz4UA&amp;ust=1360783648969477" TargetMode="External"/><Relationship Id="rId2" Type="http://schemas.openxmlformats.org/officeDocument/2006/relationships/hyperlink" Target="http://www.google.com/url?sa=i&amp;rct=j&amp;q=&#1073;&#1091;&#1076;&#1086;&#1074;&#1072;+&#1083;&#1080;&#1089;&#1090;&#1082;&#1072;&amp;source=images&amp;cd=&amp;cad=rja&amp;docid=YUxST8BD5W4XLM&amp;tbnid=RvU8Gg3r0w2lCM:&amp;ved=0CAQQjB0&amp;url=http%3A%2F%2Fshkola.ua%2Fbook%2Fread%2F35%2Fpage45&amp;ei=y5caUa76EIfPsgavhIGYBQ&amp;bvm=bv.42261806,d.Yms&amp;psig=AFQjCNGfcRx3Kl_ZA5uRN6nEhp6PWEz4UA&amp;ust=1360783648969477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ий орган паго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63640" y="396252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езентаці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читель Саганюк О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Типи жилкуван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64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і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ової пластинки і краю листкі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3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Типи листкорозміщення</a:t>
            </a:r>
            <a:br>
              <a:rPr sz="3600"/>
            </a:b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3600" spc="-1" strike="noStrike">
                <a:solidFill>
                  <a:srgbClr val="ffffb7"/>
                </a:solidFill>
                <a:latin typeface="Arial Black"/>
              </a:rPr>
              <a:t>1 - супротивне; 2 - чергове; 3 - кільчасте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569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дозміни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Мал. 81. Видозміни листків.jpg"/>
          <p:cNvPicPr/>
          <p:nvPr/>
        </p:nvPicPr>
        <p:blipFill>
          <a:blip r:embed="rId1"/>
          <a:stretch/>
        </p:blipFill>
        <p:spPr>
          <a:xfrm>
            <a:off x="25092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ати характеристику листку за план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стий чи склад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дячий чи черешко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п жилк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краю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функції листк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особливості будови листка дозволяють йому виконувати такі функції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КОРИСТАНІ ДЖЕРЕ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school.xvatit.co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shkola.u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byology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uk.wikipedia.or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ікторія амазонсь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Файл:Victoria amazonica JPG01.jpg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Файл:Victoria amazonica, back side of a leaf (Kobe Kachoen).jpg"/>
          <p:cNvPicPr/>
          <p:nvPr/>
        </p:nvPicPr>
        <p:blipFill>
          <a:blip r:embed="rId3"/>
          <a:stretch/>
        </p:blipFill>
        <p:spPr>
          <a:xfrm>
            <a:off x="250920" y="260280"/>
            <a:ext cx="4465440" cy="644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Файл:Victoria amazonica bud.jpg"/>
          <p:cNvPicPr/>
          <p:nvPr/>
        </p:nvPicPr>
        <p:blipFill>
          <a:blip r:embed="rId4"/>
          <a:stretch/>
        </p:blipFill>
        <p:spPr>
          <a:xfrm>
            <a:off x="4788000" y="260280"/>
            <a:ext cx="4356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Квітка вікторії амазонської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афі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File:Raphia australis.jpg"/>
          <p:cNvPicPr/>
          <p:nvPr/>
        </p:nvPicPr>
        <p:blipFill>
          <a:blip r:embed="rId1"/>
          <a:stretch/>
        </p:blipFill>
        <p:spPr>
          <a:xfrm>
            <a:off x="611280" y="1773360"/>
            <a:ext cx="76197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а частина пагона, що виконує функції фотосинтезу, газообміну і випаровуванн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88240" y="4475160"/>
            <a:ext cx="2255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овнішня будова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7:33:30Z</dcterms:created>
  <dc:creator>Admin</dc:creator>
  <dc:description/>
  <dc:language>en-US</dc:language>
  <cp:lastModifiedBy>Admin</cp:lastModifiedBy>
  <dcterms:modified xsi:type="dcterms:W3CDTF">2013-02-12T19:32:12Z</dcterms:modified>
  <cp:revision>5</cp:revision>
  <dc:subject/>
  <dc:title>Листок-бічний орган паг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a000000000001024140</vt:lpwstr>
  </property>
</Properties>
</file>