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A71-39D5-45D1-89B4-80F4B85B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864-DC0B-48BC-8ED0-5FCFE33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E25-A3DA-4350-B26E-9A54C9FF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6C9-662C-4A52-9AD7-CF12BC27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4331-EB47-43A0-8ADE-CDC8AC2F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23F-F1FF-40F4-82FB-099E5C5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F70A-C390-461A-872E-20E4869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C55E-9B5B-4EF6-84A5-2E0E434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B68-CF2B-46A5-AA1D-E7A5AC1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EC5E-281B-489D-9FB1-C986307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8952-DE07-4E08-A7FA-F5C5D0D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475-B9A0-4B0D-8B39-7D82290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5C6A-878E-4F07-AFD8-00A41110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AFD-FA0B-44BD-B3A6-C2ED2D0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CF0-8D97-4F31-8031-C8F98DA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F226-237B-4D07-890C-4F6FF68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B3AE-C641-4A3D-8BC7-88BC0A32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C32-A57A-4794-9523-3DA2BA3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0E6-03B7-43E4-A841-E99DCF50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20F-59D3-4DA6-B038-F3DC628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CD3-9B9E-4A2F-9DB4-DC7A6E80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6C5-8F36-4124-A05B-91DC41F3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34A-0583-4751-B836-9E7EA80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892-2C4A-491B-B161-6683DCD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94C3-9415-41FE-9A3A-89BCF53CD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266-E15F-4873-BA5A-ABEFE4091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#1073;&#1091;&#1076;&#1086;&#1074;&#1072;+&#1083;&#1080;&#1089;&#1090;&#1082;&#1072;&amp;source=images&amp;cd=&amp;cad=rja&amp;docid=Ip0Y48nNMiPAkM&amp;tbnid=oZCjdzvrIO4Y4M:&amp;ved=0CAQQjB0&amp;url=http%3A%2F%2Fschool.xvatit.com%2Findex.php%3Ftitle%3D%25D0%25A2%25D0%25B5%25D0%25BC%25D0%25B0_19._%25D0%259B%25D0%25B8%25D1%2581%25D1%2582%25D0%25BE%25D0%25BA._%25D0%2597%25D0%25BE%25D0%25B2%25D0%25BD%25D1%2596%25D1%2588%25D0%25BD%25D1%258F_%25D0%25B1%25D1%2583%25D0%25B4%25D0%25BE%25D0%25B2%25D0%25B0_%25D0%25BB%25D0%25B8%25D1%2581%25D1%2582%25D0%25BA%25D0%25B0&amp;ei=pJcaUYyONoeHtAbeoYCIAQ&amp;bvm=bv.42261806,d.Yms&amp;psig=AFQjCNGfcRx3Kl_ZA5uRN6nEhp6PWEz4UA&amp;ust=1360783648969477" TargetMode="External"/><Relationship Id="rId2" Type="http://schemas.openxmlformats.org/officeDocument/2006/relationships/hyperlink" Target="http://www.google.com/url?sa=i&amp;rct=j&amp;q=&#1073;&#1091;&#1076;&#1086;&#1074;&#1072;+&#1083;&#1080;&#1089;&#1090;&#1082;&#1072;&amp;source=images&amp;cd=&amp;cad=rja&amp;docid=YUxST8BD5W4XLM&amp;tbnid=RvU8Gg3r0w2lCM:&amp;ved=0CAQQjB0&amp;url=http%3A%2F%2Fshkola.ua%2Fbook%2Fread%2F35%2Fpage45&amp;ei=y5caUa76EIfPsgavhIGYBQ&amp;bvm=bv.42261806,d.Yms&amp;psig=AFQjCNGfcRx3Kl_ZA5uRN6nEhp6PWEz4UA&amp;ust=1360783648969477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ий орган паго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63640" y="396252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езентаці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 Саганюк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Типи жилк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6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і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ової пластинки і краю листкі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Типи листкорозміщення</a:t>
            </a:r>
            <a:br>
              <a:rPr sz="3600"/>
            </a:b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1 - супротивне; 2 - чергове; 3 - кільчаст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озміни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Мал. 81. Видозміни листків.jpg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ти характеристику листку за план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ий чи склад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дячий чи черешк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п жилк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краю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функції лист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особливості будови листка дозволяють йому виконувати такі функції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КОРИСТАНІ ДЖЕР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chool.xvatit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hkola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byology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uk.wikipedia.or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кторія амазонсь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Файл:Victoria amazonica JPG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Файл:Victoria amazonica, back side of a leaf (Kobe Kachoen).jpg"/>
          <p:cNvPicPr/>
          <p:nvPr/>
        </p:nvPicPr>
        <p:blipFill>
          <a:blip r:embed="rId3"/>
          <a:stretch/>
        </p:blipFill>
        <p:spPr>
          <a:xfrm>
            <a:off x="250920" y="260280"/>
            <a:ext cx="4465440" cy="644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айл:Victoria amazonica bud.jpg"/>
          <p:cNvPicPr/>
          <p:nvPr/>
        </p:nvPicPr>
        <p:blipFill>
          <a:blip r:embed="rId4"/>
          <a:stretch/>
        </p:blipFill>
        <p:spPr>
          <a:xfrm>
            <a:off x="4788000" y="260280"/>
            <a:ext cx="4356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Квітка вікторії амазонської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ф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File:Raphia australis.jpg"/>
          <p:cNvPicPr/>
          <p:nvPr/>
        </p:nvPicPr>
        <p:blipFill>
          <a:blip r:embed="rId1"/>
          <a:stretch/>
        </p:blipFill>
        <p:spPr>
          <a:xfrm>
            <a:off x="611280" y="1773360"/>
            <a:ext cx="7619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а частина пагона, що виконує функції фотосинтезу, газообміну і випаровуванн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88240" y="4475160"/>
            <a:ext cx="2255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овнішня будова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33:30Z</dcterms:created>
  <dc:creator>Admin</dc:creator>
  <dc:description/>
  <dc:language>en-US</dc:language>
  <cp:lastModifiedBy>Admin</cp:lastModifiedBy>
  <dcterms:modified xsi:type="dcterms:W3CDTF">2013-02-12T19:32:12Z</dcterms:modified>
  <cp:revision>5</cp:revision>
  <dc:subject/>
  <dc:title>Листок-бічний орган паг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a000000000001024140</vt:lpwstr>
  </property>
</Properties>
</file>