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8EB-14A7-4F88-A424-36F17518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129-EA20-4698-89F6-40BB5239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F9E-30D5-4A80-8757-DE5ECEA9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238-FA26-428C-8AF5-A11DD889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22C1-A9DA-4986-B23C-38F24BEA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74D3-0786-4CFC-911D-1D2869EA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E925-B546-461A-8630-DB5C3D8E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518F-50BC-4E28-9E7A-8BA05D02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E31E-DD85-4D7F-BBCF-6E4C578F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B754-45D7-48C8-BD04-A0411C45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B876-310C-4353-8336-2D94278F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078-3DE9-458D-BFA6-D0B3D372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1F35-42E9-453C-918C-223A971A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D87A-CB4A-434C-8F8A-98ADA501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7572-0241-46FB-B99B-ECFFAB86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DFA8-9EA1-441F-8A4A-FC94955E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69D4-5376-4DD1-B6CD-3C359811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355-CA04-4E97-B6A4-DE5748FD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9678-5AA0-4386-BC6D-71355663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229-0321-4778-B251-26943D99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2C7-4627-4DC0-825F-69026A71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C82F-8EC4-40A6-AA71-983A58EA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AD8-193D-4441-89A2-233FC1E8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8B1-299A-407F-8C12-BE8EEBEB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A281-F1A9-4A4B-8C5A-053C31854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A6D7-0997-4EDF-BCD9-37FDF08D7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#1073;&#1091;&#1076;&#1086;&#1074;&#1072;+&#1083;&#1080;&#1089;&#1090;&#1082;&#1072;&amp;source=images&amp;cd=&amp;cad=rja&amp;docid=Ip0Y48nNMiPAkM&amp;tbnid=oZCjdzvrIO4Y4M:&amp;ved=0CAQQjB0&amp;url=http%3A%2F%2Fschool.xvatit.com%2Findex.php%3Ftitle%3D%25D0%25A2%25D0%25B5%25D0%25BC%25D0%25B0_19._%25D0%259B%25D0%25B8%25D1%2581%25D1%2582%25D0%25BE%25D0%25BA._%25D0%2597%25D0%25BE%25D0%25B2%25D0%25BD%25D1%2596%25D1%2588%25D0%25BD%25D1%258F_%25D0%25B1%25D1%2583%25D0%25B4%25D0%25BE%25D0%25B2%25D0%25B0_%25D0%25BB%25D0%25B8%25D1%2581%25D1%2582%25D0%25BA%25D0%25B0&amp;ei=pJcaUYyONoeHtAbeoYCIAQ&amp;bvm=bv.42261806,d.Yms&amp;psig=AFQjCNGfcRx3Kl_ZA5uRN6nEhp6PWEz4UA&amp;ust=1360783648969477" TargetMode="External"/><Relationship Id="rId2" Type="http://schemas.openxmlformats.org/officeDocument/2006/relationships/hyperlink" Target="http://www.google.com/url?sa=i&amp;rct=j&amp;q=&#1073;&#1091;&#1076;&#1086;&#1074;&#1072;+&#1083;&#1080;&#1089;&#1090;&#1082;&#1072;&amp;source=images&amp;cd=&amp;cad=rja&amp;docid=YUxST8BD5W4XLM&amp;tbnid=RvU8Gg3r0w2lCM:&amp;ved=0CAQQjB0&amp;url=http%3A%2F%2Fshkola.ua%2Fbook%2Fread%2F35%2Fpage45&amp;ei=y5caUa76EIfPsgavhIGYBQ&amp;bvm=bv.42261806,d.Yms&amp;psig=AFQjCNGfcRx3Kl_ZA5uRN6nEhp6PWEz4UA&amp;ust=1360783648969477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Листок-бічний орган пагон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63640" y="3962520"/>
            <a:ext cx="352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езентаці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читель Саганюк О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Типи жилкуванн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864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Форми листків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Форми листкової пластинки і краю листкі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35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5183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b7"/>
                </a:solidFill>
                <a:latin typeface="Arial Black"/>
              </a:rPr>
              <a:t>Типи листкорозміщення</a:t>
            </a:r>
            <a:br>
              <a:rPr sz="3600"/>
            </a:br>
            <a:r>
              <a:rPr b="1" lang="uk-UA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i="1" lang="ru-RU" sz="3600" spc="-1" strike="noStrike">
                <a:solidFill>
                  <a:srgbClr val="ffffb7"/>
                </a:solidFill>
                <a:latin typeface="Arial Black"/>
              </a:rPr>
              <a:t>1 - супротивне; 2 - чергове; 3 - кільчасте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569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идозміни лис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Мал. 81. Видозміни листків.jpg"/>
          <p:cNvPicPr/>
          <p:nvPr/>
        </p:nvPicPr>
        <p:blipFill>
          <a:blip r:embed="rId1"/>
          <a:stretch/>
        </p:blipFill>
        <p:spPr>
          <a:xfrm>
            <a:off x="250920" y="1413000"/>
            <a:ext cx="8713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ати характеристику листку за план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остий чи склад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идячий чи черешко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ип жилкува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орма лис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орма краю лис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Які функції листка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Які особливості будови листка дозволяють йому виконувати такі функції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ИКОРИСТАНІ ДЖЕРЕ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school.xvatit.co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shkola.u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byology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uk.wikipedia.or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ікторія амазонсь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Файл:Victoria amazonica JPG01.jpg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Файл:Victoria amazonica, back side of a leaf (Kobe Kachoen).jpg"/>
          <p:cNvPicPr/>
          <p:nvPr/>
        </p:nvPicPr>
        <p:blipFill>
          <a:blip r:embed="rId3"/>
          <a:stretch/>
        </p:blipFill>
        <p:spPr>
          <a:xfrm>
            <a:off x="250920" y="260280"/>
            <a:ext cx="4465440" cy="6445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Файл:Victoria amazonica bud.jpg"/>
          <p:cNvPicPr/>
          <p:nvPr/>
        </p:nvPicPr>
        <p:blipFill>
          <a:blip r:embed="rId4"/>
          <a:stretch/>
        </p:blipFill>
        <p:spPr>
          <a:xfrm>
            <a:off x="4788000" y="260280"/>
            <a:ext cx="4356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Квітка вікторії амазонської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Рафі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File:Raphia australis.jpg"/>
          <p:cNvPicPr/>
          <p:nvPr/>
        </p:nvPicPr>
        <p:blipFill>
          <a:blip r:embed="rId1"/>
          <a:stretch/>
        </p:blipFill>
        <p:spPr>
          <a:xfrm>
            <a:off x="611280" y="1773360"/>
            <a:ext cx="76197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362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Листок-бічна частина пагона, що виконує функції фотосинтезу, газообміну і випаровуванн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88240" y="4475160"/>
            <a:ext cx="22557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овнішня будова лис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9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07:33:30Z</dcterms:created>
  <dc:creator>Admin</dc:creator>
  <dc:description/>
  <dc:language>en-US</dc:language>
  <cp:lastModifiedBy>Admin</cp:lastModifiedBy>
  <dcterms:modified xsi:type="dcterms:W3CDTF">2013-02-12T19:32:12Z</dcterms:modified>
  <cp:revision>5</cp:revision>
  <dc:subject/>
  <dc:title>Листок-бічний орган паго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a000000000001024140</vt:lpwstr>
  </property>
</Properties>
</file>