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F1B-1AEE-400B-B547-81FB2BD2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475-0203-425C-9E6D-A875877C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9A4-2910-42CC-9AB6-AD8EABF2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DD9A-F395-4C47-B758-9E018B7F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DAD4-1499-44AC-B5CE-11CF3513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01DD-F4EB-4467-89AA-EE6FFC80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245C-6A08-4442-91B0-178BA520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A95F-C69B-44F8-B428-3A7555D9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EA51-C051-4AEB-A2A4-F97C851D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5BE2-1F34-4322-8E3D-73F4350B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9F10-7E1B-4367-8D7A-BACF6E62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66F-A922-4308-A2BE-D47870E2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6E43-EAA1-49FA-B1AD-D38278D1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8913-4D18-4473-B366-2F004192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F467-1FD8-423A-A6F5-C18AF251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AB3A-EFD9-4152-9CED-F6F1CACA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479F-9D42-467D-BAE2-0751A1FC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B72-8F5D-42A7-B2FE-59B4CD21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541-833A-453F-B54F-B6BF2A3A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DC9-4006-48B3-AC7E-16EF2897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D04A-4F74-4643-9F90-0033BC39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B3F9-7D43-46DB-8C58-8D10FFFC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1F2-AC04-4CFE-913E-19996FD9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181-3AD9-4FCF-9D93-F8EE09C9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A023-9142-4D84-8213-F1654AC86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6162-DC11-44C8-AF53-D029BA567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#1073;&#1091;&#1076;&#1086;&#1074;&#1072;+&#1083;&#1080;&#1089;&#1090;&#1082;&#1072;&amp;source=images&amp;cd=&amp;cad=rja&amp;docid=Ip0Y48nNMiPAkM&amp;tbnid=oZCjdzvrIO4Y4M:&amp;ved=0CAQQjB0&amp;url=http%3A%2F%2Fschool.xvatit.com%2Findex.php%3Ftitle%3D%25D0%25A2%25D0%25B5%25D0%25BC%25D0%25B0_19._%25D0%259B%25D0%25B8%25D1%2581%25D1%2582%25D0%25BE%25D0%25BA._%25D0%2597%25D0%25BE%25D0%25B2%25D0%25BD%25D1%2596%25D1%2588%25D0%25BD%25D1%258F_%25D0%25B1%25D1%2583%25D0%25B4%25D0%25BE%25D0%25B2%25D0%25B0_%25D0%25BB%25D0%25B8%25D1%2581%25D1%2582%25D0%25BA%25D0%25B0&amp;ei=pJcaUYyONoeHtAbeoYCIAQ&amp;bvm=bv.42261806,d.Yms&amp;psig=AFQjCNGfcRx3Kl_ZA5uRN6nEhp6PWEz4UA&amp;ust=1360783648969477" TargetMode="External"/><Relationship Id="rId2" Type="http://schemas.openxmlformats.org/officeDocument/2006/relationships/hyperlink" Target="http://www.google.com/url?sa=i&amp;rct=j&amp;q=&#1073;&#1091;&#1076;&#1086;&#1074;&#1072;+&#1083;&#1080;&#1089;&#1090;&#1082;&#1072;&amp;source=images&amp;cd=&amp;cad=rja&amp;docid=YUxST8BD5W4XLM&amp;tbnid=RvU8Gg3r0w2lCM:&amp;ved=0CAQQjB0&amp;url=http%3A%2F%2Fshkola.ua%2Fbook%2Fread%2F35%2Fpage45&amp;ei=y5caUa76EIfPsgavhIGYBQ&amp;bvm=bv.42261806,d.Yms&amp;psig=AFQjCNGfcRx3Kl_ZA5uRN6nEhp6PWEz4UA&amp;ust=1360783648969477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b7"/>
                </a:solidFill>
                <a:latin typeface="Arial Black"/>
              </a:rPr>
              <a:t>Листок-бічний орган пагон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63640" y="3962520"/>
            <a:ext cx="352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езентаці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читель Саганюк О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Типи жилкуванн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864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Форми листків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Форми листкової пластинки і краю листкі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35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44440"/>
            <a:ext cx="85183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b7"/>
                </a:solidFill>
                <a:latin typeface="Arial Black"/>
              </a:rPr>
              <a:t>Типи листкорозміщення</a:t>
            </a:r>
            <a:br>
              <a:rPr sz="3600"/>
            </a:br>
            <a:r>
              <a:rPr b="1" lang="uk-UA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i="1" lang="ru-RU" sz="3600" spc="-1" strike="noStrike">
                <a:solidFill>
                  <a:srgbClr val="ffffb7"/>
                </a:solidFill>
                <a:latin typeface="Arial Black"/>
              </a:rPr>
              <a:t>1 - супротивне; 2 - чергове; 3 - кільчасте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569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Видозміни лист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Мал. 81. Видозміни листків.jpg"/>
          <p:cNvPicPr/>
          <p:nvPr/>
        </p:nvPicPr>
        <p:blipFill>
          <a:blip r:embed="rId1"/>
          <a:stretch/>
        </p:blipFill>
        <p:spPr>
          <a:xfrm>
            <a:off x="250920" y="1413000"/>
            <a:ext cx="87138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Дати характеристику листку за план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остий чи склад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идячий чи черешков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Тип жилкува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орма лис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орма краю лис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Які функції листка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Які особливості будови листка дозволяють йому виконувати такі функції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ВИКОРИСТАНІ ДЖЕРЕЛ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school.xvatit.co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shkola.u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byology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uk.wikipedia.or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Вікторія амазонсь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Файл:Victoria amazonica JPG01.jpg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Файл:Victoria amazonica, back side of a leaf (Kobe Kachoen).jpg"/>
          <p:cNvPicPr/>
          <p:nvPr/>
        </p:nvPicPr>
        <p:blipFill>
          <a:blip r:embed="rId3"/>
          <a:stretch/>
        </p:blipFill>
        <p:spPr>
          <a:xfrm>
            <a:off x="250920" y="260280"/>
            <a:ext cx="4465440" cy="6445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Файл:Victoria amazonica bud.jpg"/>
          <p:cNvPicPr/>
          <p:nvPr/>
        </p:nvPicPr>
        <p:blipFill>
          <a:blip r:embed="rId4"/>
          <a:stretch/>
        </p:blipFill>
        <p:spPr>
          <a:xfrm>
            <a:off x="4788000" y="260280"/>
            <a:ext cx="435600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b7"/>
                </a:solidFill>
                <a:latin typeface="Arial Black"/>
              </a:rPr>
              <a:t>Квітка вікторії амазонської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Рафія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File:Raphia australis.jpg"/>
          <p:cNvPicPr/>
          <p:nvPr/>
        </p:nvPicPr>
        <p:blipFill>
          <a:blip r:embed="rId1"/>
          <a:stretch/>
        </p:blipFill>
        <p:spPr>
          <a:xfrm>
            <a:off x="611280" y="1773360"/>
            <a:ext cx="76197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362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b7"/>
                </a:solidFill>
                <a:latin typeface="Arial Black"/>
              </a:rPr>
              <a:t>Листок-бічна частина пагона, що виконує функції фотосинтезу, газообміну і випаровування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88240" y="4475160"/>
            <a:ext cx="225576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овнішня будова лист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496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07:33:30Z</dcterms:created>
  <dc:creator>Admin</dc:creator>
  <dc:description/>
  <dc:language>en-US</dc:language>
  <cp:lastModifiedBy>Admin</cp:lastModifiedBy>
  <dcterms:modified xsi:type="dcterms:W3CDTF">2013-02-12T19:32:12Z</dcterms:modified>
  <cp:revision>5</cp:revision>
  <dc:subject/>
  <dc:title>Листок-бічний орган паго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a000000000001024140</vt:lpwstr>
  </property>
</Properties>
</file>