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1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20.png" ContentType="image/png"/>
  <Override PartName="/ppt/media/image7.jpeg" ContentType="image/jpeg"/>
  <Override PartName="/ppt/media/image34.jpeg" ContentType="image/jpeg"/>
  <Override PartName="/ppt/media/image6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1.jpeg" ContentType="image/jpeg"/>
  <Override PartName="/ppt/media/image33.jpeg" ContentType="image/jpeg"/>
  <Override PartName="/ppt/media/image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3169-D379-4E5A-88D9-0C5A8CF8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F8A6-C886-4627-9422-515FD19C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5FC29B-3F5C-4170-BA76-34405BF5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3C0858-A672-464D-B669-712D90F3F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2055E2-731A-489A-91C0-33CBC9C8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8E09E2-2995-4D05-ADD1-A414DB11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C04283-BAD4-4968-B979-5EFF5D01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4CAB5D-1E71-4A5C-9D83-59F5CAED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4BEFAF-FA3D-48F0-886B-594189609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CA4759-8053-46C5-9569-7B04B0FAB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735DB2-D603-44A1-8FCF-2FFA30DF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02A7-510E-41DD-B034-07BB6A129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EC54-8E7E-4E71-B03E-EAC92FD0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2B885-3A31-4825-8F10-8042F6F59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48081-825E-4122-B56C-0883CCA3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A64DA-65F9-4158-A5AA-E8C8C971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2ED93-1AB6-40F1-A4A9-B2DB258A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361BAC-8A9B-4351-B93F-20118E2A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07936-0CD7-4B5F-849F-547A8A31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5D459-F289-4EC2-A432-1769506B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C5A2-8B95-4253-9102-5367F71E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3A59B-EA01-4BA9-A542-4E3730C3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AFBB40-89F2-4156-848C-70E3B2D1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98FD2-C08B-42C7-ADB9-B9C74E54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C87BA-E5A0-4923-938E-DA136308B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0BAA35-5399-4E82-A4E1-1ABAD5AF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95B59-A15E-4620-855C-23C9206A6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083ED-542F-4E4F-8D65-8E161F7C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10369-4403-4180-86F8-6D69F39B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9074C-8EF1-46A2-813D-93965E52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1B8D0-CD5E-4EC3-9FEC-2706072E7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3F97-4F75-4308-A41B-27758A05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14B15-58F2-41A0-BF1B-ED3913B8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EDE7F-9D23-40F5-8FEB-41651856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0650B-7943-4E42-8AAA-A7C82622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67917-97FD-4649-903A-3CE83E86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D9E09-698A-47C4-AD3B-61088283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D0E07-9CB8-4D36-A78B-59BE9A5D6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E5F94-40E4-4E21-BC1F-1F4200B70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842472-B90E-4738-A0FC-FFDD2007A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4932ED-62E6-4FB2-8EC1-C64E8B21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3403D0-5833-4298-BFB8-4BAB9244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F282-ACBF-4F88-B00D-0A1F54E3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4CC68A-95C6-4561-AE0B-F298FF1B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C7BB92-E448-4F8F-ACFF-0E032477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080F22-FA32-40AA-9C37-7567B5A4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A1D7EAF-C3E0-46EB-AC9C-35B0E5F8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CADC43-E2BD-4E57-90AB-AE2DA771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AFA037-44BC-4A20-9952-D603DC158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30C6DF-5FB0-408F-ADF4-9828D3CB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4EFE29-DF8A-40D7-BBF5-5FEDBD583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53C612-B6A0-4F12-8B9A-0DD61540B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43334-D219-46DB-BB2A-65E2D8FD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D29D-6ADB-4115-8C05-79864F30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AF2E6-2D71-4BFD-A6A4-2645EC59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EA0C7-8E76-4CF0-B82D-7D43C5A4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14A02-8558-4920-A877-8DE02E00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09D5C-9F40-4976-80C0-002B2F9A1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54373-1351-4A76-9BD3-2AB39ADC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6940D-46CD-44BE-9E7A-EEEED044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157EC-7717-4681-97E8-0BF999F7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C7B29-098F-486C-9C26-7ABFB7B7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0E69B-0C68-4207-B0CD-54C9CA97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18833-039D-4B66-84BB-76CA1EF4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10F8-5EC2-4068-985D-9146CB4F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4A176-4009-4CF9-88AA-1FA0300FC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B9AF2-B9F7-4440-8E0C-37329BD90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2146E-1428-4274-A21B-E4EEBCAAE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E4B1D-36BD-43CA-B4B2-DB20101CB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35FAD-D1CB-4EBA-83FC-76EE4872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6ECC9D-F7CE-40C0-A4C5-475AC7A6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A89B0-04E1-43FF-811B-2D2B0C715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393C6-F913-4F61-BA4A-4EE0BFB5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5234A-6723-4A5A-8824-F79CF6DF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84A2E-8DA9-4F1D-93DC-59B191A1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ADC-732C-4EA7-BC60-1F0CDAE7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AB25B-D155-40F9-AE78-4BC7093ED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5D04A-01E8-4C4D-9F3D-DAD6B587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973A8-50EC-4029-B97C-A952E01C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8A940-C995-49CF-929C-C27FD868B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A5743-8E2B-4EAF-8386-3C57329B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D5E38-49DC-42B4-A2FB-A2E71866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F7994-6358-47B3-B3EA-5F5DA62B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6201E-DC2B-4251-8FFB-29754F45B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A241F-D6D3-4627-BF56-785BD2A1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BD18A-B8DF-4D52-8CBB-4E175F18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7AB6-2689-4BE3-B250-809F9827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288A8-B4DE-4906-9EB9-68C9B2A2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3920C-C696-45F6-B67D-702C489EE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38239-58F4-42F8-89DD-F96FFC18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18F1E-B620-428B-AD0B-892D7E50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E2EF3-B6AB-4D11-AA1B-8269AFFB4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2C795C-A9E1-4CDC-A045-6C4D7376E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16BEF9C-60BD-4470-9710-4E005C1EA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E7F9E6-6368-413E-A764-4F240382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FF9FBF-D2DD-4833-B22F-CEFA26D67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3FC364-B2DE-4F8A-BBDB-647A6720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1EF-E67F-4DB4-AD29-86A9D648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E2043F-32A5-4E0A-8D14-278DC432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9144A9-B819-460A-AB09-DF314CBE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9A1F04-0DC7-4FEE-9EBB-30A53D6A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A25214-B4F2-48B0-BC11-E9C96460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7796E5-5C7C-45AF-BB4F-681E79CD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839476-72F2-4DF9-B972-EA74E0FB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03C524-8C2A-4989-895A-BE5707912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AE2F83-9CE4-4DE1-8FC1-8E9A65DE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429951-AA19-477D-BAAD-B84E4D6F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1C5BA9-2B4D-4A72-B697-DB54CD17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4547-F38F-4FC7-8670-48C4082D6C6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B1247-78E6-4314-A374-6D2E8A795C1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766C-0D0C-4024-91D0-9B44BAC5D055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F6D41-205C-448B-AA7C-1C704819C39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8FB61-FF08-4BB6-9922-0CA46100A77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E32F-FDF6-44A4-B3E2-66C2EBB9496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65C0-F548-4524-BFC3-E8AB3E59FD6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799C-9A32-408A-AAB3-6F4495521F4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8ADA-B928-4124-B38C-F9EEE2742D9C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image" Target="../media/image31.jpe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682560" y="378000"/>
            <a:ext cx="7900920" cy="148104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6" name="Picture 2" descr="D:\кріт.jpg"/>
          <p:cNvPicPr/>
          <p:nvPr/>
        </p:nvPicPr>
        <p:blipFill>
          <a:blip r:embed="rId3"/>
          <a:stretch/>
        </p:blipFill>
        <p:spPr>
          <a:xfrm>
            <a:off x="1523880" y="2057400"/>
            <a:ext cx="578196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яку</a:t>
            </a:r>
            <a:r>
              <a:rPr b="1" lang="uk-UA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є</a:t>
            </a:r>
            <a:r>
              <a:rPr b="1" lang="ru-RU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 за увагу!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Приро́дний відбі́р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(або добір) — процес, завдяки якому сприятливі спадкові характеристики стають загальнішими в наступних поколіннях популяції організмів, що розмножуються, а несприятливі спадкові характеристики стають менш загальними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399" name="Picture 2" descr="D:\ww5iETa6.jpg"/>
          <p:cNvPicPr/>
          <p:nvPr/>
        </p:nvPicPr>
        <p:blipFill>
          <a:blip r:embed="rId3"/>
          <a:stretch/>
        </p:blipFill>
        <p:spPr>
          <a:xfrm>
            <a:off x="4648320" y="3627360"/>
            <a:ext cx="3733560" cy="28544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D:\biston_betularia_naturalist_if_ua.jpg"/>
          <p:cNvPicPr/>
          <p:nvPr/>
        </p:nvPicPr>
        <p:blipFill>
          <a:blip r:embed="rId4"/>
          <a:stretch/>
        </p:blipFill>
        <p:spPr>
          <a:xfrm>
            <a:off x="380880" y="3886200"/>
            <a:ext cx="3918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450720" y="-6480"/>
            <a:ext cx="8510760" cy="16225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1904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Природний відбір — одна з найважливіших концепцій сучасної біології. Термін був введений Чарльзом Дарвіном в його інноваційній книзі 1859 року «Походження видів»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3" name="Picture 2" descr="D:\9789664411436.jpg"/>
          <p:cNvPicPr/>
          <p:nvPr/>
        </p:nvPicPr>
        <p:blipFill>
          <a:blip r:embed="rId3"/>
          <a:stretch/>
        </p:blipFill>
        <p:spPr>
          <a:xfrm>
            <a:off x="3809880" y="3124080"/>
            <a:ext cx="2257560" cy="31608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D:\darwin.jpg"/>
          <p:cNvPicPr/>
          <p:nvPr/>
        </p:nvPicPr>
        <p:blipFill>
          <a:blip r:embed="rId4"/>
          <a:stretch/>
        </p:blipFill>
        <p:spPr>
          <a:xfrm>
            <a:off x="6248520" y="3048120"/>
            <a:ext cx="2489040" cy="327636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D:\charlzdarvin.PNG"/>
          <p:cNvPicPr/>
          <p:nvPr/>
        </p:nvPicPr>
        <p:blipFill>
          <a:blip r:embed="rId5"/>
          <a:stretch/>
        </p:blipFill>
        <p:spPr>
          <a:xfrm>
            <a:off x="228600" y="3657600"/>
            <a:ext cx="33764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530280" y="115920"/>
            <a:ext cx="8424720" cy="13111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db5353"/>
                </a:solidFill>
                <a:uFillTx/>
                <a:latin typeface="Cambria"/>
                <a:hlinkClick r:id="rId3" action="ppaction://hlinksldjump"/>
              </a:rPr>
              <a:t>Стабілізуючий добір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 u="sng">
                <a:solidFill>
                  <a:srgbClr val="db5353"/>
                </a:solidFill>
                <a:uFillTx/>
                <a:latin typeface="Cambria"/>
                <a:hlinkClick r:id="rId4" action="ppaction://hlinksldjump"/>
              </a:rPr>
              <a:t>Рушійний добір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Дизруптивний добір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Вторинні форми природного добору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Статевий добір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Груповий добір;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8" name="Picture 2" descr="D:\1326891828_porody-bdzhil.jpg"/>
          <p:cNvPicPr/>
          <p:nvPr/>
        </p:nvPicPr>
        <p:blipFill>
          <a:blip r:embed="rId5"/>
          <a:stretch/>
        </p:blipFill>
        <p:spPr>
          <a:xfrm>
            <a:off x="3200400" y="4191120"/>
            <a:ext cx="2514600" cy="22446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3" descr="D:\boj_b.jpg"/>
          <p:cNvPicPr/>
          <p:nvPr/>
        </p:nvPicPr>
        <p:blipFill>
          <a:blip r:embed="rId6"/>
          <a:stretch/>
        </p:blipFill>
        <p:spPr>
          <a:xfrm>
            <a:off x="5867280" y="4114800"/>
            <a:ext cx="2819520" cy="233352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D:\sand-lizard-10506.jpg"/>
          <p:cNvPicPr/>
          <p:nvPr/>
        </p:nvPicPr>
        <p:blipFill>
          <a:blip r:embed="rId7"/>
          <a:stretch/>
        </p:blipFill>
        <p:spPr>
          <a:xfrm>
            <a:off x="4648320" y="1117440"/>
            <a:ext cx="312408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табілізуючий добір— знешкодження мутацій шляхом добору, удосконалення генотипу при сталому фенотипі та утворення резерву знешкоджених мутацій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3" name="Picture 2" descr="D:\307015_2039314448_a1e2528487_34.jpg"/>
          <p:cNvPicPr/>
          <p:nvPr/>
        </p:nvPicPr>
        <p:blipFill>
          <a:blip r:embed="rId3"/>
          <a:stretch/>
        </p:blipFill>
        <p:spPr>
          <a:xfrm>
            <a:off x="685800" y="2849400"/>
            <a:ext cx="2819520" cy="35514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3" descr="D:\grasshopper_3_large.jpg"/>
          <p:cNvPicPr/>
          <p:nvPr/>
        </p:nvPicPr>
        <p:blipFill>
          <a:blip r:embed="rId4"/>
          <a:stretch/>
        </p:blipFill>
        <p:spPr>
          <a:xfrm>
            <a:off x="3962520" y="2952720"/>
            <a:ext cx="426708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Рушійний добір — розкриття резерву знешкоджених мутацій, добір знешкоджених мутацій, формування нових генотипу та фенотипу — формується нова норма реакції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7" name="Picture 2" descr="D:\great-white-shark-002.jpg"/>
          <p:cNvPicPr/>
          <p:nvPr/>
        </p:nvPicPr>
        <p:blipFill>
          <a:blip r:embed="rId3"/>
          <a:stretch/>
        </p:blipFill>
        <p:spPr>
          <a:xfrm>
            <a:off x="4572000" y="3429000"/>
            <a:ext cx="3900600" cy="2590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D:\19020_03.jpg"/>
          <p:cNvPicPr/>
          <p:nvPr/>
        </p:nvPicPr>
        <p:blipFill>
          <a:blip r:embed="rId4"/>
          <a:stretch/>
        </p:blipFill>
        <p:spPr>
          <a:xfrm>
            <a:off x="685800" y="3505320"/>
            <a:ext cx="35560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Дизруптивний добір— розкриття резерву знешкоджених мутацій та їх добір для формування крайньої норми реакції — виникнення поліморфізму. Результатом дизруптивного добору є виживання організмів із крайньою нормою реакції, яка найбільше відповідає умовам навколишнього середовища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1" name="Picture 3" descr="D:\ороом.jpg"/>
          <p:cNvPicPr/>
          <p:nvPr/>
        </p:nvPicPr>
        <p:blipFill>
          <a:blip r:embed="rId3"/>
          <a:stretch/>
        </p:blipFill>
        <p:spPr>
          <a:xfrm>
            <a:off x="4800600" y="4038480"/>
            <a:ext cx="3521160" cy="22860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D:\171760_339241.jpg"/>
          <p:cNvPicPr/>
          <p:nvPr/>
        </p:nvPicPr>
        <p:blipFill>
          <a:blip r:embed="rId4"/>
          <a:stretch/>
        </p:blipFill>
        <p:spPr>
          <a:xfrm>
            <a:off x="762120" y="4038480"/>
            <a:ext cx="358272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Статевий добір — обмеження участі у розмноженні особин зі слабко розвиненими статевими ознаками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5" name="Picture 2" descr="D:\4d30870e10b3c9dd7860a470693272b4.jpg"/>
          <p:cNvPicPr/>
          <p:nvPr/>
        </p:nvPicPr>
        <p:blipFill>
          <a:blip r:embed="rId3"/>
          <a:stretch/>
        </p:blipFill>
        <p:spPr>
          <a:xfrm>
            <a:off x="3505320" y="2514600"/>
            <a:ext cx="2305080" cy="18320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D:\52963_41564.jpg"/>
          <p:cNvPicPr/>
          <p:nvPr/>
        </p:nvPicPr>
        <p:blipFill>
          <a:blip r:embed="rId4"/>
          <a:stretch/>
        </p:blipFill>
        <p:spPr>
          <a:xfrm>
            <a:off x="685800" y="2590920"/>
            <a:ext cx="2590920" cy="1960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D:\c4658c23-80c3-4aa9-8079-8749d5b10a92.jpg"/>
          <p:cNvPicPr/>
          <p:nvPr/>
        </p:nvPicPr>
        <p:blipFill>
          <a:blip r:embed="rId5"/>
          <a:stretch/>
        </p:blipFill>
        <p:spPr>
          <a:xfrm>
            <a:off x="533520" y="4648320"/>
            <a:ext cx="2577960" cy="183996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5" descr="D:\plr002.jpg"/>
          <p:cNvPicPr/>
          <p:nvPr/>
        </p:nvPicPr>
        <p:blipFill>
          <a:blip r:embed="rId6"/>
          <a:stretch/>
        </p:blipFill>
        <p:spPr>
          <a:xfrm>
            <a:off x="3505320" y="4648320"/>
            <a:ext cx="2543040" cy="17017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D:\2.JPG"/>
          <p:cNvPicPr/>
          <p:nvPr/>
        </p:nvPicPr>
        <p:blipFill>
          <a:blip r:embed="rId7"/>
          <a:stretch/>
        </p:blipFill>
        <p:spPr>
          <a:xfrm>
            <a:off x="6400800" y="2666880"/>
            <a:ext cx="22096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42508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Груповий добір— окремий випадок природного добору, при якому відбувається диференційоване виживання цілих популяцій, що відбувається при вимиранні інших популяцій того ж виду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3" descr="D:\187.jpg"/>
          <p:cNvPicPr/>
          <p:nvPr/>
        </p:nvPicPr>
        <p:blipFill>
          <a:blip r:embed="rId3"/>
          <a:stretch/>
        </p:blipFill>
        <p:spPr>
          <a:xfrm>
            <a:off x="4876920" y="3276720"/>
            <a:ext cx="3695760" cy="28414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5" descr="D:\Agroinformacion.com17112011_94829 - копия.JPG"/>
          <p:cNvPicPr/>
          <p:nvPr/>
        </p:nvPicPr>
        <p:blipFill>
          <a:blip r:embed="rId4"/>
          <a:stretch/>
        </p:blipFill>
        <p:spPr>
          <a:xfrm>
            <a:off x="533520" y="3352680"/>
            <a:ext cx="41176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20:54:52Z</dcterms:created>
  <dc:creator>PC</dc:creator>
  <dc:description/>
  <dc:language>en-US</dc:language>
  <cp:lastModifiedBy>Admin</cp:lastModifiedBy>
  <dcterms:modified xsi:type="dcterms:W3CDTF">2013-02-03T07:43:59Z</dcterms:modified>
  <cp:revision>10</cp:revision>
  <dc:subject/>
  <dc:title>Природний добір. Форми природного добор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10000000000001024140</vt:lpwstr>
  </property>
</Properties>
</file>