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BD5-85A9-4932-833A-234111CD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569-507F-4426-AD94-AE5B297F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050-F7BA-4F6B-AE42-7B58B90F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336B-A77E-465D-B007-B3A73EA0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EC34-16E7-4FDA-8524-94B7EEBC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775-2714-4C47-B6E7-F2E4C939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755-9BD5-42E6-AD4A-57CF7243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919-60EE-4AF9-A4A4-D6E795B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DFF3-7477-4874-8472-53E83E19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D77-7423-41F2-AE07-E075ECBB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B07-C109-41AB-8533-A16A8BD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964D-4AF8-4201-9632-6D5169FF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34F1-F94D-4537-A5B8-37E44721D5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5"/>
          <p:cNvSpPr txBox="1"/>
          <p:nvPr/>
        </p:nvSpPr>
        <p:spPr>
          <a:xfrm>
            <a:off x="1908000" y="4581360"/>
            <a:ext cx="55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, вплив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 їх 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мунна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Шкі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зова оболонка дихальних шлях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на, шлунковий сік, жов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9640" y="404640"/>
            <a:ext cx="795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хист спадкового апарату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dnn"/>
          <p:cNvPicPr/>
          <p:nvPr/>
        </p:nvPicPr>
        <p:blipFill>
          <a:blip r:embed="rId1"/>
          <a:stretch/>
        </p:blipFill>
        <p:spPr>
          <a:xfrm>
            <a:off x="6591240" y="1125360"/>
            <a:ext cx="2341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спеції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— перець, гірчиця, імб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еле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— кінза, петрушка, цибу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лений чай, яблука, капуста, баклажани,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туральні червоні 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йогу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826920" y="333360"/>
            <a:ext cx="7848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'ЯКШУЮТЬ ДІЮ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живайте хліб з висів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ключте з раціону консерви і копченості, газовану воду з синтетичними барв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коротіть кількість солодощ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иймайте лактобактерин і біфідумбактерин: вони очищають шлунок і нормалізують роботу «корисних» бактерій, які теж здатні вступити в боротьбу з мутагенами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ацюйте з миючими засобами тільки в гумових рукавич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 хронічних захворюваннях регулярно звертайтеся до лікаря: ваш ослаблений організм — сприятливе середовище для мутагені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 приймайте без поради лікаря ніяких ліків — вони також можуть негативно вплинути на спадковий апарат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Понятт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м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2. Радіаційний мута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3. Відкриття Г.А. Над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Мутагени в їж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Захист спадкового апарату від мутаг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5. Профілактика м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24000" y="189000"/>
            <a:ext cx="8424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ПРЕЗЕН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4552920"/>
            <a:ext cx="815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учне отримання мутац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ід впливом мутагені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179280" y="2781360"/>
            <a:ext cx="28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міни по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зані з розривом хромосом. Це спричинен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ливостями процесів, що відбуваються в тканинах під дією випромін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animal-genetica"/>
          <p:cNvPicPr/>
          <p:nvPr/>
        </p:nvPicPr>
        <p:blipFill>
          <a:blip r:embed="rId1"/>
          <a:stretch/>
        </p:blipFill>
        <p:spPr>
          <a:xfrm>
            <a:off x="4859280" y="37180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0920" y="371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ЛЕЦІ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(от лат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etio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знищення) – тип хромосомної перебудови, за якої з ДНК випадає ділянка генетичного  матері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1116000" y="549360"/>
            <a:ext cx="6896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ндуковані мутації, що спричинені радіоактивним випромінюванням, уперше були відкриті радянським ученим Г.А. Надсон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7164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1557000"/>
            <a:ext cx="5189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танік-мікробіолог, бібліотекар Імператорсь-кого ботанічного саду та професор Петроградського жіночого медичного інсти-ту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іту здобув у Санкт-Петербурзькому універ-ситеті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Nadson"/>
          <p:cNvPicPr/>
          <p:nvPr/>
        </p:nvPicPr>
        <p:blipFill>
          <a:blip r:embed="rId1"/>
          <a:stretch/>
        </p:blipFill>
        <p:spPr>
          <a:xfrm>
            <a:off x="324000" y="1628640"/>
            <a:ext cx="32256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395280" y="476280"/>
            <a:ext cx="8493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СОН ГЕОРГІЙ АДАМОВИЧ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1867 - 1939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 рідких випадках покращують властивості 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Це основний матеріал для природного і штучного до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еобхідна умова еволюції в природі і селекції корисних форм рослин, тварин і мікро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11280" y="476280"/>
            <a:ext cx="424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46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кідливі хімічні речовини з грунту переходять до рослин. Разом з ними ми поглинаємо 37% марганцю, 41% — цинку, 32% — міді, 10%  -  нік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довгочасному збереженні харчових продуктів утворюються мутагени під час окислення ліпід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050920" y="33336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лестерин, що міститься в маслі, яйцях, сметані, вершках, при довгочасному збереженні стає мутагенн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макові добавки, що використовуються  при консервації, і консерванти, які додають до соків теж стають мутаген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апечене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050920" y="47628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9:35:32Z</dcterms:created>
  <dc:creator>Долгорукова</dc:creator>
  <dc:description/>
  <dc:language>en-US</dc:language>
  <cp:lastModifiedBy>User</cp:lastModifiedBy>
  <dcterms:modified xsi:type="dcterms:W3CDTF">2013-01-08T10:26:42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5000000000001024140</vt:lpwstr>
  </property>
</Properties>
</file>