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17E-AAE4-48B2-8E9E-1C16F70D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7BB-E812-496F-A3D0-EC80D452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08A2-5E6B-46AE-8C00-0802E802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134-B81D-4BCE-B58C-AB23D096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8C2A9-193A-48B3-8FA6-D01C3A9F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BED0A8-D340-4241-83BD-86718FE9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346A5-BB4C-4053-9917-BE86D2C7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487CE-6FEE-401B-BBE0-DC32F0E2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E6E2D-CDF1-4F57-A062-641B7B79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FDAD2-586E-4166-B702-ED61F8BA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12AE3-D82F-40F5-8C43-0CFE4279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57F5-FE24-40FB-BDF5-83B12BCE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BC51B-FE6C-4C9A-B32E-2FB3C10C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2BEC1-578A-4475-A87B-F7A3CFB7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E08A5F-B4ED-4AE8-B496-33D7E766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12ADF-932A-4946-AFD3-A2E61069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2974DA-D7CE-4A6B-A6F6-C340FE9B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60F7-32D2-46C3-B68B-281F0BFD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FBDF-430F-4B83-9B96-57DF0C70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EB0-DC76-4D39-841F-6A7E9F19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728-4E27-48A8-B10D-7B3DEC41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521-2477-47C1-A6B4-CADBFC4A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F8C-7463-4C12-A58B-D27ABB8B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247D-C33B-469A-BAE5-88BF3F16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9427-EB98-4FE8-AC5C-DB21D518C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97C6-A632-49AF-A505-04A9B31CC3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Tahoma"/>
              </a:rPr>
              <a:t>Мутагени</a:t>
            </a:r>
            <a:br>
              <a:rPr sz="5400"/>
            </a:b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та їх класифікац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5040360" cy="423396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00ff"/>
                </a:solidFill>
                <a:latin typeface="Tahoma"/>
              </a:rPr>
              <a:t>Біологічні мутаге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Віруси (вірус корі, краснухи, грип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Продукти обміну речовин (продукти окислення ліпіді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Антигени деяких мікроорганізм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Специфічні послідовності ДНК - транспозо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Класифікація мутагенів</a:t>
            </a:r>
            <a:br>
              <a:rPr sz="4400"/>
            </a:br>
            <a:r>
              <a:rPr b="0" lang="uk-UA" sz="4000" spc="-1" strike="noStrike">
                <a:solidFill>
                  <a:srgbClr val="ff0000"/>
                </a:solidFill>
                <a:latin typeface="Tahoma"/>
              </a:rPr>
              <a:t>за походження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 rot="2406600">
            <a:off x="4787640" y="2060640"/>
            <a:ext cx="1871640" cy="485640"/>
          </a:xfrm>
          <a:prstGeom prst="rightArrow">
            <a:avLst>
              <a:gd name="adj1" fmla="val 50000"/>
              <a:gd name="adj2" fmla="val 9634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9193400">
            <a:off x="2483640" y="2060280"/>
            <a:ext cx="1871280" cy="485640"/>
          </a:xfrm>
          <a:prstGeom prst="rightArrow">
            <a:avLst>
              <a:gd name="adj1" fmla="val 50000"/>
              <a:gd name="adj2" fmla="val 963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141720"/>
            <a:ext cx="2265480" cy="2409840"/>
          </a:xfrm>
          <a:prstGeom prst="flowChartOffpage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3141720"/>
            <a:ext cx="2265480" cy="2409840"/>
          </a:xfrm>
          <a:prstGeom prst="flowChartOffpage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3429000"/>
            <a:ext cx="2325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ahoma"/>
              </a:rPr>
              <a:t>Екзогенні</a:t>
            </a:r>
            <a:br>
              <a:rPr sz="3200"/>
            </a:b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(фактори впливу оточуючого середовищ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429000"/>
            <a:ext cx="2232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3500280"/>
            <a:ext cx="23259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ahoma"/>
              </a:rPr>
              <a:t>Ендогенні</a:t>
            </a:r>
            <a:br>
              <a:rPr sz="3200"/>
            </a:b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(результат життєдіяль-ності організмі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8" descr="gal97_83d541106ff596b55572a324bc116cfb"/>
          <p:cNvPicPr/>
          <p:nvPr/>
        </p:nvPicPr>
        <p:blipFill>
          <a:blip r:embed="rId2"/>
          <a:stretch/>
        </p:blipFill>
        <p:spPr>
          <a:xfrm>
            <a:off x="3419640" y="2492280"/>
            <a:ext cx="2244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Tahoma"/>
              </a:rPr>
              <a:t>Використання мутаген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Штучне отримання мутацій та їх вивчення (мутагенез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Генетичні досліджен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творення вихідного матеріалу в селекції мікроорганізмів, рослин і твари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5280" y="1125360"/>
            <a:ext cx="5276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а всю історію свого розвитку людство накопичило величезний генетичний тягар. Відомо більше 2 000 генетичних дефекті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більшення частоти мутацій вдвоє може збільшити о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єм генетичного тягаря настільки, що це може стати небезпечним для існування популяці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343320" cy="417672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дне з найголовніших завдань охорони природи і забезпечення генетичної безпеки людини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МОНІТОРИН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точуючого середовища і виявлення забруднювачів, які мають мутагенну і канцерогенну активні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ahoma"/>
              </a:rPr>
              <a:t>Мутагени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 – фактори, які визивають мутації – стійкі спадкові зміни, порушення в структурі генів,</a:t>
            </a:r>
            <a:br>
              <a:rPr sz="4800"/>
            </a:b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хромосом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[hjvjcjvs-4"/>
          <p:cNvPicPr/>
          <p:nvPr/>
        </p:nvPicPr>
        <p:blipFill>
          <a:blip r:embed="rId2"/>
          <a:stretch/>
        </p:blipFill>
        <p:spPr>
          <a:xfrm>
            <a:off x="6227640" y="3933720"/>
            <a:ext cx="23004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00"/>
                </a:solidFill>
                <a:latin typeface="Tahoma"/>
              </a:rPr>
              <a:t>Відкриття штучних мутаці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25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Г.А.Надсон і Г.С Філіпов. Мутації дріжджів при дії радіоактивного раді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27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Г.Меллер. Мутації дрозофіл при дії рентгенівських промені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32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В.В.Сахаров. Мутації дрозофіл при дії й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95280" y="260280"/>
            <a:ext cx="8244720" cy="5707080"/>
            <a:chOff x="395280" y="260280"/>
            <a:chExt cx="8244720" cy="5707080"/>
          </a:xfrm>
        </p:grpSpPr>
        <p:cxnSp>
          <p:nvCxnSpPr>
            <p:cNvPr id="91" name="_s32788"/>
            <p:cNvCxnSpPr>
              <a:stCxn id="92" idx="0"/>
              <a:endCxn id="93" idx="2"/>
            </p:cNvCxnSpPr>
            <p:nvPr/>
          </p:nvCxnSpPr>
          <p:spPr>
            <a:xfrm flipV="1" rot="16200000">
              <a:off x="5389920" y="1670400"/>
              <a:ext cx="1141920" cy="288612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" name="_s32787"/>
            <p:cNvCxnSpPr>
              <a:stCxn id="95" idx="0"/>
              <a:endCxn id="93" idx="2"/>
            </p:cNvCxnSpPr>
            <p:nvPr/>
          </p:nvCxnSpPr>
          <p:spPr>
            <a:xfrm flipV="1">
              <a:off x="4517280" y="2542680"/>
              <a:ext cx="3960" cy="1141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6" name="_s32786"/>
            <p:cNvCxnSpPr>
              <a:stCxn id="97" idx="0"/>
              <a:endCxn id="93" idx="2"/>
            </p:cNvCxnSpPr>
            <p:nvPr/>
          </p:nvCxnSpPr>
          <p:spPr>
            <a:xfrm flipH="1" flipV="1" rot="5400000">
              <a:off x="2503800" y="1670400"/>
              <a:ext cx="1141920" cy="288612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" name="_s32782"/>
            <p:cNvSpPr/>
            <p:nvPr/>
          </p:nvSpPr>
          <p:spPr>
            <a:xfrm>
              <a:off x="3281040" y="26028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10199"/>
                  </a:solidFill>
                  <a:latin typeface="Tahoma"/>
                </a:rPr>
                <a:t>Мута-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10199"/>
                  </a:solidFill>
                  <a:latin typeface="Tahoma"/>
                </a:rPr>
                <a:t>гени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32783"/>
            <p:cNvSpPr/>
            <p:nvPr/>
          </p:nvSpPr>
          <p:spPr>
            <a:xfrm>
              <a:off x="39528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фізи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32784"/>
            <p:cNvSpPr/>
            <p:nvPr/>
          </p:nvSpPr>
          <p:spPr>
            <a:xfrm>
              <a:off x="328104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хімі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32785"/>
            <p:cNvSpPr/>
            <p:nvPr/>
          </p:nvSpPr>
          <p:spPr>
            <a:xfrm>
              <a:off x="616680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біологі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71000" y="262440"/>
            <a:ext cx="8797320" cy="5964840"/>
            <a:chOff x="171000" y="262440"/>
            <a:chExt cx="8797320" cy="5964840"/>
          </a:xfrm>
        </p:grpSpPr>
        <p:sp>
          <p:nvSpPr>
            <p:cNvPr id="99" name="_s35853"/>
            <p:cNvSpPr/>
            <p:nvPr/>
          </p:nvSpPr>
          <p:spPr>
            <a:xfrm flipH="1" flipV="1">
              <a:off x="2400840" y="2979360"/>
              <a:ext cx="1085760" cy="24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35852"/>
            <p:cNvSpPr/>
            <p:nvPr/>
          </p:nvSpPr>
          <p:spPr>
            <a:xfrm>
              <a:off x="171000" y="1927440"/>
              <a:ext cx="228492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Температу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35857"/>
            <p:cNvSpPr/>
            <p:nvPr/>
          </p:nvSpPr>
          <p:spPr>
            <a:xfrm flipH="1">
              <a:off x="3229920" y="4123440"/>
              <a:ext cx="66996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5856"/>
            <p:cNvSpPr/>
            <p:nvPr/>
          </p:nvSpPr>
          <p:spPr>
            <a:xfrm>
              <a:off x="1414080" y="4620240"/>
              <a:ext cx="228492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Радіо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й електромагнітні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пол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35855"/>
            <p:cNvSpPr/>
            <p:nvPr/>
          </p:nvSpPr>
          <p:spPr>
            <a:xfrm>
              <a:off x="5239440" y="4123440"/>
              <a:ext cx="66996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35854"/>
            <p:cNvSpPr/>
            <p:nvPr/>
          </p:nvSpPr>
          <p:spPr>
            <a:xfrm>
              <a:off x="5440320" y="4620240"/>
              <a:ext cx="228492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Ультрафіолетов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35851"/>
            <p:cNvSpPr/>
            <p:nvPr/>
          </p:nvSpPr>
          <p:spPr>
            <a:xfrm flipV="1">
              <a:off x="5653080" y="2979360"/>
              <a:ext cx="1085760" cy="24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35850"/>
            <p:cNvSpPr/>
            <p:nvPr/>
          </p:nvSpPr>
          <p:spPr>
            <a:xfrm>
              <a:off x="6683400" y="1927440"/>
              <a:ext cx="228492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Іонізуюч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5849"/>
            <p:cNvSpPr/>
            <p:nvPr/>
          </p:nvSpPr>
          <p:spPr>
            <a:xfrm flipV="1">
              <a:off x="4570200" y="1869840"/>
              <a:ext cx="0" cy="80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35848"/>
            <p:cNvSpPr/>
            <p:nvPr/>
          </p:nvSpPr>
          <p:spPr>
            <a:xfrm>
              <a:off x="3427560" y="262440"/>
              <a:ext cx="228420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Радіоактив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розпад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35847"/>
            <p:cNvSpPr/>
            <p:nvPr/>
          </p:nvSpPr>
          <p:spPr>
            <a:xfrm>
              <a:off x="3427560" y="2673360"/>
              <a:ext cx="228420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9900ff"/>
                  </a:solidFill>
                  <a:latin typeface="Tahoma"/>
                </a:rPr>
                <a:t>Фізичні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9900ff"/>
                  </a:solidFill>
                  <a:latin typeface="Tahoma"/>
                </a:rPr>
                <a:t>мутаген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24000" y="1484280"/>
            <a:ext cx="4779000" cy="3611160"/>
            <a:chOff x="2124000" y="1484280"/>
            <a:chExt cx="4779000" cy="3611160"/>
          </a:xfrm>
        </p:grpSpPr>
        <p:sp>
          <p:nvSpPr>
            <p:cNvPr id="112" name="_s37932"/>
            <p:cNvSpPr/>
            <p:nvPr/>
          </p:nvSpPr>
          <p:spPr>
            <a:xfrm flipH="1">
              <a:off x="3108600" y="379044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37933"/>
            <p:cNvSpPr/>
            <p:nvPr/>
          </p:nvSpPr>
          <p:spPr>
            <a:xfrm>
              <a:off x="2124000" y="4075200"/>
              <a:ext cx="2078280" cy="1020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Діапазо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400" spc="-1" strike="noStrike">
                  <a:solidFill>
                    <a:srgbClr val="ffff00"/>
                  </a:solidFill>
                  <a:latin typeface="Tahoma"/>
                </a:rPr>
                <a:t>20 Гц – 20 к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37934"/>
            <p:cNvSpPr/>
            <p:nvPr/>
          </p:nvSpPr>
          <p:spPr>
            <a:xfrm>
              <a:off x="5005800" y="379044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37935"/>
            <p:cNvSpPr/>
            <p:nvPr/>
          </p:nvSpPr>
          <p:spPr>
            <a:xfrm>
              <a:off x="4714560" y="4075200"/>
              <a:ext cx="2188440" cy="1020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Ультразву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00"/>
                  </a:solidFill>
                  <a:latin typeface="Tahoma"/>
                </a:rPr>
                <a:t>більше 20 к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37936"/>
            <p:cNvSpPr/>
            <p:nvPr/>
          </p:nvSpPr>
          <p:spPr>
            <a:xfrm flipV="1">
              <a:off x="4493520" y="2494440"/>
              <a:ext cx="4680" cy="51156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37937"/>
            <p:cNvSpPr/>
            <p:nvPr/>
          </p:nvSpPr>
          <p:spPr>
            <a:xfrm>
              <a:off x="3139560" y="1484280"/>
              <a:ext cx="2668680" cy="1000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Інфразву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uk-UA" sz="2400" spc="-1" strike="noStrike">
                  <a:solidFill>
                    <a:srgbClr val="ffff00"/>
                  </a:solidFill>
                  <a:latin typeface="Tahoma"/>
                </a:rPr>
                <a:t>менше 20 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37938"/>
            <p:cNvSpPr/>
            <p:nvPr/>
          </p:nvSpPr>
          <p:spPr>
            <a:xfrm>
              <a:off x="3708000" y="2779560"/>
              <a:ext cx="1623960" cy="10299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шум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95280" y="5229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думайтеся, який діапазон звуків на ваших дискотеках? Як це впливає на ваш організ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8" descr="J0285750"/>
          <p:cNvPicPr/>
          <p:nvPr/>
        </p:nvPicPr>
        <p:blipFill>
          <a:blip r:embed="rId6"/>
          <a:stretch/>
        </p:blipFill>
        <p:spPr>
          <a:xfrm>
            <a:off x="6372360" y="1989000"/>
            <a:ext cx="23749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18200" y="2058840"/>
            <a:ext cx="5721120" cy="2319840"/>
            <a:chOff x="1618200" y="2058840"/>
            <a:chExt cx="5721120" cy="2319840"/>
          </a:xfrm>
        </p:grpSpPr>
        <p:sp>
          <p:nvSpPr>
            <p:cNvPr id="123" name="_s45062"/>
            <p:cNvSpPr/>
            <p:nvPr/>
          </p:nvSpPr>
          <p:spPr>
            <a:xfrm flipH="1">
              <a:off x="3277800" y="3070080"/>
              <a:ext cx="59148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45063"/>
            <p:cNvSpPr/>
            <p:nvPr/>
          </p:nvSpPr>
          <p:spPr>
            <a:xfrm>
              <a:off x="1618200" y="3358800"/>
              <a:ext cx="2079000" cy="1019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Загаль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5064"/>
            <p:cNvSpPr/>
            <p:nvPr/>
          </p:nvSpPr>
          <p:spPr>
            <a:xfrm>
              <a:off x="5004000" y="307008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5065"/>
            <p:cNvSpPr/>
            <p:nvPr/>
          </p:nvSpPr>
          <p:spPr>
            <a:xfrm>
              <a:off x="5150160" y="3358800"/>
              <a:ext cx="2189160" cy="1019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Локаль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45068"/>
            <p:cNvSpPr/>
            <p:nvPr/>
          </p:nvSpPr>
          <p:spPr>
            <a:xfrm>
              <a:off x="3132000" y="2058840"/>
              <a:ext cx="2520720" cy="1030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вібрації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18200" y="1990440"/>
            <a:ext cx="5721120" cy="2388240"/>
            <a:chOff x="1618200" y="1990440"/>
            <a:chExt cx="5721120" cy="2388240"/>
          </a:xfrm>
        </p:grpSpPr>
        <p:sp>
          <p:nvSpPr>
            <p:cNvPr id="130" name="_s47110"/>
            <p:cNvSpPr/>
            <p:nvPr/>
          </p:nvSpPr>
          <p:spPr>
            <a:xfrm flipH="1">
              <a:off x="3277800" y="3070080"/>
              <a:ext cx="59148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47111"/>
            <p:cNvSpPr/>
            <p:nvPr/>
          </p:nvSpPr>
          <p:spPr>
            <a:xfrm>
              <a:off x="1618200" y="3358800"/>
              <a:ext cx="2079000" cy="1019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Електрич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47112"/>
            <p:cNvSpPr/>
            <p:nvPr/>
          </p:nvSpPr>
          <p:spPr>
            <a:xfrm>
              <a:off x="5004000" y="307008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47113"/>
            <p:cNvSpPr/>
            <p:nvPr/>
          </p:nvSpPr>
          <p:spPr>
            <a:xfrm>
              <a:off x="5150160" y="3358800"/>
              <a:ext cx="2189160" cy="1019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Магніт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47114"/>
            <p:cNvSpPr/>
            <p:nvPr/>
          </p:nvSpPr>
          <p:spPr>
            <a:xfrm>
              <a:off x="2629440" y="1990440"/>
              <a:ext cx="3738960" cy="1013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Статичні пол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24000" y="4653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і заходи безпеки треба вжити при використанні мікрохвильової печі? Мобільного телефон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00ff"/>
                </a:solidFill>
                <a:latin typeface="Tahoma"/>
              </a:rPr>
              <a:t>Хімічні мутаге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Органічні розчинники (ацетон, миючі засоби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естициди (гербіциди, фунгіцид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Харчові добавки (ароматичні вуглеводи, циклам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родукти переробки наф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Лікарські препарати (ртуті, імунодепресан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Деякі БА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охідні сечовини, які застосовуються в сільському господарств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Деякі алкалоїди (колхіцин застосовується в селекції росл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Окисники і відновники (нітрити, нітр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ероксид гідроге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Формальдегі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Важкі мет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7:33:50Z</dcterms:created>
  <dc:creator>User</dc:creator>
  <dc:description/>
  <dc:language>en-US</dc:language>
  <cp:lastModifiedBy>User</cp:lastModifiedBy>
  <dcterms:modified xsi:type="dcterms:W3CDTF">2013-01-08T10:26:36Z</dcterms:modified>
  <cp:revision>4</cp:revision>
  <dc:subject/>
  <dc:title>Мутагени та їх класифікац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2000000000001024140</vt:lpwstr>
  </property>
</Properties>
</file>