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8B4A-7A7B-4610-AC5A-0FC140190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0B11-CE4F-4C3D-B116-87430376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EC8C-5383-4B49-A4BC-0DFFCF082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B269-8CF1-4041-96B0-3ED10A699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2FA2-9A82-426D-9229-8DC12B1B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F198-2E18-4163-825E-A8B47A3F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A8C4-271A-4406-9014-01DC36D7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0A0F-8DEF-4DC4-B990-EE418075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A054-7326-4304-BBC4-E78F717E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E119-5A7D-466C-AA56-F34D07A7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9FB8-7A2B-432A-ADA7-214DA6AE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9D57-4367-4173-A137-A9D967F1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A3F6-FDC9-4901-BB7A-04D20DD3C1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15"/>
          <p:cNvSpPr txBox="1"/>
          <p:nvPr/>
        </p:nvSpPr>
        <p:spPr>
          <a:xfrm>
            <a:off x="1908000" y="4581360"/>
            <a:ext cx="55803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утагени, вплив мутагенів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а їх профілактика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5770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Імунна систе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Шкі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Слизова оболонка дихальних шляхі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Слина, шлунковий сік, жов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539640" y="404640"/>
            <a:ext cx="7956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хист спадкового апарату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1" name="Picture 5" descr="dnn"/>
          <p:cNvPicPr/>
          <p:nvPr/>
        </p:nvPicPr>
        <p:blipFill>
          <a:blip r:embed="rId1"/>
          <a:stretch/>
        </p:blipFill>
        <p:spPr>
          <a:xfrm>
            <a:off x="6591240" y="1125360"/>
            <a:ext cx="23418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спеції 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— перець, гірчиця, імбир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зелень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 — кінза, петрушка, цибу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зелений чай, яблука, капуста, баклажани, м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ят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натуральні червоні в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йогур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WordArt 4"/>
          <p:cNvSpPr txBox="1"/>
          <p:nvPr/>
        </p:nvSpPr>
        <p:spPr>
          <a:xfrm>
            <a:off x="826920" y="333360"/>
            <a:ext cx="784872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М'ЯКШУЮТЬ ДІЮ МУТАГЕНІВ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Вживайте хліб з висівк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Виключте з раціону консерви і копченості, газовану воду з синтетичними барвника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Скоротіть кількість солодощі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Приймайте лактобактерин і біфідумбактерин: вони очищають шлунок і нормалізують роботу «корисних» бактерій, які теж здатні вступити в боротьбу з мутагенами.</a:t>
            </a:r>
            <a:br>
              <a:rPr sz="3200"/>
            </a:b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WordArt 4"/>
          <p:cNvSpPr txBox="1"/>
          <p:nvPr/>
        </p:nvSpPr>
        <p:spPr>
          <a:xfrm>
            <a:off x="2124000" y="476280"/>
            <a:ext cx="4964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ФІЛАКТИКА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Працюйте з миючими засобами тільки в гумових рукавичках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При хронічних захворюваннях регулярно звертайтеся до лікаря: ваш ослаблений організм — сприятливе середовище для мутагені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Не приймайте без поради лікаря ніяких ліків — вони також можуть негативно вплинути на спадковий апарат.</a:t>
            </a:r>
            <a:br>
              <a:rPr sz="2800"/>
            </a:br>
            <a:br>
              <a:rPr sz="2800"/>
            </a:b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WordArt 4"/>
          <p:cNvSpPr txBox="1"/>
          <p:nvPr/>
        </p:nvSpPr>
        <p:spPr>
          <a:xfrm>
            <a:off x="2124000" y="476280"/>
            <a:ext cx="4964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ФІЛАКТИКА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. </a:t>
            </a: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Поняття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м</a:t>
            </a: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утагенез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2. Радіаційний мутагене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3. Відкриття Г.А. Надсо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4. Мутагени в їж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4. Захист спадкового апарату від мутаген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5. Профілактика мутагенез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WordArt 7"/>
          <p:cNvSpPr txBox="1"/>
          <p:nvPr/>
        </p:nvSpPr>
        <p:spPr>
          <a:xfrm>
            <a:off x="324000" y="189000"/>
            <a:ext cx="8424720" cy="93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АН ПРЕЗЕНТАЦІЇ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10920" y="4552920"/>
            <a:ext cx="815796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Штучне отримання мутаці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ід впливом мутагенів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WordArt 7"/>
          <p:cNvSpPr txBox="1"/>
          <p:nvPr/>
        </p:nvSpPr>
        <p:spPr>
          <a:xfrm>
            <a:off x="179280" y="2781360"/>
            <a:ext cx="2808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УТАГЕНЕЗ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міни пов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язані з розривом хромосом. Це спричинено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ливостями процесів, що відбуваються в тканинах під дією випромінюванн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animal-genetica"/>
          <p:cNvPicPr/>
          <p:nvPr/>
        </p:nvPicPr>
        <p:blipFill>
          <a:blip r:embed="rId1"/>
          <a:stretch/>
        </p:blipFill>
        <p:spPr>
          <a:xfrm>
            <a:off x="4859280" y="3718080"/>
            <a:ext cx="4032360" cy="2941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250920" y="3716280"/>
            <a:ext cx="439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ДЕЛЕЦІЯ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(от лат.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eletio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– знищення) – тип хромосомної перебудови, за якої з ДНК випадає ділянка генетичного  матеріал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WordArt 7"/>
          <p:cNvSpPr txBox="1"/>
          <p:nvPr/>
        </p:nvSpPr>
        <p:spPr>
          <a:xfrm>
            <a:off x="1116000" y="549360"/>
            <a:ext cx="689616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ДІАЦІЙНИЙ МУТАГЕНЕЗ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436572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Індуковані мутації, що спричинені радіоактивним випромінюванням, уперше були відкриті радянським ученим Г.А. Надсоном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WordArt 7"/>
          <p:cNvSpPr txBox="1"/>
          <p:nvPr/>
        </p:nvSpPr>
        <p:spPr>
          <a:xfrm>
            <a:off x="971640" y="1341360"/>
            <a:ext cx="7345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ДІАЦІЙНИЙ МУТАГЕНЕЗ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708000" y="1557000"/>
            <a:ext cx="5189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отанік-мікробіолог, бібліотекар Імператорсь-кого ботанічного саду та професор Петроградського жіночого медичного інсти-тут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світу здобув у Санкт-Петербурзькому універ-ситеті.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5" descr="Nadson"/>
          <p:cNvPicPr/>
          <p:nvPr/>
        </p:nvPicPr>
        <p:blipFill>
          <a:blip r:embed="rId1"/>
          <a:stretch/>
        </p:blipFill>
        <p:spPr>
          <a:xfrm>
            <a:off x="324000" y="1628640"/>
            <a:ext cx="3225600" cy="4176720"/>
          </a:xfrm>
          <a:prstGeom prst="rect">
            <a:avLst/>
          </a:prstGeom>
          <a:ln w="0">
            <a:noFill/>
          </a:ln>
        </p:spPr>
      </p:pic>
      <p:sp>
        <p:nvSpPr>
          <p:cNvPr id="119" name="WordArt 7"/>
          <p:cNvSpPr txBox="1"/>
          <p:nvPr/>
        </p:nvSpPr>
        <p:spPr>
          <a:xfrm>
            <a:off x="395280" y="476280"/>
            <a:ext cx="84931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ДСОН ГЕОРГІЙ АДАМОВИЧ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(1867 - 1939)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78920" y="1628640"/>
            <a:ext cx="5410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У рідких випадках покращують властивості організм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Це основний матеріал для природного і штучного добор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Необхідна умова еволюції в природі і селекції корисних форм рослин, тварин і мікроорганізм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WordArt 6"/>
          <p:cNvSpPr txBox="1"/>
          <p:nvPr/>
        </p:nvSpPr>
        <p:spPr>
          <a:xfrm>
            <a:off x="2411280" y="476280"/>
            <a:ext cx="424836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УТАЦІЇ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508720" y="1844640"/>
            <a:ext cx="3465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10920" y="1196640"/>
            <a:ext cx="80866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0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Шкідливі хімічні речовини з грунту переходять до рослин. Разом з ними ми поглинаємо 37% марганцю, 41% — цинку, 32% — міді, 10%  -  нікел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и довгочасному збереженні харчових продуктів утворюються мутагени під час окислення ліпід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WordArt 4"/>
          <p:cNvSpPr txBox="1"/>
          <p:nvPr/>
        </p:nvSpPr>
        <p:spPr>
          <a:xfrm>
            <a:off x="2050920" y="333360"/>
            <a:ext cx="52578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утагени в їжі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5" name="Picture 4" descr="хромосома"/>
          <p:cNvPicPr/>
          <p:nvPr/>
        </p:nvPicPr>
        <p:blipFill>
          <a:blip r:embed="rId1"/>
          <a:stretch/>
        </p:blipFill>
        <p:spPr>
          <a:xfrm>
            <a:off x="5796000" y="4653000"/>
            <a:ext cx="3168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Холестерин, що міститься в маслі, яйцях, сметані, вершках, при довгочасному збереженні стає мутагенни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Смакові добавки, що використовуються  при консервації, і консерванти, які додають до соків теж стають мутагенам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Запечене м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яс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4"/>
          <p:cNvSpPr txBox="1"/>
          <p:nvPr/>
        </p:nvSpPr>
        <p:spPr>
          <a:xfrm>
            <a:off x="2050920" y="476280"/>
            <a:ext cx="525780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утагени в їжі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8" name="Picture 4" descr="хромосома"/>
          <p:cNvPicPr/>
          <p:nvPr/>
        </p:nvPicPr>
        <p:blipFill>
          <a:blip r:embed="rId1"/>
          <a:stretch/>
        </p:blipFill>
        <p:spPr>
          <a:xfrm>
            <a:off x="5796000" y="4653000"/>
            <a:ext cx="3168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4T09:35:32Z</dcterms:created>
  <dc:creator>Долгорукова</dc:creator>
  <dc:description/>
  <dc:language>en-US</dc:language>
  <cp:lastModifiedBy>User</cp:lastModifiedBy>
  <dcterms:modified xsi:type="dcterms:W3CDTF">2013-01-08T10:26:42Z</dcterms:modified>
  <cp:revision>3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605000000000001024140</vt:lpwstr>
  </property>
</Properties>
</file>