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8F7-C075-4F85-B994-D01674BD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2A8-F5E1-4AE2-B6D4-26DD8AB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04F-F3FF-4AD5-A2EE-E7B4FF89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CDF-23F1-460D-A0F9-344B4C76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6F879-FBB7-4531-8DCE-1C9FB6EF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54069-87A5-4637-A2E4-D351B5B6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546A0-8B3D-4275-B2F1-55DAE239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346CD-071E-4BDC-B3E7-338891B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BEF21-671C-42D7-A3F6-FBFDBB2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2141-9159-48D6-B990-FBDB4D4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42E7-7260-4594-BD21-3BF2FBD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F69-E084-43FD-8425-9276A1B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AD606-C3D4-4AA5-A09A-3C1CC59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2CC69-DD3D-43D9-BC6F-9EAA8C1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48B04-191D-4F31-AA4C-E76E342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72BAE-EEFE-45DF-BFBD-7EDFD0F8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D4628-FCB6-4578-BC91-0DB49E60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720-768D-4F2F-BFE3-BC7A6CA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B9D-3234-462F-986B-233EF42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AD0-FB1B-4CA4-8A43-14728F0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E0B-6A3C-4D8A-B1A3-EF657437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672-C752-4490-84FC-82723E61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329-4E61-4F90-B1EF-E9C4A5F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E78-75ED-464D-9BB4-E1A4216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854-F27D-47BB-8D69-79ADB0EC2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0F4-3C05-4FAA-BF8C-CEFCF535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br>
              <a:rPr sz="5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а їх класифіка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040360" cy="4233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Біолог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Віруси (вірус корі, краснухи, грип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Продукти обміну речовин (продукти окислення ліпіді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Антигени деяких мікроорганізм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Специфічні послідовності ДНК - транспозо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Класифікація мутагенів</a:t>
            </a:r>
            <a:br>
              <a:rPr sz="4400"/>
            </a:br>
            <a:r>
              <a:rPr b="0" lang="uk-UA" sz="4000" spc="-1" strike="noStrike">
                <a:solidFill>
                  <a:srgbClr val="ff0000"/>
                </a:solidFill>
                <a:latin typeface="Tahoma"/>
              </a:rPr>
              <a:t>за походженн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6600">
            <a:off x="4787640" y="2060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9193400">
            <a:off x="2483640" y="2060280"/>
            <a:ext cx="1871280" cy="485640"/>
          </a:xfrm>
          <a:prstGeom prst="rightArrow">
            <a:avLst>
              <a:gd name="adj1" fmla="val 50000"/>
              <a:gd name="adj2" fmla="val 963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3429000"/>
            <a:ext cx="2325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кз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фактори впливу оточуючого середовищ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429000"/>
            <a:ext cx="223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00280"/>
            <a:ext cx="2325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нд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результат життєдіяль-ності організмі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gal97_83d541106ff596b55572a324bc116cfb"/>
          <p:cNvPicPr/>
          <p:nvPr/>
        </p:nvPicPr>
        <p:blipFill>
          <a:blip r:embed="rId2"/>
          <a:stretch/>
        </p:blipFill>
        <p:spPr>
          <a:xfrm>
            <a:off x="3419640" y="2492280"/>
            <a:ext cx="2244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Tahoma"/>
              </a:rPr>
              <a:t>Використання мутаген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тучне отримання мутацій та їх вивчення (мутагенез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Генетичні дослідже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ворення вихідного матеріалу в селекції мікроорганізмів, рослин і твар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5280" y="1125360"/>
            <a:ext cx="5276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всю історію свого розвитку людство накопичило величезний генетичний тягар. Відомо більше 2 000 генетичних дефекті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більшення частоти мутацій вдвоє може збільшити о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м генетичного тягаря настільки, що це може стати небезпечним для існування популяці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43320" cy="41767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дне з найголовніших завдань охорони природи і забезпечення генетичної безпеки людини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ОНІТОР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точуючого середовища і виявлення забруднювачів, які мають мутагенну і канцерогенну активні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 – фактори, які визивають мутації – стійкі спадкові зміни, порушення в структурі генів,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хромос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[hjvjcjvs-4"/>
          <p:cNvPicPr/>
          <p:nvPr/>
        </p:nvPicPr>
        <p:blipFill>
          <a:blip r:embed="rId2"/>
          <a:stretch/>
        </p:blipFill>
        <p:spPr>
          <a:xfrm>
            <a:off x="6227640" y="393372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ahoma"/>
              </a:rPr>
              <a:t>Відкриття штучних мутаці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5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А.Надсон і Г.С Філіпов. Мутації дріжджів при дії радіоактивного раді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Меллер. Мутації дрозофіл при дії рентгенівських проме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32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В.В.Сахаров. Мутації дрозофіл при дії й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5280" y="260280"/>
            <a:ext cx="8244720" cy="5707080"/>
            <a:chOff x="395280" y="260280"/>
            <a:chExt cx="8244720" cy="5707080"/>
          </a:xfrm>
        </p:grpSpPr>
        <p:cxnSp>
          <p:nvCxnSpPr>
            <p:cNvPr id="91" name="_s3278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38992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32787"/>
            <p:cNvCxnSpPr>
              <a:stCxn id="95" idx="0"/>
              <a:endCxn id="93" idx="2"/>
            </p:cNvCxnSpPr>
            <p:nvPr/>
          </p:nvCxnSpPr>
          <p:spPr>
            <a:xfrm flipV="1">
              <a:off x="4517280" y="2542680"/>
              <a:ext cx="396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32786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0380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32782"/>
            <p:cNvSpPr/>
            <p:nvPr/>
          </p:nvSpPr>
          <p:spPr>
            <a:xfrm>
              <a:off x="3281040" y="26028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Мута-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ген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2783"/>
            <p:cNvSpPr/>
            <p:nvPr/>
          </p:nvSpPr>
          <p:spPr>
            <a:xfrm>
              <a:off x="39528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2784"/>
            <p:cNvSpPr/>
            <p:nvPr/>
          </p:nvSpPr>
          <p:spPr>
            <a:xfrm>
              <a:off x="328104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хім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2785"/>
            <p:cNvSpPr/>
            <p:nvPr/>
          </p:nvSpPr>
          <p:spPr>
            <a:xfrm>
              <a:off x="616680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біолог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1000" y="262440"/>
            <a:ext cx="8797320" cy="5964840"/>
            <a:chOff x="171000" y="262440"/>
            <a:chExt cx="8797320" cy="5964840"/>
          </a:xfrm>
        </p:grpSpPr>
        <p:sp>
          <p:nvSpPr>
            <p:cNvPr id="99" name="_s35853"/>
            <p:cNvSpPr/>
            <p:nvPr/>
          </p:nvSpPr>
          <p:spPr>
            <a:xfrm flipH="1" flipV="1">
              <a:off x="240084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5852"/>
            <p:cNvSpPr/>
            <p:nvPr/>
          </p:nvSpPr>
          <p:spPr>
            <a:xfrm>
              <a:off x="1710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Температу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5857"/>
            <p:cNvSpPr/>
            <p:nvPr/>
          </p:nvSpPr>
          <p:spPr>
            <a:xfrm flipH="1">
              <a:off x="322992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5856"/>
            <p:cNvSpPr/>
            <p:nvPr/>
          </p:nvSpPr>
          <p:spPr>
            <a:xfrm>
              <a:off x="141408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Раді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й електромагнітні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по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5855"/>
            <p:cNvSpPr/>
            <p:nvPr/>
          </p:nvSpPr>
          <p:spPr>
            <a:xfrm>
              <a:off x="523944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5854"/>
            <p:cNvSpPr/>
            <p:nvPr/>
          </p:nvSpPr>
          <p:spPr>
            <a:xfrm>
              <a:off x="544032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Ультрафіолетов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5851"/>
            <p:cNvSpPr/>
            <p:nvPr/>
          </p:nvSpPr>
          <p:spPr>
            <a:xfrm flipV="1">
              <a:off x="565308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5850"/>
            <p:cNvSpPr/>
            <p:nvPr/>
          </p:nvSpPr>
          <p:spPr>
            <a:xfrm>
              <a:off x="66834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Іонізуюч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5849"/>
            <p:cNvSpPr/>
            <p:nvPr/>
          </p:nvSpPr>
          <p:spPr>
            <a:xfrm flipV="1">
              <a:off x="4570200" y="186984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5848"/>
            <p:cNvSpPr/>
            <p:nvPr/>
          </p:nvSpPr>
          <p:spPr>
            <a:xfrm>
              <a:off x="3427560" y="262440"/>
              <a:ext cx="228420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адіоактив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озпа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5847"/>
            <p:cNvSpPr/>
            <p:nvPr/>
          </p:nvSpPr>
          <p:spPr>
            <a:xfrm>
              <a:off x="3427560" y="2673360"/>
              <a:ext cx="228420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мутаг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484280"/>
            <a:ext cx="4779000" cy="3611160"/>
            <a:chOff x="2124000" y="1484280"/>
            <a:chExt cx="4779000" cy="3611160"/>
          </a:xfrm>
        </p:grpSpPr>
        <p:sp>
          <p:nvSpPr>
            <p:cNvPr id="112" name="_s37932"/>
            <p:cNvSpPr/>
            <p:nvPr/>
          </p:nvSpPr>
          <p:spPr>
            <a:xfrm flipH="1">
              <a:off x="31086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7933"/>
            <p:cNvSpPr/>
            <p:nvPr/>
          </p:nvSpPr>
          <p:spPr>
            <a:xfrm>
              <a:off x="2124000" y="4075200"/>
              <a:ext cx="2078280" cy="1020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Діапаз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20 Гц –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7934"/>
            <p:cNvSpPr/>
            <p:nvPr/>
          </p:nvSpPr>
          <p:spPr>
            <a:xfrm>
              <a:off x="50058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7935"/>
            <p:cNvSpPr/>
            <p:nvPr/>
          </p:nvSpPr>
          <p:spPr>
            <a:xfrm>
              <a:off x="4714560" y="4075200"/>
              <a:ext cx="2188440" cy="1020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Ульт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00"/>
                  </a:solidFill>
                  <a:latin typeface="Tahoma"/>
                </a:rPr>
                <a:t>більше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7936"/>
            <p:cNvSpPr/>
            <p:nvPr/>
          </p:nvSpPr>
          <p:spPr>
            <a:xfrm flipV="1">
              <a:off x="4493520" y="2494440"/>
              <a:ext cx="4680" cy="511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7937"/>
            <p:cNvSpPr/>
            <p:nvPr/>
          </p:nvSpPr>
          <p:spPr>
            <a:xfrm>
              <a:off x="3139560" y="1484280"/>
              <a:ext cx="2668680" cy="100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Інф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менше 20 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7938"/>
            <p:cNvSpPr/>
            <p:nvPr/>
          </p:nvSpPr>
          <p:spPr>
            <a:xfrm>
              <a:off x="3708000" y="2779560"/>
              <a:ext cx="1623960" cy="1029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шу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229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думайтеся, який діапазон звуків на ваших дискотеках? Як це впливає на ваш органі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8" descr="J0285750"/>
          <p:cNvPicPr/>
          <p:nvPr/>
        </p:nvPicPr>
        <p:blipFill>
          <a:blip r:embed="rId6"/>
          <a:stretch/>
        </p:blipFill>
        <p:spPr>
          <a:xfrm>
            <a:off x="6372360" y="1989000"/>
            <a:ext cx="2374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8200" y="2058840"/>
            <a:ext cx="5721120" cy="2319840"/>
            <a:chOff x="1618200" y="2058840"/>
            <a:chExt cx="5721120" cy="2319840"/>
          </a:xfrm>
        </p:grpSpPr>
        <p:sp>
          <p:nvSpPr>
            <p:cNvPr id="123" name="_s45062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5063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Заг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5064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5065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Лок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5068"/>
            <p:cNvSpPr/>
            <p:nvPr/>
          </p:nvSpPr>
          <p:spPr>
            <a:xfrm>
              <a:off x="3132000" y="2058840"/>
              <a:ext cx="2520720" cy="103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вібрації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8200" y="1990440"/>
            <a:ext cx="5721120" cy="2388240"/>
            <a:chOff x="1618200" y="1990440"/>
            <a:chExt cx="5721120" cy="2388240"/>
          </a:xfrm>
        </p:grpSpPr>
        <p:sp>
          <p:nvSpPr>
            <p:cNvPr id="130" name="_s47110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7111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Електрич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7112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7113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Магніт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7114"/>
            <p:cNvSpPr/>
            <p:nvPr/>
          </p:nvSpPr>
          <p:spPr>
            <a:xfrm>
              <a:off x="2629440" y="1990440"/>
              <a:ext cx="3738960" cy="1013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Статичні пол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4000" y="4653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і заходи безпеки треба вжити при використанні мікрохвильової печі? Мобільного телефо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Хім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рганічні розчинники (ацетон, миючі засоби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стициди (гербіциди, фунгіци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Харчові добавки (ароматичні вуглеводи, циклам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родукти переробки наф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Лікарські препарати (ртуті, імунодепресан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Б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охідні сечовини, які застосовуються в сільському господарст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алкалоїди (колхіцин застосовується в селекції рос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кисники і відновники (нітрити, ніт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роксид гідрог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Формальдегі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Важкі мет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7:33:50Z</dcterms:created>
  <dc:creator>User</dc:creator>
  <dc:description/>
  <dc:language>en-US</dc:language>
  <cp:lastModifiedBy>User</cp:lastModifiedBy>
  <dcterms:modified xsi:type="dcterms:W3CDTF">2013-01-08T10:26:36Z</dcterms:modified>
  <cp:revision>4</cp:revision>
  <dc:subject/>
  <dc:title>Мутагени та їх класифік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2000000000001024140</vt:lpwstr>
  </property>
</Properties>
</file>