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E9E-E8EC-49DC-9FBB-73898D96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C5C-4AB1-4E7D-A795-FDDD9F88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D37-16C4-44D2-8C22-7B7B1F6E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179-47F5-4253-8638-1D81ACAE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7E6-2D94-4457-8BF2-EED5A030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444-08BA-4106-85A0-7057F3EE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88D-1C93-4407-BBF2-01A047B9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CA4-6161-4ACB-8FCC-0966C829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9B5-CD34-4C4F-93EF-B26F3ADA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0D4-3C32-4926-8CA4-86CE0C1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582-79BF-4D85-B0CA-1EA06D7C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308-7CAB-43F2-8EC6-D336950C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5CDA-DBE9-4240-96A3-97A82B6411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15"/>
          <p:cNvSpPr txBox="1"/>
          <p:nvPr/>
        </p:nvSpPr>
        <p:spPr>
          <a:xfrm>
            <a:off x="1908000" y="4581360"/>
            <a:ext cx="55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, вплив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 їх 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Імунна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Шкі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зова оболонка дихальних шляхі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на, шлунковий сік, жов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539640" y="404640"/>
            <a:ext cx="795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хист спадкового апарату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5" descr="dnn"/>
          <p:cNvPicPr/>
          <p:nvPr/>
        </p:nvPicPr>
        <p:blipFill>
          <a:blip r:embed="rId1"/>
          <a:stretch/>
        </p:blipFill>
        <p:spPr>
          <a:xfrm>
            <a:off x="6591240" y="1125360"/>
            <a:ext cx="2341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спеції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— перець, гірчиця, імб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зелень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— кінза, петрушка, цибу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елений чай, яблука, капуста, баклажани,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атуральні червоні 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йогу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826920" y="333360"/>
            <a:ext cx="7848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'ЯКШУЮТЬ ДІЮ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живайте хліб з висів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ключте з раціону консерви і копченості, газовану воду з синтетичними барв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коротіть кількість солодощ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риймайте лактобактерин і біфідумбактерин: вони очищають шлунок і нормалізують роботу «корисних» бактерій, які теж здатні вступити в боротьбу з мутагенами.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ацюйте з миючими засобами тільки в гумових рукавичках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 хронічних захворюваннях регулярно звертайтеся до лікаря: ваш ослаблений організм — сприятливе середовище для мутагені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Не приймайте без поради лікаря ніяких ліків — вони також можуть негативно вплинути на спадковий апарат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Понятт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м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2. Радіаційний мута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3. Відкриття Г.А. Надс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Мутагени в їж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Захист спадкового апарату від мутаге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5. Профілактика м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24000" y="189000"/>
            <a:ext cx="84247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ПРЕЗЕН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4552920"/>
            <a:ext cx="81579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тучне отримання мутаці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ід впливом мутагені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179280" y="2781360"/>
            <a:ext cx="2808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міни по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зані з розривом хромосом. Це спричинен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ливостями процесів, що відбуваються в тканинах під дією випромінюван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animal-genetica"/>
          <p:cNvPicPr/>
          <p:nvPr/>
        </p:nvPicPr>
        <p:blipFill>
          <a:blip r:embed="rId1"/>
          <a:stretch/>
        </p:blipFill>
        <p:spPr>
          <a:xfrm>
            <a:off x="4859280" y="3718080"/>
            <a:ext cx="4032360" cy="294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50920" y="371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ЛЕЦІЯ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(от лат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letio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– знищення) – тип хромосомної перебудови, за якої з ДНК випадає ділянка генетичного  матеріа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1116000" y="549360"/>
            <a:ext cx="68961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Індуковані мутації, що спричинені радіоактивним випромінюванням, уперше були відкриті радянським ученим Г.А. Надсон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971640" y="1341360"/>
            <a:ext cx="734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708000" y="1557000"/>
            <a:ext cx="5189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танік-мікробіолог, бібліотекар Імператорсь-кого ботанічного саду та професор Петроградського жіночого медичного інсти-тут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віту здобув у Санкт-Петербурзькому універ-ситеті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Nadson"/>
          <p:cNvPicPr/>
          <p:nvPr/>
        </p:nvPicPr>
        <p:blipFill>
          <a:blip r:embed="rId1"/>
          <a:stretch/>
        </p:blipFill>
        <p:spPr>
          <a:xfrm>
            <a:off x="324000" y="1628640"/>
            <a:ext cx="3225600" cy="41767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395280" y="476280"/>
            <a:ext cx="84931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ДСОН ГЕОРГІЙ АДАМОВИЧ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1867 - 1939)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5410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У рідких випадках покращують властивості 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Це основний матеріал для природного і штучного до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еобхідна умова еволюції в природі і селекції корисних форм рослин, тварин і мікро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411280" y="476280"/>
            <a:ext cx="424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465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8086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кідливі хімічні речовини з грунту переходять до рослин. Разом з ними ми поглинаємо 37% марганцю, 41% — цинку, 32% — міді, 10%  -  ніке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довгочасному збереженні харчових продуктів утворюються мутагени під час окислення ліпід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050920" y="333360"/>
            <a:ext cx="5257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Холестерин, що міститься в маслі, яйцях, сметані, вершках, при довгочасному збереженні стає мутагенн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макові добавки, що використовуються  при консервації, і консерванти, які додають до соків теж стають мутаген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апечене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2050920" y="476280"/>
            <a:ext cx="5257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9:35:32Z</dcterms:created>
  <dc:creator>Долгорукова</dc:creator>
  <dc:description/>
  <dc:language>en-US</dc:language>
  <cp:lastModifiedBy>User</cp:lastModifiedBy>
  <dcterms:modified xsi:type="dcterms:W3CDTF">2013-01-08T10:26:42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05000000000001024140</vt:lpwstr>
  </property>
</Properties>
</file>