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579C-133C-4BFF-958C-CE34B7C9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8D05-3885-4F28-8B72-B061CA5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FE78-B3E9-4600-9DEE-2362117A1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54C-06A7-45D1-BAB3-EA57816F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532BC-768B-419D-B182-340609A7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15A74-7D8E-41C5-A8C3-DEAA39F3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ED39C-4AB4-4C96-B834-0FBEEC4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695A3-BBCF-4C15-B54C-1D220D90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AE7AB-9E00-452D-879E-C5EDED70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89409-BD9E-4197-A4E6-0C399AB2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906C5-292E-467E-9088-1384C0A8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D14D-7A1B-464F-B72C-86DD4618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3D94A-9E26-42A9-94B9-4CD17902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0F7E0-7E1E-4100-8891-244D4513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39FCF-5A91-4F0F-9714-AD9216826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966C2-32EA-4EB3-AC6C-02B48EFE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9E78D-E1BB-4850-B048-A06CCF4D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CF28-6B73-4D3B-912E-60A2A475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D944-EADF-4576-BEBC-04EE12CF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68A7-76F6-4572-824D-DE62024D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A797-CF31-4B03-8E2C-AA6AF9D8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C3F9-9F43-4C44-995E-B6110B6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2CC-F033-4ED9-BFC5-0EE05DC3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610F-87F5-43FB-A33F-6A1D6BF4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4BC7-7265-4934-AEDD-A14DA96720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E39F-C8DA-4FFA-A146-52EA8A984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br>
              <a:rPr sz="5400"/>
            </a:b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та їх класифікаці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5040360" cy="423396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Біолог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Віруси (вірус корі, краснухи, грипу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Продукти обміну речовин (продукти окислення ліпідів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Антигени деяких мікроорганізмі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ff00"/>
                </a:solidFill>
                <a:latin typeface="Tahoma"/>
              </a:rPr>
              <a:t>Специфічні послідовності ДНК - транспозо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Класифікація мутагенів</a:t>
            </a:r>
            <a:br>
              <a:rPr sz="4400"/>
            </a:br>
            <a:r>
              <a:rPr b="0" lang="uk-UA" sz="4000" spc="-1" strike="noStrike">
                <a:solidFill>
                  <a:srgbClr val="ff0000"/>
                </a:solidFill>
                <a:latin typeface="Tahoma"/>
              </a:rPr>
              <a:t>за походженням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 rot="2406600">
            <a:off x="4787640" y="2060640"/>
            <a:ext cx="1871640" cy="485640"/>
          </a:xfrm>
          <a:prstGeom prst="rightArrow">
            <a:avLst>
              <a:gd name="adj1" fmla="val 50000"/>
              <a:gd name="adj2" fmla="val 9634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9193400">
            <a:off x="2483640" y="2060280"/>
            <a:ext cx="1871280" cy="485640"/>
          </a:xfrm>
          <a:prstGeom prst="rightArrow">
            <a:avLst>
              <a:gd name="adj1" fmla="val 50000"/>
              <a:gd name="adj2" fmla="val 96331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0000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40360" y="3141720"/>
            <a:ext cx="2265480" cy="2409840"/>
          </a:xfrm>
          <a:prstGeom prst="flowChartOffpageConnector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40360" y="3429000"/>
            <a:ext cx="2325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кз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фактори впливу оточуючого середовищ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3429000"/>
            <a:ext cx="2232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3500280"/>
            <a:ext cx="232596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00"/>
                </a:solidFill>
                <a:latin typeface="Tahoma"/>
              </a:rPr>
              <a:t>Ендогенні</a:t>
            </a:r>
            <a:br>
              <a:rPr sz="3200"/>
            </a:br>
            <a:r>
              <a:rPr b="0" lang="uk-UA" sz="2400" spc="-1" strike="noStrike">
                <a:solidFill>
                  <a:srgbClr val="ffff00"/>
                </a:solidFill>
                <a:latin typeface="Tahoma"/>
              </a:rPr>
              <a:t>(результат життєдіяль-ності організмі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18" descr="gal97_83d541106ff596b55572a324bc116cfb"/>
          <p:cNvPicPr/>
          <p:nvPr/>
        </p:nvPicPr>
        <p:blipFill>
          <a:blip r:embed="rId2"/>
          <a:stretch/>
        </p:blipFill>
        <p:spPr>
          <a:xfrm>
            <a:off x="3419640" y="2492280"/>
            <a:ext cx="2244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660066"/>
                </a:solidFill>
                <a:latin typeface="Tahoma"/>
              </a:rPr>
              <a:t>Використання мутагені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Штучне отримання мутацій та їх вивчення (мутагенез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Генетичні дослідженн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ahoma"/>
              </a:rPr>
              <a:t>Створення вихідного матеріалу в селекції мікроорганізмів, рослин і тварин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635280" y="1125360"/>
            <a:ext cx="5276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а всю історію свого розвитку людство накопичило величезний генетичний тягар. Відомо більше 2 000 генетичних дефекті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більшення частоти мутацій вдвоє може збільшити о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м генетичного тягаря настільки, що це може стати небезпечним для існування популяці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343320" cy="4176720"/>
          </a:xfrm>
          <a:prstGeom prst="rect">
            <a:avLst/>
          </a:prstGeom>
          <a:ln w="76320">
            <a:solidFill>
              <a:srgbClr val="66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дне з найголовніших завдань охорони природи і забезпечення генетичної безпеки людини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Tahoma"/>
              </a:rPr>
              <a:t>МОНІТОРИН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ahoma"/>
              </a:rPr>
              <a:t>оточуючого середовища і виявлення забруднювачів, які мають мутагенну і канцерогенну активні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ff0000"/>
                </a:solidFill>
                <a:latin typeface="Tahoma"/>
              </a:rPr>
              <a:t>Мутагени</a:t>
            </a: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 – фактори, які визивають мутації – стійкі спадкові зміни, порушення в структурі генів,</a:t>
            </a:r>
            <a:br>
              <a:rPr sz="4800"/>
            </a:br>
            <a:r>
              <a:rPr b="0" lang="uk-UA" sz="4800" spc="-1" strike="noStrike">
                <a:solidFill>
                  <a:srgbClr val="ffffff"/>
                </a:solidFill>
                <a:latin typeface="Tahoma"/>
              </a:rPr>
              <a:t>хромос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6" descr="[hjvjcjvs-4"/>
          <p:cNvPicPr/>
          <p:nvPr/>
        </p:nvPicPr>
        <p:blipFill>
          <a:blip r:embed="rId2"/>
          <a:stretch/>
        </p:blipFill>
        <p:spPr>
          <a:xfrm>
            <a:off x="6227640" y="3933720"/>
            <a:ext cx="230040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ff00"/>
                </a:solidFill>
                <a:latin typeface="Tahoma"/>
              </a:rPr>
              <a:t>Відкриття штучних мутаці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5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А.Надсон і Г.С Філіпов. Мутації дріжджів при дії радіоактивного раді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27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Г.Меллер. Мутації дрозофіл при дії рентгенівських промені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Tahoma"/>
              </a:rPr>
              <a:t>1932 р.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– В.В.Сахаров. Мутації дрозофіл при дії йо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95280" y="260280"/>
            <a:ext cx="8244720" cy="5707080"/>
            <a:chOff x="395280" y="260280"/>
            <a:chExt cx="8244720" cy="5707080"/>
          </a:xfrm>
        </p:grpSpPr>
        <p:cxnSp>
          <p:nvCxnSpPr>
            <p:cNvPr id="91" name="_s32788"/>
            <p:cNvCxnSpPr>
              <a:stCxn id="92" idx="0"/>
              <a:endCxn id="93" idx="2"/>
            </p:cNvCxnSpPr>
            <p:nvPr/>
          </p:nvCxnSpPr>
          <p:spPr>
            <a:xfrm flipV="1" rot="16200000">
              <a:off x="538992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4" name="_s32787"/>
            <p:cNvCxnSpPr>
              <a:stCxn id="95" idx="0"/>
              <a:endCxn id="93" idx="2"/>
            </p:cNvCxnSpPr>
            <p:nvPr/>
          </p:nvCxnSpPr>
          <p:spPr>
            <a:xfrm flipV="1">
              <a:off x="4517280" y="2542680"/>
              <a:ext cx="3960" cy="1141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6" name="_s32786"/>
            <p:cNvCxnSpPr>
              <a:stCxn id="97" idx="0"/>
              <a:endCxn id="93" idx="2"/>
            </p:cNvCxnSpPr>
            <p:nvPr/>
          </p:nvCxnSpPr>
          <p:spPr>
            <a:xfrm flipH="1" flipV="1" rot="5400000">
              <a:off x="2503800" y="1670400"/>
              <a:ext cx="1141920" cy="2886120"/>
            </a:xfrm>
            <a:prstGeom prst="bentConnector3">
              <a:avLst>
                <a:gd name="adj1" fmla="val 13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3" name="_s32782"/>
            <p:cNvSpPr/>
            <p:nvPr/>
          </p:nvSpPr>
          <p:spPr>
            <a:xfrm>
              <a:off x="3281040" y="26028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Мута-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4400" spc="-1" strike="noStrike">
                  <a:solidFill>
                    <a:srgbClr val="010199"/>
                  </a:solidFill>
                  <a:latin typeface="Tahoma"/>
                </a:rPr>
                <a:t>гени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2783"/>
            <p:cNvSpPr/>
            <p:nvPr/>
          </p:nvSpPr>
          <p:spPr>
            <a:xfrm>
              <a:off x="39528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2784"/>
            <p:cNvSpPr/>
            <p:nvPr/>
          </p:nvSpPr>
          <p:spPr>
            <a:xfrm>
              <a:off x="328104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хім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_s32785"/>
            <p:cNvSpPr/>
            <p:nvPr/>
          </p:nvSpPr>
          <p:spPr>
            <a:xfrm>
              <a:off x="6166800" y="3684600"/>
              <a:ext cx="2473200" cy="228276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400" spc="-1" strike="noStrike">
                  <a:solidFill>
                    <a:srgbClr val="9900ff"/>
                  </a:solidFill>
                  <a:latin typeface="Tahoma"/>
                </a:rPr>
                <a:t>біологічні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71000" y="262440"/>
            <a:ext cx="8797320" cy="5964840"/>
            <a:chOff x="171000" y="262440"/>
            <a:chExt cx="8797320" cy="5964840"/>
          </a:xfrm>
        </p:grpSpPr>
        <p:sp>
          <p:nvSpPr>
            <p:cNvPr id="99" name="_s35853"/>
            <p:cNvSpPr/>
            <p:nvPr/>
          </p:nvSpPr>
          <p:spPr>
            <a:xfrm flipH="1" flipV="1">
              <a:off x="240084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_s35852"/>
            <p:cNvSpPr/>
            <p:nvPr/>
          </p:nvSpPr>
          <p:spPr>
            <a:xfrm>
              <a:off x="1710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Температур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35857"/>
            <p:cNvSpPr/>
            <p:nvPr/>
          </p:nvSpPr>
          <p:spPr>
            <a:xfrm flipH="1">
              <a:off x="322992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_s35856"/>
            <p:cNvSpPr/>
            <p:nvPr/>
          </p:nvSpPr>
          <p:spPr>
            <a:xfrm>
              <a:off x="141408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Радіо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й електромагнітні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пол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_s35855"/>
            <p:cNvSpPr/>
            <p:nvPr/>
          </p:nvSpPr>
          <p:spPr>
            <a:xfrm>
              <a:off x="5239440" y="4123440"/>
              <a:ext cx="669960" cy="648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_s35854"/>
            <p:cNvSpPr/>
            <p:nvPr/>
          </p:nvSpPr>
          <p:spPr>
            <a:xfrm>
              <a:off x="5440320" y="4620240"/>
              <a:ext cx="228492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Ультрафіолетов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5851"/>
            <p:cNvSpPr/>
            <p:nvPr/>
          </p:nvSpPr>
          <p:spPr>
            <a:xfrm flipV="1">
              <a:off x="5653080" y="2979360"/>
              <a:ext cx="1085760" cy="248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5850"/>
            <p:cNvSpPr/>
            <p:nvPr/>
          </p:nvSpPr>
          <p:spPr>
            <a:xfrm>
              <a:off x="6683400" y="1927440"/>
              <a:ext cx="228492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Іонізуюч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випромінюван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н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5849"/>
            <p:cNvSpPr/>
            <p:nvPr/>
          </p:nvSpPr>
          <p:spPr>
            <a:xfrm flipV="1">
              <a:off x="4570200" y="1869840"/>
              <a:ext cx="0" cy="803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5848"/>
            <p:cNvSpPr/>
            <p:nvPr/>
          </p:nvSpPr>
          <p:spPr>
            <a:xfrm>
              <a:off x="3427560" y="262440"/>
              <a:ext cx="2284200" cy="1607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адіоактивни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ffff00"/>
                  </a:solidFill>
                  <a:latin typeface="Tahoma"/>
                </a:rPr>
                <a:t>розпад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_s35847"/>
            <p:cNvSpPr/>
            <p:nvPr/>
          </p:nvSpPr>
          <p:spPr>
            <a:xfrm>
              <a:off x="3427560" y="2673360"/>
              <a:ext cx="2284200" cy="16063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Фізичні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9900ff"/>
                  </a:solidFill>
                  <a:latin typeface="Tahoma"/>
                </a:rPr>
                <a:t>мутагени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124000" y="1484280"/>
            <a:ext cx="4779000" cy="3611160"/>
            <a:chOff x="2124000" y="1484280"/>
            <a:chExt cx="4779000" cy="3611160"/>
          </a:xfrm>
        </p:grpSpPr>
        <p:sp>
          <p:nvSpPr>
            <p:cNvPr id="112" name="_s37932"/>
            <p:cNvSpPr/>
            <p:nvPr/>
          </p:nvSpPr>
          <p:spPr>
            <a:xfrm flipH="1">
              <a:off x="31086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_s37933"/>
            <p:cNvSpPr/>
            <p:nvPr/>
          </p:nvSpPr>
          <p:spPr>
            <a:xfrm>
              <a:off x="2124000" y="4075200"/>
              <a:ext cx="2078280" cy="1020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Діапазон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20 Гц –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37934"/>
            <p:cNvSpPr/>
            <p:nvPr/>
          </p:nvSpPr>
          <p:spPr>
            <a:xfrm>
              <a:off x="5005800" y="379044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_s37935"/>
            <p:cNvSpPr/>
            <p:nvPr/>
          </p:nvSpPr>
          <p:spPr>
            <a:xfrm>
              <a:off x="4714560" y="4075200"/>
              <a:ext cx="2188440" cy="1020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Ульт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00"/>
                  </a:solidFill>
                  <a:latin typeface="Tahoma"/>
                </a:rPr>
                <a:t>більше 20 к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37936"/>
            <p:cNvSpPr/>
            <p:nvPr/>
          </p:nvSpPr>
          <p:spPr>
            <a:xfrm flipV="1">
              <a:off x="4493520" y="2494440"/>
              <a:ext cx="4680" cy="51156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37937"/>
            <p:cNvSpPr/>
            <p:nvPr/>
          </p:nvSpPr>
          <p:spPr>
            <a:xfrm>
              <a:off x="3139560" y="1484280"/>
              <a:ext cx="2668680" cy="10000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Інфразву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uk-UA" sz="2400" spc="-1" strike="noStrike">
                  <a:solidFill>
                    <a:srgbClr val="ffff00"/>
                  </a:solidFill>
                  <a:latin typeface="Tahoma"/>
                </a:rPr>
                <a:t>менше 20 Г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37938"/>
            <p:cNvSpPr/>
            <p:nvPr/>
          </p:nvSpPr>
          <p:spPr>
            <a:xfrm>
              <a:off x="3708000" y="2779560"/>
              <a:ext cx="1623960" cy="10299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шум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95280" y="52293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адумайтеся, який діапазон звуків на ваших дискотеках? Як це впливає на ваш організм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8" descr="J0285750"/>
          <p:cNvPicPr/>
          <p:nvPr/>
        </p:nvPicPr>
        <p:blipFill>
          <a:blip r:embed="rId6"/>
          <a:stretch/>
        </p:blipFill>
        <p:spPr>
          <a:xfrm>
            <a:off x="6372360" y="1989000"/>
            <a:ext cx="237492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18200" y="2058840"/>
            <a:ext cx="5721120" cy="2319840"/>
            <a:chOff x="1618200" y="2058840"/>
            <a:chExt cx="5721120" cy="2319840"/>
          </a:xfrm>
        </p:grpSpPr>
        <p:sp>
          <p:nvSpPr>
            <p:cNvPr id="123" name="_s45062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45063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Заг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45064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_s45065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Локаль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45068"/>
            <p:cNvSpPr/>
            <p:nvPr/>
          </p:nvSpPr>
          <p:spPr>
            <a:xfrm>
              <a:off x="3132000" y="2058840"/>
              <a:ext cx="2520720" cy="1030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вібрації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Tahoma"/>
              </a:rPr>
              <a:t>Основні фізичні небезпе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18200" y="1990440"/>
            <a:ext cx="5721120" cy="2388240"/>
            <a:chOff x="1618200" y="1990440"/>
            <a:chExt cx="5721120" cy="2388240"/>
          </a:xfrm>
        </p:grpSpPr>
        <p:sp>
          <p:nvSpPr>
            <p:cNvPr id="130" name="_s47110"/>
            <p:cNvSpPr/>
            <p:nvPr/>
          </p:nvSpPr>
          <p:spPr>
            <a:xfrm flipH="1">
              <a:off x="3277800" y="3070080"/>
              <a:ext cx="59148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47111"/>
            <p:cNvSpPr/>
            <p:nvPr/>
          </p:nvSpPr>
          <p:spPr>
            <a:xfrm>
              <a:off x="1618200" y="3358800"/>
              <a:ext cx="2079000" cy="1019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Електрич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47112"/>
            <p:cNvSpPr/>
            <p:nvPr/>
          </p:nvSpPr>
          <p:spPr>
            <a:xfrm>
              <a:off x="5004000" y="3070080"/>
              <a:ext cx="595440" cy="254880"/>
            </a:xfrm>
            <a:prstGeom prst="line">
              <a:avLst/>
            </a:prstGeom>
            <a:ln w="28440">
              <a:solidFill>
                <a:srgbClr val="0101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47113"/>
            <p:cNvSpPr/>
            <p:nvPr/>
          </p:nvSpPr>
          <p:spPr>
            <a:xfrm>
              <a:off x="5150160" y="3358800"/>
              <a:ext cx="2189160" cy="10198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00c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00"/>
                  </a:solidFill>
                  <a:latin typeface="Tahoma"/>
                </a:rPr>
                <a:t>Магнітні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_s47114"/>
            <p:cNvSpPr/>
            <p:nvPr/>
          </p:nvSpPr>
          <p:spPr>
            <a:xfrm>
              <a:off x="2629440" y="1990440"/>
              <a:ext cx="3738960" cy="1013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141999" dir="1590005" blurRad="0" rotWithShape="0">
                <a:srgbClr val="66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600" spc="-1" strike="noStrike">
                  <a:solidFill>
                    <a:srgbClr val="9900ff"/>
                  </a:solidFill>
                  <a:latin typeface="Tahoma"/>
                </a:rPr>
                <a:t>Статичні поля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24000" y="4653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Які заходи безпеки треба вжити при використанні мікрохвильової печі? Мобільного телефо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00ff"/>
                </a:solidFill>
                <a:latin typeface="Tahoma"/>
              </a:rPr>
              <a:t>Хімічні мутагени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рганічні розчинники (ацетон, миючі засоби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стициди (гербіциди, фунгіцид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Харчові добавки (ароматичні вуглеводи, циклам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родукти переробки наф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Лікарські препарати (ртуті, імунодепресан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Б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охідні сечовини, які застосовуються в сільському господарстві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Деякі алкалоїди (колхіцин застосовується в селекції росл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Окисники і відновники (нітрити, нітрати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Пероксид гідроге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Формальдегі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Tahoma"/>
              </a:rPr>
              <a:t>Важкі метал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7:33:50Z</dcterms:created>
  <dc:creator>User</dc:creator>
  <dc:description/>
  <dc:language>en-US</dc:language>
  <cp:lastModifiedBy>User</cp:lastModifiedBy>
  <dcterms:modified xsi:type="dcterms:W3CDTF">2013-01-08T10:26:36Z</dcterms:modified>
  <cp:revision>4</cp:revision>
  <dc:subject/>
  <dc:title>Мутагени та їх класифікаці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2000000000001024140</vt:lpwstr>
  </property>
</Properties>
</file>