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A10-FBD7-49A1-8A94-B8DD5DA5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224-29FB-479A-8D71-20EB0F1D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A19-3959-4CA7-B2C1-174808A8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C4D-0A07-4032-8C14-134763F4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B40-010C-4456-8815-B1129A17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4D4-1ABC-4CE2-AD87-6CC76145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D59-47D8-4C77-92EC-632D97D3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856-2429-444B-A037-576F38DF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4D2-1287-48BA-AD0B-A504DEB8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EC2-60CA-4FDB-BF0B-E90595F4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04E-E5F6-41DA-960A-48F3AFE0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47C-595C-4EDB-9468-73ADFF1E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B148-73AD-4556-8162-0299421E0E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15"/>
          <p:cNvSpPr txBox="1"/>
          <p:nvPr/>
        </p:nvSpPr>
        <p:spPr>
          <a:xfrm>
            <a:off x="1908000" y="4581360"/>
            <a:ext cx="5580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и, вплив мутагені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 їх профілакти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770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Імунна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Шкі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Слизова оболонка дихальних шляхі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Слина, шлунковий сік, жов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539640" y="404640"/>
            <a:ext cx="795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хист спадкового апарату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5" descr="dnn"/>
          <p:cNvPicPr/>
          <p:nvPr/>
        </p:nvPicPr>
        <p:blipFill>
          <a:blip r:embed="rId1"/>
          <a:stretch/>
        </p:blipFill>
        <p:spPr>
          <a:xfrm>
            <a:off x="6591240" y="1125360"/>
            <a:ext cx="2341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спеції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— перець, гірчиця, імби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зелень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— кінза, петрушка, цибу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зелений чай, яблука, капуста, баклажани, 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я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натуральні червоні в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йогу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826920" y="333360"/>
            <a:ext cx="78487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'ЯКШУЮТЬ ДІЮ МУТАГЕНІ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живайте хліб з висів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иключте з раціону консерви і копченості, газовану воду з синтетичними барвник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коротіть кількість солодощ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Приймайте лактобактерин і біфідумбактерин: вони очищають шлунок і нормалізують роботу «корисних» бактерій, які теж здатні вступити в боротьбу з мутагенами.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2124000" y="476280"/>
            <a:ext cx="496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ІЛАКТИ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ацюйте з миючими засобами тільки в гумових рукавичках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и хронічних захворюваннях регулярно звертайтеся до лікаря: ваш ослаблений організм — сприятливе середовище для мутагені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Не приймайте без поради лікаря ніяких ліків — вони також можуть негативно вплинути на спадковий апарат.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2124000" y="476280"/>
            <a:ext cx="496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ІЛАКТИ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Поняття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м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утагене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2. Радіаційний мутаген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3. Відкриття Г.А. Надс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4. Мутагени в їж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4. Захист спадкового апарату від мутаге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5. Профілактика мутагене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324000" y="189000"/>
            <a:ext cx="842472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 ПРЕЗЕНТАЦІЇ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0920" y="4552920"/>
            <a:ext cx="81579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Штучне отримання мутаці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ід впливом мутагені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7"/>
          <p:cNvSpPr txBox="1"/>
          <p:nvPr/>
        </p:nvSpPr>
        <p:spPr>
          <a:xfrm>
            <a:off x="179280" y="2781360"/>
            <a:ext cx="2808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ЕЗ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міни пов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язані з розривом хромосом. Це спричинено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ливостями процесів, що відбуваються в тканинах під дією випромінюванн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animal-genetica"/>
          <p:cNvPicPr/>
          <p:nvPr/>
        </p:nvPicPr>
        <p:blipFill>
          <a:blip r:embed="rId1"/>
          <a:stretch/>
        </p:blipFill>
        <p:spPr>
          <a:xfrm>
            <a:off x="4859280" y="3718080"/>
            <a:ext cx="4032360" cy="2941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250920" y="3716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ДЕЛЕЦІЯ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(от лат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letio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– знищення) – тип хромосомної перебудови, за якої з ДНК випадає ділянка генетичного  матеріа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1116000" y="549360"/>
            <a:ext cx="68961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ДІАЦІЙНИЙ МУТАГЕНЕЗ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Індуковані мутації, що спричинені радіоактивним випромінюванням, уперше були відкриті радянським ученим Г.А. Надсоно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971640" y="1341360"/>
            <a:ext cx="7345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ДІАЦІЙНИЙ МУТАГЕНЕЗ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708000" y="1557000"/>
            <a:ext cx="5189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танік-мікробіолог, бібліотекар Імператорсь-кого ботанічного саду та професор Петроградського жіночого медичного інсти-тут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віту здобув у Санкт-Петербурзькому універ-ситеті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Nadson"/>
          <p:cNvPicPr/>
          <p:nvPr/>
        </p:nvPicPr>
        <p:blipFill>
          <a:blip r:embed="rId1"/>
          <a:stretch/>
        </p:blipFill>
        <p:spPr>
          <a:xfrm>
            <a:off x="324000" y="1628640"/>
            <a:ext cx="3225600" cy="4176720"/>
          </a:xfrm>
          <a:prstGeom prst="rect">
            <a:avLst/>
          </a:prstGeom>
          <a:ln w="0">
            <a:noFill/>
          </a:ln>
        </p:spPr>
      </p:pic>
      <p:sp>
        <p:nvSpPr>
          <p:cNvPr id="119" name="WordArt 7"/>
          <p:cNvSpPr txBox="1"/>
          <p:nvPr/>
        </p:nvSpPr>
        <p:spPr>
          <a:xfrm>
            <a:off x="395280" y="476280"/>
            <a:ext cx="84931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ДСОН ГЕОРГІЙ АДАМОВИЧ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1867 - 1939)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5410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У рідких випадках покращують властивості організм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Це основний матеріал для природного і штучного доб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Необхідна умова еволюції в природі і селекції корисних форм рослин, тварин і мікроорганізм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411280" y="476280"/>
            <a:ext cx="4248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ЦІЇ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465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8086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кідливі хімічні речовини з грунту переходять до рослин. Разом з ними ми поглинаємо 37% марганцю, 41% — цинку, 32% — міді, 10%  -  нікел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 довгочасному збереженні харчових продуктів утворюються мутагени під час окислення ліпід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2050920" y="333360"/>
            <a:ext cx="52578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и в їжі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Picture 4" descr="хромосома"/>
          <p:cNvPicPr/>
          <p:nvPr/>
        </p:nvPicPr>
        <p:blipFill>
          <a:blip r:embed="rId1"/>
          <a:stretch/>
        </p:blipFill>
        <p:spPr>
          <a:xfrm>
            <a:off x="5796000" y="4653000"/>
            <a:ext cx="3168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Холестерин, що міститься в маслі, яйцях, сметані, вершках, при довгочасному збереженні стає мутагенн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макові добавки, що використовуються  при консервації, і консерванти, які додають до соків теж стають мутаген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Запечене 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яс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2050920" y="476280"/>
            <a:ext cx="52578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и в їжі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4" descr="хромосома"/>
          <p:cNvPicPr/>
          <p:nvPr/>
        </p:nvPicPr>
        <p:blipFill>
          <a:blip r:embed="rId1"/>
          <a:stretch/>
        </p:blipFill>
        <p:spPr>
          <a:xfrm>
            <a:off x="5796000" y="4653000"/>
            <a:ext cx="3168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9:35:32Z</dcterms:created>
  <dc:creator>Долгорукова</dc:creator>
  <dc:description/>
  <dc:language>en-US</dc:language>
  <cp:lastModifiedBy>User</cp:lastModifiedBy>
  <dcterms:modified xsi:type="dcterms:W3CDTF">2013-01-08T10:26:42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605000000000001024140</vt:lpwstr>
  </property>
</Properties>
</file>