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497-06E5-4960-B42F-B30EF3E9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F82-A481-4018-BB0C-F2D287B4A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8ED8-BB1B-496A-881F-6CFFA198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9368-D29A-496D-B2E1-28E7E2CA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F913-6589-4051-A01C-EA24B2B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AF0-E797-498A-9DD1-A09DA095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9FF-A69E-4D53-89BB-DC649661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D39-4B62-4B04-9EFE-8D04C3C58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F26-BEAA-4143-809B-1EB15555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7F9-7588-4B63-BFF4-E2A89022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82CA-FA17-4BF1-A65D-B46BD73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E3F3-7BCE-4474-9B76-F2CC9CA9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0F75-0BF9-4D0A-BB35-8A6E93FED8A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15"/>
          <p:cNvSpPr txBox="1"/>
          <p:nvPr/>
        </p:nvSpPr>
        <p:spPr>
          <a:xfrm>
            <a:off x="1908000" y="4581360"/>
            <a:ext cx="558036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, вплив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 їх 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Імунна систем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Шкі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зова оболонка дихальних шляхі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Times New Roman"/>
              </a:rPr>
              <a:t>Слина, шлунковий сік, жов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539640" y="404640"/>
            <a:ext cx="795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хист спадкового апарату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1" name="Picture 5" descr="dnn"/>
          <p:cNvPicPr/>
          <p:nvPr/>
        </p:nvPicPr>
        <p:blipFill>
          <a:blip r:embed="rId1"/>
          <a:stretch/>
        </p:blipFill>
        <p:spPr>
          <a:xfrm>
            <a:off x="6591240" y="1125360"/>
            <a:ext cx="23418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спеції 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— перець, гірчиця, імб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зелень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— кінза, петрушка, цибу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лений чай, яблука, капуста, баклажани,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т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атуральні червоні в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йогур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826920" y="333360"/>
            <a:ext cx="78487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М'ЯКШУЮТЬ ДІЮ МУТАГЕНІВ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живайте хліб з висівк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иключте з раціону консерви і копченості, газовану воду з синтетичними барвник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коротіть кількість солодощ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иймайте лактобактерин і біфідумбактерин: вони очищають шлунок і нормалізують роботу «корисних» бактерій, які теж здатні вступити в боротьбу з мутагенами.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ацюйте з миючими засобами тільки в гумових рукавичках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При хронічних захворюваннях регулярно звертайтеся до лікаря: ваш ослаблений організм — сприятливе середовище для мутагені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Не приймайте без поради лікаря ніяких ліків — вони також можуть негативно вплинути на спадковий апарат.</a:t>
            </a:r>
            <a:br>
              <a:rPr sz="2800"/>
            </a:br>
            <a:br>
              <a:rPr sz="2800"/>
            </a:b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WordArt 4"/>
          <p:cNvSpPr txBox="1"/>
          <p:nvPr/>
        </p:nvSpPr>
        <p:spPr>
          <a:xfrm>
            <a:off x="2124000" y="476280"/>
            <a:ext cx="49640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ОФІЛАКТИКА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Поняття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м</a:t>
            </a: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2. Радіаційний мутаген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3. Відкриття Г.А. Надсо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Мутагени в їж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4. Захист спадкового апарату від мутаген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imes New Roman"/>
              </a:rPr>
              <a:t>5. Профілактика мутагенез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WordArt 7"/>
          <p:cNvSpPr txBox="1"/>
          <p:nvPr/>
        </p:nvSpPr>
        <p:spPr>
          <a:xfrm>
            <a:off x="324000" y="189000"/>
            <a:ext cx="842472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ЛАН ПРЕЗЕН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10920" y="4552920"/>
            <a:ext cx="815796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Штучне отримання мутаці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ід впливом мутагені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179280" y="2781360"/>
            <a:ext cx="2808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міни пов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зані з розривом хромосом. Це спричинено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собливостями процесів, що відбуваються в тканинах під дією випромінюванн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animal-genetica"/>
          <p:cNvPicPr/>
          <p:nvPr/>
        </p:nvPicPr>
        <p:blipFill>
          <a:blip r:embed="rId1"/>
          <a:stretch/>
        </p:blipFill>
        <p:spPr>
          <a:xfrm>
            <a:off x="4859280" y="3718080"/>
            <a:ext cx="4032360" cy="2941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250920" y="3716280"/>
            <a:ext cx="43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ЛЕЦІЯ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(от лат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eletio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 – знищення) – тип хромосомної перебудови, за якої з ДНК випадає ділянка генетичного  матеріа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WordArt 7"/>
          <p:cNvSpPr txBox="1"/>
          <p:nvPr/>
        </p:nvSpPr>
        <p:spPr>
          <a:xfrm>
            <a:off x="1116000" y="549360"/>
            <a:ext cx="68961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4365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Індуковані мутації, що спричинені радіоактивним випромінюванням, уперше були відкриті радянським ученим Г.А. Надсоно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WordArt 7"/>
          <p:cNvSpPr txBox="1"/>
          <p:nvPr/>
        </p:nvSpPr>
        <p:spPr>
          <a:xfrm>
            <a:off x="971640" y="1341360"/>
            <a:ext cx="7345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АДІАЦІЙНИЙ МУТАГЕНЕЗ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708000" y="1557000"/>
            <a:ext cx="5189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отанік-мікробіолог, бібліотекар Імператорсь-кого ботанічного саду та професор Петроградського жіночого медичного інсти-ту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світу здобув у Санкт-Петербурзькому універ-ситеті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Nadson"/>
          <p:cNvPicPr/>
          <p:nvPr/>
        </p:nvPicPr>
        <p:blipFill>
          <a:blip r:embed="rId1"/>
          <a:stretch/>
        </p:blipFill>
        <p:spPr>
          <a:xfrm>
            <a:off x="324000" y="1628640"/>
            <a:ext cx="3225600" cy="417672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395280" y="476280"/>
            <a:ext cx="84931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ДСОН ГЕОРГІЙ АДАМОВИЧ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(1867 - 1939)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5410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У рідких випадках покращують властивості 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Це основний матеріал для природного і штучного доб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Необхідна умова еволюції в природі і селекції корисних форм рослин, тварин і мікроорганізм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411280" y="476280"/>
            <a:ext cx="424836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ЦІЇ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08720" y="1844640"/>
            <a:ext cx="3465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0920" y="1196640"/>
            <a:ext cx="80866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Шкідливі хімічні речовини з грунту переходять до рослин. Разом з ними ми поглинаємо 37% марганцю, 41% — цинку, 32% — міді, 10%  -  нікел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 довгочасному збереженні харчових продуктів утворюються мутагени під час окислення ліпіді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2050920" y="333360"/>
            <a:ext cx="52578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Холестерин, що міститься в маслі, яйцях, сметані, вершках, при довгочасному збереженні стає мутагенн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макові добавки, що використовуються  при консервації, і консерванти, які додають до соків теж стають мутаген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апечене м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яс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4"/>
          <p:cNvSpPr txBox="1"/>
          <p:nvPr/>
        </p:nvSpPr>
        <p:spPr>
          <a:xfrm>
            <a:off x="2050920" y="476280"/>
            <a:ext cx="52578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утагени в їжі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8" name="Picture 4" descr="хромосома"/>
          <p:cNvPicPr/>
          <p:nvPr/>
        </p:nvPicPr>
        <p:blipFill>
          <a:blip r:embed="rId1"/>
          <a:stretch/>
        </p:blipFill>
        <p:spPr>
          <a:xfrm>
            <a:off x="5796000" y="4653000"/>
            <a:ext cx="316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4T09:35:32Z</dcterms:created>
  <dc:creator>Долгорукова</dc:creator>
  <dc:description/>
  <dc:language>en-US</dc:language>
  <cp:lastModifiedBy>User</cp:lastModifiedBy>
  <dcterms:modified xsi:type="dcterms:W3CDTF">2013-01-08T10:26:42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605000000000001024140</vt:lpwstr>
  </property>
</Properties>
</file>