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41A-6B32-42F3-A2E4-1F1C02B5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C1C-B8AF-42F0-BD7E-F21B4B2B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FCD-9734-4A2F-B601-384B8237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7E5-B93D-4738-8ACC-57CA3756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B6A9-6784-4AE3-B48F-3299E655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B05B-A991-48E3-817F-FDED4B10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DF59-956C-402D-9B76-1AA64A4D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2E50-8F26-46A9-A498-EAC6EAE3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73FA-CBA2-4414-9E4A-B7B967BD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BA3D-BD2C-4246-9757-CEC3FE5A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33EC-D10D-445A-B9C2-8EE2344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4CC-9D95-4C26-8E05-7318014E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8CF-BE82-4DB2-8A1C-FD40040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2659-5919-4F5A-9FCF-E027337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8A17-DDD3-490E-AC22-D25DD335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6E53-47DD-40E0-BEC5-207E2957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09A3-F923-4CAB-9F32-C7C3D1AA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CDE-011A-4321-9E92-4D198987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74C-5DD7-4DD8-847F-FE6761E2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D47-1BC0-4CA9-91E2-2D3A0DFA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4FB-4A8D-4891-8AE9-098B5079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5AC-61D3-4016-A44B-F30BF491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56C-A3B4-445F-9935-31CEA4CF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2D9-8D08-467F-A88E-961DB4F3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CDC7-5393-44D2-841D-DC71DEA5254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59AF-C4C3-4FF1-B69A-8C2FCCE7F065}" type="slidenum"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KorkeichePortugal199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Gemmage_of_Pinus_in_Portugal(front)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91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лайд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547640" y="903240"/>
            <a:ext cx="73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Встановіть відповідність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А Механічна тканина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Б Ситоподібні трубк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indent="449280" algn="ctr"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Центральний циліндр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     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В Кореневі волоск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                      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Г Судин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Д Основна запасаюча тканина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       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Е Кореневий чохлик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Прямая соединительная линия 6"/>
          <p:cNvSpPr/>
          <p:nvPr/>
        </p:nvSpPr>
        <p:spPr>
          <a:xfrm>
            <a:off x="5219640" y="1700280"/>
            <a:ext cx="0" cy="335736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0920" y="239760"/>
            <a:ext cx="7351560" cy="91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imes New Roman"/>
              </a:rPr>
              <a:t>                           </a:t>
            </a:r>
            <a:r>
              <a:rPr b="0" lang="uk-UA" sz="2800" spc="-1" strike="noStrike">
                <a:solidFill>
                  <a:srgbClr val="0000cc"/>
                </a:solidFill>
                <a:latin typeface="Times New Roman"/>
              </a:rPr>
              <a:t>Слайд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68"/>
          <p:cNvSpPr/>
          <p:nvPr/>
        </p:nvSpPr>
        <p:spPr>
          <a:xfrm>
            <a:off x="0" y="53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28880" y="571680"/>
          <a:ext cx="7005600" cy="1000080"/>
        </p:xfrm>
        <a:graphic>
          <a:graphicData uri="http://schemas.openxmlformats.org/drawingml/2006/table">
            <a:tbl>
              <a:tblPr/>
              <a:tblGrid>
                <a:gridCol w="700560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Таблиця. Встановіть відповідність»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357280" y="1928880"/>
          <a:ext cx="5865840" cy="3352680"/>
        </p:xfrm>
        <a:graphic>
          <a:graphicData uri="http://schemas.openxmlformats.org/drawingml/2006/table">
            <a:tbl>
              <a:tblPr/>
              <a:tblGrid>
                <a:gridCol w="395280"/>
                <a:gridCol w="1890720"/>
                <a:gridCol w="500400"/>
                <a:gridCol w="3079440"/>
              </a:tblGrid>
              <a:tr h="305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Частина стебла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Функції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амбій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Захист, дихання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ерцевинні промені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исхідний рух речовин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итоподібні трубки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Низхідний рух речовин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удини деревини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Ріст  стебла в товщину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оризонтальне переміщення сполук між шарами стебла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4360" y="1908360"/>
            <a:ext cx="77263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Times New Roman"/>
              </a:rPr>
              <a:t>К</a:t>
            </a:r>
            <a:r>
              <a:rPr b="1" lang="uk-UA" sz="1400" spc="-1" strike="noStrike">
                <a:solidFill>
                  <a:srgbClr val="333300"/>
                </a:solidFill>
                <a:latin typeface="Times New Roman"/>
              </a:rPr>
              <a:t>орковий дуб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 — вічнозелене дерево родини букових, що походить з південно-західної Європи та північної Африки. Шляхом інтродукції з'явилося також в інших країнах Середземномор'я. В Україні культивується на Кримському півострові. Росте також у Франції, Іспанії, Італії, на Кавказі. Живе до 200 років і більше. Має декоративне значення. Дерево досягає висоти 20 метрів, діаметра — до 1 м. Стовбур і старі гілки покриті твердою товстою, глибокозморшкуватою корою (корком).  Особливістю дерева є вогнестійкість корку, завдяки чому стовбур не зазнає значних пошкоджень при лісових пожежах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Корковий дуб вирощують з метою одержання корку. Для виробництва корку знімається лише верхній шар кори стовбура і старих гілок, тому «роздягання» абсолютно не ушкоджує дерево. А приблизно через 10 років кора цілком відновлюється, і її знову знімають з дерева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Ще в середні віки корок використовували ченці для утеплювання стін в холодних залах монастирів. Завдяки своїй структурі — а корок являє собою безліч замкнутих бульбашок повітря різної величини (як стільники) — це один з найкращих з природних тепло- і звукоізоляційних матеріалів. Найважливішою з технічних властивостей є м'яка пружність корку, оскільки цей матеріал володіє дивовижною здатністю поновлюватися: як тільки ви зробили крок, він легко набуває первинного вигляду після деформації. Така «пружинка» під ногами створює особливий ортопедичний ефект, розвантажуючи опорно-руховий апарат людини. З коркових відходів виготовляють шапки, сумки і навіть парасольки, одержують бензол, нафталін, світильний газ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646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Учнівська медіасторінк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220px-KorkeichePortugal1994" descr="KorkeichePortugal199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907920"/>
            <a:ext cx="2667240" cy="2089440"/>
          </a:xfrm>
          <a:prstGeom prst="rect">
            <a:avLst/>
          </a:prstGeom>
          <a:ln w="0">
            <a:noFill/>
          </a:ln>
        </p:spPr>
      </p:pic>
      <p:pic>
        <p:nvPicPr>
          <p:cNvPr id="199" name="il_fi" descr=""/>
          <p:cNvPicPr/>
          <p:nvPr/>
        </p:nvPicPr>
        <p:blipFill>
          <a:blip r:embed="rId3"/>
          <a:stretch/>
        </p:blipFill>
        <p:spPr>
          <a:xfrm>
            <a:off x="5796000" y="4149720"/>
            <a:ext cx="28065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991040" y="1772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00"/>
                </a:solidFill>
                <a:latin typeface="Times New Roman"/>
              </a:rPr>
              <a:t>Дуб корковий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00240" y="173988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</a:t>
            </a:r>
            <a:r>
              <a:rPr b="0" lang="uk-UA" sz="2800" spc="-1" strike="noStrike">
                <a:solidFill>
                  <a:srgbClr val="333300"/>
                </a:solidFill>
                <a:latin typeface="Times New Roman"/>
              </a:rPr>
              <a:t>і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д</a:t>
            </a:r>
            <a:r>
              <a:rPr b="0" lang="uk-UA" sz="2800" spc="-1" strike="noStrike">
                <a:solidFill>
                  <a:srgbClr val="333300"/>
                </a:solidFill>
                <a:latin typeface="Times New Roman"/>
              </a:rPr>
              <a:t>повідніст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00"/>
                </a:solidFill>
                <a:latin typeface="Times New Roman"/>
              </a:rPr>
              <a:t>1 </a:t>
            </a:r>
            <a:r>
              <a:rPr b="0" lang="uk-UA" sz="2800" spc="-1" strike="noStrike">
                <a:solidFill>
                  <a:srgbClr val="333300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333300"/>
                </a:solidFill>
                <a:latin typeface="Times New Roman"/>
              </a:rPr>
              <a:t> А, Б, Г, Д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1403280" y="981000"/>
            <a:ext cx="6697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 квіткової рослини</a:t>
            </a:r>
            <a:endParaRPr b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6" descr="Будова рослини фото"/>
          <p:cNvPicPr/>
          <p:nvPr/>
        </p:nvPicPr>
        <p:blipFill>
          <a:blip r:embed="rId1"/>
          <a:stretch/>
        </p:blipFill>
        <p:spPr>
          <a:xfrm>
            <a:off x="1785960" y="1571760"/>
            <a:ext cx="6121440" cy="41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l_fi" descr="Мал"/>
          <p:cNvPicPr/>
          <p:nvPr/>
        </p:nvPicPr>
        <p:blipFill>
          <a:blip r:embed="rId1"/>
          <a:stretch/>
        </p:blipFill>
        <p:spPr>
          <a:xfrm>
            <a:off x="2916360" y="1916280"/>
            <a:ext cx="44971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333360"/>
            <a:ext cx="74916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WordArt 8"/>
          <p:cNvSpPr txBox="1"/>
          <p:nvPr/>
        </p:nvSpPr>
        <p:spPr>
          <a:xfrm>
            <a:off x="539640" y="836640"/>
            <a:ext cx="8313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утрішня будова стебла</a:t>
            </a:r>
            <a:endParaRPr b="0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1214280" y="474120"/>
            <a:ext cx="792972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Кор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Корок           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   Луб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Функції: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З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ахисн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щільне розміщення клітин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Дихання (сочевички)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провідна тканина             механічна тканина       основна тканин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                  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(ситоподібні трубки)        (луб’яні волокна )     ( великі       клітини) </a:t>
            </a:r>
            <a:r>
              <a:rPr b="0" lang="uk-UA" sz="1400" spc="-1" strike="noStrike">
                <a:solidFill>
                  <a:srgbClr val="33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75" name="Прямая со стрелкой 8"/>
          <p:cNvCxnSpPr/>
          <p:nvPr/>
        </p:nvCxnSpPr>
        <p:spPr>
          <a:xfrm flipH="1">
            <a:off x="2856960" y="1356120"/>
            <a:ext cx="1572120" cy="42948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76" name="Прямая со стрелкой 10"/>
          <p:cNvCxnSpPr/>
          <p:nvPr/>
        </p:nvCxnSpPr>
        <p:spPr>
          <a:xfrm>
            <a:off x="4500720" y="1356840"/>
            <a:ext cx="1715040" cy="42948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77" name="Прямая со стрелкой 12"/>
          <p:cNvCxnSpPr/>
          <p:nvPr/>
        </p:nvCxnSpPr>
        <p:spPr>
          <a:xfrm flipH="1">
            <a:off x="2712240" y="1928520"/>
            <a:ext cx="2520" cy="21492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78" name="Прямая со стрелкой 22"/>
          <p:cNvCxnSpPr/>
          <p:nvPr/>
        </p:nvCxnSpPr>
        <p:spPr>
          <a:xfrm flipH="1">
            <a:off x="4642560" y="2000160"/>
            <a:ext cx="1429560" cy="121536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79" name="Прямая со стрелкой 24"/>
          <p:cNvCxnSpPr/>
          <p:nvPr/>
        </p:nvCxnSpPr>
        <p:spPr>
          <a:xfrm flipH="1">
            <a:off x="6214680" y="1999800"/>
            <a:ext cx="2160" cy="114372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80" name="Прямая со стрелкой 26"/>
          <p:cNvCxnSpPr/>
          <p:nvPr/>
        </p:nvCxnSpPr>
        <p:spPr>
          <a:xfrm>
            <a:off x="6357960" y="2000160"/>
            <a:ext cx="1715040" cy="128664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Мал. 61. Частина поздовжнього зрізу стебла.jpg"/>
          <p:cNvPicPr/>
          <p:nvPr/>
        </p:nvPicPr>
        <p:blipFill>
          <a:blip r:embed="rId1"/>
          <a:stretch/>
        </p:blipFill>
        <p:spPr>
          <a:xfrm>
            <a:off x="2627280" y="2060640"/>
            <a:ext cx="453060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68360" y="765000"/>
            <a:ext cx="84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ини провідної системи деревини</a:t>
            </a:r>
            <a:endParaRPr b="0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230px-Gemmage_of_Pinus_in_Portugal%28front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844640"/>
            <a:ext cx="7129440" cy="4392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59920"/>
            <a:ext cx="74916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WordArt 9"/>
          <p:cNvSpPr txBox="1"/>
          <p:nvPr/>
        </p:nvSpPr>
        <p:spPr>
          <a:xfrm>
            <a:off x="1042920" y="69228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а тканина з живицею сосни</a:t>
            </a:r>
            <a:endParaRPr b="0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Мал. 62. Річні кільця.jpg"/>
          <p:cNvPicPr/>
          <p:nvPr/>
        </p:nvPicPr>
        <p:blipFill>
          <a:blip r:embed="rId1"/>
          <a:stretch/>
        </p:blipFill>
        <p:spPr>
          <a:xfrm>
            <a:off x="1835280" y="1844640"/>
            <a:ext cx="6459480" cy="4824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695952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1258920" y="907920"/>
            <a:ext cx="7594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ічні кільця</a:t>
            </a:r>
            <a:endParaRPr b="0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9320" y="228600"/>
            <a:ext cx="597240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артк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ЛАБОРАТОРНА РОБОТА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333300"/>
                </a:solidFill>
                <a:latin typeface="Arial"/>
              </a:rPr>
              <a:t>                        </a:t>
            </a:r>
            <a:r>
              <a:rPr b="1" lang="uk-UA" sz="1800" spc="-1" strike="noStrike">
                <a:solidFill>
                  <a:srgbClr val="cc66ff"/>
                </a:solidFill>
                <a:latin typeface="Arial"/>
              </a:rPr>
              <a:t>Будова стебла у зв’язку з його функціями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3300"/>
                </a:solidFill>
                <a:latin typeface="Arial"/>
              </a:rPr>
              <a:t>1. Розгляньте за допомогою лупи розпил гілки. Визначте окремі шари. Знайдіть річні кільця. Визначте вік гілки, розпил якої ви розглядаєт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33"/>
                </a:solidFill>
                <a:latin typeface="Arial"/>
              </a:rPr>
              <a:t>2. Візьміть до рук відрізок гілочки липи, вздовж надрізів препарувальною голкою і пінцетом відокремте кору від деревини. Ви відчуваєте, що деревина волога і слизька. Це вміст клітин камбію витікає й зволожує поверхню деревини, бо вони рвуться, коли знімають луб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3300"/>
                </a:solidFill>
                <a:latin typeface="Arial"/>
              </a:rPr>
              <a:t>3.Розгляньте надані мікропрепарати під мікроскопом. На них вам вдасться чітко побачити окремі шари стебла на поперечному зрізі, розпізнати серцевинні промені і судини деревини. Судини деревини мають великий просвіт, ними транспортуються вода і мінеральні солі від кореневої системи вгор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0:51:08Z</dcterms:created>
  <dc:creator>Olesya</dc:creator>
  <dc:description/>
  <dc:language>en-US</dc:language>
  <cp:lastModifiedBy>www.PHILka.RU</cp:lastModifiedBy>
  <dcterms:modified xsi:type="dcterms:W3CDTF">2012-12-04T05:47:16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7000000000001024140</vt:lpwstr>
  </property>
</Properties>
</file>