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94C-92A2-43BC-AADB-2BB9FC1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712-6FE8-46FF-A582-50C6BD6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95B-C802-4C14-9316-7FFA806B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2DC-0396-4869-BE48-B01B248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561-8629-4DF0-8525-1F8E8B7C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4ACF-D341-4B75-B864-AEFC373A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C047-04C0-408F-917F-AC643A37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0E56-834B-451E-BF3A-6E9D4AA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576A-ECFB-4E00-B9DA-3B256A58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443D-1756-4F6F-8E05-958648FA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F2BE-2011-4F08-B4E4-ADFBCA3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A49-D90E-4775-8D31-BFF853F4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C6DE-0C5B-4D6B-891F-30FA5997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A0BB-8F7C-414C-A520-81616D8B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5E86-752B-4693-AA6D-CDB0286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CBD1-53C1-4835-BC73-E359B7CA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80EE-A9F2-4B0F-8DDD-DFEAB45D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5172-427B-4DC7-9FD3-833F4EDD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D27-4104-4FA3-8681-8294FDD0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D121-6769-43B2-88CA-82AFD957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0DEB-43DB-48D0-B676-D2321317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BF5-026A-4D7C-AA24-B07669A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F91-75E5-45F3-9788-3BFCA9E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FD0-2101-405E-985B-B96439F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15E-1ACF-4CD5-9B53-6D13787CB838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1025640"/>
                <a:gd name="textAreaBottom" fmla="*/ 1026000 h 1025640"/>
              </a:gdLst>
              <a:ahLst/>
              <a:rect l="textAreaLeft" t="textAreaTop" r="textAreaRight" b="textAreaBottom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>
                    <a:gd name="textAreaLeft" fmla="*/ 0 w 54000"/>
                    <a:gd name="textAreaRight" fmla="*/ 54360 w 540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>
                    <a:gd name="textAreaLeft" fmla="*/ 0 w 350640"/>
                    <a:gd name="textAreaRight" fmla="*/ 351000 w 3506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>
                    <a:gd name="textAreaLeft" fmla="*/ 0 w 352440"/>
                    <a:gd name="textAreaRight" fmla="*/ 352800 w 352440"/>
                    <a:gd name="textAreaTop" fmla="*/ 0 h 365040"/>
                    <a:gd name="textAreaBottom" fmla="*/ 365040 h 365040"/>
                  </a:gdLst>
                  <a:ahLst/>
                  <a:rect l="textAreaLeft" t="textAreaTop" r="textAreaRight" b="textAreaBottom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631-6710-475D-A02A-36FF55DB99E7}" type="slidenum"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KorkeichePortugal199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60;&#1072;&#1081;&#1083;:Gemmage_of_Pinus_in_Portugal(front)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916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1547640" y="903240"/>
            <a:ext cx="7344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Встановіть відповідність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А Механічна тканин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Б Ситоподібні трубк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indent="449280" algn="ctr"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Центральний циліндр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В Кореневі волоск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   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Г Судини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Д Основна запасаюча тканина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                                 </a:t>
            </a:r>
            <a:r>
              <a:rPr b="1" lang="uk-UA" sz="2000" spc="-1" strike="noStrike">
                <a:solidFill>
                  <a:srgbClr val="0033cc"/>
                </a:solidFill>
                <a:latin typeface="Times New Roman"/>
              </a:rPr>
              <a:t>Е Кореневий чохлик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4" name="Прямая соединительная линия 6"/>
          <p:cNvSpPr/>
          <p:nvPr/>
        </p:nvSpPr>
        <p:spPr>
          <a:xfrm>
            <a:off x="5219640" y="1700280"/>
            <a:ext cx="0" cy="335736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10920" y="239760"/>
            <a:ext cx="7351560" cy="91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cc00"/>
                </a:solidFill>
                <a:latin typeface="Times New Roman"/>
              </a:rPr>
              <a:t>                           </a:t>
            </a:r>
            <a:r>
              <a:rPr b="0" lang="uk-UA" sz="2800" spc="-1" strike="noStrike">
                <a:solidFill>
                  <a:srgbClr val="0000cc"/>
                </a:solidFill>
                <a:latin typeface="Times New Roman"/>
              </a:rPr>
              <a:t>Слайд 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8"/>
          <p:cNvSpPr/>
          <p:nvPr/>
        </p:nvSpPr>
        <p:spPr>
          <a:xfrm>
            <a:off x="0" y="536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571680"/>
          <a:ext cx="7005600" cy="1000080"/>
        </p:xfrm>
        <a:graphic>
          <a:graphicData uri="http://schemas.openxmlformats.org/drawingml/2006/table">
            <a:tbl>
              <a:tblPr/>
              <a:tblGrid>
                <a:gridCol w="700560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uk-UA" sz="28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«Таблиця. Встановіть відповідність»</a:t>
                      </a:r>
                      <a:endParaRPr b="0" lang="en-US" sz="2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2357280" y="1928880"/>
          <a:ext cx="5865840" cy="3352680"/>
        </p:xfrm>
        <a:graphic>
          <a:graphicData uri="http://schemas.openxmlformats.org/drawingml/2006/table">
            <a:tbl>
              <a:tblPr/>
              <a:tblGrid>
                <a:gridCol w="395280"/>
                <a:gridCol w="1890720"/>
                <a:gridCol w="500400"/>
                <a:gridCol w="3079440"/>
              </a:tblGrid>
              <a:tr h="305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Частина стебл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амбій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Захист, дихання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ерцевинні промені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исхідний рух речовин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итоподібні трубки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Низхідний рух речовин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удини деревини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Ріст  стебла в товщину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68760" rIns="68760" tIns="0" bIns="0" anchor="t">
                      <a:noAutofit/>
                    </a:bodyPr>
                    <a:p>
                      <a:pPr marL="212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Горизонтальне переміщення сполук між шарами стебла</a:t>
                      </a:r>
                      <a:endParaRPr b="0" lang="en-US" sz="20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4360" y="1908360"/>
            <a:ext cx="77263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00"/>
                </a:solidFill>
                <a:latin typeface="Times New Roman"/>
              </a:rPr>
              <a:t>К</a:t>
            </a:r>
            <a:r>
              <a:rPr b="1" lang="uk-UA" sz="1400" spc="-1" strike="noStrike">
                <a:solidFill>
                  <a:srgbClr val="333300"/>
                </a:solidFill>
                <a:latin typeface="Times New Roman"/>
              </a:rPr>
              <a:t>орковий дуб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 — вічнозелене дерево родини букових, що походить з південно-західної Європи та північної Африки. Шляхом інтродукції з'явилося також в інших країнах Середземномор'я. В Україні культивується на Кримському півострові. Росте також у Франції, Іспанії, Італії, на Кавказі. Живе до 200 років і більше. Має декоративне значення. Дерево досягає висоти 20 метрів, діаметра — до 1 м. Стовбур і старі гілки покриті твердою товстою, глибокозморшкуватою корою (корком).  Особливістю дерева є вогнестійкість корку, завдяки чому стовбур не зазнає значних пошкоджень при лісових пожежах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Корковий дуб вирощують з метою одержання корку. Для виробництва корку знімається лише верхній шар кори стовбура і старих гілок, тому «роздягання» абсолютно не ушкоджує дерево. А приблизно через 10 років кора цілком відновлюється, і її знову знімають з дерева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Ще в середні віки корок використовували ченці для утеплювання стін в холодних залах монастирів. Завдяки своїй структурі — а корок являє собою безліч замкнутих бульбашок повітря різної величини (як стільники) — це один з найкращих з природних тепло- і звукоізоляційних матеріалів. Найважливішою з технічних властивостей є м'яка пружність корку, оскільки цей матеріал володіє дивовижною здатністю поновлюватися: як тільки ви зробили крок, він легко набуває первинного вигляду після деформації. Така «пружинка» під ногами створює особливий ортопедичний ефект, розвантажуючи опорно-руховий апарат людини. З коркових відходів виготовляють шапки, сумки і навіть парасольки, одержують бензол, нафталін, світильний газ.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6465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Times New Roman"/>
              </a:rPr>
              <a:t>Учнівська медіасторінк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220px-KorkeichePortugal1994" descr="KorkeichePortugal199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907920"/>
            <a:ext cx="2667240" cy="2089440"/>
          </a:xfrm>
          <a:prstGeom prst="rect">
            <a:avLst/>
          </a:prstGeom>
          <a:ln w="0">
            <a:noFill/>
          </a:ln>
        </p:spPr>
      </p:pic>
      <p:pic>
        <p:nvPicPr>
          <p:cNvPr id="199" name="il_fi" descr=""/>
          <p:cNvPicPr/>
          <p:nvPr/>
        </p:nvPicPr>
        <p:blipFill>
          <a:blip r:embed="rId3"/>
          <a:stretch/>
        </p:blipFill>
        <p:spPr>
          <a:xfrm>
            <a:off x="5796000" y="4149720"/>
            <a:ext cx="28065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991040" y="177264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33300"/>
                </a:solidFill>
                <a:latin typeface="Times New Roman"/>
              </a:rPr>
              <a:t>Дуб корковий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000240" y="173988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В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і</a:t>
            </a: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д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повідніст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1 </a:t>
            </a:r>
            <a:r>
              <a:rPr b="0" lang="uk-UA" sz="2800" spc="-1" strike="noStrike">
                <a:solidFill>
                  <a:srgbClr val="333300"/>
                </a:solidFill>
                <a:latin typeface="Calibri"/>
              </a:rPr>
              <a:t>–</a:t>
            </a:r>
            <a:r>
              <a:rPr b="0" lang="uk-UA" sz="2800" spc="-1" strike="noStrike">
                <a:solidFill>
                  <a:srgbClr val="333300"/>
                </a:solidFill>
                <a:latin typeface="Times New Roman"/>
              </a:rPr>
              <a:t> А, Б, Г, Д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1403280" y="981000"/>
            <a:ext cx="6697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и квіткової рослини</a:t>
            </a:r>
            <a:endParaRPr b="1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6" descr="Будова рослини фото"/>
          <p:cNvPicPr/>
          <p:nvPr/>
        </p:nvPicPr>
        <p:blipFill>
          <a:blip r:embed="rId1"/>
          <a:stretch/>
        </p:blipFill>
        <p:spPr>
          <a:xfrm>
            <a:off x="1785960" y="1571760"/>
            <a:ext cx="6121440" cy="41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il_fi" descr="Мал"/>
          <p:cNvPicPr/>
          <p:nvPr/>
        </p:nvPicPr>
        <p:blipFill>
          <a:blip r:embed="rId1"/>
          <a:stretch/>
        </p:blipFill>
        <p:spPr>
          <a:xfrm>
            <a:off x="2916360" y="1916280"/>
            <a:ext cx="44971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0120" y="333360"/>
            <a:ext cx="74916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8"/>
          <p:cNvSpPr txBox="1"/>
          <p:nvPr/>
        </p:nvSpPr>
        <p:spPr>
          <a:xfrm>
            <a:off x="539640" y="836640"/>
            <a:ext cx="8313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утрішня будова стебла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1214280" y="474120"/>
            <a:ext cx="7929720" cy="39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Кор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Корок           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   Луб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      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Функції: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З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ахисн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(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щільне розміщення клітин</a:t>
            </a:r>
            <a:r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)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Дихання (сочевички)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провідна тканина             механічна тканина       основна тканина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                   </a:t>
            </a:r>
            <a:r>
              <a:rPr b="0" lang="uk-UA" sz="1400" spc="-1" strike="noStrike">
                <a:solidFill>
                  <a:srgbClr val="333300"/>
                </a:solidFill>
                <a:latin typeface="Times New Roman"/>
              </a:rPr>
              <a:t>(ситоподібні трубки)        (луб’яні волокна )     ( великі       клітини) </a:t>
            </a:r>
            <a:r>
              <a:rPr b="0" lang="uk-UA" sz="1400" spc="-1" strike="noStrike">
                <a:solidFill>
                  <a:srgbClr val="3333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75" name="Прямая со стрелкой 8"/>
          <p:cNvCxnSpPr/>
          <p:nvPr/>
        </p:nvCxnSpPr>
        <p:spPr>
          <a:xfrm flipH="1">
            <a:off x="2856960" y="1356120"/>
            <a:ext cx="1572120" cy="42948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6" name="Прямая со стрелкой 10"/>
          <p:cNvCxnSpPr/>
          <p:nvPr/>
        </p:nvCxnSpPr>
        <p:spPr>
          <a:xfrm>
            <a:off x="4500720" y="1356840"/>
            <a:ext cx="1715040" cy="42948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7" name="Прямая со стрелкой 12"/>
          <p:cNvCxnSpPr/>
          <p:nvPr/>
        </p:nvCxnSpPr>
        <p:spPr>
          <a:xfrm flipH="1">
            <a:off x="2712240" y="1928520"/>
            <a:ext cx="2520" cy="2149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8" name="Прямая со стрелкой 22"/>
          <p:cNvCxnSpPr/>
          <p:nvPr/>
        </p:nvCxnSpPr>
        <p:spPr>
          <a:xfrm flipH="1">
            <a:off x="4642560" y="2000160"/>
            <a:ext cx="1429560" cy="121536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79" name="Прямая со стрелкой 24"/>
          <p:cNvCxnSpPr/>
          <p:nvPr/>
        </p:nvCxnSpPr>
        <p:spPr>
          <a:xfrm flipH="1">
            <a:off x="6214680" y="1999800"/>
            <a:ext cx="2160" cy="114372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  <p:cxnSp>
        <p:nvCxnSpPr>
          <p:cNvPr id="180" name="Прямая со стрелкой 26"/>
          <p:cNvCxnSpPr/>
          <p:nvPr/>
        </p:nvCxnSpPr>
        <p:spPr>
          <a:xfrm>
            <a:off x="6357960" y="2000160"/>
            <a:ext cx="1715040" cy="1286640"/>
          </a:xfrm>
          <a:prstGeom prst="straightConnector1">
            <a:avLst/>
          </a:prstGeom>
          <a:ln w="9360">
            <a:solidFill>
              <a:srgbClr val="333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Мал. 61. Частина поздовжнього зрізу стебла.jpg"/>
          <p:cNvPicPr/>
          <p:nvPr/>
        </p:nvPicPr>
        <p:blipFill>
          <a:blip r:embed="rId1"/>
          <a:stretch/>
        </p:blipFill>
        <p:spPr>
          <a:xfrm>
            <a:off x="2627280" y="2060640"/>
            <a:ext cx="4530600" cy="42321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WordArt 8"/>
          <p:cNvSpPr txBox="1"/>
          <p:nvPr/>
        </p:nvSpPr>
        <p:spPr>
          <a:xfrm>
            <a:off x="468360" y="765000"/>
            <a:ext cx="842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дини провідної системи деревини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230px-Gemmage_of_Pinus_in_Portugal%28front%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844640"/>
            <a:ext cx="7129440" cy="4392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00120" y="259920"/>
            <a:ext cx="74916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WordArt 9"/>
          <p:cNvSpPr txBox="1"/>
          <p:nvPr/>
        </p:nvSpPr>
        <p:spPr>
          <a:xfrm>
            <a:off x="1042920" y="69228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новна тканина з живицею сосни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Мал. 62. Річні кільця.jpg"/>
          <p:cNvPicPr/>
          <p:nvPr/>
        </p:nvPicPr>
        <p:blipFill>
          <a:blip r:embed="rId1"/>
          <a:stretch/>
        </p:blipFill>
        <p:spPr>
          <a:xfrm>
            <a:off x="1835280" y="1844640"/>
            <a:ext cx="6459480" cy="482436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695952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1258920" y="907920"/>
            <a:ext cx="75945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6969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ічні кільця</a:t>
            </a:r>
            <a:endParaRPr b="0" lang="en-US" sz="1800" spc="1" strike="noStrike">
              <a:ln w="19080">
                <a:solidFill>
                  <a:srgbClr val="96969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9320" y="228600"/>
            <a:ext cx="5972400" cy="48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00"/>
                </a:solidFill>
                <a:latin typeface="Arial"/>
              </a:rPr>
              <a:t>                    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артка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0000"/>
                </a:solidFill>
                <a:latin typeface="Arial"/>
              </a:rPr>
              <a:t>ЛАБОРАТОРНА РОБОТА</a:t>
            </a:r>
            <a:endParaRPr b="1" lang="en-US" sz="1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333300"/>
                </a:solidFill>
                <a:latin typeface="Arial"/>
              </a:rPr>
              <a:t>                        </a:t>
            </a:r>
            <a:r>
              <a:rPr b="1" lang="uk-UA" sz="1800" spc="-1" strike="noStrike">
                <a:solidFill>
                  <a:srgbClr val="cc66ff"/>
                </a:solidFill>
                <a:latin typeface="Arial"/>
              </a:rPr>
              <a:t>Будова стебла у зв’язку з його функціями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3300"/>
                </a:solidFill>
                <a:latin typeface="Arial"/>
              </a:rPr>
              <a:t>1. Розгляньте за допомогою лупи розпил гілки. Визначте окремі шари. Знайдіть річні кільця. Визначте вік гілки, розпил якої ви розглядаєте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33"/>
                </a:solidFill>
                <a:latin typeface="Arial"/>
              </a:rPr>
              <a:t>2. Візьміть до рук відрізок гілочки липи, вздовж надрізів препарувальною голкою і пінцетом відокремте кору від деревини. Ви відчуваєте, що деревина волога і слизька. Це вміст клітин камбію витікає й зволожує поверхню деревини, бо вони рвуться, коли знімають луб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3300"/>
                </a:solidFill>
                <a:latin typeface="Arial"/>
              </a:rPr>
              <a:t>3.Розгляньте надані мікропрепарати під мікроскопом. На них вам вдасться чітко побачити окремі шари стебла на поперечному зрізі, розпізнати серцевинні промені і судини деревини. Судини деревини мають великий просвіт, ними транспортуються вода і мінеральні солі від кореневої системи вгору.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0:51:08Z</dcterms:created>
  <dc:creator>Olesya</dc:creator>
  <dc:description/>
  <dc:language>en-US</dc:language>
  <cp:lastModifiedBy>www.PHILka.RU</cp:lastModifiedBy>
  <dcterms:modified xsi:type="dcterms:W3CDTF">2012-12-04T05:47:16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7000000000001024140</vt:lpwstr>
  </property>
</Properties>
</file>