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E9F-706A-4ADF-8304-8F26F278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AFB-5BCE-43DE-8DC5-CA5FEC1C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3C9-AD9D-428C-B32D-96ACCA26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EA2-0BC4-4B5B-B67E-8685AE2D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0635C-FC08-4160-AFBC-1F94AF37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2BCD0-468E-4E27-9BAB-7FA0D161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DD8E2-EA25-4D03-BE02-94A5C852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EC056-5B64-482F-86CF-077781D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84296-E119-4723-9E04-76E871E5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2BD7C-A2A0-4852-A379-FC72C2B2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C0024-1AE1-46E4-B7A6-800CD7D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642-F66F-40B1-BC05-6A4089F0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3C858-7AE7-4D4C-9AF1-F269D0BB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A248-F2DC-48CC-B289-36054BD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4F3D3-6740-47E5-858D-D2D1A53B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84712-D182-47F4-A064-6F0C9A28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D9BC2-B599-4D46-B7F7-EF23317C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672-1C22-44C4-BD6B-3E6BD488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DD0-FB95-418C-AF53-83A4A93B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520-FC1B-46F4-AF0F-36BE9F3F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D51-A86B-459D-80E1-D331B2AC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E96-0059-497D-8FCF-61FB690A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C5B-13DD-45AB-A4A1-D9F572B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E61-9EBA-4EBA-AA1F-C46546AE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BA34-8C35-48D9-A841-2197A87977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7936-ECA2-49C7-BCC7-4113E5E43B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ПРОКАРІО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0" t="0" r="-46" b="0"/>
          <a:stretch/>
        </p:blipFill>
        <p:spPr>
          <a:xfrm>
            <a:off x="4067280" y="0"/>
            <a:ext cx="51130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4211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и бактериальних клітин. Вібріо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080" y="328464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brio cholera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є збудником холер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філактика захворювань, що викликані бактері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можна вживати сиру в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Їжа повинна підлягати високотемпературній обробц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вочі та фрукти необхідно ретельно мити перед вживанн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ищувати тварин, що переносять збудників хворо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бити профілактичні щепле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Ізолювати хворих, а приміщення дезинфікува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838080"/>
            <a:ext cx="8077320" cy="1312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ласифікація прокаріот за способом живленн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85800" y="2438280"/>
            <a:ext cx="2742840" cy="1876680"/>
            <a:chOff x="685800" y="2438280"/>
            <a:chExt cx="2742840" cy="1876680"/>
          </a:xfrm>
        </p:grpSpPr>
        <p:sp>
          <p:nvSpPr>
            <p:cNvPr id="131" name=""/>
            <p:cNvSpPr/>
            <p:nvPr/>
          </p:nvSpPr>
          <p:spPr>
            <a:xfrm>
              <a:off x="685800" y="3733560"/>
              <a:ext cx="26668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гетеротрофи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828440" y="2438280"/>
              <a:ext cx="160020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181480" y="2286000"/>
            <a:ext cx="2971800" cy="1953000"/>
            <a:chOff x="5181480" y="2286000"/>
            <a:chExt cx="2971800" cy="1953000"/>
          </a:xfrm>
        </p:grpSpPr>
        <p:sp>
          <p:nvSpPr>
            <p:cNvPr id="134" name=""/>
            <p:cNvSpPr/>
            <p:nvPr/>
          </p:nvSpPr>
          <p:spPr>
            <a:xfrm>
              <a:off x="5562720" y="3657600"/>
              <a:ext cx="259056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автотрофи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81480" y="2286000"/>
              <a:ext cx="152424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8600" y="4419720"/>
            <a:ext cx="2057400" cy="916920"/>
            <a:chOff x="228600" y="4419720"/>
            <a:chExt cx="2057400" cy="916920"/>
          </a:xfrm>
        </p:grpSpPr>
        <p:sp>
          <p:nvSpPr>
            <p:cNvPr id="137" name=""/>
            <p:cNvSpPr/>
            <p:nvPr/>
          </p:nvSpPr>
          <p:spPr>
            <a:xfrm>
              <a:off x="228600" y="4876920"/>
              <a:ext cx="205740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апротроф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990720" y="4419720"/>
              <a:ext cx="457200" cy="398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514600" y="4419720"/>
            <a:ext cx="1841040" cy="936000"/>
            <a:chOff x="2514600" y="4419720"/>
            <a:chExt cx="1841040" cy="936000"/>
          </a:xfrm>
        </p:grpSpPr>
        <p:sp>
          <p:nvSpPr>
            <p:cNvPr id="140" name=""/>
            <p:cNvSpPr/>
            <p:nvPr/>
          </p:nvSpPr>
          <p:spPr>
            <a:xfrm>
              <a:off x="2514600" y="4896000"/>
              <a:ext cx="184104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аразити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7600" y="4419720"/>
              <a:ext cx="61380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572000" y="4343400"/>
            <a:ext cx="1981080" cy="1359000"/>
            <a:chOff x="4572000" y="4343400"/>
            <a:chExt cx="1981080" cy="1359000"/>
          </a:xfrm>
        </p:grpSpPr>
        <p:sp>
          <p:nvSpPr>
            <p:cNvPr id="143" name=""/>
            <p:cNvSpPr/>
            <p:nvPr/>
          </p:nvSpPr>
          <p:spPr>
            <a:xfrm>
              <a:off x="4572000" y="4876920"/>
              <a:ext cx="1981080" cy="82548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Фототрофи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714640" y="4343400"/>
              <a:ext cx="68580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858000" y="4362480"/>
            <a:ext cx="1981080" cy="974160"/>
            <a:chOff x="6858000" y="4362480"/>
            <a:chExt cx="1981080" cy="974160"/>
          </a:xfrm>
        </p:grpSpPr>
        <p:sp>
          <p:nvSpPr>
            <p:cNvPr id="146" name=""/>
            <p:cNvSpPr/>
            <p:nvPr/>
          </p:nvSpPr>
          <p:spPr>
            <a:xfrm>
              <a:off x="6858000" y="4876920"/>
              <a:ext cx="198108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Хемотрофи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4362480"/>
              <a:ext cx="53352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0" t="0" r="38" b="158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творення спор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125360"/>
            <a:ext cx="676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щільненн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цитопла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творення щільної оболо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1280" y="3141720"/>
            <a:ext cx="1584360" cy="503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актер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1280" y="3384720"/>
            <a:ext cx="3240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3384720"/>
            <a:ext cx="3240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16280" y="3429000"/>
            <a:ext cx="0" cy="3168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632480" y="693720"/>
            <a:ext cx="0" cy="244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огічно-змістова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одель «Бактерії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84360" y="787320"/>
            <a:ext cx="3527280" cy="2376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087880" y="713880"/>
            <a:ext cx="3311640" cy="2449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55640" y="3613320"/>
            <a:ext cx="3433680" cy="2695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3584520"/>
            <a:ext cx="3384360" cy="2951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21300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49360"/>
            <a:ext cx="287280" cy="288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6237360"/>
            <a:ext cx="287280" cy="288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0464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656892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75640" y="321300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8360" y="476280"/>
            <a:ext cx="287280" cy="288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81960" y="647532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20" y="2637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Буд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476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ми кліт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0760" y="40464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ипи живленн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94480" y="4096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озмноженн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51480" y="6165720"/>
            <a:ext cx="22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ередовище існуванн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84720" y="27748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кологічні груп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11480" y="6453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начення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62164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Гуманітарний ф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1557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1989000"/>
            <a:ext cx="14472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234936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4440" y="329580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328464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12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33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Н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7080" y="2719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ітинна стін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14360" y="3473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азматична мембр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29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босо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577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оплаз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112536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48428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060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98100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22208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18381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ц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413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ир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98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брио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83160" y="1341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протроф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рази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1152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емотроф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9680" y="407664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24720" y="566100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20000" y="522936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60840" y="6165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99240" y="184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292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43640" y="472428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35640" y="386064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17082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ілення надвоє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33735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аероб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3349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ероб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65680" y="37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4149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ру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59640" y="4581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вітр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5084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і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6200" y="5445000"/>
            <a:ext cx="13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рячі джере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9680" y="457992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43280" y="4508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4880" y="5300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49680" y="566100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45000" y="515628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8640" y="39337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дуцен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3280" y="443700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будники захворюва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16360" y="501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мбионти кишечн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551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Що збражую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6021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ис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31880" y="43545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. Пас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7040" y="51181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И.Меч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иснов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кариоти не містять яд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адкова інформація представлена у вигляді Н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ливості будови, різноманітні типи живлення дозволили прокаріотам заселити усі середовища існува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профілактики захворювань необхідно дотримуватися мір безпе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Інформационні джере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ин Н., Стаут У., Тейлор Д. Биология: В 3-х т. Т. 1.: Мир, 1993.- 368 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нциклопедия для детей. Биология. ред. коллегия: М. Аксёнова, Г.Вильчек и др. – М.: Астрель, 2007.- 672 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харов В.Б. Общая биология – М.: Дрофа,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к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С: Репетитор. Биолог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110664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ПРОКАРІОТИ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3214800"/>
            <a:ext cx="5105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Коль много микроско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Нам тайностей открыл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М.В. Ломоно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838080"/>
            <a:ext cx="8077320" cy="703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івні клітинної організаці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62120" y="1720800"/>
            <a:ext cx="2742840" cy="1876680"/>
            <a:chOff x="762120" y="1720800"/>
            <a:chExt cx="2742840" cy="1876680"/>
          </a:xfrm>
        </p:grpSpPr>
        <p:sp>
          <p:nvSpPr>
            <p:cNvPr id="89" name=""/>
            <p:cNvSpPr/>
            <p:nvPr/>
          </p:nvSpPr>
          <p:spPr>
            <a:xfrm>
              <a:off x="762120" y="3016080"/>
              <a:ext cx="26668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прокаріоти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904760" y="1720800"/>
              <a:ext cx="160020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181480" y="1676520"/>
            <a:ext cx="2971800" cy="1960560"/>
            <a:chOff x="5181480" y="1676520"/>
            <a:chExt cx="2971800" cy="1960560"/>
          </a:xfrm>
        </p:grpSpPr>
        <p:sp>
          <p:nvSpPr>
            <p:cNvPr id="92" name=""/>
            <p:cNvSpPr/>
            <p:nvPr/>
          </p:nvSpPr>
          <p:spPr>
            <a:xfrm>
              <a:off x="5562720" y="3048120"/>
              <a:ext cx="2590560" cy="5889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еукаріоти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76520"/>
              <a:ext cx="152424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0920" y="4653000"/>
            <a:ext cx="1800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актері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465948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іане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64508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л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573264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б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4643280"/>
            <a:ext cx="2124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Твар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58920" y="3789360"/>
            <a:ext cx="43344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7200" y="3794040"/>
            <a:ext cx="421920" cy="72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80000" y="3789360"/>
            <a:ext cx="43344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1400" y="3747960"/>
            <a:ext cx="421920" cy="72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587640" y="3789360"/>
            <a:ext cx="25560" cy="180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каріо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каріоти – організмт, клітини яких не мають яд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0" r="127" b="-28"/>
          <a:stretch/>
        </p:blipFill>
        <p:spPr>
          <a:xfrm>
            <a:off x="123840" y="2133720"/>
            <a:ext cx="4232160" cy="465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0" t="0" r="-100" b="-85"/>
          <a:stretch/>
        </p:blipFill>
        <p:spPr>
          <a:xfrm>
            <a:off x="4788000" y="2060640"/>
            <a:ext cx="42418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укаріо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укаріоти – організми, що мають ядро, обмежене оболонкою з двох мембран, та велику кількість мембранних орган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16360" y="3338640"/>
            <a:ext cx="4427640" cy="3519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3336840"/>
            <a:ext cx="4572000" cy="352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0" t="0" r="21" b="0"/>
          <a:stretch/>
        </p:blipFill>
        <p:spPr>
          <a:xfrm>
            <a:off x="3924360" y="0"/>
            <a:ext cx="5256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291600"/>
            <a:ext cx="3924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удова бактеріальної кліти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псу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летинна сті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азматична мемб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то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ибосо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пасні поживні речов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rcRect l="0" t="0" r="37" b="0"/>
          <a:stretch/>
        </p:blipFill>
        <p:spPr>
          <a:xfrm>
            <a:off x="4084560" y="0"/>
            <a:ext cx="50594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4067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и  бактеріальних клетин. Коки (сферичні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24280"/>
            <a:ext cx="40384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афілоко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ептоко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локо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рц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кликають захворювання верхніх дихальних шляхів, фурункульоз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харчові отрує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0" t="0" r="-9" b="9"/>
          <a:stretch/>
        </p:blipFill>
        <p:spPr>
          <a:xfrm>
            <a:off x="-3636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32360" y="0"/>
            <a:ext cx="4211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и бактериальних клітин. Бацили (палочковидні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3141720"/>
            <a:ext cx="4038840" cy="34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ептобац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лобац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Є збудниками чуми, сибірської виразки, правця, черевного тифу, туберкульоз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0" t="0" r="48" b="0"/>
          <a:stretch/>
        </p:blipFill>
        <p:spPr>
          <a:xfrm>
            <a:off x="-3636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32360" y="0"/>
            <a:ext cx="4211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их клітин. Спірили (спиралевидні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3573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reponema pallid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будник сифілі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1:05:05Z</dcterms:created>
  <dc:creator>Васюков</dc:creator>
  <dc:description/>
  <dc:language>en-US</dc:language>
  <cp:lastModifiedBy>Admin</cp:lastModifiedBy>
  <dcterms:modified xsi:type="dcterms:W3CDTF">2010-08-25T13:07:18Z</dcterms:modified>
  <cp:revision>1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8000000000001024140</vt:lpwstr>
  </property>
</Properties>
</file>