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DAF43-7822-4E66-9C16-71746DCA8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E366C-4034-433C-87B4-0AAFE71B1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A2CB9-D682-4003-B6BB-DB45419A2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80D28-2C24-4515-A2DC-C0D1F88B6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111F8A-F340-4980-92B9-B09E5E10C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B765C0-24C8-49D0-828A-456808E60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B49C64-8D6C-48A7-BCE3-D960CD35C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50A4A3-C8BE-4796-BA85-0129A165F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1FC0FF-ABDF-4A45-A83B-AEB3AC0C1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1D44A8-44F0-4EF1-B3DA-EED328511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4ACE26-7D48-4C55-B1CA-157FF000D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96FE3-5129-4EAD-A606-FE3E742F9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BD5343-DA4B-469A-A3AC-013BF0422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076F36-0D88-4542-BDF2-3D32283A2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57D122-AE6A-4277-9C4D-73C7B9DAC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70A911-9E6E-4E11-9069-A6D89D1E6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62685F-9EFE-46FA-A273-DE3C32674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18058-A68C-4F2B-9BBA-5DB596A7B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24924-BC12-4470-91A7-389BEF2E7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67C4E-C062-420C-BF14-02ABED31C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228F7-6C94-4541-B586-E1A2ABD73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A9655-7E4E-4E8C-947A-582FF809B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957EA-66F5-4918-8E3B-F999224D3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37760-22E2-4C67-9C87-166B5A4F1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0350C-46FB-426A-9E0F-302A56E86E8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079DF-3D97-4137-A422-DFA8CEE3C4E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4360" y="12682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ПРОКАРІОТИ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2"/>
          <a:srcRect l="0" t="0" r="-46" b="0"/>
          <a:stretch/>
        </p:blipFill>
        <p:spPr>
          <a:xfrm>
            <a:off x="4067280" y="0"/>
            <a:ext cx="511308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0" y="0"/>
            <a:ext cx="421164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Форми бактериальних клітин. Вібріони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3080" y="3284640"/>
            <a:ext cx="385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brio cholerae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є збудником холер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Профілактика захворювань, що викликані бактеріями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0" y="2133360"/>
            <a:ext cx="9144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Не можна вживати сиру воду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Їжа повинна підлягати високотемпературній обробці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Овочі та фрукти необхідно ретельно мити перед вживання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Знищувати тварин, що переносять збудників хвороб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Робити профілактичні щепленн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Ізолювати хворих, а приміщення дезинфікуват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609480" y="838080"/>
            <a:ext cx="8077320" cy="131292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Класифікація прокаріот за способом живлення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685800" y="2438280"/>
            <a:ext cx="2742840" cy="1876680"/>
            <a:chOff x="685800" y="2438280"/>
            <a:chExt cx="2742840" cy="1876680"/>
          </a:xfrm>
        </p:grpSpPr>
        <p:sp>
          <p:nvSpPr>
            <p:cNvPr id="131" name=""/>
            <p:cNvSpPr/>
            <p:nvPr/>
          </p:nvSpPr>
          <p:spPr>
            <a:xfrm>
              <a:off x="685800" y="3733560"/>
              <a:ext cx="2666880" cy="581400"/>
            </a:xfrm>
            <a:prstGeom prst="rect">
              <a:avLst/>
            </a:prstGeom>
            <a:noFill/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ffff"/>
                  </a:solidFill>
                  <a:latin typeface="Times New Roman"/>
                </a:rPr>
                <a:t>гетеротрофи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H="1">
              <a:off x="1828440" y="2438280"/>
              <a:ext cx="1600200" cy="12189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5181480" y="2286000"/>
            <a:ext cx="2971800" cy="1953000"/>
            <a:chOff x="5181480" y="2286000"/>
            <a:chExt cx="2971800" cy="1953000"/>
          </a:xfrm>
        </p:grpSpPr>
        <p:sp>
          <p:nvSpPr>
            <p:cNvPr id="134" name=""/>
            <p:cNvSpPr/>
            <p:nvPr/>
          </p:nvSpPr>
          <p:spPr>
            <a:xfrm>
              <a:off x="5562720" y="3657600"/>
              <a:ext cx="2590560" cy="581400"/>
            </a:xfrm>
            <a:prstGeom prst="rect">
              <a:avLst/>
            </a:prstGeom>
            <a:noFill/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ffff"/>
                  </a:solidFill>
                  <a:latin typeface="Times New Roman"/>
                </a:rPr>
                <a:t>автотрофи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181480" y="2286000"/>
              <a:ext cx="1524240" cy="12189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228600" y="4419720"/>
            <a:ext cx="2057400" cy="916920"/>
            <a:chOff x="228600" y="4419720"/>
            <a:chExt cx="2057400" cy="916920"/>
          </a:xfrm>
        </p:grpSpPr>
        <p:sp>
          <p:nvSpPr>
            <p:cNvPr id="137" name=""/>
            <p:cNvSpPr/>
            <p:nvPr/>
          </p:nvSpPr>
          <p:spPr>
            <a:xfrm>
              <a:off x="228600" y="4876920"/>
              <a:ext cx="2057400" cy="459720"/>
            </a:xfrm>
            <a:prstGeom prst="rect">
              <a:avLst/>
            </a:prstGeom>
            <a:noFill/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Сапротрофи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>
              <a:off x="990720" y="4419720"/>
              <a:ext cx="457200" cy="39852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2514600" y="4419720"/>
            <a:ext cx="1841040" cy="936000"/>
            <a:chOff x="2514600" y="4419720"/>
            <a:chExt cx="1841040" cy="936000"/>
          </a:xfrm>
        </p:grpSpPr>
        <p:sp>
          <p:nvSpPr>
            <p:cNvPr id="140" name=""/>
            <p:cNvSpPr/>
            <p:nvPr/>
          </p:nvSpPr>
          <p:spPr>
            <a:xfrm>
              <a:off x="2514600" y="4896000"/>
              <a:ext cx="1841040" cy="459720"/>
            </a:xfrm>
            <a:prstGeom prst="rect">
              <a:avLst/>
            </a:prstGeom>
            <a:noFill/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Паразити    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667600" y="4419720"/>
              <a:ext cx="613800" cy="3808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572000" y="4343400"/>
            <a:ext cx="1981080" cy="1359000"/>
            <a:chOff x="4572000" y="4343400"/>
            <a:chExt cx="1981080" cy="1359000"/>
          </a:xfrm>
        </p:grpSpPr>
        <p:sp>
          <p:nvSpPr>
            <p:cNvPr id="143" name=""/>
            <p:cNvSpPr/>
            <p:nvPr/>
          </p:nvSpPr>
          <p:spPr>
            <a:xfrm>
              <a:off x="4572000" y="4876920"/>
              <a:ext cx="1981080" cy="825480"/>
            </a:xfrm>
            <a:prstGeom prst="rect">
              <a:avLst/>
            </a:prstGeom>
            <a:noFill/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Фототрофи    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>
              <a:off x="5714640" y="4343400"/>
              <a:ext cx="685800" cy="3808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6858000" y="4362480"/>
            <a:ext cx="1981080" cy="974160"/>
            <a:chOff x="6858000" y="4362480"/>
            <a:chExt cx="1981080" cy="974160"/>
          </a:xfrm>
        </p:grpSpPr>
        <p:sp>
          <p:nvSpPr>
            <p:cNvPr id="146" name=""/>
            <p:cNvSpPr/>
            <p:nvPr/>
          </p:nvSpPr>
          <p:spPr>
            <a:xfrm>
              <a:off x="6858000" y="4876920"/>
              <a:ext cx="1981080" cy="459720"/>
            </a:xfrm>
            <a:prstGeom prst="rect">
              <a:avLst/>
            </a:prstGeom>
            <a:noFill/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Хемотрофи   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238880" y="4362480"/>
              <a:ext cx="533520" cy="3808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2"/>
          <a:srcRect l="0" t="0" r="38" b="158"/>
          <a:stretch/>
        </p:blipFill>
        <p:spPr>
          <a:xfrm>
            <a:off x="0" y="2637000"/>
            <a:ext cx="9144000" cy="422100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457200" y="44280"/>
            <a:ext cx="82296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Утворення спори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826920" y="1125360"/>
            <a:ext cx="676944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6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uk-UA" sz="2400" spc="-1" strike="noStrike">
                <a:solidFill>
                  <a:srgbClr val="ffffff"/>
                </a:solidFill>
                <a:latin typeface="Times New Roman"/>
              </a:rPr>
              <a:t>ущільнення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цитоплазм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утворення щільної оболонк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3851280" y="3141720"/>
            <a:ext cx="1584360" cy="503280"/>
          </a:xfrm>
          <a:prstGeom prst="ellipse">
            <a:avLst/>
          </a:prstGeom>
          <a:solidFill>
            <a:srgbClr val="ff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бактери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611280" y="3384720"/>
            <a:ext cx="3240000" cy="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35640" y="3384720"/>
            <a:ext cx="3240000" cy="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616280" y="3429000"/>
            <a:ext cx="0" cy="316872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632480" y="693720"/>
            <a:ext cx="0" cy="244800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-3160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Логічно-змістова</a:t>
            </a:r>
            <a:r>
              <a:rPr b="1" lang="ru-RU" sz="4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модель «Бактерії»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 flipH="1" flipV="1">
            <a:off x="684360" y="787320"/>
            <a:ext cx="3527280" cy="237672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5087880" y="713880"/>
            <a:ext cx="3311640" cy="244980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755640" y="3613320"/>
            <a:ext cx="3433680" cy="269532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148360" y="3584520"/>
            <a:ext cx="3384360" cy="295128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4000" y="3213000"/>
            <a:ext cx="287280" cy="289080"/>
          </a:xfrm>
          <a:prstGeom prst="ellipse">
            <a:avLst/>
          </a:prstGeom>
          <a:solidFill>
            <a:srgbClr val="ff0066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549360"/>
            <a:ext cx="287280" cy="288720"/>
          </a:xfrm>
          <a:prstGeom prst="ellipse">
            <a:avLst/>
          </a:prstGeom>
          <a:solidFill>
            <a:srgbClr val="ff0066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68360" y="6237360"/>
            <a:ext cx="287280" cy="288720"/>
          </a:xfrm>
          <a:prstGeom prst="ellipse">
            <a:avLst/>
          </a:prstGeom>
          <a:solidFill>
            <a:srgbClr val="ff0066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500720" y="404640"/>
            <a:ext cx="287280" cy="289080"/>
          </a:xfrm>
          <a:prstGeom prst="ellipse">
            <a:avLst/>
          </a:prstGeom>
          <a:solidFill>
            <a:srgbClr val="ff0066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500720" y="6568920"/>
            <a:ext cx="287280" cy="289080"/>
          </a:xfrm>
          <a:prstGeom prst="ellipse">
            <a:avLst/>
          </a:prstGeom>
          <a:solidFill>
            <a:srgbClr val="ff0066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675640" y="3213000"/>
            <a:ext cx="287280" cy="289080"/>
          </a:xfrm>
          <a:prstGeom prst="ellipse">
            <a:avLst/>
          </a:prstGeom>
          <a:solidFill>
            <a:srgbClr val="ff0066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8360" y="476280"/>
            <a:ext cx="287280" cy="288720"/>
          </a:xfrm>
          <a:prstGeom prst="ellipse">
            <a:avLst/>
          </a:prstGeom>
          <a:solidFill>
            <a:srgbClr val="ff0066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481960" y="6475320"/>
            <a:ext cx="287280" cy="289080"/>
          </a:xfrm>
          <a:prstGeom prst="ellipse">
            <a:avLst/>
          </a:prstGeom>
          <a:solidFill>
            <a:srgbClr val="ff0066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4920" y="2637000"/>
            <a:ext cx="153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Будов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84360" y="476280"/>
            <a:ext cx="20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Форми клітин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660760" y="404640"/>
            <a:ext cx="201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Tahoma"/>
              </a:rPr>
              <a:t>Типи живлення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594480" y="4096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Розмноженн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351480" y="6165720"/>
            <a:ext cx="225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Середовище існування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084720" y="277488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Екологічні груп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111480" y="6453360"/>
            <a:ext cx="153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Значення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84360" y="6216480"/>
            <a:ext cx="208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Гуманітарний фон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908000" y="1557360"/>
            <a:ext cx="144720" cy="144360"/>
          </a:xfrm>
          <a:prstGeom prst="ellipse">
            <a:avLst/>
          </a:prstGeom>
          <a:solidFill>
            <a:srgbClr val="ff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484360" y="1989000"/>
            <a:ext cx="144720" cy="144720"/>
          </a:xfrm>
          <a:prstGeom prst="ellipse">
            <a:avLst/>
          </a:prstGeom>
          <a:solidFill>
            <a:srgbClr val="ff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059280" y="2349360"/>
            <a:ext cx="144360" cy="144720"/>
          </a:xfrm>
          <a:prstGeom prst="ellipse">
            <a:avLst/>
          </a:prstGeom>
          <a:solidFill>
            <a:srgbClr val="ff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414440" y="3295800"/>
            <a:ext cx="144360" cy="144360"/>
          </a:xfrm>
          <a:prstGeom prst="ellipse">
            <a:avLst/>
          </a:prstGeom>
          <a:solidFill>
            <a:srgbClr val="ff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700360" y="3284640"/>
            <a:ext cx="144360" cy="144360"/>
          </a:xfrm>
          <a:prstGeom prst="ellipse">
            <a:avLst/>
          </a:prstGeom>
          <a:solidFill>
            <a:srgbClr val="ff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0920" y="3284640"/>
            <a:ext cx="144720" cy="144360"/>
          </a:xfrm>
          <a:prstGeom prst="ellipse">
            <a:avLst/>
          </a:prstGeom>
          <a:solidFill>
            <a:srgbClr val="ff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816120" y="3284640"/>
            <a:ext cx="144360" cy="144360"/>
          </a:xfrm>
          <a:prstGeom prst="ellipse">
            <a:avLst/>
          </a:prstGeom>
          <a:solidFill>
            <a:srgbClr val="ff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419640" y="3284640"/>
            <a:ext cx="144360" cy="144360"/>
          </a:xfrm>
          <a:prstGeom prst="ellipse">
            <a:avLst/>
          </a:prstGeom>
          <a:solidFill>
            <a:srgbClr val="ff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203640" y="335772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ДНК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197080" y="271944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літинна стінка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314360" y="347328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лазматична мембран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26920" y="292428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рибосом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3357720"/>
            <a:ext cx="154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цитоплазм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258920" y="1125360"/>
            <a:ext cx="144360" cy="144720"/>
          </a:xfrm>
          <a:prstGeom prst="ellipse">
            <a:avLst/>
          </a:prstGeom>
          <a:solidFill>
            <a:srgbClr val="ff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572000" y="1484280"/>
            <a:ext cx="144360" cy="144360"/>
          </a:xfrm>
          <a:prstGeom prst="ellipse">
            <a:avLst/>
          </a:prstGeom>
          <a:solidFill>
            <a:srgbClr val="ff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572000" y="2060640"/>
            <a:ext cx="144360" cy="144360"/>
          </a:xfrm>
          <a:prstGeom prst="ellipse">
            <a:avLst/>
          </a:prstGeom>
          <a:solidFill>
            <a:srgbClr val="ff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572000" y="981000"/>
            <a:ext cx="144360" cy="144360"/>
          </a:xfrm>
          <a:prstGeom prst="ellipse">
            <a:avLst/>
          </a:prstGeom>
          <a:solidFill>
            <a:srgbClr val="ff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195640" y="222084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кок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556000" y="183816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бацил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84360" y="1413000"/>
            <a:ext cx="12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пирил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332000" y="98100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ибрион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83160" y="1341360"/>
            <a:ext cx="16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апротроф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572000" y="191628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аразит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511520" y="836640"/>
            <a:ext cx="16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хемотроф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549680" y="4076640"/>
            <a:ext cx="144720" cy="144360"/>
          </a:xfrm>
          <a:prstGeom prst="ellipse">
            <a:avLst/>
          </a:prstGeom>
          <a:solidFill>
            <a:srgbClr val="ff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524720" y="5661000"/>
            <a:ext cx="144360" cy="144360"/>
          </a:xfrm>
          <a:prstGeom prst="ellipse">
            <a:avLst/>
          </a:prstGeom>
          <a:solidFill>
            <a:srgbClr val="ff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020000" y="5229360"/>
            <a:ext cx="144360" cy="144360"/>
          </a:xfrm>
          <a:prstGeom prst="ellipse">
            <a:avLst/>
          </a:prstGeom>
          <a:solidFill>
            <a:srgbClr val="ff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560840" y="6165720"/>
            <a:ext cx="144360" cy="144720"/>
          </a:xfrm>
          <a:prstGeom prst="ellipse">
            <a:avLst/>
          </a:prstGeom>
          <a:solidFill>
            <a:srgbClr val="ff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699240" y="1844640"/>
            <a:ext cx="144360" cy="144360"/>
          </a:xfrm>
          <a:prstGeom prst="ellipse">
            <a:avLst/>
          </a:prstGeom>
          <a:solidFill>
            <a:srgbClr val="ff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940360" y="4292640"/>
            <a:ext cx="144360" cy="144360"/>
          </a:xfrm>
          <a:prstGeom prst="ellipse">
            <a:avLst/>
          </a:prstGeom>
          <a:solidFill>
            <a:srgbClr val="ff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443640" y="4724280"/>
            <a:ext cx="144360" cy="144720"/>
          </a:xfrm>
          <a:prstGeom prst="ellipse">
            <a:avLst/>
          </a:prstGeom>
          <a:solidFill>
            <a:srgbClr val="ff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156360" y="3284640"/>
            <a:ext cx="144360" cy="144360"/>
          </a:xfrm>
          <a:prstGeom prst="ellipse">
            <a:avLst/>
          </a:prstGeom>
          <a:solidFill>
            <a:srgbClr val="ff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435640" y="3860640"/>
            <a:ext cx="144360" cy="144720"/>
          </a:xfrm>
          <a:prstGeom prst="ellipse">
            <a:avLst/>
          </a:prstGeom>
          <a:solidFill>
            <a:srgbClr val="ff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596360" y="3284640"/>
            <a:ext cx="144360" cy="144360"/>
          </a:xfrm>
          <a:prstGeom prst="ellipse">
            <a:avLst/>
          </a:prstGeom>
          <a:solidFill>
            <a:srgbClr val="ff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516720" y="1708200"/>
            <a:ext cx="165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ілення надвоє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948360" y="3373560"/>
            <a:ext cx="16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анаероб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580000" y="334980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аероб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765680" y="371628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од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084720" y="4149720"/>
            <a:ext cx="16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грун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659640" y="4581360"/>
            <a:ext cx="16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Tahoma"/>
              </a:rPr>
              <a:t>повітр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162920" y="5084640"/>
            <a:ext cx="165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лід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666200" y="5445000"/>
            <a:ext cx="136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Гарячі джерел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49680" y="4579920"/>
            <a:ext cx="144720" cy="144360"/>
          </a:xfrm>
          <a:prstGeom prst="ellipse">
            <a:avLst/>
          </a:prstGeom>
          <a:solidFill>
            <a:srgbClr val="ff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843280" y="4508640"/>
            <a:ext cx="144360" cy="144360"/>
          </a:xfrm>
          <a:prstGeom prst="ellipse">
            <a:avLst/>
          </a:prstGeom>
          <a:solidFill>
            <a:srgbClr val="ff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74880" y="5300640"/>
            <a:ext cx="144360" cy="144360"/>
          </a:xfrm>
          <a:prstGeom prst="ellipse">
            <a:avLst/>
          </a:prstGeom>
          <a:solidFill>
            <a:srgbClr val="ff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49680" y="5661000"/>
            <a:ext cx="144720" cy="144360"/>
          </a:xfrm>
          <a:prstGeom prst="ellipse">
            <a:avLst/>
          </a:prstGeom>
          <a:solidFill>
            <a:srgbClr val="ff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545000" y="5156280"/>
            <a:ext cx="144360" cy="144360"/>
          </a:xfrm>
          <a:prstGeom prst="ellipse">
            <a:avLst/>
          </a:prstGeom>
          <a:solidFill>
            <a:srgbClr val="ff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338640" y="3933720"/>
            <a:ext cx="136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редуцент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643280" y="4437000"/>
            <a:ext cx="1657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Збудники захворювань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916360" y="5013360"/>
            <a:ext cx="165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имбионти кишечник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643280" y="5516640"/>
            <a:ext cx="20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Tahoma"/>
              </a:rPr>
              <a:t>Що збражують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716360" y="6021360"/>
            <a:ext cx="16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чисник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31880" y="435456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Л. Пастер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57040" y="511812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И.И.Мечников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Висновк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окариоти не містять ядр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падкова інформація представлена у вигляді НК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собливості будови, різноманітні типи живлення дозволили прокаріотам заселити усі середовища існуванн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Для профілактики захворювань необхідно дотримуватися мір безпек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Інформационні джерел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Грин Н., Стаут У., Тейлор Д. Биология: В 3-х т. Т. 1.: Мир, 1993.- 368 с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Энциклопедия для детей. Биология. ред. коллегия: М. Аксёнова, Г.Вильчек и др. – М.: Астрель, 2007.- 672 с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Захаров В.Б. Общая биология – М.: Дрофа, 2005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-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диск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1С: Репетитор. Биология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900000" y="1106640"/>
            <a:ext cx="7201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99"/>
                </a:solidFill>
                <a:latin typeface="Times New Roman"/>
              </a:rPr>
              <a:t>ПРОКАРІОТИ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657600" y="3214800"/>
            <a:ext cx="510552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Коль много микроскоп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Нам тайностей открыл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М.В. Ломоносов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609480" y="838080"/>
            <a:ext cx="8077320" cy="70344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Рівні клітинної організації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762120" y="1720800"/>
            <a:ext cx="2742840" cy="1876680"/>
            <a:chOff x="762120" y="1720800"/>
            <a:chExt cx="2742840" cy="1876680"/>
          </a:xfrm>
        </p:grpSpPr>
        <p:sp>
          <p:nvSpPr>
            <p:cNvPr id="89" name=""/>
            <p:cNvSpPr/>
            <p:nvPr/>
          </p:nvSpPr>
          <p:spPr>
            <a:xfrm>
              <a:off x="762120" y="3016080"/>
              <a:ext cx="2666880" cy="581400"/>
            </a:xfrm>
            <a:prstGeom prst="rect">
              <a:avLst/>
            </a:prstGeom>
            <a:noFill/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ffff"/>
                  </a:solidFill>
                  <a:latin typeface="Times New Roman"/>
                </a:rPr>
                <a:t>прокаріоти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>
              <a:off x="1904760" y="1720800"/>
              <a:ext cx="1600200" cy="12189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5181480" y="1676520"/>
            <a:ext cx="2971800" cy="1960560"/>
            <a:chOff x="5181480" y="1676520"/>
            <a:chExt cx="2971800" cy="1960560"/>
          </a:xfrm>
        </p:grpSpPr>
        <p:sp>
          <p:nvSpPr>
            <p:cNvPr id="92" name=""/>
            <p:cNvSpPr/>
            <p:nvPr/>
          </p:nvSpPr>
          <p:spPr>
            <a:xfrm>
              <a:off x="5562720" y="3048120"/>
              <a:ext cx="2590560" cy="588960"/>
            </a:xfrm>
            <a:prstGeom prst="rect">
              <a:avLst/>
            </a:prstGeom>
            <a:noFill/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ffff"/>
                  </a:solidFill>
                  <a:latin typeface="Times New Roman"/>
                </a:rPr>
                <a:t>еукаріоти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181480" y="1676520"/>
              <a:ext cx="1524240" cy="12189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250920" y="4653000"/>
            <a:ext cx="1800000" cy="52056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Бактерії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340000" y="4659480"/>
            <a:ext cx="1800360" cy="52056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Ціанеї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572000" y="4645080"/>
            <a:ext cx="1800360" cy="52056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Рослин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940360" y="5732640"/>
            <a:ext cx="1800360" cy="52056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Гриб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804000" y="4643280"/>
            <a:ext cx="2124000" cy="52056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Times New Roman"/>
              </a:rPr>
              <a:t>Тварин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1258920" y="3789360"/>
            <a:ext cx="433440" cy="7192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617200" y="3794040"/>
            <a:ext cx="421920" cy="72576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5580000" y="3789360"/>
            <a:ext cx="433440" cy="7192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241400" y="3747960"/>
            <a:ext cx="421920" cy="72576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6587640" y="3789360"/>
            <a:ext cx="25560" cy="180036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Прокаріот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50560" y="1125000"/>
            <a:ext cx="8497800" cy="15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Прокаріоти – організмт, клітини яких не мають ядр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rcRect l="0" t="0" r="127" b="-28"/>
          <a:stretch/>
        </p:blipFill>
        <p:spPr>
          <a:xfrm>
            <a:off x="123840" y="2133720"/>
            <a:ext cx="4232160" cy="46530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rcRect l="0" t="0" r="-100" b="-85"/>
          <a:stretch/>
        </p:blipFill>
        <p:spPr>
          <a:xfrm>
            <a:off x="4788000" y="2060640"/>
            <a:ext cx="4241880" cy="4724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Еукаріот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95280" y="1557000"/>
            <a:ext cx="835344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Еукаріоти – організми, що мають ядро, обмежене оболонкою з двох мембран, та велику кількість мембранних органел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4716360" y="3338640"/>
            <a:ext cx="4427640" cy="351936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0" y="3336840"/>
            <a:ext cx="4572000" cy="35211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2"/>
          <a:srcRect l="0" t="0" r="21" b="0"/>
          <a:stretch/>
        </p:blipFill>
        <p:spPr>
          <a:xfrm>
            <a:off x="3924360" y="0"/>
            <a:ext cx="52560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-360" y="291600"/>
            <a:ext cx="392436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Будова бактеріальної клітини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0" y="24922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капсул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клетинна стінк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плазматична мембран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цитоплазм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ДНК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рибосом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запасні поживні речовин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2"/>
          <a:srcRect l="0" t="0" r="37" b="0"/>
          <a:stretch/>
        </p:blipFill>
        <p:spPr>
          <a:xfrm>
            <a:off x="4084560" y="0"/>
            <a:ext cx="505944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0"/>
            <a:ext cx="406728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Форми  бактеріальних клетин. Коки (сферичні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2924280"/>
            <a:ext cx="4038480" cy="39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стафілокок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стрептокок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диплокок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сарцин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Викликають захворювання верхніх дихальних шляхів, фурункульоз,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uk-UA" sz="2400" spc="-1" strike="noStrike">
                <a:solidFill>
                  <a:srgbClr val="ffffff"/>
                </a:solidFill>
                <a:latin typeface="Times New Roman"/>
              </a:rPr>
              <a:t>харчові отруєнн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2"/>
          <a:srcRect l="0" t="0" r="-9" b="9"/>
          <a:stretch/>
        </p:blipFill>
        <p:spPr>
          <a:xfrm>
            <a:off x="-36360" y="0"/>
            <a:ext cx="496872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4932360" y="0"/>
            <a:ext cx="421164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Форми бактериальних клітин. Бацили (палочковидні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003640" y="3141720"/>
            <a:ext cx="4038840" cy="34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стрептобацил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диплобацил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Є збудниками чуми, сибірської виразки, правця, черевного тифу, туберкульозу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2"/>
          <a:srcRect l="0" t="0" r="48" b="0"/>
          <a:stretch/>
        </p:blipFill>
        <p:spPr>
          <a:xfrm>
            <a:off x="-36360" y="0"/>
            <a:ext cx="496872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4932360" y="0"/>
            <a:ext cx="421164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Формы бактериальних клітин. Спірили (спиралевидні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932360" y="3573360"/>
            <a:ext cx="403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Treponema pallidum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збудник сифілісу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7T11:05:05Z</dcterms:created>
  <dc:creator>Васюков</dc:creator>
  <dc:description/>
  <dc:language>en-US</dc:language>
  <cp:lastModifiedBy>Admin</cp:lastModifiedBy>
  <dcterms:modified xsi:type="dcterms:W3CDTF">2010-08-25T13:07:18Z</dcterms:modified>
  <cp:revision>19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9408000000000001024140</vt:lpwstr>
  </property>
</Properties>
</file>