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146C-53D0-4791-BA8C-B419C347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1C63-5C4E-4DB5-BDF6-5D2AC971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D4C1-4EF9-4D90-A370-F02E2897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ECEA-25E2-41EA-B521-5C8763D5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5117-AD21-4C00-A74B-6A93D69B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F107-E4CD-4D49-86DE-AADC0D9C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6ACE-9B69-459A-A590-66EBE2BC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4310-4F37-4648-81A7-51E08FDA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20C0-A541-4F43-9447-09C62006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28B3-CF21-4D3C-A3F1-BC73D997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F182-C44B-41E2-9CE4-918F5E38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29C7-4C7F-49EF-868E-2A42B542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0259-F46D-4A23-9182-A8A72991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9075-097D-4A47-AB97-EE944C00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0A6A-64D8-4668-ABB5-F2D3720B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8B34-8580-4CB1-ADDB-359A3891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C8D0-1A3D-49B4-99FE-9436720E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F63B-3B54-4D7D-B9CA-5F5FA3B8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F6D-E456-486D-95A6-CF0566D3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E471-AEE3-4DD2-84A5-67163241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6928-F7AA-4035-8276-755398F9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CB8-E198-4B85-95FE-112FB038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F8F1-70CF-446B-AA31-63B38AA6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5E36-E3B0-4E8D-AEE5-F8321539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8A15-1BC6-42AC-82B2-E0B8CD50A4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2B8A-37A3-48C4-BD6B-19159587BD4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eec94"/>
                </a:solidFill>
                <a:latin typeface="Times New Roman"/>
              </a:rPr>
              <a:t>Тема уроку: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7636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ffff"/>
                </a:solidFill>
                <a:latin typeface="Times New Roman"/>
              </a:rPr>
              <a:t>“</a:t>
            </a:r>
            <a:r>
              <a:rPr b="1" i="1" lang="uk-UA" sz="4400" spc="-1" strike="noStrike">
                <a:solidFill>
                  <a:srgbClr val="66ffff"/>
                </a:solidFill>
                <a:latin typeface="Times New Roman"/>
              </a:rPr>
              <a:t>Заплідненн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i="1" lang="uk-UA" sz="4400" spc="-1" strike="noStrike">
                <a:solidFill>
                  <a:srgbClr val="66ffff"/>
                </a:solidFill>
                <a:latin typeface="Times New Roman"/>
              </a:rPr>
              <a:t>Будова насінини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47640" y="1828440"/>
            <a:ext cx="5110200" cy="18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Р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озум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Е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нергія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З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нання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У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міння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Л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огіка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Ь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Т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ворчість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ктивність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Т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алант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32000" y="692280"/>
            <a:ext cx="6400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Завдання уроку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ясувати суть процесу подвійного запліднення у квіткових росли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Дізнатись про наслідки подвійного запліднення і його значенн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Дослідити будову насіння у з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язку з функціям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Виявити відмінні ознаки  насіння різних росл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Встановіть відповідні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Вкорочений та обмежений у рості пагі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Перенесення пилку із тичинок на приймочку маточ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Нижня розширена частина маточки, усередині якої розташовані насінні зачат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Клітина, що утворюється внаслідок злиття двох статевих кліти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Утвір, який містить чоловічі статеві клітин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Утвір, у якому міститься яйцекліт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А – зиго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Б – запиленн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В – квіт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Г – насінний зачат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Д – з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яз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Е – пилкове зер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Times New Roman"/>
              </a:rPr>
              <a:t>Перевір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1 – 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2 – 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3 – 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4 – 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5 – 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6 - 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Навашин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Сергій Гаврило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(1857 – 193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офесор Київського  університету Святого Володими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898 р. – відкриття процесу подвійного заплідненн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155760" cy="4592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Результат </a:t>
            </a:r>
            <a:br>
              <a:rPr sz="2800"/>
            </a:b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подвійного запліднення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із  зиготи                           із центральної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кліти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uk-UA" sz="2800" spc="-1" strike="noStrike">
                <a:solidFill>
                  <a:srgbClr val="000099"/>
                </a:solidFill>
                <a:latin typeface="Times New Roman"/>
              </a:rPr>
              <a:t>зародок насінини                     ендоспер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із стінок                              із насінн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за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язі                                 зачатка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uk-UA" sz="2800" spc="-1" strike="noStrike">
                <a:solidFill>
                  <a:srgbClr val="000099"/>
                </a:solidFill>
                <a:latin typeface="Times New Roman"/>
              </a:rPr>
              <a:t>оплодень                           насінина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79640" y="20606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24360" y="249228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4797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797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Виправ помилк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Насінина формується до заплідненн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ародки квасолі, гороху мають одну сі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ядол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апас поживних речовин для розвитку зародка міститься в насінній шкірц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ародки пшениці, кукурудзи мають дві сі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ядол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Ендосперм захищає вміст насінини від висихання та ушкоджен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Із заплідненої яйцеклітини розвивається ендоспер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На приймочку маточки потрапляє багато пилкових зерен, але тільки два з них здатні прорости пилковою трубкою і проникнути в зародковий мішо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пліднення у квіткових рослин отримало назву подвійне, тому що яйцеклітину запліднюють два спермії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4:38:29Z</dcterms:created>
  <dc:creator>Zver</dc:creator>
  <dc:description/>
  <dc:language>en-US</dc:language>
  <cp:lastModifiedBy>Zver</cp:lastModifiedBy>
  <dcterms:modified xsi:type="dcterms:W3CDTF">2011-12-11T14:00:05Z</dcterms:modified>
  <cp:revision>4</cp:revision>
  <dc:subject/>
  <dc:title>  Розум Енергія Знання Уміння Логіка Ь Творчість Активність Талант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02000000000001024140</vt:lpwstr>
  </property>
</Properties>
</file>