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E60-82D1-42B6-8216-BA950824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BD3-2E57-46FA-B707-EBCCA64C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75A-5E04-4A62-8E89-1A256DA2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534-D858-4CC0-98A1-E5E680C4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803C-FB91-4167-ABF2-B8240EED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0500-D47B-48C5-97A7-DFCBEA7D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A8BC-9427-4F91-A0EA-D31CD734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BA44-DA38-479E-B84C-F32E7E8F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6EC4-BE46-4F66-8089-1B629348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D8BF-88F6-429B-A396-4AB14E53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56E3-8610-4A08-B0D5-3DBB9654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8BD-E426-4E62-9819-46878B0D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5AFC-5DA0-439A-83DB-5B299AF3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B7F-ECCA-41EE-A706-664374F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D865-DA44-4B3E-AD75-51033238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31FA-AFE2-44B5-90F5-4DF205A4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FE5E-3AC1-466D-B5FB-34815F38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41A-A957-49CE-82A3-08C07D16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CE00-9BBC-4371-9ACC-633B2FEE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C4A-D3BD-4C30-B1F6-687E1F87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486-FC01-4606-B44A-D13BBD18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174-3C74-44D7-9A22-4B374D54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003-92AF-4827-A53B-5E97D9C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7AD-B188-4772-8605-CE246F2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EA88-10A4-44A9-A077-91ECC0C35B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B95B-48AD-42FA-90BB-12B7A36CC2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Тема уроку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“</a:t>
            </a: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Заплідненн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i="1" lang="uk-UA" sz="4400" spc="-1" strike="noStrike">
                <a:solidFill>
                  <a:srgbClr val="66ffff"/>
                </a:solidFill>
                <a:latin typeface="Times New Roman"/>
              </a:rPr>
              <a:t>Будова насінини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47640" y="1828440"/>
            <a:ext cx="511020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Р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озум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нергі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нанн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міння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Л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огіка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ворчіст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ктивність</a:t>
            </a:r>
            <a:br>
              <a:rPr sz="4000"/>
            </a:br>
            <a:r>
              <a:rPr b="1" lang="uk-UA" sz="4000" spc="-1" strike="noStrike">
                <a:solidFill>
                  <a:srgbClr val="000099"/>
                </a:solidFill>
                <a:latin typeface="Times New Roman"/>
              </a:rPr>
              <a:t>Т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алант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32000" y="692280"/>
            <a:ext cx="6400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Завдання уро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сувати суть процесу подвійного запліднення у квіткових росли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ізнатись про наслідки подвійного запліднення і його значенн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слідити будову насіння у з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зку з функція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Виявити відмінні ознаки  насіння різних росл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становіть відповідні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корочений та обмежений у рості пагі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Перенесення пилку із тичинок на приймочку ма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Нижня розширена частина маточки, усередині якої розташовані насінні зачат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Клітина, що утворюється внаслідок злиття двох статевих кліти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Утвір, який містить чоловічі статеві кліти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Утвір, у якому міститься яйцекліт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 – зиго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Б – запиленн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 – кві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Г – насінний зачат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Д – з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яз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Е – пилкове зер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Перевір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1 – 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2 – 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3 – 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4 – 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5 – 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6 - 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Наваши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imes New Roman"/>
              </a:rPr>
              <a:t>Сергій Гаврило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(1857 – 193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Професор Київського  університету Святого Володими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898 р. – відкриття процесу подвійного запліднен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155760" cy="459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Результат </a:t>
            </a:r>
            <a:br>
              <a:rPr sz="2800"/>
            </a:b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подвійного запліднення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з  зиготи                           із центральної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кліти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uk-UA" sz="2800" spc="-1" strike="noStrike">
                <a:solidFill>
                  <a:srgbClr val="000099"/>
                </a:solidFill>
                <a:latin typeface="Times New Roman"/>
              </a:rPr>
              <a:t>зародок насінини                     ендоспер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з стінок                              із насін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за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язі                                 зачатка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uk-UA" sz="2800" spc="-1" strike="noStrike">
                <a:solidFill>
                  <a:srgbClr val="000099"/>
                </a:solidFill>
                <a:latin typeface="Times New Roman"/>
              </a:rPr>
              <a:t>оплодень                           насінина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79640" y="2060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24360" y="2492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797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797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иправ помилк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сінина формується до запліднен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родки квасолі, гороху мають одну сі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д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пас поживних речовин для розвитку зародка міститься в насінній шкірц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ародки пшениці, кукурудзи мають дві сі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дол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Ендосперм захищає вміст насінини від висихання та ушкоджен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Із заплідненої яйцеклітини розвивається ендоспер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На приймочку маточки потрапляє багато пилкових зерен, але тільки два з них здатні прорости пилковою трубкою і проникнути в зародковий міш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пліднення у квіткових рослин отримало назву подвійне, тому що яйцеклітину запліднюють два спермії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4:38:29Z</dcterms:created>
  <dc:creator>Zver</dc:creator>
  <dc:description/>
  <dc:language>en-US</dc:language>
  <cp:lastModifiedBy>Zver</cp:lastModifiedBy>
  <dcterms:modified xsi:type="dcterms:W3CDTF">2011-12-11T14:00:05Z</dcterms:modified>
  <cp:revision>4</cp:revision>
  <dc:subject/>
  <dc:title>  Розум Енергія Знання Уміння Логіка Ь Творчість Активність Талант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2000000000001024140</vt:lpwstr>
  </property>
</Properties>
</file>