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8495-B16E-40BC-ADDD-1E787317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D1CE-526D-43A6-8FB1-D3B7AD77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FFF4-68B8-45EA-983C-DE535BDD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63A3-B473-49E2-82EC-9B4CC9CC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2696-D0B6-40DB-9441-A47A2F9C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B362-2142-4D6B-BAB6-CC5B1155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6415-604F-441D-855B-17F94B38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352E-CB1C-4C5F-AC2F-3489B87C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D570-1D6C-4ED4-B1EC-E4EA53D3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1ABF-8AB9-484C-988F-CD0CBF61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C6E1-D048-4DB7-AEAC-3FC53B42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B240-8859-4BD6-8E62-3E50D828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BBEC-F961-4CEB-8B63-E398D2CD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D3EA-E255-4179-9CC5-2209C91B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0933-4D4C-4C2F-9821-5434CAB9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1157-3593-4731-B857-90D187E9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DC7B-4C05-4F04-B3B8-DE709F95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C3AD-5317-4506-9F85-CCCED971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2D7F-F867-4ECF-AB05-21CEB8EF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B51E-AB8F-430D-B517-0421C7F0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3F13-AAC1-4D62-A5DB-38A3FBCE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A9B2-8403-4AF9-A262-5D817B25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F405-539F-4C0F-8695-CC00E619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7460-7782-47F7-8A81-1E71361A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CC3E-3B8C-43FA-ABDE-DA46452D953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DB5E-AD47-4692-873F-A391B93487E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eec94"/>
                </a:solidFill>
                <a:latin typeface="Times New Roman"/>
              </a:rPr>
              <a:t>Тема уроку: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7636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6ffff"/>
                </a:solidFill>
                <a:latin typeface="Times New Roman"/>
              </a:rPr>
              <a:t>“</a:t>
            </a:r>
            <a:r>
              <a:rPr b="1" i="1" lang="uk-UA" sz="4400" spc="-1" strike="noStrike">
                <a:solidFill>
                  <a:srgbClr val="66ffff"/>
                </a:solidFill>
                <a:latin typeface="Times New Roman"/>
              </a:rPr>
              <a:t>Заплідненн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i="1" lang="uk-UA" sz="4400" spc="-1" strike="noStrike">
                <a:solidFill>
                  <a:srgbClr val="66ffff"/>
                </a:solidFill>
                <a:latin typeface="Times New Roman"/>
              </a:rPr>
              <a:t>Будова насінини.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347640" y="1828440"/>
            <a:ext cx="5110200" cy="18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Р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озум</a:t>
            </a:r>
            <a:br>
              <a:rPr sz="4000"/>
            </a:b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Е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нергія</a:t>
            </a:r>
            <a:br>
              <a:rPr sz="4000"/>
            </a:b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З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нання</a:t>
            </a:r>
            <a:br>
              <a:rPr sz="4000"/>
            </a:b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У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міння</a:t>
            </a:r>
            <a:br>
              <a:rPr sz="4000"/>
            </a:b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Л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огіка</a:t>
            </a:r>
            <a:br>
              <a:rPr sz="4000"/>
            </a:b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Ь</a:t>
            </a:r>
            <a:br>
              <a:rPr sz="4000"/>
            </a:b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Т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ворчість</a:t>
            </a:r>
            <a:br>
              <a:rPr sz="4000"/>
            </a:b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ктивність</a:t>
            </a:r>
            <a:br>
              <a:rPr sz="4000"/>
            </a:b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Т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алант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32000" y="692280"/>
            <a:ext cx="6400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Завдання уроку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ясувати суть процесу подвійного запліднення у квіткових рослин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Дізнатись про наслідки подвійного запліднення і його значенн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Дослідити будову насіння у з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язку з функціям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Виявити відмінні ознаки  насіння різних росл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Встановіть відповідніст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Вкорочений та обмежений у рості пагі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Перенесення пилку із тичинок на приймочку маточ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Нижня розширена частина маточки, усередині якої розташовані насінні зачат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Клітина, що утворюється внаслідок злиття двох статевих кліти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Утвір, який містить чоловічі статеві клітин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Утвір, у якому міститься яйцекліт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А – зиго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Б – запиленн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В – квіт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Г – насінний зачато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Д – з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яз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Е – пилкове зер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Times New Roman"/>
              </a:rPr>
              <a:t>Перевір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1 – 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2 – 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3 – 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4 – 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5 – 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6 - 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uk-UA" sz="2800" spc="-1" strike="noStrike">
                <a:solidFill>
                  <a:srgbClr val="0000ff"/>
                </a:solidFill>
                <a:latin typeface="Times New Roman"/>
              </a:rPr>
              <a:t>Навашин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</a:rPr>
              <a:t>Сергій Гаврило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(1857 – 193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офесор Київського  університету Святого Володими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1898 р. – відкриття процесу подвійного заплідненн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155760" cy="4592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eec94"/>
                </a:solidFill>
                <a:latin typeface="Times New Roman"/>
              </a:rPr>
              <a:t>Результат </a:t>
            </a:r>
            <a:br>
              <a:rPr sz="2800"/>
            </a:br>
            <a:r>
              <a:rPr b="1" lang="uk-UA" sz="2800" spc="-1" strike="noStrike">
                <a:solidFill>
                  <a:srgbClr val="feec94"/>
                </a:solidFill>
                <a:latin typeface="Times New Roman"/>
              </a:rPr>
              <a:t>подвійного запліднення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із  зиготи                           із центральної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кліти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uk-UA" sz="2800" spc="-1" strike="noStrike">
                <a:solidFill>
                  <a:srgbClr val="000099"/>
                </a:solidFill>
                <a:latin typeface="Times New Roman"/>
              </a:rPr>
              <a:t>зародок насінини                     ендоспер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із стінок                              із насінн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за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язі                                 зачатка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uk-UA" sz="2800" spc="-1" strike="noStrike">
                <a:solidFill>
                  <a:srgbClr val="000099"/>
                </a:solidFill>
                <a:latin typeface="Times New Roman"/>
              </a:rPr>
              <a:t>оплодень                           насінина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79640" y="206064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24360" y="249228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4797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4797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Виправ помилку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Насінина формується до заплідненн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Зародки квасолі, гороху мають одну сім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ядол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Запас поживних речовин для розвитку зародка міститься в насінній шкірц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Зародки пшениці, кукурудзи мають дві сі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ядол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Ендосперм захищає вміст насінини від висихання та ушкоджен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Із заплідненої яйцеклітини розвивається ендоспер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На приймочку маточки потрапляє багато пилкових зерен, але тільки два з них здатні прорости пилковою трубкою і проникнути в зародковий мішо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апліднення у квіткових рослин отримало назву подвійне, тому що яйцеклітину запліднюють два спермії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4:38:29Z</dcterms:created>
  <dc:creator>Zver</dc:creator>
  <dc:description/>
  <dc:language>en-US</dc:language>
  <cp:lastModifiedBy>Zver</cp:lastModifiedBy>
  <dcterms:modified xsi:type="dcterms:W3CDTF">2011-12-11T14:00:05Z</dcterms:modified>
  <cp:revision>4</cp:revision>
  <dc:subject/>
  <dc:title>  Розум Енергія Знання Уміння Логіка Ь Творчість Активність Талант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c02000000000001024140</vt:lpwstr>
  </property>
</Properties>
</file>