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F15-916A-4A2D-A6DF-FC837E0F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6F2-A90A-48A8-8C5B-E84E470A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19A-77C7-439A-91BC-59A7A42B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FE0-E7B2-4111-8790-0AF9E5AF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654-7530-4869-A315-95C12EEE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4AC6-5147-4D5A-9CFF-2B9AA820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F139-94C3-4448-8AD4-52CEA27B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A467-AB35-468B-BBA3-6109BF13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9F39-071F-46CE-830A-97581A4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6FEE-F683-415D-8C48-DAEB6BE7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3880-000F-449E-B002-F20EDC6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D63-C6E8-4097-9061-1A0CE13F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342-A0DF-4BFF-8F0B-ADF93BFB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D1B6-7682-46D8-80D4-55082E3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068A-F4C8-4CE9-B3FD-2740395A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4D61-C03F-47C0-ACBC-6FD11C3D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FD57-8E46-4F44-85DB-28EFF929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85B-1C59-4672-9CEE-409927B6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89D-6ABE-4994-B2CB-01AFB61B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5FB-D970-40FB-9E3C-CD183EF6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FCC-A8BA-421D-87ED-7E778E99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7B4-0926-41A4-84E1-C204B8F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9AD-8FC9-4A49-8CE9-3826435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6D2-C13F-4FF9-A2C0-2672FF14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2130-9B6A-4DEC-B2E0-36B09357CB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7FBF-8FEE-4EBD-B65A-FD85F2714E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Тема уроку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Заплідненн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Будова насінини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47640" y="1828440"/>
            <a:ext cx="51102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зум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нергі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нанн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мінн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гіка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ворчіст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тивніст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алант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Завдання уро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сувати суть процесу подвійного запліднення у квіткових росли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ізнатись про наслідки подвійного запліднення і його значенн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лідити будову насіння у з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зку з функці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иявити відмінні ознаки  насіння різних росл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становіть відповідні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корочений та обмежений у рості пагі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Перенесення пилку із тичинок на приймочку ма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Нижня розширена частина маточки, усередині якої розташовані насінні зачат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Клітина, що утворюється внаслідок злиття двох статевих кліти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Утвір, який містить чоловічі статеві кліти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Утвір, у якому міститься яйцеклі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– зиг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Б – запилен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 – кві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 – насінний зача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Д – з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яз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Е – пилкове зер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Перевір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1 –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2 – 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3 – 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4 – 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5 – 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6 - 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ваш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Сергій Гаврил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1857 – 193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офесор Київського  університету Святого Воло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898 р. – відкриття процесу подвійного заплідн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155760" cy="459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Результат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подвійного запліднення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  зиготи                           із центральної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літ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uk-UA" sz="2800" spc="-1" strike="noStrike">
                <a:solidFill>
                  <a:srgbClr val="000099"/>
                </a:solidFill>
                <a:latin typeface="Times New Roman"/>
              </a:rPr>
              <a:t>зародок насінини                     ендоспер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 стінок                              із насін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зі                                 зачатка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uk-UA" sz="2800" spc="-1" strike="noStrike">
                <a:solidFill>
                  <a:srgbClr val="000099"/>
                </a:solidFill>
                <a:latin typeface="Times New Roman"/>
              </a:rPr>
              <a:t>оплодень                           насінина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206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2492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79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79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иправ помил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сінина формується до запліднен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ки квасолі, гороху мають одну сі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д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пас поживних речовин для розвитку зародка міститься в насінній шкірц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ки пшениці, кукурудзи мають дві сі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дол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Ендосперм захищає вміст насінини від висихання та ушкодже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з заплідненої яйцеклітини розвивається ендоспер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На приймочку маточки потрапляє багато пилкових зерен, але тільки два з них здатні прорости пилковою трубкою і проникнути в зародковий міш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пліднення у квіткових рослин отримало назву подвійне, тому що яйцеклітину запліднюють два спермії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4:38:29Z</dcterms:created>
  <dc:creator>Zver</dc:creator>
  <dc:description/>
  <dc:language>en-US</dc:language>
  <cp:lastModifiedBy>Zver</cp:lastModifiedBy>
  <dcterms:modified xsi:type="dcterms:W3CDTF">2011-12-11T14:00:05Z</dcterms:modified>
  <cp:revision>4</cp:revision>
  <dc:subject/>
  <dc:title>  Розум Енергія Знання Уміння Логіка Ь Творчість Активність Талант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2000000000001024140</vt:lpwstr>
  </property>
</Properties>
</file>