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5EA-1F73-4C68-87DA-4F5EEAC2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DBF-45E2-4AE2-B92F-E89463B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F36-ADDF-413B-B4AF-CF3B26E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4B8-BDAD-44E9-ACCF-3944965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C39-502E-42A2-A056-744EFE94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29F-F828-487A-BF71-DC3ABACC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F3A-6A32-4F4B-9456-902A16D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F28-D1CB-4B20-9077-F5489173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255-1CA0-4A42-9B67-DADEC63E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D23-EECD-424D-9AB6-AA1E40C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925-A6D1-47DF-B2B3-80EE6484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E54-7E76-446F-9A08-002F104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34C-449D-456D-BA68-51FD8D7BE4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3520" y="404640"/>
            <a:ext cx="7999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енетична термінологія і символіка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етоди генетичних досліджень. 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кони Г. Менделя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971800" y="2438280"/>
            <a:ext cx="3352680" cy="40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схрещуванні організмів,які відрізняються за певними станами однієї чи кількох спадкових ознак.   Нащадків, одержаних від такого схрещування, називають гібридами. Гібридизація лежить в основі гібридологічного аналізу- дослідження характеру успадкування  станів ознак за допомогою системи схрещува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вивченні родоводів. Це дає змогу простежити характер успадкування різних станів певних ознак у ряді поколі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н широко застосовується в медичній генетиці, селекції… За його допомогою встановлюють генотип особин і вираховують ймовірність прояву того чи іншого стану ознаки у майбутніх нащадк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2"/>
          <p:cNvSpPr/>
          <p:nvPr/>
        </p:nvSpPr>
        <p:spPr>
          <a:xfrm>
            <a:off x="838080" y="2743200"/>
            <a:ext cx="533520" cy="53352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1440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838080" y="3581280"/>
            <a:ext cx="457200" cy="45720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5486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мовні позначе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0020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чолов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238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жі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676520" y="27432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905120" y="3048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ії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даного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838080" y="4495680"/>
            <a:ext cx="533520" cy="53352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38080" y="5334120"/>
            <a:ext cx="457200" cy="45720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676520" y="44956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0512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хво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64771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4952880" y="12193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79132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5638680" y="14479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4800600" y="22860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48006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563868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64008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172200" y="266688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5334120" y="2666880"/>
            <a:ext cx="53316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67057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ді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791320" y="39625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5486400" y="4191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548640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6477120" y="3809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й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33"/>
          <p:cNvSpPr txBox="1"/>
          <p:nvPr/>
        </p:nvSpPr>
        <p:spPr>
          <a:xfrm>
            <a:off x="533520" y="152280"/>
            <a:ext cx="807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an0002"/>
          <p:cNvPicPr/>
          <p:nvPr/>
        </p:nvPicPr>
        <p:blipFill>
          <a:blip r:embed="rId2"/>
          <a:stretch/>
        </p:blipFill>
        <p:spPr>
          <a:xfrm>
            <a:off x="990720" y="2133720"/>
            <a:ext cx="7238880" cy="406224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овід сім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аутосомно-дом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н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 типом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д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корол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т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ї.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емоф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лії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Scan0007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38156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116" name="Line 4"/>
          <p:cNvSpPr/>
          <p:nvPr/>
        </p:nvSpPr>
        <p:spPr>
          <a:xfrm>
            <a:off x="2590920" y="304812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дом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нт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янки (ластовин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й 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сті г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вгі в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 з ямк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тара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є облисі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19920" y="2057400"/>
            <a:ext cx="243828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рецесив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6002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уд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се воло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л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р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л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й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н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ла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р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ж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на глух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867280" y="1752480"/>
            <a:ext cx="236232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457200" y="228600"/>
            <a:ext cx="830592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 статистичний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дає можливість вивчати  частоти зустрічальності алелей у популяціях організмів, а також генетичної структури популяці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итогенетичний грунтується на дослідженні особливостей каріотипу - хромосомного набору організмів. Його вивчення дає змогу виявляти мутації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за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зі змінами, як кількості хромосом, так і структури окремих із них.                                               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аріотип досліджують у клітинах на стадії метафази, бо в цей період клітинного циклу структура хромосом виражена найчіткі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can0004"/>
          <p:cNvPicPr/>
          <p:nvPr/>
        </p:nvPicPr>
        <p:blipFill>
          <a:blip r:embed="rId2"/>
          <a:stretch/>
        </p:blipFill>
        <p:spPr>
          <a:xfrm>
            <a:off x="685800" y="1219320"/>
            <a:ext cx="7696080" cy="529884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  <p:sp>
        <p:nvSpPr>
          <p:cNvPr id="128" name="WordArt 3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57400" y="380880"/>
            <a:ext cx="541008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53352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икористовується для діагностики спадкових захворювань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заних із порушенням обміну речовин. За його допомогою виявляють білки, а також проміжні продукти обміну, невластиві даному організму, що свідчить про наявність змінених (мутантних) генів.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омо понад 500 спадкових захворювань людини, зумовлених такими генами: фенілкетонурія, цукровий діаб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467480" y="5029200"/>
            <a:ext cx="137160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2133720"/>
            <a:ext cx="861048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носиться до хвороб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а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кислотного об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Аутосомно-рецесивне за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норм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еретворюєть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тирозин (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еобх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дн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для нормального раз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т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головного моз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еретворювати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пировиноградну кислоту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я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ечею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разв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лаб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сті розуму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у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ння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гностик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а діє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воляю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пини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иток за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133720" y="1143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кетону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33520" y="22860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57200" y="2286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лягає у вивченні близнят. В основному однояйцевих, так як вони походять з однієї зиго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осліджуючи такі організми, можна з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сувати роль чинників довкілля у формуванні особин: різний характер їхнього впливу зумовлює розбіжності у прояві тих чи інших станів певних озна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248520" y="5410080"/>
            <a:ext cx="152388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90920" y="5410080"/>
            <a:ext cx="1752480" cy="1219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U12_02_06"/>
          <p:cNvPicPr/>
          <p:nvPr/>
        </p:nvPicPr>
        <p:blipFill>
          <a:blip r:embed="rId2"/>
          <a:stretch/>
        </p:blipFill>
        <p:spPr>
          <a:xfrm>
            <a:off x="1295280" y="2895480"/>
            <a:ext cx="6324840" cy="332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ояйц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в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(моно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762120" y="30492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12_02_07"/>
          <p:cNvPicPr/>
          <p:nvPr/>
        </p:nvPicPr>
        <p:blipFill>
          <a:blip r:embed="rId2"/>
          <a:stretch/>
        </p:blipFill>
        <p:spPr>
          <a:xfrm>
            <a:off x="685800" y="259092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3352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ояйц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(ди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не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457200" y="2286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066680"/>
            <a:ext cx="85345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ґрунтується на вивченні рельєфу шкіри на пальцях, долонях і поверхні підошв. Малюнок цей індивідуальний для кожної людини він встановлює ступінь спорідненості люде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культивува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 культивування нестатевих (соматичних) клітин людини поза організмом дає можливість вирішувати різні питання генетики людини, які неможливо розв’язати на цілісному організмі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му клітини для досліджень беруть з різних органів і тканин. В основному крові, шкіри, червоного кісткового мозку та вирощують їх на штучних поживних середовищах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 генної інженерії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28600" y="1066680"/>
            <a:ext cx="853452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 їх  допомогою  учені виділяють з організмів окремі гени або синтезують їх штучно, також перебудовують певні гени і вводять їх у геном іншої клітини чи організму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Arial"/>
              </a:rPr>
              <a:t>Чи знаєте ви, що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8600" y="1600200"/>
            <a:ext cx="8763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0%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хвороб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умовле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атолог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ч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ми ге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ин из 150 нов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жд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ає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труктур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аб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число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 хромо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а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 10 гамет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енетич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58000" y="3124080"/>
            <a:ext cx="2057400" cy="228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ельні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нт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цес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ив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м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падкові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Ген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791320" y="1523880"/>
            <a:ext cx="2133360" cy="1676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638680" y="4038480"/>
            <a:ext cx="2743200" cy="1905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838080" y="2286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айте визначе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 flipH="1">
            <a:off x="3656880" y="609480"/>
            <a:ext cx="3048120" cy="2438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4343400" y="3886200"/>
            <a:ext cx="762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352680" y="990720"/>
            <a:ext cx="2590920" cy="220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U12_02_06"/>
          <p:cNvPicPr/>
          <p:nvPr/>
        </p:nvPicPr>
        <p:blipFill>
          <a:blip r:embed="rId2"/>
          <a:stretch/>
        </p:blipFill>
        <p:spPr>
          <a:xfrm>
            <a:off x="304920" y="1143000"/>
            <a:ext cx="5105160" cy="2685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U12_02_07"/>
          <p:cNvPicPr/>
          <p:nvPr/>
        </p:nvPicPr>
        <p:blipFill>
          <a:blip r:embed="rId3"/>
          <a:stretch/>
        </p:blipFill>
        <p:spPr>
          <a:xfrm>
            <a:off x="3276720" y="380988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2288160" y="25560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Arial"/>
              </a:rPr>
              <a:t>Поясніть малю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исунок1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рацювати конспек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ідручником С. В. Межжері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Я. О. Межжері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5-9 опрацюва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Child028"/>
          <p:cNvPicPr/>
          <p:nvPr/>
        </p:nvPicPr>
        <p:blipFill>
          <a:blip r:embed="rId6"/>
          <a:stretch/>
        </p:blipFill>
        <p:spPr>
          <a:xfrm>
            <a:off x="3224160" y="106200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57" name="Picture 8" descr="Копия Child028"/>
          <p:cNvPicPr/>
          <p:nvPr/>
        </p:nvPicPr>
        <p:blipFill>
          <a:blip r:embed="rId7"/>
          <a:stretch/>
        </p:blipFill>
        <p:spPr>
          <a:xfrm>
            <a:off x="3224160" y="106668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U12_02_05"/>
          <p:cNvPicPr/>
          <p:nvPr/>
        </p:nvPicPr>
        <p:blipFill>
          <a:blip r:embed="rId6"/>
          <a:stretch/>
        </p:blipFill>
        <p:spPr>
          <a:xfrm>
            <a:off x="3200400" y="106668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121932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зн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й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тис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з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метода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вивченн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генетик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Розглянути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 ознаки       успадковуються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 домінантн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 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рецесивн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знайомитися із зако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7e7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77120" y="1295280"/>
            <a:ext cx="220968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400800" y="3733920"/>
            <a:ext cx="2438280" cy="259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6858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 занятті ми повинні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1146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сновні генетичні понятт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и генетичних дослідж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Г. Мендель та його дослідже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акони 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Arial"/>
              </a:rPr>
              <a:t>Завдання сучасної генет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9360">
            <a:solidFill>
              <a:srgbClr val="ee94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еханізми зберігання і передачі спадкової інформації від батьків пот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соби і шляхи реалізації цієї інформації у вигляді ознак і властивостей організм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ізноманітність типів, причин, механізмів мінливості всіх живих іст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заємоз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зки процесів спадковості і мінливості як рушійних факторів еволюції органічного сві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295280" y="198108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статис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Культивуванн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ної інженерії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3500280"/>
            <a:ext cx="19051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0" y="3500280"/>
            <a:ext cx="190512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8088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тики людини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23:05Z</dcterms:created>
  <dc:creator>XTreme</dc:creator>
  <dc:description/>
  <dc:language>en-US</dc:language>
  <cp:lastModifiedBy>Admin</cp:lastModifiedBy>
  <dcterms:modified xsi:type="dcterms:W3CDTF">2012-10-19T07:54:2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d000000000001024140</vt:lpwstr>
  </property>
</Properties>
</file>