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FA4-76CE-4D9F-B159-580D2BC6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CF0-F656-42AD-8802-616A277D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6BF-DEFC-46F3-952A-DAC6EAFF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953-6D7B-46B2-A322-912EFFDA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FE82-285F-49F1-B456-9253D76C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DEC-F10A-44A2-8B71-93948626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76F5-AD9F-4F87-B349-30236616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18A-D067-4081-A873-10696334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8890-EBF2-4360-BF21-14FD2EC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091E-A810-4E74-87E5-4455EAAB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1C3E-C47F-4A0B-8035-F4E5B407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1C7-F0B8-482F-9667-5C1EBAB1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1D5D-2DFC-4815-8099-F7AD034E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C371-AC09-42C0-A96D-F0D6B0B2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394-B3E5-41A5-8248-B1649C9E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7DD9-132A-4B0F-A5AD-AD98AC25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E41-2F4D-4DB0-B2E5-462FE146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ACB-470E-4DC9-B28F-73D2D469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0DE-8957-4589-A78D-B73776F6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825-7C07-4029-8756-FCA55468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2B3-F0DE-44D7-A17F-9437C035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CC9-CCEB-439E-8CD2-05B275E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A7C-1350-49E9-8C8F-8578B93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6FD-6FEA-4936-B7B9-081F182B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3BAB-DE33-41ED-9855-CE5DEA0F61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05F-2AC8-4235-88E6-D199F2B17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Тема: царство Гриби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У деякому царстві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що таємно і явно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розташувалося навкол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людини і навіть саме в ні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429000"/>
            <a:ext cx="228600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Arial"/>
              </a:rPr>
              <a:t>Станція “Літературна”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Грибная п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жду поять дождя гриб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Я по лесам бродить при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ы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гда на свет пробьется с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ва приметный борови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все мне любо в эту по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на волнушках – желтый лис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даже зонтик мухом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по восточному цветис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отошла, отпела юность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 ней напомнит дождь гриб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а с дождем ко мне вернула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 вчера – она со м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Істори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ука, що вивчає гриби називається – мікологіє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е в першій половині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оліття відомий французький міколог де Фріз запропонував виділити гриби у самостійне царство. В Україні мікологія почала розвиватися тільки у 30-х рока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століт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омі українські мікологи: М.Я. Зерова, С.Ф. Морочковський, М.М. Підоплічко, В.Й.Білай, І.О. Дуд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Біологічн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6440" y="1600200"/>
            <a:ext cx="714348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це одноклітинні або багатоклітинні гетеротрофні організми, які не мають хлорофіл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000000"/>
                </a:solidFill>
                <a:uFillTx/>
                <a:latin typeface="Arial"/>
              </a:rPr>
              <a:t>Гриби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– організми, які живляться, подібно до тварин, готовими речови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они об'єднані в царство Гриб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Гриб складається з грибниці та плодового тіла, які утворені гіф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озмножуються частіше нестатевим способом за допомогою спор, а також вегетативно брунькуванн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1295280"/>
            <a:ext cx="20955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5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5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200" spc="-1" strike="noStrike" u="sng">
                <a:solidFill>
                  <a:srgbClr val="ffffff"/>
                </a:solidFill>
                <a:uFillTx/>
                <a:latin typeface="Arial"/>
              </a:rPr>
              <a:t>Способи життя грибі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апрофі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належать гриби, що живуть за рахунок відмерлих організм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Гриби паразит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живуть на поверхні або всередені живих тканин рослин і тварин. Живляться за рахунок організмів, на яких оселилися, і часто є збудниками інфекційних захворюван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 u="sng">
                <a:solidFill>
                  <a:srgbClr val="000000"/>
                </a:solidFill>
                <a:uFillTx/>
                <a:latin typeface="Arial"/>
              </a:rPr>
              <a:t>Симбіоз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співжиття з водоростями і навіть вищими росл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ffffff"/>
                </a:solidFill>
                <a:latin typeface="Arial"/>
              </a:rPr>
              <a:t>Станція “Дослідницька”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20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рівняльна характеристика грибів, рослин і тв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2590920"/>
          <a:ext cx="7924680" cy="342864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Л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ІЛЬНЕ З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АРИН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овище існ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вле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множенн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о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нов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e User</cp:lastModifiedBy>
  <dcterms:modified xsi:type="dcterms:W3CDTF">2010-05-24T16:08:1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03000000000001024140</vt:lpwstr>
  </property>
  <property fmtid="{D5CDD505-2E9C-101B-9397-08002B2CF9AE}" pid="3" name="Version">
    <vt:r8>1</vt:r8>
  </property>
</Properties>
</file>