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D82B-4185-4EB1-BE36-7065A887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C45-A8C1-4CE2-9C4C-72984899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03D-F47F-4DBC-9646-EE7B3FA6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8D0-5B6C-491D-9571-828B09ED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FEE2-C317-404D-B3BE-E8F87576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BCFA-5ECB-4822-831B-461AC9F2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0E2D-3501-4163-AE0A-5A1CE867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A12F-127B-42C9-873A-A65538CB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0F90-B877-4520-BA11-DF541565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BBD9-5457-423A-BA57-73C1992F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73C8-E699-4FD5-8AD4-8CE2A923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ED9-BE13-4952-BA40-01E223E4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C627-0B47-4694-A25B-25EF6923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FFAE-0DED-45C4-A4AF-6E56AC3C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3CDC-E65E-4897-81CC-617C1385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2F3C-F929-4EA9-831C-48018DFB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B5FA-3F1E-469D-8ABD-48C8C224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98A-54C4-44AE-BF04-18D38C99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EC5-87C0-4AA1-9146-81681664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B17-51E9-42E7-9B56-4D53CE90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3B3-74EF-4528-97FE-021F4512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4CA-5B55-466B-81B7-CFAEDE9B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25F-21CD-486C-9264-47B06255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0C7-B8F1-407C-A6F4-1267C495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9DBC-5016-4A93-9E0D-FB820303DE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26A2-A095-4B7F-A239-85E44C23D1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Arial"/>
              </a:rPr>
              <a:t>Тема: царство Гриб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У деякому царстві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що таємно і явн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розташувалося навкол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людини і навіть саме в ні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22860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Arial"/>
              </a:rPr>
              <a:t>Станція “Літературна”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рибная п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 жду поять дождя гриб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 по лесам бродить при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ы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на свет пробьется с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ва приметный боров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се мне любо в эту по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волнушках – желтый лис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аже зонтик мухомор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по восточному цвети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сть отошла, отпела юность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ней напомнит дождь гриб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с дождем ко мне вернула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и вчера – она со м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Станція “Історична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ка, що вивчає гриби називається – мікологіє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іття відомий французький міколог де Фріз запропонував виділити гриби у самостійне царство. В Україні мікологія почала розвиватися тільки у 30-х рока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століт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омі українські мікологи: М.Я. Зерова, С.Ф. Морочковський, М.М. Підоплічко, В.Й.Білай, І.О. Дуд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Станція “Біологічна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6440" y="1600200"/>
            <a:ext cx="71434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Гриб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це одноклітинні або багатоклітинні гетеротрофні організми, які не мають хлорофі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Гриб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організми, які живляться, подібно до тварин, готовими речовин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они об'єднані в царство Гриб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риб складається з грибниці та плодового тіла, які утворені гіф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ножуються частіше нестатевим способом за допомогою спор, а також вегетативно брунькуванн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20955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200" spc="-1" strike="noStrike" u="sng">
                <a:solidFill>
                  <a:srgbClr val="ffffff"/>
                </a:solidFill>
                <a:uFillTx/>
                <a:latin typeface="Arial"/>
              </a:rPr>
              <a:t>Способи життя грибі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Сапрофіт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належать гриби, що живуть за рахунок відмерлих організм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Гриби паразит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живуть на поверхні або всередені живих тканин рослин і тварин. Живляться за рахунок організмів, на яких оселилися, і часто є збудниками інфекційних захворюва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Симбіоз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співжиття з водоростями і навіть вищими росли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2438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Станція “Дослідницька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івняльна характеристика грибів, рослин і тва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590920"/>
          <a:ext cx="7924680" cy="342864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ІЛЬНЕ З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ЛИ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ІЛЬНЕ З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АРИ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овище існ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жив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мно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нов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e User</cp:lastModifiedBy>
  <dcterms:modified xsi:type="dcterms:W3CDTF">2010-05-24T16:08:1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3000000000001024140</vt:lpwstr>
  </property>
  <property fmtid="{D5CDD505-2E9C-101B-9397-08002B2CF9AE}" pid="3" name="Version">
    <vt:r8>1</vt:r8>
  </property>
</Properties>
</file>