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380-CC61-4896-862A-EEB65BDA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CF8-32BF-4381-A006-6E6E80FA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FDB-710D-438A-883F-7AAB6F62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F76-1F34-4DB3-AF80-E4E965A0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0970-6155-4945-943C-0234E155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44BE-4E4B-42FE-A7E7-089051BB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FE37-AE35-4278-9E29-0A06C782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4DBA-BB72-424F-8A24-66FAAA11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ABFD-F808-4230-92B0-162DB297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C3EC-FF00-481B-A8BA-EB373E8C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C898-AE15-4F99-ADCA-6D62E895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47C-D302-4BD3-9D41-D5ADA57F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FECA-5947-4F4B-97C8-3EDD045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4A27-2594-4B4F-9F1E-B8A51CB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2932-B715-463D-BD11-C839C8A5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9652-5B0F-4A0C-BD4B-513B336D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0F1E-C807-496F-9FF7-FE91FC28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690-BC68-4E0F-AD92-93610129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F3D-FBEA-4F29-AE08-C41DAFAE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78D-8623-4010-8478-7D322E83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8D4-1F26-4281-AE42-1EA5A2E7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EE2-346E-4B13-9EBE-E304308F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297-4985-44A9-928F-92ED3C4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FE5-6E41-4AF4-9578-578AF44F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1622-6E78-4AC8-B2B5-EE21288F39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5540-1046-4B3A-91CB-4AAD5728F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Arial"/>
              </a:rPr>
              <a:t>Тема: царство Гриб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У деякому царстві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що таємно і явн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розташувалося навкол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людини і навіть саме в ні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Arial"/>
              </a:rPr>
              <a:t>Станція “Літературна”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рибная п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 жду поять дождя гриб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 по лесам бродить при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ы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на свет пробьется с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ва приметный боров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се мне любо в эту по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волнушках – желтый лис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аже зонтик мухомо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по восточному цвети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отошла, отпела юность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напомнит дождь гриб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с дождем ко мне верну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 вчера – она со м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Історичн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ка, що вивчає гриби називається – мікологіє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іття відомий французький міколог де Фріз запропонував виділити гриби у самостійне царство. В Україні мікологія почала розвиватися тільки у 30-х рока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століт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омі українські мікологи: М.Я. Зерова, С.Ф. Морочковський, М.М. Підоплічко, В.Й.Білай, І.О. Дуд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Біологічн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6440" y="1600200"/>
            <a:ext cx="71434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Гриб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це одноклітинні або багатоклітинні гетеротрофні організми, які не мають хлорофі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Гриб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організми, які живляться, подібно до тварин, готовими речови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они об'єднані в царство Гриб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риб складається з грибниці та плодового тіла, які утворені гіф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ножуються частіше нестатевим способом за допомогою спор, а також вегетативно брунькуванн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0955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200" spc="-1" strike="noStrike" u="sng">
                <a:solidFill>
                  <a:srgbClr val="ffffff"/>
                </a:solidFill>
                <a:uFillTx/>
                <a:latin typeface="Arial"/>
              </a:rPr>
              <a:t>Способи життя грибі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Сапрофіт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належать гриби, що живуть за рахунок відмерлих організм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Гриби паразит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живуть на поверхні або всередені живих тканин рослин і тварин. Живляться за рахунок організмів, на яких оселилися, і часто є збудниками інфекційних захворюв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Симбіоз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співжиття з водоростями і навіть вищими росли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Дослідницьк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івняльна характеристика грибів, рослин і тв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590920"/>
          <a:ext cx="7924680" cy="342864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ЛЬНЕ З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ЛИ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ЛЬНЕ З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АРИ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овище існ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жив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но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нов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e User</cp:lastModifiedBy>
  <dcterms:modified xsi:type="dcterms:W3CDTF">2010-05-24T16:08:1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3000000000001024140</vt:lpwstr>
  </property>
  <property fmtid="{D5CDD505-2E9C-101B-9397-08002B2CF9AE}" pid="3" name="Version">
    <vt:r8>1</vt:r8>
  </property>
</Properties>
</file>