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1DA-772F-47EE-A0C0-39154F11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F72-495E-4A57-8DFA-3AD5DE21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B48-24E8-44E4-AD0F-5F502939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391-1974-49F3-8843-FA61EDBF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757D-987B-44CA-9F0E-95B5B24D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28F0-401B-46C7-AA29-293E9DA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836C-A45A-43C2-B831-31333463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3489-FDEB-419C-842A-2D3757FC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C086-374E-4F3B-90E2-B501590B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E371-5C2E-48C6-BD94-EBB77582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B6EF-C4B7-4858-9A9F-11E503E0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834-D6D7-419C-B5ED-BDAA2CAD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D7FB-C49A-44DF-937D-97406F99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D618-9804-4434-9290-8CD0579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E4AA-4A61-49D2-B31D-654D69E9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0FAA-1E6A-4E78-AF5E-1874B5A3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CFBD-6C7A-4890-97C9-157AF3D2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091-626E-4BF8-8E12-83F15B48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187-7A47-4F9B-9825-D61FDACA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68C-19A2-4DE5-B621-D6C9FA35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B3E-B7D4-4CE0-8D13-7B8F7FB6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10C-A96A-4979-BE8D-B4809EB3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CA9-2E9D-4583-8270-114853B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C30-31F9-4D67-BA00-E0B602A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D1F-21BE-4A3F-AC98-A1283036F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95A6-A220-4269-BEB3-E7250F0BD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Тема: царство Гриб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У деякому царстві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що таємно і явн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розташувалося навкол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людини і навіть саме в ні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Станція “Літературна”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рибная п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жду поять дождя гриб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по лесам бродить при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ы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на свет пробьется с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се мне любо в эту п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волнушках – желтый лис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зонтик мухомо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по восточному цвети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отошла, отпела юность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напомнит дождь гриб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с дождем ко мне верну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 вчера – она со м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Історичн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ка, що вивчає гриби називається – міколог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іття відомий французький міколог де Фріз запропонував виділити гриби у самостійне царство. В Україні мікологія почала розвиватися тільки у 30-х рока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столі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омі українські мікологи: М.Я. Зерова, С.Ф. Морочковський, М.М. Підоплічко, В.Й.Білай, І.О. Дуд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Біологічн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6440" y="1600200"/>
            <a:ext cx="71434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иб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це одноклітинні або багатоклітинні гетеротрофні організми, які не мають хлорофі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иб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організми, які живляться, подібно до тварин, готовими речови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они об'єднані в царство Гриб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иб складається з грибниці та плодового тіла, які утворені гіф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ножуються частіше нестатевим способом за допомогою спор, а також вегетативно брунькуванн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0955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200" spc="-1" strike="noStrike" u="sng">
                <a:solidFill>
                  <a:srgbClr val="ffffff"/>
                </a:solidFill>
                <a:uFillTx/>
                <a:latin typeface="Arial"/>
              </a:rPr>
              <a:t>Способи життя грибі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апрофі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належать гриби, що живуть за рахунок відмерлих організм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Гриби парази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живуть на поверхні або всередені живих тканин рослин і тварин. Живляться за рахунок організмів, на яких оселилися, і часто є збудниками інфекційних захворюв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имбіоз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співжиття з водоростями і навіть вищими росли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Дослідницьк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івняльна характеристика грибів, рослин і тв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590920"/>
          <a:ext cx="7924680" cy="342864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Е З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ЛИ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Е З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АРИ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овище існ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жив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но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нов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e User</cp:lastModifiedBy>
  <dcterms:modified xsi:type="dcterms:W3CDTF">2010-05-24T16:08:1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3000000000001024140</vt:lpwstr>
  </property>
  <property fmtid="{D5CDD505-2E9C-101B-9397-08002B2CF9AE}" pid="3" name="Version">
    <vt:r8>1</vt:r8>
  </property>
</Properties>
</file>