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11.png" ContentType="image/png"/>
  <Override PartName="/ppt/media/image19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43.jpeg" ContentType="image/jpeg"/>
  <Override PartName="/ppt/media/image35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24.jpeg" ContentType="image/jpeg"/>
  <Override PartName="/ppt/media/image21.jpeg" ContentType="image/jpe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53.wmf" ContentType="image/x-wmf"/>
  <Override PartName="/ppt/media/image30.jpeg" ContentType="image/jpeg"/>
  <Override PartName="/ppt/media/image37.jpeg" ContentType="image/jpeg"/>
  <Override PartName="/ppt/media/image38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63.png" ContentType="image/png"/>
  <Override PartName="/ppt/media/image57.jpeg" ContentType="image/jpeg"/>
  <Override PartName="/ppt/media/image5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72F-37B5-4F00-B0E1-AE49B724EF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0CF-E1FE-4FC6-8EDC-01AD784073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EEC-21EA-4BEF-8A3B-86BE2B97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898-063E-410E-8EB5-57A7157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CBA-1788-4E6E-827E-C42683C2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222-5EE0-4C11-81CE-89670E30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63D3-9872-44D6-AEF8-35E87F85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9CBD-C0C2-4D81-9299-95266910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C01-4FB7-461A-9D59-42866A3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192-2C32-4C45-BF60-4166AAC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602-9399-4F8F-9E32-04ABCC8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1538-98B7-4317-9652-63241D75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17C-FF0E-4D31-81D5-AD23FDD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1BC-1A6D-43DE-9DD5-3B1BA19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778-F774-4E0D-BC8F-F4D16B8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8AE-470D-460D-AAA7-29CF04D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0BB-71F3-4AAA-AE9C-413317E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214C-E89D-4937-9379-7D364178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FBA0-8598-4AE9-AF31-577F160B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687C-2965-4015-9FC4-6C1C758C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4D89-8AE6-4E31-97ED-6ED4C80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2009-6E63-46D8-BF60-B68BEAC0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249C-809E-4C03-8EEB-822688E0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7229-AB38-4A11-9942-CC6F3C4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434-3A32-4D5F-9349-29F1A4FB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D4D0-2FBD-4ADC-A8CA-D768027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DCB0-C87B-4961-947D-6A8BB62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D2E2-2B41-4A57-BD22-741DF03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B1CF-372B-42A3-B76D-1FDE127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69F1-6A3C-4986-85F4-A93920A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B50A-2A64-40FD-8F97-9C1A76C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55A4-E427-4641-AFB0-DE4ADA5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C999-0938-493B-9D2B-3AE400AE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3732-DADC-4AE4-9187-EBBB51B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CBE8-75AE-4D41-95B2-81AF2D3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DEB-8445-4C92-BD94-A15F90F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4771-CBFC-48AD-8B9D-AD8AE60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F715-98EC-48AA-97EF-3D88E32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AD94-C514-4D43-98B4-BC67A6EC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018F-2826-4B11-AA55-29BD08F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CBD9-EEC5-448A-9E69-90C9A15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DFFF-1315-46AD-B2D0-D99B47A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8A8F-4C68-4992-9FB4-2B387A3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4894-FCCD-47D4-8AE0-613338F3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CD76-03F1-4C8A-8B15-AD22D436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B391-E568-4435-9634-7441676E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1AA-B095-459E-9D3D-4C1A097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6320-FC7A-4C4A-916F-635AB8D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6173-B61D-489B-8780-C7BC30B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5F2D-3708-4699-AF35-753786A9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B24F-3336-47BC-98D0-6B3AEEEF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281D9-83CB-43E3-8F46-B6C2AAE3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31FD-2DC2-49B8-910E-99A6EDC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FF7F-75DF-4D4A-AA1E-D5B1969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B4A7-68B9-4F74-A5DD-05C1056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8FB1-4975-4397-8D5A-5750B77D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B94C-A284-46A0-8C27-14D8FF76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49C-1923-4199-A0B1-522EA8F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FA26-1DD7-467A-9B9B-AF4E06BB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288-FC5E-4077-9C81-9E7809E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D11-F702-4CA4-B39E-C4A2F0E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B62-6ACF-447B-B4EA-B2D0D5F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E84F-DF96-496E-A57C-8927D736025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E32A-056A-45E9-ADB1-95AA9944BD2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445-F958-4758-81C6-0919BDCAF48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811-6B90-44BA-9DD7-B7BD730D520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C2AB-10F1-46E0-8C5F-96C78B06E54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-274680" y="1414440"/>
            <a:ext cx="878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0" y="642960"/>
            <a:ext cx="8001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Три джерела мають потяги людини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Душу,  розум і тіл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душ народжують дружб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розуму народжують баж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єднання трьох потягів  народжують  Кох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Гілка  персика”  Трактат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9800"/>
            <a:ext cx="8362800" cy="19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4944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77.jpg"/>
          <p:cNvPicPr/>
          <p:nvPr/>
        </p:nvPicPr>
        <p:blipFill>
          <a:blip r:embed="rId1"/>
          <a:srcRect l="0" t="0" r="22" b="0"/>
          <a:stretch/>
        </p:blipFill>
        <p:spPr>
          <a:xfrm>
            <a:off x="500040" y="357120"/>
            <a:ext cx="770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8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0" y="571680"/>
            <a:ext cx="7754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99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285920" y="-6480"/>
            <a:ext cx="6072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E:\444.jpg"/>
          <p:cNvPicPr/>
          <p:nvPr/>
        </p:nvPicPr>
        <p:blipFill>
          <a:blip r:embed="rId1"/>
          <a:stretch/>
        </p:blipFill>
        <p:spPr>
          <a:xfrm>
            <a:off x="2428920" y="3571920"/>
            <a:ext cx="331776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555.jpg"/>
          <p:cNvPicPr/>
          <p:nvPr/>
        </p:nvPicPr>
        <p:blipFill>
          <a:blip r:embed="rId2"/>
          <a:stretch/>
        </p:blipFill>
        <p:spPr>
          <a:xfrm>
            <a:off x="4714920" y="353880"/>
            <a:ext cx="2484360" cy="298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E:\333.jpg"/>
          <p:cNvPicPr/>
          <p:nvPr/>
        </p:nvPicPr>
        <p:blipFill>
          <a:blip r:embed="rId3"/>
          <a:stretch/>
        </p:blipFill>
        <p:spPr>
          <a:xfrm>
            <a:off x="1143000" y="357120"/>
            <a:ext cx="2335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40161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123.jpg"/>
          <p:cNvPicPr/>
          <p:nvPr/>
        </p:nvPicPr>
        <p:blipFill>
          <a:blip r:embed="rId2"/>
          <a:stretch/>
        </p:blipFill>
        <p:spPr>
          <a:xfrm>
            <a:off x="0" y="3786120"/>
            <a:ext cx="8210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000240" y="3233880"/>
            <a:ext cx="5162760" cy="362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2345.jpg"/>
          <p:cNvPicPr/>
          <p:nvPr/>
        </p:nvPicPr>
        <p:blipFill>
          <a:blip r:embed="rId1"/>
          <a:stretch/>
        </p:blipFill>
        <p:spPr>
          <a:xfrm>
            <a:off x="0" y="0"/>
            <a:ext cx="7929720" cy="3862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714240" y="42148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Злиття чоловічих  і жіночих  гамет називається 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аплідненням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, а клітин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що утворилася –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иготою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1566720"/>
            <a:ext cx="658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1305000" y="-212760"/>
            <a:ext cx="6638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2584440" y="615960"/>
            <a:ext cx="39448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972040" y="209556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" descr=""/>
          <p:cNvPicPr/>
          <p:nvPr/>
        </p:nvPicPr>
        <p:blipFill>
          <a:blip r:embed="rId2"/>
          <a:stretch/>
        </p:blipFill>
        <p:spPr>
          <a:xfrm>
            <a:off x="-49320" y="324000"/>
            <a:ext cx="8613720" cy="1108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85880" y="200016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Вагітність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це фізіологічний стан організму жінки, пов'язаний із заплідненням  яйцеклітини, розвитком  зародка і плода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55.jpg"/>
          <p:cNvPicPr/>
          <p:nvPr/>
        </p:nvPicPr>
        <p:blipFill>
          <a:blip r:embed="rId1"/>
          <a:stretch/>
        </p:blipFill>
        <p:spPr>
          <a:xfrm>
            <a:off x="0" y="0"/>
            <a:ext cx="8091360" cy="4867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857160" y="4795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Імплантація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(на 7-й день)  проникнення  зародка в слизову оболонку матки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3097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56.jpg"/>
          <p:cNvPicPr/>
          <p:nvPr/>
        </p:nvPicPr>
        <p:blipFill>
          <a:blip r:embed="rId2"/>
          <a:srcRect l="0" t="0" r="14" b="0"/>
          <a:stretch/>
        </p:blipFill>
        <p:spPr>
          <a:xfrm>
            <a:off x="714240" y="3357720"/>
            <a:ext cx="7058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7.jpg"/>
          <p:cNvPicPr/>
          <p:nvPr/>
        </p:nvPicPr>
        <p:blipFill>
          <a:blip r:embed="rId2"/>
          <a:stretch/>
        </p:blipFill>
        <p:spPr>
          <a:xfrm>
            <a:off x="2571840" y="178596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3" descr="8.jpg"/>
          <p:cNvPicPr/>
          <p:nvPr/>
        </p:nvPicPr>
        <p:blipFill>
          <a:blip r:embed="rId3"/>
          <a:stretch/>
        </p:blipFill>
        <p:spPr>
          <a:xfrm>
            <a:off x="5500800" y="2500200"/>
            <a:ext cx="2714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4" descr="9.jpg"/>
          <p:cNvPicPr/>
          <p:nvPr/>
        </p:nvPicPr>
        <p:blipFill>
          <a:blip r:embed="rId1"/>
          <a:stretch/>
        </p:blipFill>
        <p:spPr>
          <a:xfrm>
            <a:off x="0" y="0"/>
            <a:ext cx="2317680" cy="3214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10.jpg"/>
          <p:cNvPicPr/>
          <p:nvPr/>
        </p:nvPicPr>
        <p:blipFill>
          <a:blip r:embed="rId2"/>
          <a:stretch/>
        </p:blipFill>
        <p:spPr>
          <a:xfrm>
            <a:off x="2286000" y="71424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1.jpg"/>
          <p:cNvPicPr/>
          <p:nvPr/>
        </p:nvPicPr>
        <p:blipFill>
          <a:blip r:embed="rId3"/>
          <a:stretch/>
        </p:blipFill>
        <p:spPr>
          <a:xfrm>
            <a:off x="4572000" y="1428840"/>
            <a:ext cx="233208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12.jpg"/>
          <p:cNvPicPr/>
          <p:nvPr/>
        </p:nvPicPr>
        <p:blipFill>
          <a:blip r:embed="rId4"/>
          <a:stretch/>
        </p:blipFill>
        <p:spPr>
          <a:xfrm>
            <a:off x="6858000" y="2786040"/>
            <a:ext cx="2286000" cy="27892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13.jpg"/>
          <p:cNvPicPr/>
          <p:nvPr/>
        </p:nvPicPr>
        <p:blipFill>
          <a:blip r:embed="rId5"/>
          <a:stretch/>
        </p:blipFill>
        <p:spPr>
          <a:xfrm>
            <a:off x="1703520" y="4572000"/>
            <a:ext cx="34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7230960" cy="11268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011240" y="1279440"/>
            <a:ext cx="6316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0" y="0"/>
            <a:ext cx="792972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ЙЦЕКЛІТ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РУГЛА, ВЕ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ЖИВИТЬ, ЗАПЛІДНЮЄТЬСЯ, ДІЛИ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 ЖІНОЧЕ  НАЧА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СПЕРМАТОЗОЇД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УХЛИВИЙ, МАЛЕНЬ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ЛИВЕ, ПРОНИКАЄ, ЗАПЛІДНЮЄ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ХОДИТЬ ДО СКЛАДУ СПЕР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УГОЛОВ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ИГО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ПЛІДНЕНА, БАГА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ДІЛИТЬСЯ, ПЕРЕТВОРЮЄТЬСЯ, РОЗВИВАЄ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МАЙБУТНІЙ ЗАРОД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УРЯЧЕ 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100.jpg"/>
          <p:cNvPicPr/>
          <p:nvPr/>
        </p:nvPicPr>
        <p:blipFill>
          <a:blip r:embed="rId1"/>
          <a:srcRect l="0" t="0" r="6" b="0"/>
          <a:stretch/>
        </p:blipFill>
        <p:spPr>
          <a:xfrm>
            <a:off x="1643040" y="1000080"/>
            <a:ext cx="5524560" cy="5143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07172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днояйцеві та різнояйцеві  близня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99.jpg"/>
          <p:cNvPicPr/>
          <p:nvPr/>
        </p:nvPicPr>
        <p:blipFill>
          <a:blip r:embed="rId1"/>
          <a:srcRect l="0" t="0" r="-41" b="-54"/>
          <a:stretch/>
        </p:blipFill>
        <p:spPr>
          <a:xfrm>
            <a:off x="3857760" y="3214800"/>
            <a:ext cx="4132080" cy="31431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-2054160"/>
            <a:ext cx="6497640" cy="5924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E:\333.jpg"/>
          <p:cNvPicPr/>
          <p:nvPr/>
        </p:nvPicPr>
        <p:blipFill>
          <a:blip r:embed="rId3"/>
          <a:stretch/>
        </p:blipFill>
        <p:spPr>
          <a:xfrm>
            <a:off x="285840" y="428760"/>
            <a:ext cx="3214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" descr=""/>
          <p:cNvPicPr/>
          <p:nvPr/>
        </p:nvPicPr>
        <p:blipFill>
          <a:blip r:embed="rId2"/>
          <a:stretch/>
        </p:blipFill>
        <p:spPr>
          <a:xfrm>
            <a:off x="4011480" y="85392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426960"/>
            <a:ext cx="8400960" cy="41641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3535200"/>
            <a:ext cx="8370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 flipH="1">
            <a:off x="2285280" y="9288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4" descr="MAN3"/>
          <p:cNvPicPr/>
          <p:nvPr/>
        </p:nvPicPr>
        <p:blipFill>
          <a:blip r:embed="rId3"/>
          <a:stretch/>
        </p:blipFill>
        <p:spPr>
          <a:xfrm>
            <a:off x="571680" y="328608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WOMAN5"/>
          <p:cNvPicPr/>
          <p:nvPr/>
        </p:nvPicPr>
        <p:blipFill>
          <a:blip r:embed="rId4"/>
          <a:stretch/>
        </p:blipFill>
        <p:spPr>
          <a:xfrm>
            <a:off x="5429160" y="3429000"/>
            <a:ext cx="1174680" cy="3200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28960" y="4500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9" descr="U12_02_05"/>
          <p:cNvPicPr/>
          <p:nvPr/>
        </p:nvPicPr>
        <p:blipFill>
          <a:blip r:embed="rId5"/>
          <a:stretch/>
        </p:blipFill>
        <p:spPr>
          <a:xfrm>
            <a:off x="2428920" y="114300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91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-79200"/>
            <a:ext cx="894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28800" y="0"/>
            <a:ext cx="68580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Georgia"/>
              </a:rPr>
              <a:t>Біологічна  задача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Ви лікар акушер-гінеколог пологового будинку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До вас прийшов чоловік породіллі із звинуваченням на адресу жінки: “Чому вона народила дівчунку, адже я хотів хлопчика?”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Яку відповідь ви дасте чоловікові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2222.jpg"/>
          <p:cNvPicPr/>
          <p:nvPr/>
        </p:nvPicPr>
        <p:blipFill>
          <a:blip r:embed="rId1"/>
          <a:srcRect l="0" t="0" r="-17" b="44"/>
          <a:stretch/>
        </p:blipFill>
        <p:spPr>
          <a:xfrm>
            <a:off x="127080" y="1500120"/>
            <a:ext cx="7956360" cy="38577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49120"/>
            <a:ext cx="748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66.jpg"/>
          <p:cNvPicPr/>
          <p:nvPr/>
        </p:nvPicPr>
        <p:blipFill>
          <a:blip r:embed="rId1"/>
          <a:srcRect l="0" t="0" r="13" b="-30"/>
          <a:stretch/>
        </p:blipFill>
        <p:spPr>
          <a:xfrm>
            <a:off x="0" y="1571760"/>
            <a:ext cx="8072280" cy="336384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" descr=""/>
          <p:cNvPicPr/>
          <p:nvPr/>
        </p:nvPicPr>
        <p:blipFill>
          <a:blip r:embed="rId2"/>
          <a:stretch/>
        </p:blipFill>
        <p:spPr>
          <a:xfrm>
            <a:off x="1407960" y="103320"/>
            <a:ext cx="58341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016600"/>
            <a:ext cx="68454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92160"/>
            <a:ext cx="6570720" cy="267480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017800"/>
            <a:ext cx="89377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-245520" y="26640"/>
            <a:ext cx="83113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Домашнє завдання</a:t>
            </a:r>
            <a:r>
              <a:rPr b="1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§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56, зібрати інформацію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для початку проект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на тему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“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Шкідливий вплив н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</a:t>
            </a: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’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я підлітків,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ранніх статевих стосунків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Аборт”.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78520" y="435960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 розробки: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аленко М.В., ЗОШ №8 м. Мелітоп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83023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Штриховая стрелка вправо 3"/>
          <p:cNvSpPr/>
          <p:nvPr/>
        </p:nvSpPr>
        <p:spPr>
          <a:xfrm rot="5400000">
            <a:off x="3187080" y="3120840"/>
            <a:ext cx="2044800" cy="1143000"/>
          </a:xfrm>
          <a:custGeom>
            <a:avLst/>
            <a:gdLst>
              <a:gd name="textAreaLeft" fmla="*/ 178560 w 2044800"/>
              <a:gd name="textAreaRight" fmla="*/ 1759320 w 204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044958" h="1143008">
                <a:moveTo>
                  <a:pt x="0" y="285752"/>
                </a:moveTo>
                <a:lnTo>
                  <a:pt x="35719" y="285752"/>
                </a:lnTo>
                <a:lnTo>
                  <a:pt x="35719" y="857256"/>
                </a:lnTo>
                <a:lnTo>
                  <a:pt x="0" y="857256"/>
                </a:lnTo>
                <a:close/>
                <a:moveTo>
                  <a:pt x="71438" y="285752"/>
                </a:moveTo>
                <a:lnTo>
                  <a:pt x="142876" y="285752"/>
                </a:lnTo>
                <a:lnTo>
                  <a:pt x="142876" y="857256"/>
                </a:lnTo>
                <a:lnTo>
                  <a:pt x="71438" y="857256"/>
                </a:lnTo>
                <a:close/>
                <a:moveTo>
                  <a:pt x="178595" y="285752"/>
                </a:moveTo>
                <a:lnTo>
                  <a:pt x="1473454" y="285752"/>
                </a:lnTo>
                <a:lnTo>
                  <a:pt x="1473454" y="0"/>
                </a:lnTo>
                <a:lnTo>
                  <a:pt x="2044958" y="571504"/>
                </a:lnTo>
                <a:lnTo>
                  <a:pt x="1473454" y="1143008"/>
                </a:lnTo>
                <a:lnTo>
                  <a:pt x="1473454" y="857256"/>
                </a:lnTo>
                <a:lnTo>
                  <a:pt x="178595" y="85725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Прямоугольник 4" descr=""/>
          <p:cNvPicPr/>
          <p:nvPr/>
        </p:nvPicPr>
        <p:blipFill>
          <a:blip r:embed="rId2"/>
          <a:stretch/>
        </p:blipFill>
        <p:spPr>
          <a:xfrm>
            <a:off x="2571840" y="4925880"/>
            <a:ext cx="3554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7231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36400"/>
            <a:ext cx="7156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81439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одуктами чоловічих статевих залоз є гормон проге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Жіночі  статеві залози виділяють гормон тесто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аметогенез – це процес утворення гормон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уляція – вихід сперматозоїда з яєч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огенез – процес  утворення чоловічих статевих гам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нтогенез – індивідуальний розвиток організму від ембріона до природної смер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перматозоїди утворюються в яєчниках в процесі овогенез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оловка  сперматозоїда має ядро з диплоїдним (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 набором хромос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йцеклітина рухається за допомогою джгутик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Акросома або апікальне тільце виробляє гормон, що сприяє проникненню  сперматозоїда до яйцекліти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-171360"/>
            <a:ext cx="4187880" cy="1098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57120" y="100008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тесто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прогес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ме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яйцеклітин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жіночих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з моменту його зачатт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 яєчках в процесі сперматоген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плоїдним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n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е здатна до самостійного рух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фермен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2"/>
          <a:stretch/>
        </p:blipFill>
        <p:spPr>
          <a:xfrm>
            <a:off x="3998880" y="853920"/>
            <a:ext cx="454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09:45:1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3c000000000001024140</vt:lpwstr>
  </property>
</Properties>
</file>