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11.png" ContentType="image/png"/>
  <Override PartName="/ppt/media/image19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2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25.jpeg" ContentType="image/jpeg"/>
  <Override PartName="/ppt/media/image62.png" ContentType="image/png"/>
  <Override PartName="/ppt/media/image28.jpeg" ContentType="image/jpeg"/>
  <Override PartName="/ppt/media/image43.jpeg" ContentType="image/jpeg"/>
  <Override PartName="/ppt/media/image35.png" ContentType="image/png"/>
  <Override PartName="/ppt/media/image61.png" ContentType="image/png"/>
  <Override PartName="/ppt/media/image20.jpeg" ContentType="image/jpeg"/>
  <Override PartName="/ppt/media/image60.png" ContentType="image/png"/>
  <Override PartName="/ppt/media/image14.png" ContentType="image/png"/>
  <Override PartName="/ppt/media/image54.wmf" ContentType="image/x-wmf"/>
  <Override PartName="/ppt/media/image49.png" ContentType="image/png"/>
  <Override PartName="/ppt/media/image12.png" ContentType="image/png"/>
  <Override PartName="/ppt/media/image24.jpeg" ContentType="image/jpeg"/>
  <Override PartName="/ppt/media/image21.jpeg" ContentType="image/jpeg"/>
  <Override PartName="/ppt/media/image32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1.png" ContentType="image/png"/>
  <Override PartName="/ppt/media/image13.png" ContentType="image/png"/>
  <Override PartName="/ppt/media/image53.wmf" ContentType="image/x-wmf"/>
  <Override PartName="/ppt/media/image30.jpeg" ContentType="image/jpeg"/>
  <Override PartName="/ppt/media/image37.jpeg" ContentType="image/jpeg"/>
  <Override PartName="/ppt/media/image38.jpeg" ContentType="image/jpeg"/>
  <Override PartName="/ppt/media/image41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.jpeg" ContentType="image/jpeg"/>
  <Override PartName="/ppt/media/image51.png" ContentType="image/png"/>
  <Override PartName="/ppt/media/image55.jpeg" ContentType="image/jpeg"/>
  <Override PartName="/ppt/media/image40.jpeg" ContentType="image/jpeg"/>
  <Override PartName="/ppt/media/image56.png" ContentType="image/png"/>
  <Override PartName="/ppt/media/image63.png" ContentType="image/png"/>
  <Override PartName="/ppt/media/image57.jpeg" ContentType="image/jpeg"/>
  <Override PartName="/ppt/media/image5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46AB-974D-4543-9574-B05B89F951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A991-7A20-4A2A-B442-8AC96BE6A8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234-CC1D-45A5-86C7-0E8535EC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1EB-3059-44F1-B4E3-24D0E772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3A4-9180-4F58-A6BE-CC39AADD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09B-B9C1-48B9-AEED-783112A2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52A5-391C-4E22-8E1C-A1545F44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10A2-7648-4F85-80A3-D49F56EB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D139-121A-42F8-820E-7066416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11AA-4C56-407E-A899-8AE63186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D42B-F5C5-4CCC-BAD5-E96F7E84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B51A-696A-49A8-85E0-1544C884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418B-E511-4BA0-B777-07C82D99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BA8-A58D-4921-8A3A-1A659907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E8F1-9B00-4F4C-9F79-4769ECD0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D61F-4386-4040-BBD5-D3076AB5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F9BE-797A-4B20-B4D8-87BF7366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40CF-C135-48F0-8D46-60F51CA3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AE3C-4EA6-493D-AC85-B18359F5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3CFB-205D-40F9-9FD7-529094FE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9FE4-48D5-48A0-94D5-D3BD0FF4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5AA1-8289-4C0F-9A8E-6FB6784F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E678-471E-4015-A0B0-A9FAF519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0606-04A9-455B-AB49-8B01C688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DB5-62DB-4589-962E-0924ED9A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F61B6-67CE-43DB-8E7F-5D16855D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B3A4-D72B-45A6-AA83-B5A65CA9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BF9AC-0346-47CB-AB7F-2BAF8C4E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73AF5-49A1-4462-97A6-09FEBE38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80CE-814C-4F2C-8073-C95F4E51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FF567-BEBF-407E-9280-0AC35131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7900-0A62-47A0-8D56-036BF54C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C315-488B-4D40-AAD7-A922301D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EE37E-2CD4-48BB-A2D6-356133A5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18C39-4AE9-4954-9E89-F3AD102D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454-D234-4CA3-AF8C-02DF5D99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DA338-BDB5-4CEF-8654-03FA9A36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81E36-ECCD-4795-958F-D541A37C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A911-13C3-4835-8689-3BE47BD0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839C-B54C-4B47-832F-61F2765B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EE298-09A6-4B6F-96E0-B4DD9737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21FB9-2EE9-4738-84A8-598360E9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FED7-37C1-4AB1-AE36-727D73D3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7FD3-EFC7-4265-87AC-0D216F88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31BC3-C12D-4BB8-A8A8-A98EA260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035F-79DE-4269-995B-66CCE883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C33-9A7C-4E47-924F-D7875C69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F3961-8E11-4DE9-9029-B681DC0C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7E30-97EC-4B31-82EB-6E651AE1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0718E-B877-45C7-9757-57E3ED71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77A69-B186-4053-A629-CA444A2B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BA9E8-E91E-4769-989B-277A3B57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5332A-E20F-4104-B318-F9ACCB80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27F1C-882B-4A05-B40D-A9FCD8DC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1BA38-DEE8-47EA-9481-7336F7B9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4C11D-F593-4BA1-A66F-351E89E7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C5087-C8F8-4134-B1B6-E5C3C320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BCF-4931-4922-9730-BB629B56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AB1E0-8914-4785-8C8A-6D4BF208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622-BE6F-402D-AF08-5F556E05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98F-B72E-46FD-BF48-B44C7A70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2E0-720D-4467-9CDF-A656AA7A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D022-DA14-483D-AFA9-C0F9F089565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5954-ACE6-4476-A8DB-B1E1A7BCF56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1C5D-01AE-4750-8627-88C14925C22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903E-0788-4FC2-80AF-7FF2B0F10F1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2973-6463-4D06-9BCC-CE739B648CA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jpe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3" descr=""/>
          <p:cNvPicPr/>
          <p:nvPr/>
        </p:nvPicPr>
        <p:blipFill>
          <a:blip r:embed="rId1"/>
          <a:stretch/>
        </p:blipFill>
        <p:spPr>
          <a:xfrm>
            <a:off x="-274680" y="1414440"/>
            <a:ext cx="878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0" y="642960"/>
            <a:ext cx="80010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Три джерела мають потяги людини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Душу,  розум і тіло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тяги душ народжують дружбу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тяги розуму народжують бажанн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єднання трьох потягів  народжують  Коханн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Гілка  персика”  Трактат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469800"/>
            <a:ext cx="8362800" cy="1932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1428840" y="2857680"/>
            <a:ext cx="49449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77.jpg"/>
          <p:cNvPicPr/>
          <p:nvPr/>
        </p:nvPicPr>
        <p:blipFill>
          <a:blip r:embed="rId1"/>
          <a:srcRect l="0" t="0" r="22" b="0"/>
          <a:stretch/>
        </p:blipFill>
        <p:spPr>
          <a:xfrm>
            <a:off x="500040" y="357120"/>
            <a:ext cx="7709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88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0" y="571680"/>
            <a:ext cx="77547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99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1285920" y="-6480"/>
            <a:ext cx="60721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E:\444.jpg"/>
          <p:cNvPicPr/>
          <p:nvPr/>
        </p:nvPicPr>
        <p:blipFill>
          <a:blip r:embed="rId1"/>
          <a:stretch/>
        </p:blipFill>
        <p:spPr>
          <a:xfrm>
            <a:off x="2428920" y="3571920"/>
            <a:ext cx="3317760" cy="3286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E:\555.jpg"/>
          <p:cNvPicPr/>
          <p:nvPr/>
        </p:nvPicPr>
        <p:blipFill>
          <a:blip r:embed="rId2"/>
          <a:stretch/>
        </p:blipFill>
        <p:spPr>
          <a:xfrm>
            <a:off x="4714920" y="353880"/>
            <a:ext cx="2484360" cy="2986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E:\333.jpg"/>
          <p:cNvPicPr/>
          <p:nvPr/>
        </p:nvPicPr>
        <p:blipFill>
          <a:blip r:embed="rId3"/>
          <a:stretch/>
        </p:blipFill>
        <p:spPr>
          <a:xfrm>
            <a:off x="1143000" y="357120"/>
            <a:ext cx="2335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225360"/>
            <a:ext cx="7510320" cy="40161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123.jpg"/>
          <p:cNvPicPr/>
          <p:nvPr/>
        </p:nvPicPr>
        <p:blipFill>
          <a:blip r:embed="rId2"/>
          <a:stretch/>
        </p:blipFill>
        <p:spPr>
          <a:xfrm>
            <a:off x="0" y="3786120"/>
            <a:ext cx="8210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3000240" y="3233880"/>
            <a:ext cx="5162760" cy="3624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905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12345.jpg"/>
          <p:cNvPicPr/>
          <p:nvPr/>
        </p:nvPicPr>
        <p:blipFill>
          <a:blip r:embed="rId1"/>
          <a:stretch/>
        </p:blipFill>
        <p:spPr>
          <a:xfrm>
            <a:off x="0" y="0"/>
            <a:ext cx="7929720" cy="38624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714240" y="42148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Злиття чоловічих  і жіночих  гамет називається  </a:t>
            </a: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заплідненням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, а клітина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що утворилася – </a:t>
            </a: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зиготою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927000" y="1566720"/>
            <a:ext cx="6583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1" descr=""/>
          <p:cNvPicPr/>
          <p:nvPr/>
        </p:nvPicPr>
        <p:blipFill>
          <a:blip r:embed="rId1"/>
          <a:stretch/>
        </p:blipFill>
        <p:spPr>
          <a:xfrm>
            <a:off x="1305000" y="-212760"/>
            <a:ext cx="6638760" cy="19749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2584440" y="615960"/>
            <a:ext cx="39448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972040" y="2095560"/>
            <a:ext cx="3171960" cy="476244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1" descr=""/>
          <p:cNvPicPr/>
          <p:nvPr/>
        </p:nvPicPr>
        <p:blipFill>
          <a:blip r:embed="rId2"/>
          <a:stretch/>
        </p:blipFill>
        <p:spPr>
          <a:xfrm>
            <a:off x="-49320" y="324000"/>
            <a:ext cx="8613720" cy="11080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785880" y="2000160"/>
            <a:ext cx="68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Вагітність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– це фізіологічний стан організму жінки, пов'язаний із заплідненням  яйцеклітини, розвитком  зародка і плода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55.jpg"/>
          <p:cNvPicPr/>
          <p:nvPr/>
        </p:nvPicPr>
        <p:blipFill>
          <a:blip r:embed="rId1"/>
          <a:stretch/>
        </p:blipFill>
        <p:spPr>
          <a:xfrm>
            <a:off x="0" y="0"/>
            <a:ext cx="8091360" cy="48672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857160" y="47959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Імплантація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– (на 7-й день)  проникнення  зародка в слизову оболонку матки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225360"/>
            <a:ext cx="7510320" cy="30970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3" descr="56.jpg"/>
          <p:cNvPicPr/>
          <p:nvPr/>
        </p:nvPicPr>
        <p:blipFill>
          <a:blip r:embed="rId2"/>
          <a:srcRect l="0" t="0" r="14" b="0"/>
          <a:stretch/>
        </p:blipFill>
        <p:spPr>
          <a:xfrm>
            <a:off x="714240" y="3357720"/>
            <a:ext cx="7058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6.jpg"/>
          <p:cNvPicPr/>
          <p:nvPr/>
        </p:nvPicPr>
        <p:blipFill>
          <a:blip r:embed="rId1"/>
          <a:stretch/>
        </p:blipFill>
        <p:spPr>
          <a:xfrm>
            <a:off x="0" y="0"/>
            <a:ext cx="2643120" cy="36432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" descr="7.jpg"/>
          <p:cNvPicPr/>
          <p:nvPr/>
        </p:nvPicPr>
        <p:blipFill>
          <a:blip r:embed="rId2"/>
          <a:stretch/>
        </p:blipFill>
        <p:spPr>
          <a:xfrm>
            <a:off x="2571840" y="1785960"/>
            <a:ext cx="3000240" cy="36432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3" descr="8.jpg"/>
          <p:cNvPicPr/>
          <p:nvPr/>
        </p:nvPicPr>
        <p:blipFill>
          <a:blip r:embed="rId3"/>
          <a:stretch/>
        </p:blipFill>
        <p:spPr>
          <a:xfrm>
            <a:off x="5500800" y="2500200"/>
            <a:ext cx="27144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4" descr="9.jpg"/>
          <p:cNvPicPr/>
          <p:nvPr/>
        </p:nvPicPr>
        <p:blipFill>
          <a:blip r:embed="rId1"/>
          <a:stretch/>
        </p:blipFill>
        <p:spPr>
          <a:xfrm>
            <a:off x="0" y="0"/>
            <a:ext cx="2317680" cy="32148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10.jpg"/>
          <p:cNvPicPr/>
          <p:nvPr/>
        </p:nvPicPr>
        <p:blipFill>
          <a:blip r:embed="rId2"/>
          <a:stretch/>
        </p:blipFill>
        <p:spPr>
          <a:xfrm>
            <a:off x="2286000" y="714240"/>
            <a:ext cx="2346480" cy="32148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1.jpg"/>
          <p:cNvPicPr/>
          <p:nvPr/>
        </p:nvPicPr>
        <p:blipFill>
          <a:blip r:embed="rId3"/>
          <a:stretch/>
        </p:blipFill>
        <p:spPr>
          <a:xfrm>
            <a:off x="4572000" y="1428840"/>
            <a:ext cx="2332080" cy="32144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7" descr="12.jpg"/>
          <p:cNvPicPr/>
          <p:nvPr/>
        </p:nvPicPr>
        <p:blipFill>
          <a:blip r:embed="rId4"/>
          <a:stretch/>
        </p:blipFill>
        <p:spPr>
          <a:xfrm>
            <a:off x="6858000" y="2786040"/>
            <a:ext cx="2286000" cy="27892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8" descr="13.jpg"/>
          <p:cNvPicPr/>
          <p:nvPr/>
        </p:nvPicPr>
        <p:blipFill>
          <a:blip r:embed="rId5"/>
          <a:stretch/>
        </p:blipFill>
        <p:spPr>
          <a:xfrm>
            <a:off x="1703520" y="4572000"/>
            <a:ext cx="346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-176040"/>
            <a:ext cx="7230960" cy="11268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" descr=""/>
          <p:cNvPicPr/>
          <p:nvPr/>
        </p:nvPicPr>
        <p:blipFill>
          <a:blip r:embed="rId2"/>
          <a:stretch/>
        </p:blipFill>
        <p:spPr>
          <a:xfrm>
            <a:off x="1011240" y="1279440"/>
            <a:ext cx="63165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0" y="0"/>
            <a:ext cx="7929720" cy="83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ЯЙЦЕКЛІТИ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РУГЛА, ВЕЛИ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ЖИВИТЬ, ЗАПЛІДНЮЄТЬСЯ, ДІЛИТЬ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ЦЕ  ЖІНОЧЕ  НАЧАЛ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ЯЙЦ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СПЕРМАТОЗОЇД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РУХЛИВИЙ, МАЛЕНЬК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ЛИВЕ, ПРОНИКАЄ, ЗАПЛІДНЮЄ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ХОДИТЬ ДО СКЛАДУ СПЕР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УГОЛОВ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ЗИГО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ПЛІДНЕНА, БАГА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ДІЛИТЬСЯ, ПЕРЕТВОРЮЄТЬСЯ, РОЗВИВАЄТЬ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ЦЕ МАЙБУТНІЙ ЗАРОД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УРЯЧЕ ЯЙЦ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1" descr="100.jpg"/>
          <p:cNvPicPr/>
          <p:nvPr/>
        </p:nvPicPr>
        <p:blipFill>
          <a:blip r:embed="rId1"/>
          <a:srcRect l="0" t="0" r="6" b="0"/>
          <a:stretch/>
        </p:blipFill>
        <p:spPr>
          <a:xfrm>
            <a:off x="1643040" y="1000080"/>
            <a:ext cx="5524560" cy="51436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2"/>
          <p:cNvSpPr/>
          <p:nvPr/>
        </p:nvSpPr>
        <p:spPr>
          <a:xfrm>
            <a:off x="1071720" y="2142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Однояйцеві та різнояйцеві  близня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1" descr="99.jpg"/>
          <p:cNvPicPr/>
          <p:nvPr/>
        </p:nvPicPr>
        <p:blipFill>
          <a:blip r:embed="rId1"/>
          <a:srcRect l="0" t="0" r="-41" b="-54"/>
          <a:stretch/>
        </p:blipFill>
        <p:spPr>
          <a:xfrm>
            <a:off x="3857760" y="3214800"/>
            <a:ext cx="4132080" cy="314316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2" descr=""/>
          <p:cNvPicPr/>
          <p:nvPr/>
        </p:nvPicPr>
        <p:blipFill>
          <a:blip r:embed="rId2"/>
          <a:stretch/>
        </p:blipFill>
        <p:spPr>
          <a:xfrm>
            <a:off x="2182680" y="-2054160"/>
            <a:ext cx="6497640" cy="5924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E:\333.jpg"/>
          <p:cNvPicPr/>
          <p:nvPr/>
        </p:nvPicPr>
        <p:blipFill>
          <a:blip r:embed="rId3"/>
          <a:stretch/>
        </p:blipFill>
        <p:spPr>
          <a:xfrm>
            <a:off x="285840" y="428760"/>
            <a:ext cx="3214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Рисунок1"/>
          <p:cNvPicPr/>
          <p:nvPr/>
        </p:nvPicPr>
        <p:blipFill>
          <a:blip r:embed="rId1"/>
          <a:stretch/>
        </p:blipFill>
        <p:spPr>
          <a:xfrm>
            <a:off x="285840" y="214200"/>
            <a:ext cx="3979800" cy="371484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1" descr=""/>
          <p:cNvPicPr/>
          <p:nvPr/>
        </p:nvPicPr>
        <p:blipFill>
          <a:blip r:embed="rId2"/>
          <a:stretch/>
        </p:blipFill>
        <p:spPr>
          <a:xfrm>
            <a:off x="4011480" y="853920"/>
            <a:ext cx="4473720" cy="114624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2" descr=""/>
          <p:cNvPicPr/>
          <p:nvPr/>
        </p:nvPicPr>
        <p:blipFill>
          <a:blip r:embed="rId3"/>
          <a:stretch/>
        </p:blipFill>
        <p:spPr>
          <a:xfrm>
            <a:off x="2835360" y="2828880"/>
            <a:ext cx="57481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426960"/>
            <a:ext cx="8400960" cy="416412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" descr=""/>
          <p:cNvPicPr/>
          <p:nvPr/>
        </p:nvPicPr>
        <p:blipFill>
          <a:blip r:embed="rId2"/>
          <a:stretch/>
        </p:blipFill>
        <p:spPr>
          <a:xfrm>
            <a:off x="30240" y="3535200"/>
            <a:ext cx="83707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 flipH="1">
            <a:off x="2285280" y="9288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4" descr="MAN3"/>
          <p:cNvPicPr/>
          <p:nvPr/>
        </p:nvPicPr>
        <p:blipFill>
          <a:blip r:embed="rId3"/>
          <a:stretch/>
        </p:blipFill>
        <p:spPr>
          <a:xfrm>
            <a:off x="571680" y="328608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WOMAN5"/>
          <p:cNvPicPr/>
          <p:nvPr/>
        </p:nvPicPr>
        <p:blipFill>
          <a:blip r:embed="rId4"/>
          <a:stretch/>
        </p:blipFill>
        <p:spPr>
          <a:xfrm>
            <a:off x="5429160" y="3429000"/>
            <a:ext cx="1174680" cy="32004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2928960" y="4500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9" descr="U12_02_05"/>
          <p:cNvPicPr/>
          <p:nvPr/>
        </p:nvPicPr>
        <p:blipFill>
          <a:blip r:embed="rId5"/>
          <a:stretch/>
        </p:blipFill>
        <p:spPr>
          <a:xfrm>
            <a:off x="2428920" y="1143000"/>
            <a:ext cx="2666880" cy="194004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291" name="Прямоугольник 7" descr=""/>
          <p:cNvPicPr/>
          <p:nvPr/>
        </p:nvPicPr>
        <p:blipFill>
          <a:blip r:embed="rId6"/>
          <a:stretch/>
        </p:blipFill>
        <p:spPr>
          <a:xfrm>
            <a:off x="-6480" y="-79200"/>
            <a:ext cx="89424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928800" y="0"/>
            <a:ext cx="685800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Georgia"/>
              </a:rPr>
              <a:t>Біологічна  задача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Ви лікар акушер-гінеколог пологового будинку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До вас прийшов чоловік породіллі із звинуваченням на адресу жінки: “Чому вона народила дівчунку, адже я хотів хлопчика?”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Яку відповідь ви дасте чоловікові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2222.jpg"/>
          <p:cNvPicPr/>
          <p:nvPr/>
        </p:nvPicPr>
        <p:blipFill>
          <a:blip r:embed="rId1"/>
          <a:srcRect l="0" t="0" r="-17" b="44"/>
          <a:stretch/>
        </p:blipFill>
        <p:spPr>
          <a:xfrm>
            <a:off x="127080" y="1500120"/>
            <a:ext cx="7956360" cy="385776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2" descr=""/>
          <p:cNvPicPr/>
          <p:nvPr/>
        </p:nvPicPr>
        <p:blipFill>
          <a:blip r:embed="rId2"/>
          <a:stretch/>
        </p:blipFill>
        <p:spPr>
          <a:xfrm>
            <a:off x="347760" y="249120"/>
            <a:ext cx="7480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66.jpg"/>
          <p:cNvPicPr/>
          <p:nvPr/>
        </p:nvPicPr>
        <p:blipFill>
          <a:blip r:embed="rId1"/>
          <a:srcRect l="0" t="0" r="13" b="-30"/>
          <a:stretch/>
        </p:blipFill>
        <p:spPr>
          <a:xfrm>
            <a:off x="0" y="1571760"/>
            <a:ext cx="8072280" cy="336384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2" descr=""/>
          <p:cNvPicPr/>
          <p:nvPr/>
        </p:nvPicPr>
        <p:blipFill>
          <a:blip r:embed="rId2"/>
          <a:stretch/>
        </p:blipFill>
        <p:spPr>
          <a:xfrm>
            <a:off x="1407960" y="103320"/>
            <a:ext cx="58341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3" descr=""/>
          <p:cNvPicPr/>
          <p:nvPr/>
        </p:nvPicPr>
        <p:blipFill>
          <a:blip r:embed="rId3"/>
          <a:stretch/>
        </p:blipFill>
        <p:spPr>
          <a:xfrm>
            <a:off x="927000" y="5016600"/>
            <a:ext cx="68454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Прямоугольник 1" descr=""/>
          <p:cNvPicPr/>
          <p:nvPr/>
        </p:nvPicPr>
        <p:blipFill>
          <a:blip r:embed="rId1"/>
          <a:stretch/>
        </p:blipFill>
        <p:spPr>
          <a:xfrm>
            <a:off x="1006560" y="92160"/>
            <a:ext cx="6570720" cy="267480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2" descr=""/>
          <p:cNvPicPr/>
          <p:nvPr/>
        </p:nvPicPr>
        <p:blipFill>
          <a:blip r:embed="rId2"/>
          <a:stretch/>
        </p:blipFill>
        <p:spPr>
          <a:xfrm>
            <a:off x="-281160" y="2017800"/>
            <a:ext cx="893772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-245520" y="26640"/>
            <a:ext cx="831132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 u="sng">
                <a:solidFill>
                  <a:srgbClr val="000000"/>
                </a:solidFill>
                <a:uFillTx/>
                <a:latin typeface="Georgia"/>
                <a:ea typeface="Calibri"/>
              </a:rPr>
              <a:t>Домашнє завдання</a:t>
            </a:r>
            <a:r>
              <a:rPr b="1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.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Georgia"/>
                <a:ea typeface="Calibri"/>
              </a:rPr>
              <a:t>§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56, зібрати інформацію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для початку проекта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на тему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“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Шкідливий вплив на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здоров</a:t>
            </a:r>
            <a:r>
              <a:rPr b="0" lang="ru-RU" sz="4600" spc="-1" strike="noStrike">
                <a:solidFill>
                  <a:srgbClr val="000000"/>
                </a:solidFill>
                <a:latin typeface="Georgia"/>
                <a:ea typeface="Calibri"/>
              </a:rPr>
              <a:t>’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я підлітків,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ранніх статевих стосунків.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Аборт”.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378520" y="435960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  розробки: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аленко М.В., ЗОШ №8 м. Мелітопол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-36360" y="146160"/>
            <a:ext cx="8302320" cy="2493720"/>
          </a:xfrm>
          <a:prstGeom prst="rect">
            <a:avLst/>
          </a:prstGeom>
          <a:ln w="0">
            <a:noFill/>
          </a:ln>
        </p:spPr>
      </p:pic>
      <p:sp>
        <p:nvSpPr>
          <p:cNvPr id="233" name="Штриховая стрелка вправо 3"/>
          <p:cNvSpPr/>
          <p:nvPr/>
        </p:nvSpPr>
        <p:spPr>
          <a:xfrm rot="5400000">
            <a:off x="3187080" y="3120840"/>
            <a:ext cx="2044800" cy="1143000"/>
          </a:xfrm>
          <a:custGeom>
            <a:avLst/>
            <a:gdLst>
              <a:gd name="textAreaLeft" fmla="*/ 178560 w 2044800"/>
              <a:gd name="textAreaRight" fmla="*/ 1759320 w 20448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044958" h="1143008">
                <a:moveTo>
                  <a:pt x="0" y="285752"/>
                </a:moveTo>
                <a:lnTo>
                  <a:pt x="35719" y="285752"/>
                </a:lnTo>
                <a:lnTo>
                  <a:pt x="35719" y="857256"/>
                </a:lnTo>
                <a:lnTo>
                  <a:pt x="0" y="857256"/>
                </a:lnTo>
                <a:close/>
                <a:moveTo>
                  <a:pt x="71438" y="285752"/>
                </a:moveTo>
                <a:lnTo>
                  <a:pt x="142876" y="285752"/>
                </a:lnTo>
                <a:lnTo>
                  <a:pt x="142876" y="857256"/>
                </a:lnTo>
                <a:lnTo>
                  <a:pt x="71438" y="857256"/>
                </a:lnTo>
                <a:close/>
                <a:moveTo>
                  <a:pt x="178595" y="285752"/>
                </a:moveTo>
                <a:lnTo>
                  <a:pt x="1473454" y="285752"/>
                </a:lnTo>
                <a:lnTo>
                  <a:pt x="1473454" y="0"/>
                </a:lnTo>
                <a:lnTo>
                  <a:pt x="2044958" y="571504"/>
                </a:lnTo>
                <a:lnTo>
                  <a:pt x="1473454" y="1143008"/>
                </a:lnTo>
                <a:lnTo>
                  <a:pt x="1473454" y="857256"/>
                </a:lnTo>
                <a:lnTo>
                  <a:pt x="178595" y="85725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Прямоугольник 4" descr=""/>
          <p:cNvPicPr/>
          <p:nvPr/>
        </p:nvPicPr>
        <p:blipFill>
          <a:blip r:embed="rId2"/>
          <a:stretch/>
        </p:blipFill>
        <p:spPr>
          <a:xfrm>
            <a:off x="2571840" y="4925880"/>
            <a:ext cx="3554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212760"/>
            <a:ext cx="7231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536400"/>
            <a:ext cx="7156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0" y="0"/>
            <a:ext cx="814392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Продуктами чоловічих статевих залоз є гормон прогестеро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Жіночі  статеві залози виділяють гормон тестостеро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Гаметогенез – це процес утворення гормоні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вуляція – вихід сперматозоїда з яєчн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вогенез – процес  утворення чоловічих статевих гам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нтогенез – індивідуальний розвиток організму від ембріона до природної смерт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перматозоїди утворюються в яєчниках в процесі овогенез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Головка  сперматозоїда має ядро з диплоїдним (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) набором хромос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йцеклітина рухається за допомогою джгутикі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Акросома або апікальне тільце виробляє гормон, що сприяє проникненню  сперматозоїда до яйцекліти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2" descr=""/>
          <p:cNvPicPr/>
          <p:nvPr/>
        </p:nvPicPr>
        <p:blipFill>
          <a:blip r:embed="rId1"/>
          <a:stretch/>
        </p:blipFill>
        <p:spPr>
          <a:xfrm>
            <a:off x="2120760" y="-171360"/>
            <a:ext cx="4187880" cy="1098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357120" y="1000080"/>
            <a:ext cx="742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тестотеро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прогестеро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гамет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яйцеклітин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жіночих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з моменту його зачатт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в яєчках в процесі сперматогенез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гаплоїдним (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n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не здатна до самостійного рух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фермент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Рисунок1"/>
          <p:cNvPicPr/>
          <p:nvPr/>
        </p:nvPicPr>
        <p:blipFill>
          <a:blip r:embed="rId1"/>
          <a:stretch/>
        </p:blipFill>
        <p:spPr>
          <a:xfrm>
            <a:off x="285840" y="214200"/>
            <a:ext cx="3979800" cy="371484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" descr=""/>
          <p:cNvPicPr/>
          <p:nvPr/>
        </p:nvPicPr>
        <p:blipFill>
          <a:blip r:embed="rId2"/>
          <a:stretch/>
        </p:blipFill>
        <p:spPr>
          <a:xfrm>
            <a:off x="3998880" y="853920"/>
            <a:ext cx="4541760" cy="114624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2" descr=""/>
          <p:cNvPicPr/>
          <p:nvPr/>
        </p:nvPicPr>
        <p:blipFill>
          <a:blip r:embed="rId3"/>
          <a:stretch/>
        </p:blipFill>
        <p:spPr>
          <a:xfrm>
            <a:off x="2835360" y="2828880"/>
            <a:ext cx="57481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7T09:45:17Z</dcterms:modified>
  <cp:revision>1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3c000000000001024140</vt:lpwstr>
  </property>
</Properties>
</file>