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11.png" ContentType="image/png"/>
  <Override PartName="/ppt/media/image19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25.jpeg" ContentType="image/jpeg"/>
  <Override PartName="/ppt/media/image62.png" ContentType="image/png"/>
  <Override PartName="/ppt/media/image28.jpeg" ContentType="image/jpeg"/>
  <Override PartName="/ppt/media/image43.jpeg" ContentType="image/jpeg"/>
  <Override PartName="/ppt/media/image35.png" ContentType="image/png"/>
  <Override PartName="/ppt/media/image61.png" ContentType="image/png"/>
  <Override PartName="/ppt/media/image20.jpeg" ContentType="image/jpeg"/>
  <Override PartName="/ppt/media/image60.png" ContentType="image/png"/>
  <Override PartName="/ppt/media/image14.png" ContentType="image/png"/>
  <Override PartName="/ppt/media/image54.wmf" ContentType="image/x-wmf"/>
  <Override PartName="/ppt/media/image49.png" ContentType="image/png"/>
  <Override PartName="/ppt/media/image12.png" ContentType="image/png"/>
  <Override PartName="/ppt/media/image24.jpeg" ContentType="image/jpeg"/>
  <Override PartName="/ppt/media/image21.jpeg" ContentType="image/jpeg"/>
  <Override PartName="/ppt/media/image32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1.png" ContentType="image/png"/>
  <Override PartName="/ppt/media/image13.png" ContentType="image/png"/>
  <Override PartName="/ppt/media/image53.wmf" ContentType="image/x-wmf"/>
  <Override PartName="/ppt/media/image30.jpeg" ContentType="image/jpeg"/>
  <Override PartName="/ppt/media/image37.jpeg" ContentType="image/jpeg"/>
  <Override PartName="/ppt/media/image38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.jpeg" ContentType="image/jpeg"/>
  <Override PartName="/ppt/media/image51.png" ContentType="image/png"/>
  <Override PartName="/ppt/media/image55.jpeg" ContentType="image/jpeg"/>
  <Override PartName="/ppt/media/image40.jpeg" ContentType="image/jpeg"/>
  <Override PartName="/ppt/media/image56.png" ContentType="image/png"/>
  <Override PartName="/ppt/media/image63.png" ContentType="image/png"/>
  <Override PartName="/ppt/media/image57.jpeg" ContentType="image/jpeg"/>
  <Override PartName="/ppt/media/image5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E8DE-51C7-48DB-ABC4-7401413B02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4B6F-02E2-4347-A0D4-A1928D07D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18A-EE8F-4134-8BAD-A94A0819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F1C-AFEF-49CD-81E1-EDEB5F43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AA9-35EC-4C52-BAD6-F8F2B4BD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635-6640-437B-B44A-43411617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1D4E-DC44-4C23-BB4F-BFF10D2C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5BB7-85D6-48C5-A051-9A5014CC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EC0F-196A-4641-A128-7726ADDB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9053-5450-43E6-ABD5-09B5A96E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B371-15E9-409E-A241-DDCEF54B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6970-CECB-4D83-B529-97394B76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BC7C-EA01-4A7C-B449-76A1260C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55E-0543-4068-A11E-3103A83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45E1-A6A7-4962-A6F8-D111A94A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E1AA-350F-4C01-9196-82697408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3DFA-A51B-491F-9EE9-7DC482E5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9947-907D-40CD-87E8-4B5F3C06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C9D8-BFF4-4182-BAE0-04C0E1A0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2670A-534E-4608-9490-7212F333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D987-39EB-47E3-B6E9-A20A6BFA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C126-D0ED-44AA-AA1A-C5E0200A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F9DD-B9C5-422F-840A-DC4C0861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7896-7F41-45B0-BB42-85A1FD0F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5EB-ACB3-4274-99D2-A4E1EA33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858B-1B96-4CA7-881C-DEBE16D5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3A1E-3B92-4C3F-8CCA-5705CED0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DE15-4808-4B3C-9A63-64329549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14CB-2FA3-40F7-ACFC-AFB785A2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5718-3F65-4466-9ACF-6D54CBBB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08B4-1A08-4EC3-A845-8AA97527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B3893-99FB-4DE6-9E13-DAE96A25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F4AD-4F25-47DA-9EA8-4ECE147A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5EA0-6852-4BCE-8A97-7E3D1049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7137-3D94-46DD-BE4D-5D156952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7B3-E623-4555-AE57-8533FDA3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3A68B-B2E0-4D7A-8834-4379613B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191AC-4A47-4AEB-9D73-E8521581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00F5-AA50-47D5-8D61-E560E233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362E-3F8B-46C3-A8FE-4F98FC95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5403-BD6C-4C87-B0CA-D12D0D3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9357-356A-41CA-8CAA-969E2C9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D9CF-1C8C-4C92-812A-5CD3D2A6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97F03-D477-49D9-A768-21A6CC90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135C-5ECD-4156-BD8F-4B615B62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FA3BE-B8AE-444B-8319-4ECA53A6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6C2-C945-4B18-B8FC-FBFB4467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CA4DA-F2B1-4511-BD78-1D288853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AE10-607B-4B33-AA39-B6D90B76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E638-413B-484D-B5A0-5222D5C0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3ED24-A29B-4853-B6B3-A25C70AC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E2952-09FB-4ACC-9EEC-483E8A63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07BE-0D62-4BA8-BFE4-22607C6C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86B6D-21FA-482A-A30B-7A583C00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AB52A-3808-42E1-B027-1905E2BC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7461B-7732-4447-8A78-92DF899B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CF3A-7510-4320-A49B-14A4BDC0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9D0-9390-4123-BF9F-D0D0FB1B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AB712-76D0-4932-B1FD-A8829CFD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A9A-EA91-486B-AD37-9744DAE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1A3-F188-4C3C-8C3E-2CB6CEF2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7A1-69DD-4DFA-BD9A-23C1C575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F41A-C8FA-4D0C-8681-1EFA8C45031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C622-8E80-4371-98E0-321374C116D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BB10-34D3-4E1D-A051-680DA055BB3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D469-FCA8-4BA6-9E53-8F3CD47D2FF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F79-7067-4FA6-90E8-3A0018C7D4A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3" descr=""/>
          <p:cNvPicPr/>
          <p:nvPr/>
        </p:nvPicPr>
        <p:blipFill>
          <a:blip r:embed="rId1"/>
          <a:stretch/>
        </p:blipFill>
        <p:spPr>
          <a:xfrm>
            <a:off x="-274680" y="1414440"/>
            <a:ext cx="878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0" y="642960"/>
            <a:ext cx="80010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Три джерела мають потяги людини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Душу,  розум і тіло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душ народжують дружбу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розуму народжують баж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єднання трьох потягів  народжують  Кох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Гілка  персика”  Трактат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469800"/>
            <a:ext cx="8362800" cy="1932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1428840" y="2857680"/>
            <a:ext cx="49449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77.jpg"/>
          <p:cNvPicPr/>
          <p:nvPr/>
        </p:nvPicPr>
        <p:blipFill>
          <a:blip r:embed="rId1"/>
          <a:srcRect l="0" t="0" r="22" b="0"/>
          <a:stretch/>
        </p:blipFill>
        <p:spPr>
          <a:xfrm>
            <a:off x="500040" y="357120"/>
            <a:ext cx="7709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88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0" y="571680"/>
            <a:ext cx="77547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99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1285920" y="-6480"/>
            <a:ext cx="60721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E:\444.jpg"/>
          <p:cNvPicPr/>
          <p:nvPr/>
        </p:nvPicPr>
        <p:blipFill>
          <a:blip r:embed="rId1"/>
          <a:stretch/>
        </p:blipFill>
        <p:spPr>
          <a:xfrm>
            <a:off x="2428920" y="3571920"/>
            <a:ext cx="3317760" cy="3286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E:\555.jpg"/>
          <p:cNvPicPr/>
          <p:nvPr/>
        </p:nvPicPr>
        <p:blipFill>
          <a:blip r:embed="rId2"/>
          <a:stretch/>
        </p:blipFill>
        <p:spPr>
          <a:xfrm>
            <a:off x="4714920" y="353880"/>
            <a:ext cx="2484360" cy="2986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E:\333.jpg"/>
          <p:cNvPicPr/>
          <p:nvPr/>
        </p:nvPicPr>
        <p:blipFill>
          <a:blip r:embed="rId3"/>
          <a:stretch/>
        </p:blipFill>
        <p:spPr>
          <a:xfrm>
            <a:off x="1143000" y="357120"/>
            <a:ext cx="2335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40161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123.jpg"/>
          <p:cNvPicPr/>
          <p:nvPr/>
        </p:nvPicPr>
        <p:blipFill>
          <a:blip r:embed="rId2"/>
          <a:stretch/>
        </p:blipFill>
        <p:spPr>
          <a:xfrm>
            <a:off x="0" y="3786120"/>
            <a:ext cx="8210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000240" y="3233880"/>
            <a:ext cx="5162760" cy="3624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905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12345.jpg"/>
          <p:cNvPicPr/>
          <p:nvPr/>
        </p:nvPicPr>
        <p:blipFill>
          <a:blip r:embed="rId1"/>
          <a:stretch/>
        </p:blipFill>
        <p:spPr>
          <a:xfrm>
            <a:off x="0" y="0"/>
            <a:ext cx="7929720" cy="38624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714240" y="42148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Злиття чоловічих  і жіночих  гамет називається 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аплідненням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, а клітина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що утворилася –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иготою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927000" y="1566720"/>
            <a:ext cx="6583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1" descr=""/>
          <p:cNvPicPr/>
          <p:nvPr/>
        </p:nvPicPr>
        <p:blipFill>
          <a:blip r:embed="rId1"/>
          <a:stretch/>
        </p:blipFill>
        <p:spPr>
          <a:xfrm>
            <a:off x="1305000" y="-212760"/>
            <a:ext cx="6638760" cy="19749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2584440" y="615960"/>
            <a:ext cx="39448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972040" y="209556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1" descr=""/>
          <p:cNvPicPr/>
          <p:nvPr/>
        </p:nvPicPr>
        <p:blipFill>
          <a:blip r:embed="rId2"/>
          <a:stretch/>
        </p:blipFill>
        <p:spPr>
          <a:xfrm>
            <a:off x="-49320" y="324000"/>
            <a:ext cx="8613720" cy="11080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785880" y="2000160"/>
            <a:ext cx="68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Вагітність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це фізіологічний стан організму жінки, пов'язаний із заплідненням  яйцеклітини, розвитком  зародка і плода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55.jpg"/>
          <p:cNvPicPr/>
          <p:nvPr/>
        </p:nvPicPr>
        <p:blipFill>
          <a:blip r:embed="rId1"/>
          <a:stretch/>
        </p:blipFill>
        <p:spPr>
          <a:xfrm>
            <a:off x="0" y="0"/>
            <a:ext cx="8091360" cy="48672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857160" y="47959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Імплантація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(на 7-й день)  проникнення  зародка в слизову оболонку матки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30970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3" descr="56.jpg"/>
          <p:cNvPicPr/>
          <p:nvPr/>
        </p:nvPicPr>
        <p:blipFill>
          <a:blip r:embed="rId2"/>
          <a:srcRect l="0" t="0" r="14" b="0"/>
          <a:stretch/>
        </p:blipFill>
        <p:spPr>
          <a:xfrm>
            <a:off x="714240" y="3357720"/>
            <a:ext cx="7058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2643120" cy="36432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" descr="7.jpg"/>
          <p:cNvPicPr/>
          <p:nvPr/>
        </p:nvPicPr>
        <p:blipFill>
          <a:blip r:embed="rId2"/>
          <a:stretch/>
        </p:blipFill>
        <p:spPr>
          <a:xfrm>
            <a:off x="2571840" y="1785960"/>
            <a:ext cx="3000240" cy="36432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3" descr="8.jpg"/>
          <p:cNvPicPr/>
          <p:nvPr/>
        </p:nvPicPr>
        <p:blipFill>
          <a:blip r:embed="rId3"/>
          <a:stretch/>
        </p:blipFill>
        <p:spPr>
          <a:xfrm>
            <a:off x="5500800" y="2500200"/>
            <a:ext cx="27144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4" descr="9.jpg"/>
          <p:cNvPicPr/>
          <p:nvPr/>
        </p:nvPicPr>
        <p:blipFill>
          <a:blip r:embed="rId1"/>
          <a:stretch/>
        </p:blipFill>
        <p:spPr>
          <a:xfrm>
            <a:off x="0" y="0"/>
            <a:ext cx="2317680" cy="32148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10.jpg"/>
          <p:cNvPicPr/>
          <p:nvPr/>
        </p:nvPicPr>
        <p:blipFill>
          <a:blip r:embed="rId2"/>
          <a:stretch/>
        </p:blipFill>
        <p:spPr>
          <a:xfrm>
            <a:off x="2286000" y="714240"/>
            <a:ext cx="2346480" cy="32148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1.jpg"/>
          <p:cNvPicPr/>
          <p:nvPr/>
        </p:nvPicPr>
        <p:blipFill>
          <a:blip r:embed="rId3"/>
          <a:stretch/>
        </p:blipFill>
        <p:spPr>
          <a:xfrm>
            <a:off x="4572000" y="1428840"/>
            <a:ext cx="2332080" cy="32144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7" descr="12.jpg"/>
          <p:cNvPicPr/>
          <p:nvPr/>
        </p:nvPicPr>
        <p:blipFill>
          <a:blip r:embed="rId4"/>
          <a:stretch/>
        </p:blipFill>
        <p:spPr>
          <a:xfrm>
            <a:off x="6858000" y="2786040"/>
            <a:ext cx="2286000" cy="27892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8" descr="13.jpg"/>
          <p:cNvPicPr/>
          <p:nvPr/>
        </p:nvPicPr>
        <p:blipFill>
          <a:blip r:embed="rId5"/>
          <a:stretch/>
        </p:blipFill>
        <p:spPr>
          <a:xfrm>
            <a:off x="1703520" y="4572000"/>
            <a:ext cx="346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-176040"/>
            <a:ext cx="7230960" cy="11268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1011240" y="1279440"/>
            <a:ext cx="63165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0" y="0"/>
            <a:ext cx="7929720" cy="83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ЯЙЦЕКЛІТИ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РУГЛА, ВЕЛИ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ЖИВИТЬ, ЗАПЛІДНЮЄТЬСЯ, ДІЛИ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 ЖІНОЧЕ  НАЧАЛ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СПЕРМАТОЗОЇД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РУХЛИВИЙ, МАЛЕНЬК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ЛИВЕ, ПРОНИКАЄ, ЗАПЛІДНЮЄ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ХОДИТЬ ДО СКЛАДУ СПЕР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УГОЛОВ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ЗИГО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ПЛІДНЕНА, БАГА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ДІЛИТЬСЯ, ПЕРЕТВОРЮЄТЬСЯ, РОЗВИВАЄ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МАЙБУТНІЙ ЗАРОД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УРЯЧЕ 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100.jpg"/>
          <p:cNvPicPr/>
          <p:nvPr/>
        </p:nvPicPr>
        <p:blipFill>
          <a:blip r:embed="rId1"/>
          <a:srcRect l="0" t="0" r="6" b="0"/>
          <a:stretch/>
        </p:blipFill>
        <p:spPr>
          <a:xfrm>
            <a:off x="1643040" y="1000080"/>
            <a:ext cx="5524560" cy="51436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>
            <a:off x="1071720" y="2142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днояйцеві та різнояйцеві  близня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" descr="99.jpg"/>
          <p:cNvPicPr/>
          <p:nvPr/>
        </p:nvPicPr>
        <p:blipFill>
          <a:blip r:embed="rId1"/>
          <a:srcRect l="0" t="0" r="-41" b="-54"/>
          <a:stretch/>
        </p:blipFill>
        <p:spPr>
          <a:xfrm>
            <a:off x="3857760" y="3214800"/>
            <a:ext cx="4132080" cy="314316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2" descr=""/>
          <p:cNvPicPr/>
          <p:nvPr/>
        </p:nvPicPr>
        <p:blipFill>
          <a:blip r:embed="rId2"/>
          <a:stretch/>
        </p:blipFill>
        <p:spPr>
          <a:xfrm>
            <a:off x="2182680" y="-2054160"/>
            <a:ext cx="6497640" cy="5924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E:\333.jpg"/>
          <p:cNvPicPr/>
          <p:nvPr/>
        </p:nvPicPr>
        <p:blipFill>
          <a:blip r:embed="rId3"/>
          <a:stretch/>
        </p:blipFill>
        <p:spPr>
          <a:xfrm>
            <a:off x="285840" y="428760"/>
            <a:ext cx="3214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1" descr=""/>
          <p:cNvPicPr/>
          <p:nvPr/>
        </p:nvPicPr>
        <p:blipFill>
          <a:blip r:embed="rId2"/>
          <a:stretch/>
        </p:blipFill>
        <p:spPr>
          <a:xfrm>
            <a:off x="4011480" y="853920"/>
            <a:ext cx="4473720" cy="114624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426960"/>
            <a:ext cx="8400960" cy="41641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" descr=""/>
          <p:cNvPicPr/>
          <p:nvPr/>
        </p:nvPicPr>
        <p:blipFill>
          <a:blip r:embed="rId2"/>
          <a:stretch/>
        </p:blipFill>
        <p:spPr>
          <a:xfrm>
            <a:off x="30240" y="3535200"/>
            <a:ext cx="83707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 flipH="1">
            <a:off x="2285280" y="9288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4" descr="MAN3"/>
          <p:cNvPicPr/>
          <p:nvPr/>
        </p:nvPicPr>
        <p:blipFill>
          <a:blip r:embed="rId3"/>
          <a:stretch/>
        </p:blipFill>
        <p:spPr>
          <a:xfrm>
            <a:off x="571680" y="328608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WOMAN5"/>
          <p:cNvPicPr/>
          <p:nvPr/>
        </p:nvPicPr>
        <p:blipFill>
          <a:blip r:embed="rId4"/>
          <a:stretch/>
        </p:blipFill>
        <p:spPr>
          <a:xfrm>
            <a:off x="5429160" y="3429000"/>
            <a:ext cx="1174680" cy="32004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2928960" y="4500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9" descr="U12_02_05"/>
          <p:cNvPicPr/>
          <p:nvPr/>
        </p:nvPicPr>
        <p:blipFill>
          <a:blip r:embed="rId5"/>
          <a:stretch/>
        </p:blipFill>
        <p:spPr>
          <a:xfrm>
            <a:off x="2428920" y="1143000"/>
            <a:ext cx="2666880" cy="194004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291" name="Прямоугольник 7" descr=""/>
          <p:cNvPicPr/>
          <p:nvPr/>
        </p:nvPicPr>
        <p:blipFill>
          <a:blip r:embed="rId6"/>
          <a:stretch/>
        </p:blipFill>
        <p:spPr>
          <a:xfrm>
            <a:off x="-6480" y="-79200"/>
            <a:ext cx="8942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928800" y="0"/>
            <a:ext cx="685800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Georgia"/>
              </a:rPr>
              <a:t>Біологічна  задача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Ви лікар акушер-гінеколог пологового будинку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До вас прийшов чоловік породіллі із звинуваченням на адресу жінки: “Чому вона народила дівчунку, адже я хотів хлопчика?”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Яку відповідь ви дасте чоловікові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2222.jpg"/>
          <p:cNvPicPr/>
          <p:nvPr/>
        </p:nvPicPr>
        <p:blipFill>
          <a:blip r:embed="rId1"/>
          <a:srcRect l="0" t="0" r="-17" b="44"/>
          <a:stretch/>
        </p:blipFill>
        <p:spPr>
          <a:xfrm>
            <a:off x="127080" y="1500120"/>
            <a:ext cx="7956360" cy="38577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2" descr=""/>
          <p:cNvPicPr/>
          <p:nvPr/>
        </p:nvPicPr>
        <p:blipFill>
          <a:blip r:embed="rId2"/>
          <a:stretch/>
        </p:blipFill>
        <p:spPr>
          <a:xfrm>
            <a:off x="347760" y="249120"/>
            <a:ext cx="7480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66.jpg"/>
          <p:cNvPicPr/>
          <p:nvPr/>
        </p:nvPicPr>
        <p:blipFill>
          <a:blip r:embed="rId1"/>
          <a:srcRect l="0" t="0" r="13" b="-30"/>
          <a:stretch/>
        </p:blipFill>
        <p:spPr>
          <a:xfrm>
            <a:off x="0" y="1571760"/>
            <a:ext cx="8072280" cy="336384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" descr=""/>
          <p:cNvPicPr/>
          <p:nvPr/>
        </p:nvPicPr>
        <p:blipFill>
          <a:blip r:embed="rId2"/>
          <a:stretch/>
        </p:blipFill>
        <p:spPr>
          <a:xfrm>
            <a:off x="1407960" y="103320"/>
            <a:ext cx="58341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3" descr=""/>
          <p:cNvPicPr/>
          <p:nvPr/>
        </p:nvPicPr>
        <p:blipFill>
          <a:blip r:embed="rId3"/>
          <a:stretch/>
        </p:blipFill>
        <p:spPr>
          <a:xfrm>
            <a:off x="927000" y="5016600"/>
            <a:ext cx="68454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1006560" y="92160"/>
            <a:ext cx="6570720" cy="267480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2" descr=""/>
          <p:cNvPicPr/>
          <p:nvPr/>
        </p:nvPicPr>
        <p:blipFill>
          <a:blip r:embed="rId2"/>
          <a:stretch/>
        </p:blipFill>
        <p:spPr>
          <a:xfrm>
            <a:off x="-281160" y="2017800"/>
            <a:ext cx="89377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-245520" y="26640"/>
            <a:ext cx="831132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 u="sng">
                <a:solidFill>
                  <a:srgbClr val="000000"/>
                </a:solidFill>
                <a:uFillTx/>
                <a:latin typeface="Georgia"/>
                <a:ea typeface="Calibri"/>
              </a:rPr>
              <a:t>Домашнє завдання</a:t>
            </a:r>
            <a:r>
              <a:rPr b="1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§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56, зібрати інформацію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для початку проект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на тему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“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Шкідливий вплив н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здоров</a:t>
            </a: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’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я підлітків,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ранніх статевих стосунків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Аборт”.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378520" y="435960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  розробки: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аленко М.В., ЗОШ №8 м. Мелітопо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-36360" y="146160"/>
            <a:ext cx="8302320" cy="2493720"/>
          </a:xfrm>
          <a:prstGeom prst="rect">
            <a:avLst/>
          </a:prstGeom>
          <a:ln w="0">
            <a:noFill/>
          </a:ln>
        </p:spPr>
      </p:pic>
      <p:sp>
        <p:nvSpPr>
          <p:cNvPr id="233" name="Штриховая стрелка вправо 3"/>
          <p:cNvSpPr/>
          <p:nvPr/>
        </p:nvSpPr>
        <p:spPr>
          <a:xfrm rot="5400000">
            <a:off x="3187080" y="3120840"/>
            <a:ext cx="2044800" cy="1143000"/>
          </a:xfrm>
          <a:custGeom>
            <a:avLst/>
            <a:gdLst>
              <a:gd name="textAreaLeft" fmla="*/ 178560 w 2044800"/>
              <a:gd name="textAreaRight" fmla="*/ 1759320 w 20448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044958" h="1143008">
                <a:moveTo>
                  <a:pt x="0" y="285752"/>
                </a:moveTo>
                <a:lnTo>
                  <a:pt x="35719" y="285752"/>
                </a:lnTo>
                <a:lnTo>
                  <a:pt x="35719" y="857256"/>
                </a:lnTo>
                <a:lnTo>
                  <a:pt x="0" y="857256"/>
                </a:lnTo>
                <a:close/>
                <a:moveTo>
                  <a:pt x="71438" y="285752"/>
                </a:moveTo>
                <a:lnTo>
                  <a:pt x="142876" y="285752"/>
                </a:lnTo>
                <a:lnTo>
                  <a:pt x="142876" y="857256"/>
                </a:lnTo>
                <a:lnTo>
                  <a:pt x="71438" y="857256"/>
                </a:lnTo>
                <a:close/>
                <a:moveTo>
                  <a:pt x="178595" y="285752"/>
                </a:moveTo>
                <a:lnTo>
                  <a:pt x="1473454" y="285752"/>
                </a:lnTo>
                <a:lnTo>
                  <a:pt x="1473454" y="0"/>
                </a:lnTo>
                <a:lnTo>
                  <a:pt x="2044958" y="571504"/>
                </a:lnTo>
                <a:lnTo>
                  <a:pt x="1473454" y="1143008"/>
                </a:lnTo>
                <a:lnTo>
                  <a:pt x="1473454" y="857256"/>
                </a:lnTo>
                <a:lnTo>
                  <a:pt x="178595" y="85725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Прямоугольник 4" descr=""/>
          <p:cNvPicPr/>
          <p:nvPr/>
        </p:nvPicPr>
        <p:blipFill>
          <a:blip r:embed="rId2"/>
          <a:stretch/>
        </p:blipFill>
        <p:spPr>
          <a:xfrm>
            <a:off x="2571840" y="4925880"/>
            <a:ext cx="3554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212760"/>
            <a:ext cx="7231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536400"/>
            <a:ext cx="7156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0" y="0"/>
            <a:ext cx="814392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Продуктами чоловічих статевих залоз є гормон проге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Жіночі  статеві залози виділяють гормон тесто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аметогенез – це процес утворення гормон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уляція – вихід сперматозоїда з яєчн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огенез – процес  утворення чоловічих статевих гам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нтогенез – індивідуальний розвиток організму від ембріона до природної смерт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перматозоїди утворюються в яєчниках в процесі овогенез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оловка  сперматозоїда має ядро з диплоїдним (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) набором хромос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йцеклітина рухається за допомогою джгутик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Акросома або апікальне тільце виробляє гормон, що сприяє проникненню  сперматозоїда до яйцекліти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2" descr=""/>
          <p:cNvPicPr/>
          <p:nvPr/>
        </p:nvPicPr>
        <p:blipFill>
          <a:blip r:embed="rId1"/>
          <a:stretch/>
        </p:blipFill>
        <p:spPr>
          <a:xfrm>
            <a:off x="2120760" y="-171360"/>
            <a:ext cx="4187880" cy="1098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357120" y="1000080"/>
            <a:ext cx="742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тесто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прогес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ме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яйцеклітин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жіночих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з моменту його зачатт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в яєчках в процесі сперматоген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плоїдним (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n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не здатна до самостійного рух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фермен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" descr=""/>
          <p:cNvPicPr/>
          <p:nvPr/>
        </p:nvPicPr>
        <p:blipFill>
          <a:blip r:embed="rId2"/>
          <a:stretch/>
        </p:blipFill>
        <p:spPr>
          <a:xfrm>
            <a:off x="3998880" y="853920"/>
            <a:ext cx="4541760" cy="114624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7T09:45:17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3c000000000001024140</vt:lpwstr>
  </property>
</Properties>
</file>