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11.png" ContentType="image/png"/>
  <Override PartName="/ppt/media/image19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25.jpeg" ContentType="image/jpeg"/>
  <Override PartName="/ppt/media/image62.png" ContentType="image/png"/>
  <Override PartName="/ppt/media/image28.jpeg" ContentType="image/jpeg"/>
  <Override PartName="/ppt/media/image43.jpeg" ContentType="image/jpeg"/>
  <Override PartName="/ppt/media/image35.png" ContentType="image/png"/>
  <Override PartName="/ppt/media/image61.png" ContentType="image/png"/>
  <Override PartName="/ppt/media/image20.jpeg" ContentType="image/jpeg"/>
  <Override PartName="/ppt/media/image60.png" ContentType="image/png"/>
  <Override PartName="/ppt/media/image14.png" ContentType="image/png"/>
  <Override PartName="/ppt/media/image54.wmf" ContentType="image/x-wmf"/>
  <Override PartName="/ppt/media/image49.png" ContentType="image/png"/>
  <Override PartName="/ppt/media/image12.png" ContentType="image/png"/>
  <Override PartName="/ppt/media/image24.jpeg" ContentType="image/jpeg"/>
  <Override PartName="/ppt/media/image21.jpeg" ContentType="image/jpeg"/>
  <Override PartName="/ppt/media/image32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1.png" ContentType="image/png"/>
  <Override PartName="/ppt/media/image13.png" ContentType="image/png"/>
  <Override PartName="/ppt/media/image53.wmf" ContentType="image/x-wmf"/>
  <Override PartName="/ppt/media/image30.jpeg" ContentType="image/jpeg"/>
  <Override PartName="/ppt/media/image37.jpeg" ContentType="image/jpeg"/>
  <Override PartName="/ppt/media/image38.jpeg" ContentType="image/jpeg"/>
  <Override PartName="/ppt/media/image41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.jpeg" ContentType="image/jpeg"/>
  <Override PartName="/ppt/media/image51.png" ContentType="image/png"/>
  <Override PartName="/ppt/media/image55.jpeg" ContentType="image/jpeg"/>
  <Override PartName="/ppt/media/image40.jpeg" ContentType="image/jpeg"/>
  <Override PartName="/ppt/media/image56.png" ContentType="image/png"/>
  <Override PartName="/ppt/media/image63.png" ContentType="image/png"/>
  <Override PartName="/ppt/media/image57.jpeg" ContentType="image/jpeg"/>
  <Override PartName="/ppt/media/image5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C3D4-FD62-445C-A74A-BD0B9FDF71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E572-7370-4E44-9212-8094BFA04B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D66-2FF3-4A07-A146-B34DC8E4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408-7AF8-4329-A0C0-8A2B4023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00E-3B31-4C43-99E9-5B2EC609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946-A795-4266-9549-6D93E073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F994-19A2-4894-A9A4-4A35D49D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949E-0C80-464C-BF68-30225C45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A444-1565-4EA5-A84C-CF0990A7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9B3E-A095-4057-B994-F7585028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C3D2-A074-46BF-9B77-7427FEA4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E806-E695-4507-8A29-3217F1A7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74E2-A429-4876-878E-3AA93DC2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69E-BC90-4616-AA30-45BAAB9E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1EDB-0ABE-4C6A-9371-698FB4F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6844-8933-40C8-A0D7-2BC2D455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F9A2-FDCA-436B-8E34-768DBD60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CA53-4426-4B02-A739-A14FC90A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E9B6-8BCE-40E2-9819-078E70CE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C8A8-4954-4588-BBD0-0E51FD0F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8706-B069-4BBF-AC92-717EFA7B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2292-D0A4-4BBD-B61F-F608F8C1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FB8B-3AB7-4CB9-BC57-A739DDB9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1BA1-9A9A-4C8A-89FA-F2D77898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DBF-2F0D-434B-812E-332B2FD5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439F-3226-47BE-9A1C-065CF13F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34112-FA7C-4A98-88EA-8C74C9FD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832F-77DD-466F-BF72-C120E06C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9FA4-AA21-4898-989F-FD77D904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904C-02DF-4F5F-A611-9DC4D3C8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8653-D547-477F-BF37-CCCB7835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8A26-7995-40C1-93AE-DF155C11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9FEE-178B-4EF5-93A7-46158406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6C22-70FA-41ED-89E8-AE0B997B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E4C7-EEC2-4065-97F5-FBDFE9FC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3F4-915A-433A-87EF-A93A75D3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80B7-787C-4E05-BEF4-C1184B01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4A91-9E5A-4C2D-B081-F8D077D6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619DB-BCAD-48BE-B737-A24EEEA3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EFBA-4AA4-4376-886B-D4C66232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42C0-36C4-4DDC-A623-7439C4C5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19E4-CEA8-4C37-A292-B8C8908F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B08F0-BDF6-4E17-B952-F622F3C0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F6C2-AC6B-4B79-B5FE-3A4AD191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CE24-288D-496B-9A47-85436DED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1D1A3-E93E-42AE-8015-FB2072AC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B0F-D4C1-46FD-AC25-86AE8BBE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805F9-AF8D-4775-B47D-CF6D3546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2A439-5613-4B1B-80F8-94C226D9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E3E1-5641-4287-9A6F-0531ABC6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767B2-EDD2-42F5-A45D-C6A41DA7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E7C90-FB39-45B8-892D-F8884F43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1CA94-C64B-4FFE-9545-F9EA500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4AB74-93D1-4E52-BEF8-61B8737E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5CD9E-AF20-4ADC-8192-2FCACBD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5F4A-7825-4A2A-8467-A9036537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230F-B814-4D29-94A6-A83A5EEE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237-F64F-4547-9D64-35693DF8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C7F4A-55E8-4EB8-91ED-34189CD1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45A-DCA2-4CFD-B220-1CBB9869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AE1-1FA9-4A36-B1E5-2E9DCF5A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1E9-8D29-49A7-BA02-2707CF2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FE5C-2A18-4DC5-AB00-42ABDC624A7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C2CC-FD2D-4945-AA57-9393101A51C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4F49-F22C-4493-85A2-903F149F601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F8CC-EC47-4113-A8F4-8B89B16205E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106-F73A-4048-8017-3D7AEB10A95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jpe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3" descr=""/>
          <p:cNvPicPr/>
          <p:nvPr/>
        </p:nvPicPr>
        <p:blipFill>
          <a:blip r:embed="rId1"/>
          <a:stretch/>
        </p:blipFill>
        <p:spPr>
          <a:xfrm>
            <a:off x="-274680" y="1414440"/>
            <a:ext cx="878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0" y="642960"/>
            <a:ext cx="800100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Три джерела мають потяги людини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Душу,  розум і тіло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тяги душ народжують дружбу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тяги розуму народжують бажанн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Поєднання трьох потягів  народжують  Кохання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Гілка  персика”  Трактат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469800"/>
            <a:ext cx="8362800" cy="1932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1428840" y="2857680"/>
            <a:ext cx="49449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77.jpg"/>
          <p:cNvPicPr/>
          <p:nvPr/>
        </p:nvPicPr>
        <p:blipFill>
          <a:blip r:embed="rId1"/>
          <a:srcRect l="0" t="0" r="22" b="0"/>
          <a:stretch/>
        </p:blipFill>
        <p:spPr>
          <a:xfrm>
            <a:off x="500040" y="357120"/>
            <a:ext cx="7709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88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0" y="571680"/>
            <a:ext cx="77547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99.jpg"/>
          <p:cNvPicPr/>
          <p:nvPr/>
        </p:nvPicPr>
        <p:blipFill>
          <a:blip r:embed="rId1"/>
          <a:srcRect l="0" t="0" r="0" b="25"/>
          <a:stretch/>
        </p:blipFill>
        <p:spPr>
          <a:xfrm>
            <a:off x="1285920" y="-6480"/>
            <a:ext cx="60721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E:\444.jpg"/>
          <p:cNvPicPr/>
          <p:nvPr/>
        </p:nvPicPr>
        <p:blipFill>
          <a:blip r:embed="rId1"/>
          <a:stretch/>
        </p:blipFill>
        <p:spPr>
          <a:xfrm>
            <a:off x="2428920" y="3571920"/>
            <a:ext cx="3317760" cy="3286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E:\555.jpg"/>
          <p:cNvPicPr/>
          <p:nvPr/>
        </p:nvPicPr>
        <p:blipFill>
          <a:blip r:embed="rId2"/>
          <a:stretch/>
        </p:blipFill>
        <p:spPr>
          <a:xfrm>
            <a:off x="4714920" y="353880"/>
            <a:ext cx="2484360" cy="2986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E:\333.jpg"/>
          <p:cNvPicPr/>
          <p:nvPr/>
        </p:nvPicPr>
        <p:blipFill>
          <a:blip r:embed="rId3"/>
          <a:stretch/>
        </p:blipFill>
        <p:spPr>
          <a:xfrm>
            <a:off x="1143000" y="357120"/>
            <a:ext cx="2335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225360"/>
            <a:ext cx="7510320" cy="40161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123.jpg"/>
          <p:cNvPicPr/>
          <p:nvPr/>
        </p:nvPicPr>
        <p:blipFill>
          <a:blip r:embed="rId2"/>
          <a:stretch/>
        </p:blipFill>
        <p:spPr>
          <a:xfrm>
            <a:off x="0" y="3786120"/>
            <a:ext cx="8210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3000240" y="3233880"/>
            <a:ext cx="5162760" cy="3624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905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12345.jpg"/>
          <p:cNvPicPr/>
          <p:nvPr/>
        </p:nvPicPr>
        <p:blipFill>
          <a:blip r:embed="rId1"/>
          <a:stretch/>
        </p:blipFill>
        <p:spPr>
          <a:xfrm>
            <a:off x="0" y="0"/>
            <a:ext cx="7929720" cy="38624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714240" y="42148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Злиття чоловічих  і жіночих  гамет називається  </a:t>
            </a: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заплідненням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, а клітина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що утворилася – </a:t>
            </a: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зиготою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927000" y="1566720"/>
            <a:ext cx="6583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1" descr=""/>
          <p:cNvPicPr/>
          <p:nvPr/>
        </p:nvPicPr>
        <p:blipFill>
          <a:blip r:embed="rId1"/>
          <a:stretch/>
        </p:blipFill>
        <p:spPr>
          <a:xfrm>
            <a:off x="1305000" y="-212760"/>
            <a:ext cx="6638760" cy="19749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2584440" y="615960"/>
            <a:ext cx="39448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972040" y="2095560"/>
            <a:ext cx="3171960" cy="476244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оугольник 1" descr=""/>
          <p:cNvPicPr/>
          <p:nvPr/>
        </p:nvPicPr>
        <p:blipFill>
          <a:blip r:embed="rId2"/>
          <a:stretch/>
        </p:blipFill>
        <p:spPr>
          <a:xfrm>
            <a:off x="-49320" y="324000"/>
            <a:ext cx="8613720" cy="11080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785880" y="2000160"/>
            <a:ext cx="68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Вагітність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– це фізіологічний стан організму жінки, пов'язаний із заплідненням  яйцеклітини, розвитком  зародка і плода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55.jpg"/>
          <p:cNvPicPr/>
          <p:nvPr/>
        </p:nvPicPr>
        <p:blipFill>
          <a:blip r:embed="rId1"/>
          <a:stretch/>
        </p:blipFill>
        <p:spPr>
          <a:xfrm>
            <a:off x="0" y="0"/>
            <a:ext cx="8091360" cy="48672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857160" y="47959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Імплантація</a:t>
            </a: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– (на 7-й день)  проникнення  зародка в слизову оболонку матки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225360"/>
            <a:ext cx="7510320" cy="30970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3" descr="56.jpg"/>
          <p:cNvPicPr/>
          <p:nvPr/>
        </p:nvPicPr>
        <p:blipFill>
          <a:blip r:embed="rId2"/>
          <a:srcRect l="0" t="0" r="14" b="0"/>
          <a:stretch/>
        </p:blipFill>
        <p:spPr>
          <a:xfrm>
            <a:off x="714240" y="3357720"/>
            <a:ext cx="7058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6.jpg"/>
          <p:cNvPicPr/>
          <p:nvPr/>
        </p:nvPicPr>
        <p:blipFill>
          <a:blip r:embed="rId1"/>
          <a:stretch/>
        </p:blipFill>
        <p:spPr>
          <a:xfrm>
            <a:off x="0" y="0"/>
            <a:ext cx="2643120" cy="36432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" descr="7.jpg"/>
          <p:cNvPicPr/>
          <p:nvPr/>
        </p:nvPicPr>
        <p:blipFill>
          <a:blip r:embed="rId2"/>
          <a:stretch/>
        </p:blipFill>
        <p:spPr>
          <a:xfrm>
            <a:off x="2571840" y="1785960"/>
            <a:ext cx="3000240" cy="36432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3" descr="8.jpg"/>
          <p:cNvPicPr/>
          <p:nvPr/>
        </p:nvPicPr>
        <p:blipFill>
          <a:blip r:embed="rId3"/>
          <a:stretch/>
        </p:blipFill>
        <p:spPr>
          <a:xfrm>
            <a:off x="5500800" y="2500200"/>
            <a:ext cx="27144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4" descr="9.jpg"/>
          <p:cNvPicPr/>
          <p:nvPr/>
        </p:nvPicPr>
        <p:blipFill>
          <a:blip r:embed="rId1"/>
          <a:stretch/>
        </p:blipFill>
        <p:spPr>
          <a:xfrm>
            <a:off x="0" y="0"/>
            <a:ext cx="2317680" cy="32148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10.jpg"/>
          <p:cNvPicPr/>
          <p:nvPr/>
        </p:nvPicPr>
        <p:blipFill>
          <a:blip r:embed="rId2"/>
          <a:stretch/>
        </p:blipFill>
        <p:spPr>
          <a:xfrm>
            <a:off x="2286000" y="714240"/>
            <a:ext cx="2346480" cy="32148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1.jpg"/>
          <p:cNvPicPr/>
          <p:nvPr/>
        </p:nvPicPr>
        <p:blipFill>
          <a:blip r:embed="rId3"/>
          <a:stretch/>
        </p:blipFill>
        <p:spPr>
          <a:xfrm>
            <a:off x="4572000" y="1428840"/>
            <a:ext cx="2332080" cy="32144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7" descr="12.jpg"/>
          <p:cNvPicPr/>
          <p:nvPr/>
        </p:nvPicPr>
        <p:blipFill>
          <a:blip r:embed="rId4"/>
          <a:stretch/>
        </p:blipFill>
        <p:spPr>
          <a:xfrm>
            <a:off x="6858000" y="2786040"/>
            <a:ext cx="2286000" cy="27892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8" descr="13.jpg"/>
          <p:cNvPicPr/>
          <p:nvPr/>
        </p:nvPicPr>
        <p:blipFill>
          <a:blip r:embed="rId5"/>
          <a:stretch/>
        </p:blipFill>
        <p:spPr>
          <a:xfrm>
            <a:off x="1703520" y="4572000"/>
            <a:ext cx="346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-176040"/>
            <a:ext cx="7230960" cy="11268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" descr=""/>
          <p:cNvPicPr/>
          <p:nvPr/>
        </p:nvPicPr>
        <p:blipFill>
          <a:blip r:embed="rId2"/>
          <a:stretch/>
        </p:blipFill>
        <p:spPr>
          <a:xfrm>
            <a:off x="1011240" y="1279440"/>
            <a:ext cx="631656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0" y="0"/>
            <a:ext cx="7929720" cy="83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ЯЙЦЕКЛІТИ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РУГЛА, ВЕЛИ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ЖИВИТЬ, ЗАПЛІДНЮЄТЬСЯ, ДІЛИТЬ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 ЖІНОЧЕ  НАЧАЛ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ЯЙЦ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СПЕРМАТОЗОЇД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РУХЛИВИЙ, МАЛЕНЬК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ЛИВЕ, ПРОНИКАЄ, ЗАПЛІДНЮЄ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ХОДИТЬ ДО СКЛАДУ СПЕР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ПУГОЛОВ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Georgia"/>
              </a:rPr>
              <a:t>ЗИГО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ЗАПЛІДНЕНА, БАГА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ДІЛИТЬСЯ, ПЕРЕТВОРЮЄТЬСЯ, РОЗВИВАЄТЬ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ЦЕ МАЙБУТНІЙ ЗАРОД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КУРЯЧЕ ЯЙЦ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100.jpg"/>
          <p:cNvPicPr/>
          <p:nvPr/>
        </p:nvPicPr>
        <p:blipFill>
          <a:blip r:embed="rId1"/>
          <a:srcRect l="0" t="0" r="6" b="0"/>
          <a:stretch/>
        </p:blipFill>
        <p:spPr>
          <a:xfrm>
            <a:off x="1643040" y="1000080"/>
            <a:ext cx="5524560" cy="51436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2"/>
          <p:cNvSpPr/>
          <p:nvPr/>
        </p:nvSpPr>
        <p:spPr>
          <a:xfrm>
            <a:off x="1071720" y="21420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eorgia"/>
              </a:rPr>
              <a:t>Однояйцеві та різнояйцеві  близнят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1" descr="99.jpg"/>
          <p:cNvPicPr/>
          <p:nvPr/>
        </p:nvPicPr>
        <p:blipFill>
          <a:blip r:embed="rId1"/>
          <a:srcRect l="0" t="0" r="-41" b="-54"/>
          <a:stretch/>
        </p:blipFill>
        <p:spPr>
          <a:xfrm>
            <a:off x="3857760" y="3214800"/>
            <a:ext cx="4132080" cy="314316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2" descr=""/>
          <p:cNvPicPr/>
          <p:nvPr/>
        </p:nvPicPr>
        <p:blipFill>
          <a:blip r:embed="rId2"/>
          <a:stretch/>
        </p:blipFill>
        <p:spPr>
          <a:xfrm>
            <a:off x="2182680" y="-2054160"/>
            <a:ext cx="6497640" cy="5924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E:\333.jpg"/>
          <p:cNvPicPr/>
          <p:nvPr/>
        </p:nvPicPr>
        <p:blipFill>
          <a:blip r:embed="rId3"/>
          <a:stretch/>
        </p:blipFill>
        <p:spPr>
          <a:xfrm>
            <a:off x="285840" y="428760"/>
            <a:ext cx="3214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Рисунок1"/>
          <p:cNvPicPr/>
          <p:nvPr/>
        </p:nvPicPr>
        <p:blipFill>
          <a:blip r:embed="rId1"/>
          <a:stretch/>
        </p:blipFill>
        <p:spPr>
          <a:xfrm>
            <a:off x="285840" y="214200"/>
            <a:ext cx="3979800" cy="371484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1" descr=""/>
          <p:cNvPicPr/>
          <p:nvPr/>
        </p:nvPicPr>
        <p:blipFill>
          <a:blip r:embed="rId2"/>
          <a:stretch/>
        </p:blipFill>
        <p:spPr>
          <a:xfrm>
            <a:off x="4011480" y="853920"/>
            <a:ext cx="4473720" cy="114624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2" descr=""/>
          <p:cNvPicPr/>
          <p:nvPr/>
        </p:nvPicPr>
        <p:blipFill>
          <a:blip r:embed="rId3"/>
          <a:stretch/>
        </p:blipFill>
        <p:spPr>
          <a:xfrm>
            <a:off x="2835360" y="2828880"/>
            <a:ext cx="57481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426960"/>
            <a:ext cx="8400960" cy="416412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" descr=""/>
          <p:cNvPicPr/>
          <p:nvPr/>
        </p:nvPicPr>
        <p:blipFill>
          <a:blip r:embed="rId2"/>
          <a:stretch/>
        </p:blipFill>
        <p:spPr>
          <a:xfrm>
            <a:off x="30240" y="3535200"/>
            <a:ext cx="83707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 flipH="1">
            <a:off x="2285280" y="9288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4" descr="MAN3"/>
          <p:cNvPicPr/>
          <p:nvPr/>
        </p:nvPicPr>
        <p:blipFill>
          <a:blip r:embed="rId3"/>
          <a:stretch/>
        </p:blipFill>
        <p:spPr>
          <a:xfrm>
            <a:off x="571680" y="328608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WOMAN5"/>
          <p:cNvPicPr/>
          <p:nvPr/>
        </p:nvPicPr>
        <p:blipFill>
          <a:blip r:embed="rId4"/>
          <a:stretch/>
        </p:blipFill>
        <p:spPr>
          <a:xfrm>
            <a:off x="5429160" y="3429000"/>
            <a:ext cx="1174680" cy="32004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2928960" y="4500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9" descr="U12_02_05"/>
          <p:cNvPicPr/>
          <p:nvPr/>
        </p:nvPicPr>
        <p:blipFill>
          <a:blip r:embed="rId5"/>
          <a:stretch/>
        </p:blipFill>
        <p:spPr>
          <a:xfrm>
            <a:off x="2428920" y="1143000"/>
            <a:ext cx="2666880" cy="194004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291" name="Прямоугольник 7" descr=""/>
          <p:cNvPicPr/>
          <p:nvPr/>
        </p:nvPicPr>
        <p:blipFill>
          <a:blip r:embed="rId6"/>
          <a:stretch/>
        </p:blipFill>
        <p:spPr>
          <a:xfrm>
            <a:off x="-6480" y="-79200"/>
            <a:ext cx="89424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928800" y="0"/>
            <a:ext cx="685800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Georgia"/>
              </a:rPr>
              <a:t>Біологічна  задача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Ви лікар акушер-гінеколог пологового будинку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До вас прийшов чоловік породіллі із звинуваченням на адресу жінки: “Чому вона народила дівчунку, адже я хотів хлопчика?”.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Georgia"/>
              </a:rPr>
              <a:t>Яку відповідь ви дасте чоловікові?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2222.jpg"/>
          <p:cNvPicPr/>
          <p:nvPr/>
        </p:nvPicPr>
        <p:blipFill>
          <a:blip r:embed="rId1"/>
          <a:srcRect l="0" t="0" r="-17" b="44"/>
          <a:stretch/>
        </p:blipFill>
        <p:spPr>
          <a:xfrm>
            <a:off x="127080" y="1500120"/>
            <a:ext cx="7956360" cy="38577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2" descr=""/>
          <p:cNvPicPr/>
          <p:nvPr/>
        </p:nvPicPr>
        <p:blipFill>
          <a:blip r:embed="rId2"/>
          <a:stretch/>
        </p:blipFill>
        <p:spPr>
          <a:xfrm>
            <a:off x="347760" y="249120"/>
            <a:ext cx="7480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66.jpg"/>
          <p:cNvPicPr/>
          <p:nvPr/>
        </p:nvPicPr>
        <p:blipFill>
          <a:blip r:embed="rId1"/>
          <a:srcRect l="0" t="0" r="13" b="-30"/>
          <a:stretch/>
        </p:blipFill>
        <p:spPr>
          <a:xfrm>
            <a:off x="0" y="1571760"/>
            <a:ext cx="8072280" cy="336384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2" descr=""/>
          <p:cNvPicPr/>
          <p:nvPr/>
        </p:nvPicPr>
        <p:blipFill>
          <a:blip r:embed="rId2"/>
          <a:stretch/>
        </p:blipFill>
        <p:spPr>
          <a:xfrm>
            <a:off x="1407960" y="103320"/>
            <a:ext cx="58341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3" descr=""/>
          <p:cNvPicPr/>
          <p:nvPr/>
        </p:nvPicPr>
        <p:blipFill>
          <a:blip r:embed="rId3"/>
          <a:stretch/>
        </p:blipFill>
        <p:spPr>
          <a:xfrm>
            <a:off x="927000" y="5016600"/>
            <a:ext cx="68454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1" descr=""/>
          <p:cNvPicPr/>
          <p:nvPr/>
        </p:nvPicPr>
        <p:blipFill>
          <a:blip r:embed="rId1"/>
          <a:stretch/>
        </p:blipFill>
        <p:spPr>
          <a:xfrm>
            <a:off x="1006560" y="92160"/>
            <a:ext cx="6570720" cy="267480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2" descr=""/>
          <p:cNvPicPr/>
          <p:nvPr/>
        </p:nvPicPr>
        <p:blipFill>
          <a:blip r:embed="rId2"/>
          <a:stretch/>
        </p:blipFill>
        <p:spPr>
          <a:xfrm>
            <a:off x="-281160" y="2017800"/>
            <a:ext cx="89377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"/>
          <p:cNvSpPr/>
          <p:nvPr/>
        </p:nvSpPr>
        <p:spPr>
          <a:xfrm>
            <a:off x="-245520" y="26640"/>
            <a:ext cx="831132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 u="sng">
                <a:solidFill>
                  <a:srgbClr val="000000"/>
                </a:solidFill>
                <a:uFillTx/>
                <a:latin typeface="Georgia"/>
                <a:ea typeface="Calibri"/>
              </a:rPr>
              <a:t>Домашнє завдання</a:t>
            </a:r>
            <a:r>
              <a:rPr b="1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.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Georgia"/>
                <a:ea typeface="Calibri"/>
              </a:rPr>
              <a:t>§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56, зібрати інформацію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для початку проекта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на тему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“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Шкідливий вплив на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здоров</a:t>
            </a:r>
            <a:r>
              <a:rPr b="0" lang="ru-RU" sz="4600" spc="-1" strike="noStrike">
                <a:solidFill>
                  <a:srgbClr val="000000"/>
                </a:solidFill>
                <a:latin typeface="Georgia"/>
                <a:ea typeface="Calibri"/>
              </a:rPr>
              <a:t>’</a:t>
            </a: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я підлітків,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ранніх статевих стосунків.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Georgia"/>
                <a:ea typeface="Calibri"/>
              </a:rPr>
              <a:t>Аборт”.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378520" y="435960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  розробки: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аленко М.В., ЗОШ №8 м. Мелітопол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Прямоугольник 2" descr=""/>
          <p:cNvPicPr/>
          <p:nvPr/>
        </p:nvPicPr>
        <p:blipFill>
          <a:blip r:embed="rId1"/>
          <a:stretch/>
        </p:blipFill>
        <p:spPr>
          <a:xfrm>
            <a:off x="-36360" y="146160"/>
            <a:ext cx="8302320" cy="2493720"/>
          </a:xfrm>
          <a:prstGeom prst="rect">
            <a:avLst/>
          </a:prstGeom>
          <a:ln w="0">
            <a:noFill/>
          </a:ln>
        </p:spPr>
      </p:pic>
      <p:sp>
        <p:nvSpPr>
          <p:cNvPr id="233" name="Штриховая стрелка вправо 3"/>
          <p:cNvSpPr/>
          <p:nvPr/>
        </p:nvSpPr>
        <p:spPr>
          <a:xfrm rot="5400000">
            <a:off x="3187080" y="3120840"/>
            <a:ext cx="2044800" cy="1143000"/>
          </a:xfrm>
          <a:custGeom>
            <a:avLst/>
            <a:gdLst>
              <a:gd name="textAreaLeft" fmla="*/ 178560 w 2044800"/>
              <a:gd name="textAreaRight" fmla="*/ 1759320 w 20448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044958" h="1143008">
                <a:moveTo>
                  <a:pt x="0" y="285752"/>
                </a:moveTo>
                <a:lnTo>
                  <a:pt x="35719" y="285752"/>
                </a:lnTo>
                <a:lnTo>
                  <a:pt x="35719" y="857256"/>
                </a:lnTo>
                <a:lnTo>
                  <a:pt x="0" y="857256"/>
                </a:lnTo>
                <a:close/>
                <a:moveTo>
                  <a:pt x="71438" y="285752"/>
                </a:moveTo>
                <a:lnTo>
                  <a:pt x="142876" y="285752"/>
                </a:lnTo>
                <a:lnTo>
                  <a:pt x="142876" y="857256"/>
                </a:lnTo>
                <a:lnTo>
                  <a:pt x="71438" y="857256"/>
                </a:lnTo>
                <a:close/>
                <a:moveTo>
                  <a:pt x="178595" y="285752"/>
                </a:moveTo>
                <a:lnTo>
                  <a:pt x="1473454" y="285752"/>
                </a:lnTo>
                <a:lnTo>
                  <a:pt x="1473454" y="0"/>
                </a:lnTo>
                <a:lnTo>
                  <a:pt x="2044958" y="571504"/>
                </a:lnTo>
                <a:lnTo>
                  <a:pt x="1473454" y="1143008"/>
                </a:lnTo>
                <a:lnTo>
                  <a:pt x="1473454" y="857256"/>
                </a:lnTo>
                <a:lnTo>
                  <a:pt x="178595" y="85725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Прямоугольник 4" descr=""/>
          <p:cNvPicPr/>
          <p:nvPr/>
        </p:nvPicPr>
        <p:blipFill>
          <a:blip r:embed="rId2"/>
          <a:stretch/>
        </p:blipFill>
        <p:spPr>
          <a:xfrm>
            <a:off x="2571840" y="4925880"/>
            <a:ext cx="3554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212760"/>
            <a:ext cx="72313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536400"/>
            <a:ext cx="7156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0" y="0"/>
            <a:ext cx="814392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Продуктами чоловічих статевих залоз є гормон прогестеро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Жіночі  статеві залози виділяють гормон тестостеро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Гаметогенез – це процес утворення гормоні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вуляція – вихід сперматозоїда з яєчн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вогенез – процес  утворення чоловічих статевих гам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Онтогенез – індивідуальний розвиток організму від ембріона до природної смерт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Сперматозоїди утворюються в яєчниках в процесі овогенез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Головка  сперматозоїда має ядро з диплоїдним (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) набором хромос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Яйцеклітина рухається за допомогою джгутикі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Акросома або апікальне тільце виробляє гормон, що сприяє проникненню  сперматозоїда до яйцекліти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2" descr=""/>
          <p:cNvPicPr/>
          <p:nvPr/>
        </p:nvPicPr>
        <p:blipFill>
          <a:blip r:embed="rId1"/>
          <a:stretch/>
        </p:blipFill>
        <p:spPr>
          <a:xfrm>
            <a:off x="2120760" y="-171360"/>
            <a:ext cx="4187880" cy="1098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357120" y="1000080"/>
            <a:ext cx="742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тестотеро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прогестерон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гаме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яйцеклітин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жіночих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з моменту його зачатт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в яєчках в процесі сперматогенез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гаплоїдним (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1n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не здатна до самостійного рух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 … </a:t>
            </a:r>
            <a:r>
              <a:rPr b="0" lang="uk-UA" sz="3200" spc="-1" strike="noStrike">
                <a:solidFill>
                  <a:srgbClr val="000000"/>
                </a:solidFill>
                <a:latin typeface="Georgia"/>
              </a:rPr>
              <a:t>фермен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Рисунок1"/>
          <p:cNvPicPr/>
          <p:nvPr/>
        </p:nvPicPr>
        <p:blipFill>
          <a:blip r:embed="rId1"/>
          <a:stretch/>
        </p:blipFill>
        <p:spPr>
          <a:xfrm>
            <a:off x="285840" y="214200"/>
            <a:ext cx="3979800" cy="371484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" descr=""/>
          <p:cNvPicPr/>
          <p:nvPr/>
        </p:nvPicPr>
        <p:blipFill>
          <a:blip r:embed="rId2"/>
          <a:stretch/>
        </p:blipFill>
        <p:spPr>
          <a:xfrm>
            <a:off x="3998880" y="853920"/>
            <a:ext cx="4541760" cy="114624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2" descr=""/>
          <p:cNvPicPr/>
          <p:nvPr/>
        </p:nvPicPr>
        <p:blipFill>
          <a:blip r:embed="rId3"/>
          <a:stretch/>
        </p:blipFill>
        <p:spPr>
          <a:xfrm>
            <a:off x="2835360" y="2828880"/>
            <a:ext cx="57481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7T09:45:17Z</dcterms:modified>
  <cp:revision>1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3c000000000001024140</vt:lpwstr>
  </property>
</Properties>
</file>